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13.jpeg" ContentType="image/jpeg"/>
  <Override PartName="/ppt/media/image25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png" ContentType="image/png"/>
  <Override PartName="/ppt/media/image23.jpeg" ContentType="image/jpeg"/>
  <Override PartName="/ppt/media/image2.jpeg" ContentType="image/jpeg"/>
  <Override PartName="/ppt/media/image3.png" ContentType="image/png"/>
  <Override PartName="/ppt/media/image26.png" ContentType="image/png"/>
  <Override PartName="/ppt/media/image17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7F0B-9A14-41E7-842C-C2793156E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C311-CDF8-4D4F-93D0-CEB0C1E1A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9506-5D12-4F23-A394-CE7EA2AE4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953C-659E-4FC7-B945-4C21CE5A7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82DD-A984-4BE8-A746-02BE75658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DFF5-370E-4666-9B60-9CF700D53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0FA1-D0C7-4451-A867-4DA70E38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25DD-9103-4979-A107-5549C4C45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2288-6A63-43A7-BE1F-6B017186C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72E2-BCD9-4749-B6E7-DFBD4729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8159-5796-4C39-9B8C-7825FF3C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B1D1-DDE7-4923-A65C-97ED4DED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062C4-4FBB-4ECF-A532-5B3DCFB98F66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92B40-CBA7-49C2-A3B6-ADFF3F1CFD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3357720"/>
            <a:ext cx="7772400" cy="125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35b40"/>
                </a:solidFill>
                <a:latin typeface="Arial Black"/>
              </a:rPr>
              <a:t>Россияне на рынке тру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92360" y="4797000"/>
            <a:ext cx="64008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«Будущее рождается сегодн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13744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Число безработных в России достигло почти 2,5 млн. человек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3AAFD-BE35-40B4-B0E9-885B4AF852B0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г"/>
          <p:cNvPicPr/>
          <p:nvPr/>
        </p:nvPicPr>
        <p:blipFill>
          <a:blip r:embed="rId1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г"/>
          <p:cNvPicPr/>
          <p:nvPr/>
        </p:nvPicPr>
        <p:blipFill>
          <a:blip r:embed="rId2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Картинка 20 из 5354"/>
          <p:cNvPicPr/>
          <p:nvPr/>
        </p:nvPicPr>
        <p:blipFill>
          <a:blip r:embed="rId3"/>
          <a:stretch/>
        </p:blipFill>
        <p:spPr>
          <a:xfrm>
            <a:off x="6012000" y="1341360"/>
            <a:ext cx="2982600" cy="2981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Картинка 31 из 5354"/>
          <p:cNvPicPr/>
          <p:nvPr/>
        </p:nvPicPr>
        <p:blipFill>
          <a:blip r:embed="rId4"/>
          <a:stretch/>
        </p:blipFill>
        <p:spPr>
          <a:xfrm>
            <a:off x="2411280" y="3860640"/>
            <a:ext cx="3733920" cy="2857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Картинка 40 из 5354"/>
          <p:cNvPicPr/>
          <p:nvPr/>
        </p:nvPicPr>
        <p:blipFill>
          <a:blip r:embed="rId5"/>
          <a:stretch/>
        </p:blipFill>
        <p:spPr>
          <a:xfrm>
            <a:off x="5516640" y="4149720"/>
            <a:ext cx="3627360" cy="2417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http://im3-tub.yandex.net/i?id=74600432-11"/>
          <p:cNvPicPr/>
          <p:nvPr/>
        </p:nvPicPr>
        <p:blipFill>
          <a:blip r:embed="rId6"/>
          <a:stretch/>
        </p:blipFill>
        <p:spPr>
          <a:xfrm>
            <a:off x="324000" y="1557360"/>
            <a:ext cx="1873080" cy="2332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Картинка 46 из 968"/>
          <p:cNvPicPr/>
          <p:nvPr/>
        </p:nvPicPr>
        <p:blipFill>
          <a:blip r:embed="rId7"/>
          <a:stretch/>
        </p:blipFill>
        <p:spPr>
          <a:xfrm>
            <a:off x="108000" y="4157640"/>
            <a:ext cx="2232000" cy="2138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Картинка 184 из 968"/>
          <p:cNvPicPr/>
          <p:nvPr/>
        </p:nvPicPr>
        <p:blipFill>
          <a:blip r:embed="rId8"/>
          <a:stretch/>
        </p:blipFill>
        <p:spPr>
          <a:xfrm>
            <a:off x="2484360" y="1557360"/>
            <a:ext cx="3338640" cy="22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016A3-2721-409E-8A29-48D3A486831B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Картинка 48 из 5354"/>
          <p:cNvPicPr/>
          <p:nvPr/>
        </p:nvPicPr>
        <p:blipFill>
          <a:blip r:embed="rId1"/>
          <a:stretch/>
        </p:blipFill>
        <p:spPr>
          <a:xfrm>
            <a:off x="312840" y="260280"/>
            <a:ext cx="84358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5075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2d050"/>
                </a:solidFill>
                <a:latin typeface="Arial"/>
              </a:rPr>
              <a:t>Выписать в тетрадь: причины и следствия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безработ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C87E5-25FD-4E50-B6F6-32946D883504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Картинка 56 из 5354"/>
          <p:cNvPicPr/>
          <p:nvPr/>
        </p:nvPicPr>
        <p:blipFill>
          <a:blip r:embed="rId1"/>
          <a:stretch/>
        </p:blipFill>
        <p:spPr>
          <a:xfrm>
            <a:off x="468360" y="1220760"/>
            <a:ext cx="835164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C348-9AE3-40DE-AA39-4E3E30821B7A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Закрепл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292720" y="1196640"/>
            <a:ext cx="3743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235b4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5b40"/>
                </a:solidFill>
                <a:latin typeface="Arial Narrow"/>
              </a:rPr>
              <a:t>Какие профессии вы считаете самыми престижными? Перечислите их по ранжиру с 1-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235b4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5b40"/>
                </a:solidFill>
                <a:latin typeface="Arial Narrow"/>
              </a:rPr>
              <a:t>Какую профессию вы бы хотели получить? Какие качества для этого необходим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г"/>
          <p:cNvPicPr/>
          <p:nvPr/>
        </p:nvPicPr>
        <p:blipFill>
          <a:blip r:embed="rId1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г"/>
          <p:cNvPicPr/>
          <p:nvPr/>
        </p:nvPicPr>
        <p:blipFill>
          <a:blip r:embed="rId2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Картинка 48 из 8243"/>
          <p:cNvPicPr/>
          <p:nvPr/>
        </p:nvPicPr>
        <p:blipFill>
          <a:blip r:embed="rId3"/>
          <a:stretch/>
        </p:blipFill>
        <p:spPr>
          <a:xfrm>
            <a:off x="388800" y="1700280"/>
            <a:ext cx="473580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2d050"/>
                </a:solidFill>
                <a:latin typeface="Arial"/>
              </a:rPr>
              <a:t>Заполнить таблиц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57200" y="1600200"/>
          <a:ext cx="8229600" cy="49150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чество личности, нужные для выбранной професс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и качества, помогающие овладеть выбранной професси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и качества, препятствующие овладению выбранной професси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0CF46-44C5-4395-86BE-D28C5C636DCF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0072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Читать §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Отвечать на вопросы стр. 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Письменно задание №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97AF6-5438-4F32-B688-C60BBC9AB79A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Картинка 149 из 968"/>
          <p:cNvPicPr/>
          <p:nvPr/>
        </p:nvPicPr>
        <p:blipFill>
          <a:blip r:embed="rId1"/>
          <a:stretch/>
        </p:blipFill>
        <p:spPr>
          <a:xfrm>
            <a:off x="1116000" y="3068640"/>
            <a:ext cx="3381480" cy="3009960"/>
          </a:xfrm>
          <a:prstGeom prst="rect">
            <a:avLst/>
          </a:prstGeom>
          <a:ln w="0">
            <a:noFill/>
          </a:ln>
        </p:spPr>
      </p:pic>
      <p:sp>
        <p:nvSpPr>
          <p:cNvPr id="117" name="Облако 5"/>
          <p:cNvSpPr/>
          <p:nvPr/>
        </p:nvSpPr>
        <p:spPr>
          <a:xfrm>
            <a:off x="468360" y="1341360"/>
            <a:ext cx="3382920" cy="127332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Arial"/>
              </a:rPr>
              <a:t>«Свое будущее, ты делаешь сам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E89BE-4CFB-4B67-B71A-042643489144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 Narrow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19280" y="1196640"/>
            <a:ext cx="5545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5b40"/>
                </a:solidFill>
                <a:latin typeface="Arial Narrow"/>
              </a:rPr>
              <a:t>1.Раскрыть особенности понятия «трудовые ресурсы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5b40"/>
                </a:solidFill>
                <a:latin typeface="Arial Narrow"/>
              </a:rPr>
              <a:t>2.Вскрыть причины и следствия безработиц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5b40"/>
                </a:solidFill>
                <a:latin typeface="Arial Narrow"/>
              </a:rPr>
              <a:t>3.Сформировать представления о требованиях к современному работнику в условиях рынка и профессиях, востребованных на сегодняшний д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г"/>
          <p:cNvPicPr/>
          <p:nvPr/>
        </p:nvPicPr>
        <p:blipFill>
          <a:blip r:embed="rId1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г"/>
          <p:cNvPicPr/>
          <p:nvPr/>
        </p:nvPicPr>
        <p:blipFill>
          <a:blip r:embed="rId2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Картинка 53 из 46053"/>
          <p:cNvPicPr/>
          <p:nvPr/>
        </p:nvPicPr>
        <p:blipFill>
          <a:blip r:embed="rId3"/>
          <a:stretch/>
        </p:blipFill>
        <p:spPr>
          <a:xfrm>
            <a:off x="468360" y="2852640"/>
            <a:ext cx="3024000" cy="22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85E12-6623-4FC5-B979-A3C93AA35137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Трудовые ресур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508720" y="981000"/>
            <a:ext cx="35272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часть населения страны, обладающая физическим развитием, умственными способностями и знаниями, необходимыми для занятия общественно-полезным труд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г"/>
          <p:cNvPicPr/>
          <p:nvPr/>
        </p:nvPicPr>
        <p:blipFill>
          <a:blip r:embed="rId1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г"/>
          <p:cNvPicPr/>
          <p:nvPr/>
        </p:nvPicPr>
        <p:blipFill>
          <a:blip r:embed="rId2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Картинка 11 из 8243"/>
          <p:cNvPicPr/>
          <p:nvPr/>
        </p:nvPicPr>
        <p:blipFill>
          <a:blip r:embed="rId3"/>
          <a:stretch/>
        </p:blipFill>
        <p:spPr>
          <a:xfrm>
            <a:off x="250920" y="1413000"/>
            <a:ext cx="55688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ECF67-555A-48E7-8117-8310307A0541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Учебник стр. 44 рис. 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567640" cy="22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меры трудовых ресурсов зависят от численности населения, режима его воспроизводства, состава по полу и возрасту. Основную часть трудовых ресурсов страны составляет ее население в трудоспособном возрасте, а также подростки и лица пенсионного возраста, способные труди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г"/>
          <p:cNvPicPr/>
          <p:nvPr/>
        </p:nvPicPr>
        <p:blipFill>
          <a:blip r:embed="rId1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г"/>
          <p:cNvPicPr/>
          <p:nvPr/>
        </p:nvPicPr>
        <p:blipFill>
          <a:blip r:embed="rId2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Картинка 22 из 8243"/>
          <p:cNvPicPr/>
          <p:nvPr/>
        </p:nvPicPr>
        <p:blipFill>
          <a:blip r:embed="rId3"/>
          <a:stretch/>
        </p:blipFill>
        <p:spPr>
          <a:xfrm>
            <a:off x="395280" y="3284640"/>
            <a:ext cx="856944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BAF04-660F-4E62-8492-F3B6A4C44A04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000" y="981000"/>
            <a:ext cx="849636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еляют еще другую категорию - людей, реально участвующих в материальном производстве или непроизводственной сфере, 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ономически активное нас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г"/>
          <p:cNvPicPr/>
          <p:nvPr/>
        </p:nvPicPr>
        <p:blipFill>
          <a:blip r:embed="rId1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г"/>
          <p:cNvPicPr/>
          <p:nvPr/>
        </p:nvPicPr>
        <p:blipFill>
          <a:blip r:embed="rId2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Картинка 14 из 8243"/>
          <p:cNvPicPr/>
          <p:nvPr/>
        </p:nvPicPr>
        <p:blipFill>
          <a:blip r:embed="rId3"/>
          <a:stretch/>
        </p:blipFill>
        <p:spPr>
          <a:xfrm>
            <a:off x="971640" y="2565360"/>
            <a:ext cx="727236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6E884-C15D-463D-8B41-D5A339E4466A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85672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остав трудоспособного населения согласно законодательству РФ включаются граждане в возрасте 16-54 (включительно) - женщины, 16-59 (включительно) - мужчины. В группу нетрудоспособных включаются: неработающие инвалиды I и II групп рабочего возраста, неработающие пенсионеры трудоспособного возраста, получающие пенсию на льготных услов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г"/>
          <p:cNvPicPr/>
          <p:nvPr/>
        </p:nvPicPr>
        <p:blipFill>
          <a:blip r:embed="rId1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г"/>
          <p:cNvPicPr/>
          <p:nvPr/>
        </p:nvPicPr>
        <p:blipFill>
          <a:blip r:embed="rId2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Картинка 12 из 8243"/>
          <p:cNvPicPr/>
          <p:nvPr/>
        </p:nvPicPr>
        <p:blipFill>
          <a:blip r:embed="rId3"/>
          <a:stretch/>
        </p:blipFill>
        <p:spPr>
          <a:xfrm>
            <a:off x="324000" y="3448080"/>
            <a:ext cx="84960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EDC1B-92BE-455A-BADD-677F0E4E5DB7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Рынок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00000" y="980640"/>
            <a:ext cx="6335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 представляет собой систему общественных отношений в согласовании интересов работодателей и наемной рабочей силы. В функционировании рынка труда можно отметить несколько принципиальных положений: 1. Рынок труда – это совокупность экономических отношений между спросом и предложением рабочей силы на рынке труда. 2. Рынок труда – это место пересечения различных экономических и социальных и интересов и функц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г"/>
          <p:cNvPicPr/>
          <p:nvPr/>
        </p:nvPicPr>
        <p:blipFill>
          <a:blip r:embed="rId1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г"/>
          <p:cNvPicPr/>
          <p:nvPr/>
        </p:nvPicPr>
        <p:blipFill>
          <a:blip r:embed="rId2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Картинка 43 из 8243"/>
          <p:cNvPicPr/>
          <p:nvPr/>
        </p:nvPicPr>
        <p:blipFill>
          <a:blip r:embed="rId3"/>
          <a:stretch/>
        </p:blipFill>
        <p:spPr>
          <a:xfrm>
            <a:off x="250920" y="3860640"/>
            <a:ext cx="2827080" cy="21434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Картинка 19 из 46053"/>
          <p:cNvPicPr/>
          <p:nvPr/>
        </p:nvPicPr>
        <p:blipFill>
          <a:blip r:embed="rId4"/>
          <a:stretch/>
        </p:blipFill>
        <p:spPr>
          <a:xfrm>
            <a:off x="611280" y="1413000"/>
            <a:ext cx="2225520" cy="22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5564F-5D98-4284-BC66-41BD34D06BDC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Картинка 15 из 46053"/>
          <p:cNvPicPr/>
          <p:nvPr/>
        </p:nvPicPr>
        <p:blipFill>
          <a:blip r:embed="rId1"/>
          <a:stretch/>
        </p:blipFill>
        <p:spPr>
          <a:xfrm>
            <a:off x="108000" y="115920"/>
            <a:ext cx="889776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5075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2d050"/>
                </a:solidFill>
                <a:latin typeface="Arial"/>
              </a:rPr>
              <a:t>С чем выходить на рынок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BB31D-BE52-425B-A364-E42C9438026F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Картинка 2 из 46053"/>
          <p:cNvPicPr/>
          <p:nvPr/>
        </p:nvPicPr>
        <p:blipFill>
          <a:blip r:embed="rId1"/>
          <a:stretch/>
        </p:blipFill>
        <p:spPr>
          <a:xfrm>
            <a:off x="108000" y="4282920"/>
            <a:ext cx="3432240" cy="2575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Картинка 23 из 46053"/>
          <p:cNvPicPr/>
          <p:nvPr/>
        </p:nvPicPr>
        <p:blipFill>
          <a:blip r:embed="rId2"/>
          <a:stretch/>
        </p:blipFill>
        <p:spPr>
          <a:xfrm>
            <a:off x="1332000" y="2349360"/>
            <a:ext cx="2857320" cy="2033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Картинка 42 из 46053"/>
          <p:cNvPicPr/>
          <p:nvPr/>
        </p:nvPicPr>
        <p:blipFill>
          <a:blip r:embed="rId3"/>
          <a:stretch/>
        </p:blipFill>
        <p:spPr>
          <a:xfrm>
            <a:off x="4038480" y="3429000"/>
            <a:ext cx="5105520" cy="3114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Картинка 69 из 46053"/>
          <p:cNvPicPr/>
          <p:nvPr/>
        </p:nvPicPr>
        <p:blipFill>
          <a:blip r:embed="rId4"/>
          <a:stretch/>
        </p:blipFill>
        <p:spPr>
          <a:xfrm>
            <a:off x="5796000" y="1125360"/>
            <a:ext cx="3224160" cy="2173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Картинка 82 из 46053"/>
          <p:cNvPicPr/>
          <p:nvPr/>
        </p:nvPicPr>
        <p:blipFill>
          <a:blip r:embed="rId5"/>
          <a:stretch/>
        </p:blipFill>
        <p:spPr>
          <a:xfrm>
            <a:off x="0" y="876240"/>
            <a:ext cx="255600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8T08:09:11Z</dcterms:created>
  <dc:creator>татьяна</dc:creator>
  <dc:description/>
  <dc:language>en-US</dc:language>
  <cp:lastModifiedBy>татьяна</cp:lastModifiedBy>
  <dcterms:modified xsi:type="dcterms:W3CDTF">2010-10-09T04:15:31Z</dcterms:modified>
  <cp:revision>16</cp:revision>
  <dc:subject/>
  <dc:title>Россияне на рынке труд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6080000000000010243100207f6000400038000</vt:lpwstr>
  </property>
</Properties>
</file>