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25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26.png" ContentType="image/png"/>
  <Override PartName="/ppt/media/image17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D85D-50D2-41B1-9A11-B9C60E201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074D-3DE8-43EC-B9C1-984B3718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4D31-CE9D-4DF8-921F-52F2B2A7A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CE9F-6CD7-442B-994F-BCDAF9480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A127-378C-429D-98AC-6F957395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5639-C5B2-42AB-A321-163F1EDA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DFF0-F7C7-45C9-8DAC-3E81E8E6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41EE-E9BB-4405-8931-1CD291A2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B537-04E0-4A2A-9AFC-D70F13A0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EE8D-CA26-496D-B344-845B3CE3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61C4-FF54-4A90-A060-F4D73748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18D1-1F8E-4F0B-A833-7908FC13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56E8-92A1-4B73-BA2D-2730C6C3299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3678-091D-42C9-B307-557FE3410F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3357720"/>
            <a:ext cx="7772400" cy="12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35b40"/>
                </a:solidFill>
                <a:latin typeface="Arial Black"/>
              </a:rPr>
              <a:t>Россияне на рынке тру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92360" y="4797000"/>
            <a:ext cx="64008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«Будущее рождается сегодн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13744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исло безработных в России достигло почти 2,5 млн. человек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B6C0-C963-47CD-A4C0-A25863F9C06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Картинка 20 из 5354"/>
          <p:cNvPicPr/>
          <p:nvPr/>
        </p:nvPicPr>
        <p:blipFill>
          <a:blip r:embed="rId3"/>
          <a:stretch/>
        </p:blipFill>
        <p:spPr>
          <a:xfrm>
            <a:off x="6012000" y="1341360"/>
            <a:ext cx="2982600" cy="2981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Картинка 31 из 5354"/>
          <p:cNvPicPr/>
          <p:nvPr/>
        </p:nvPicPr>
        <p:blipFill>
          <a:blip r:embed="rId4"/>
          <a:stretch/>
        </p:blipFill>
        <p:spPr>
          <a:xfrm>
            <a:off x="2411280" y="3860640"/>
            <a:ext cx="3733920" cy="2857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Картинка 40 из 5354"/>
          <p:cNvPicPr/>
          <p:nvPr/>
        </p:nvPicPr>
        <p:blipFill>
          <a:blip r:embed="rId5"/>
          <a:stretch/>
        </p:blipFill>
        <p:spPr>
          <a:xfrm>
            <a:off x="5516640" y="4149720"/>
            <a:ext cx="3627360" cy="2417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http://im3-tub.yandex.net/i?id=74600432-11"/>
          <p:cNvPicPr/>
          <p:nvPr/>
        </p:nvPicPr>
        <p:blipFill>
          <a:blip r:embed="rId6"/>
          <a:stretch/>
        </p:blipFill>
        <p:spPr>
          <a:xfrm>
            <a:off x="324000" y="1557360"/>
            <a:ext cx="1873080" cy="2332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Картинка 46 из 968"/>
          <p:cNvPicPr/>
          <p:nvPr/>
        </p:nvPicPr>
        <p:blipFill>
          <a:blip r:embed="rId7"/>
          <a:stretch/>
        </p:blipFill>
        <p:spPr>
          <a:xfrm>
            <a:off x="108000" y="4157640"/>
            <a:ext cx="2232000" cy="2138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Картинка 184 из 968"/>
          <p:cNvPicPr/>
          <p:nvPr/>
        </p:nvPicPr>
        <p:blipFill>
          <a:blip r:embed="rId8"/>
          <a:stretch/>
        </p:blipFill>
        <p:spPr>
          <a:xfrm>
            <a:off x="2484360" y="1557360"/>
            <a:ext cx="333864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3ADE-C080-4C31-A530-481BFFF3972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Картинка 48 из 5354"/>
          <p:cNvPicPr/>
          <p:nvPr/>
        </p:nvPicPr>
        <p:blipFill>
          <a:blip r:embed="rId1"/>
          <a:stretch/>
        </p:blipFill>
        <p:spPr>
          <a:xfrm>
            <a:off x="312840" y="260280"/>
            <a:ext cx="84358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5075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2d050"/>
                </a:solidFill>
                <a:latin typeface="Arial"/>
              </a:rPr>
              <a:t>Выписать в тетрадь: причины и следствия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езработ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5C8F-D47C-4AC2-9886-A59E486D938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Картинка 56 из 5354"/>
          <p:cNvPicPr/>
          <p:nvPr/>
        </p:nvPicPr>
        <p:blipFill>
          <a:blip r:embed="rId1"/>
          <a:stretch/>
        </p:blipFill>
        <p:spPr>
          <a:xfrm>
            <a:off x="468360" y="1220760"/>
            <a:ext cx="835164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0E09-C6A5-42A7-848D-1A080FE25F4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Закрепл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92720" y="1196640"/>
            <a:ext cx="3743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235b4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5b40"/>
                </a:solidFill>
                <a:latin typeface="Arial Narrow"/>
              </a:rPr>
              <a:t>Какие профессии вы считаете самыми престижными? Перечислите их по ранжиру с 1-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235b4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5b40"/>
                </a:solidFill>
                <a:latin typeface="Arial Narrow"/>
              </a:rPr>
              <a:t>Какую профессию вы бы хотели получить? Какие качества для этого необходим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Картинка 48 из 8243"/>
          <p:cNvPicPr/>
          <p:nvPr/>
        </p:nvPicPr>
        <p:blipFill>
          <a:blip r:embed="rId3"/>
          <a:stretch/>
        </p:blipFill>
        <p:spPr>
          <a:xfrm>
            <a:off x="388800" y="1700280"/>
            <a:ext cx="47358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2d050"/>
                </a:solidFill>
                <a:latin typeface="Arial"/>
              </a:rPr>
              <a:t>Заполнить табли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600200"/>
          <a:ext cx="8229600" cy="4915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чество личности, нужные для выбранной профе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и качества, помогающие овладеть выбранной професси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и качества, препятствующие овладению выбранной професси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C7B3-13C4-4D7F-80F6-077678ABDA0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0072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Читать §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Отвечать на вопросы стр. 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Письменно задание №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5C59-5001-4B71-8C14-A32FC4506F3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Картинка 149 из 968"/>
          <p:cNvPicPr/>
          <p:nvPr/>
        </p:nvPicPr>
        <p:blipFill>
          <a:blip r:embed="rId1"/>
          <a:stretch/>
        </p:blipFill>
        <p:spPr>
          <a:xfrm>
            <a:off x="1116000" y="3068640"/>
            <a:ext cx="3381480" cy="3009960"/>
          </a:xfrm>
          <a:prstGeom prst="rect">
            <a:avLst/>
          </a:prstGeom>
          <a:ln w="0">
            <a:noFill/>
          </a:ln>
        </p:spPr>
      </p:pic>
      <p:sp>
        <p:nvSpPr>
          <p:cNvPr id="117" name="Облако 5"/>
          <p:cNvSpPr/>
          <p:nvPr/>
        </p:nvSpPr>
        <p:spPr>
          <a:xfrm>
            <a:off x="468360" y="1341360"/>
            <a:ext cx="3382920" cy="127332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Arial"/>
              </a:rPr>
              <a:t>«Свое будущее, ты делаешь сам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2D89-AF41-4541-B590-D51C2AA65857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Narrow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19280" y="1196640"/>
            <a:ext cx="5545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5b40"/>
                </a:solidFill>
                <a:latin typeface="Arial Narrow"/>
              </a:rPr>
              <a:t>1.Раскрыть особенности понятия «трудовые ресурсы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5b40"/>
                </a:solidFill>
                <a:latin typeface="Arial Narrow"/>
              </a:rPr>
              <a:t>2.Вскрыть причины и следствия безработиц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5b40"/>
                </a:solidFill>
                <a:latin typeface="Arial Narrow"/>
              </a:rPr>
              <a:t>3.Сформировать представления о требованиях к современному работнику в условиях рынка и профессиях, востребованных на сегодняшний д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Картинка 53 из 46053"/>
          <p:cNvPicPr/>
          <p:nvPr/>
        </p:nvPicPr>
        <p:blipFill>
          <a:blip r:embed="rId3"/>
          <a:stretch/>
        </p:blipFill>
        <p:spPr>
          <a:xfrm>
            <a:off x="468360" y="2852640"/>
            <a:ext cx="302400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B0C9-8861-4B30-8F9A-D17D844FC71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Трудовые рес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508720" y="981000"/>
            <a:ext cx="35272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часть населения страны, обладающая физическим развитием, умственными способностями и знаниями, необходимыми для занятия общественно-полезным тру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Картинка 11 из 8243"/>
          <p:cNvPicPr/>
          <p:nvPr/>
        </p:nvPicPr>
        <p:blipFill>
          <a:blip r:embed="rId3"/>
          <a:stretch/>
        </p:blipFill>
        <p:spPr>
          <a:xfrm>
            <a:off x="250920" y="1413000"/>
            <a:ext cx="55688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5DC0-9A16-431F-B3C8-9965B09CF9D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Учебник стр. 44 рис.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567640" cy="22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меры трудовых ресурсов зависят от численности населения, режима его воспроизводства, состава по полу и возрасту. Основную часть трудовых ресурсов страны составляет ее население в трудоспособном возрасте, а также подростки и лица пенсионного возраста, способные труди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Картинка 22 из 8243"/>
          <p:cNvPicPr/>
          <p:nvPr/>
        </p:nvPicPr>
        <p:blipFill>
          <a:blip r:embed="rId3"/>
          <a:stretch/>
        </p:blipFill>
        <p:spPr>
          <a:xfrm>
            <a:off x="395280" y="3284640"/>
            <a:ext cx="856944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926B-0A70-433A-B013-F160593A49A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849636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яют еще другую категорию - людей, реально участвующих в материальном производстве или непроизводственной сфере, 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ономически активное нас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Картинка 14 из 8243"/>
          <p:cNvPicPr/>
          <p:nvPr/>
        </p:nvPicPr>
        <p:blipFill>
          <a:blip r:embed="rId3"/>
          <a:stretch/>
        </p:blipFill>
        <p:spPr>
          <a:xfrm>
            <a:off x="971640" y="2565360"/>
            <a:ext cx="727236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52C8-B699-4EB0-9556-C40A1DB6BF7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85672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став трудоспособного населения согласно законодательству РФ включаются граждане в возрасте 16-54 (включительно) - женщины, 16-59 (включительно) - мужчины. В группу нетрудоспособных включаются: неработающие инвалиды I и II групп рабочего возраста, неработающие пенсионеры трудоспособного возраста, получающие пенсию на льготных услов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Картинка 12 из 8243"/>
          <p:cNvPicPr/>
          <p:nvPr/>
        </p:nvPicPr>
        <p:blipFill>
          <a:blip r:embed="rId3"/>
          <a:stretch/>
        </p:blipFill>
        <p:spPr>
          <a:xfrm>
            <a:off x="324000" y="3448080"/>
            <a:ext cx="84960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AE12-9E5F-488D-9860-978BBBAF161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Рынок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00000" y="980640"/>
            <a:ext cx="6335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 представляет собой систему общественных отношений в согласовании интересов работодателей и наемной рабочей силы. В функционировании рынка труда можно отметить несколько принципиальных положений: 1. Рынок труда – это совокупность экономических отношений между спросом и предложением рабочей силы на рынке труда. 2. Рынок труда – это место пересечения различных экономических и социальных и интересов и функц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Картинка 43 из 8243"/>
          <p:cNvPicPr/>
          <p:nvPr/>
        </p:nvPicPr>
        <p:blipFill>
          <a:blip r:embed="rId3"/>
          <a:stretch/>
        </p:blipFill>
        <p:spPr>
          <a:xfrm>
            <a:off x="250920" y="3860640"/>
            <a:ext cx="2827080" cy="2143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Картинка 19 из 46053"/>
          <p:cNvPicPr/>
          <p:nvPr/>
        </p:nvPicPr>
        <p:blipFill>
          <a:blip r:embed="rId4"/>
          <a:stretch/>
        </p:blipFill>
        <p:spPr>
          <a:xfrm>
            <a:off x="611280" y="1413000"/>
            <a:ext cx="222552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F590-47ED-4CB8-AA98-2A33CAAD3AC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Картинка 15 из 46053"/>
          <p:cNvPicPr/>
          <p:nvPr/>
        </p:nvPicPr>
        <p:blipFill>
          <a:blip r:embed="rId1"/>
          <a:stretch/>
        </p:blipFill>
        <p:spPr>
          <a:xfrm>
            <a:off x="108000" y="115920"/>
            <a:ext cx="889776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507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2d050"/>
                </a:solidFill>
                <a:latin typeface="Arial"/>
              </a:rPr>
              <a:t>С чем выходить на рынок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EF02-F81B-4C86-A31F-1E7A836433C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Картинка 2 из 46053"/>
          <p:cNvPicPr/>
          <p:nvPr/>
        </p:nvPicPr>
        <p:blipFill>
          <a:blip r:embed="rId1"/>
          <a:stretch/>
        </p:blipFill>
        <p:spPr>
          <a:xfrm>
            <a:off x="108000" y="4282920"/>
            <a:ext cx="3432240" cy="2575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Картинка 23 из 46053"/>
          <p:cNvPicPr/>
          <p:nvPr/>
        </p:nvPicPr>
        <p:blipFill>
          <a:blip r:embed="rId2"/>
          <a:stretch/>
        </p:blipFill>
        <p:spPr>
          <a:xfrm>
            <a:off x="1332000" y="2349360"/>
            <a:ext cx="2857320" cy="2033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Картинка 42 из 46053"/>
          <p:cNvPicPr/>
          <p:nvPr/>
        </p:nvPicPr>
        <p:blipFill>
          <a:blip r:embed="rId3"/>
          <a:stretch/>
        </p:blipFill>
        <p:spPr>
          <a:xfrm>
            <a:off x="4038480" y="3429000"/>
            <a:ext cx="5105520" cy="3114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Картинка 69 из 46053"/>
          <p:cNvPicPr/>
          <p:nvPr/>
        </p:nvPicPr>
        <p:blipFill>
          <a:blip r:embed="rId4"/>
          <a:stretch/>
        </p:blipFill>
        <p:spPr>
          <a:xfrm>
            <a:off x="5796000" y="1125360"/>
            <a:ext cx="3224160" cy="2173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Картинка 82 из 46053"/>
          <p:cNvPicPr/>
          <p:nvPr/>
        </p:nvPicPr>
        <p:blipFill>
          <a:blip r:embed="rId5"/>
          <a:stretch/>
        </p:blipFill>
        <p:spPr>
          <a:xfrm>
            <a:off x="0" y="876240"/>
            <a:ext cx="255600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08:09:11Z</dcterms:created>
  <dc:creator>татьяна</dc:creator>
  <dc:description/>
  <dc:language>en-US</dc:language>
  <cp:lastModifiedBy>татьяна</cp:lastModifiedBy>
  <dcterms:modified xsi:type="dcterms:W3CDTF">2010-10-09T04:15:31Z</dcterms:modified>
  <cp:revision>16</cp:revision>
  <dc:subject/>
  <dc:title>Россияне на рынке тру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6080000000000010243100207f6000400038000</vt:lpwstr>
  </property>
</Properties>
</file>