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DB97-B962-4FEA-BEA5-B031B2D4AB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CEF9-10A0-489C-A9BD-0772F5F0C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ремя - это простор для развития способностей...»  (Карл Марк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13F9-6526-49FA-B4B1-3F4193FA0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уро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Постановка учебных задач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читель  создаёт проблемную ситуацию для осознания  новой учебной задачи, читает стихотворение К. Абоимова, Часы бывают раз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ы бывают раз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детские, есть ва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ильники пузат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енные глазастые,  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манные почт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чные надм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льные серьёз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ашенные грозные.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сочные стройняшки,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ивные близняш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омняги электро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солнечные со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ие ещё часы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81E9-0A42-4BFA-A61F-9F3CD1B8E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йте вопрос классу (пример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общего у всех часов?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опросы и ответы на вопросы.  выявляют, что общего у все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уйте определение – «часы – это …». формулируют определение понятия «часы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ы - прибор для измерения текущего времени, прибор для отсчёт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мывают  тему и план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D829-A1A5-496E-97E2-E5F72EAD7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тором  этапе уро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местное исследование проблемы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читель  организовывает  коллективный анализ учебной задачи: предлагает заслушать  историческую справку об изобретении первых часов и решить  математическую задач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предлагает объединить полученные знания на первых этапах урока и сформулировать тему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ссия на карте часовых поясов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узнаем в ходе изучения данной темы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источники  информации мы будем  использовать для выполнения учебной задачи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557E-F47A-4CFE-885B-2E28F4064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м этапе урока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отвечают  на вопрос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так важно зн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колько времен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«который час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 просмотр и обсуждение  видеофильма «Морской Гринвич», обучающиеся называют причины принятия поясного счёта време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находящиеся на различной долготе, имели каждый собственный счёт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седневной жизни пользоваться  местным временем стало неудобно, так как на каждом меридиане оно своё, поэтому был принят поясной счёт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торый час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 в/ф - «Часовые поя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поверхность земного шара разделили на 24 часовых пояса по 15' каждый – карты атласа «Часовые пояс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E7B6-3ED2-4855-B2C6-1B19AF5DA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т с картой атласа «Часовые пояса»  и по параграфу учебника  составляют  схему «Виды времени», дают характеристику «време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сурс: Поясное время разных регионо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 нового материала по Э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ст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часовых поя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ель времени в городах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6C48-1914-413D-850D-BEBF8C9F1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я к этапу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частных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обучающиеся самостоятельно и в парах  выполняют практическую  работу «Решение задач по определению местного и поясного времени», работая с ресурсом ЦОР: 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итель времени в городах РФ и решение предложенной задачи в Ц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 способы решения или работают по предложенному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задач можно использовать сервис «Карты ГУГ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F747-50D4-4B56-B62C-04BDFB590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11 г  на территории Российской Федерации установлено 9 часовых поясов (точнее, в соответствии с новым законом «Об исчислении времени»,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овых з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с одинаковым временем в пределах каждого часового поя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887-83EC-4CF3-BE4E-E73347921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лекс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возможно следующее: между пунктами расстояние в 5 км,  а различие по времени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ча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целые сутки (понятие  «линия перемены дат» - самостоятельно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еремены даты проходит здесь, между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тровами Диоми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остров Крузенштерна (США) (слева) живёт «вчера», а остров Ратманова (Россия) (справа) — «сегодн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C5D-7067-461D-AF5D-D855AB3BC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4D2-E210-43A0-9CFA-C63F1E38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331-385E-4696-B2DB-127A5EB5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B31-29D9-4DFB-A07C-DC166368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E2E-837F-4D43-AEF3-E8D736F6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104-4BFD-4C42-B45C-DFAB1553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0E0E-B8EB-46B0-B7B7-E4698587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B9DC-FC6E-40EC-AD17-94269580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4D5F-3BD3-46F8-9437-417950B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E258-650E-44C3-98A9-1E30E7B0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BBFC-AAD4-4824-8689-48C2835B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8A3-141A-46B2-A119-02469AD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669-19F9-4FE0-B5C6-DCE341A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75B4-B808-4954-8A7F-D6FD0D3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056-72BB-4DAF-8C98-FF72187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EB06-39C0-4DB6-9C50-D2DCD065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5BF-95F7-464B-8B08-6A7205D6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62FC-7422-4309-B43D-D225C925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A9C3-B77E-4737-AE63-3F0C254E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798A-D0DE-4C8B-A363-C50D1132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88D8-8EAB-4C37-B1B1-0C7D679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064F-F592-412B-A8F5-2F4E9257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8442-1B38-44B0-ADFA-1CC2FBCC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264-DBDE-450E-966F-4706224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F977-1AF7-47CB-AD04-40735B77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8D85-9721-4D69-AFE7-E685AB27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5922-B422-4348-9037-D05B0F1E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6952-826D-4BE7-996D-26DF8B0A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4C13-D00B-4279-A85C-0A0091F8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3EAD-6F09-44CD-9652-C5226EBE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4B81-0832-4D01-976B-FF904EF2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66AD-8A98-4A18-B3F3-A78F3F6B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4A0C-A7FE-4A38-9B57-97E3A45E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3A5B-19C5-4C06-9A1D-45D3B9BC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390-D62F-4676-BA9B-5D95499C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F35C-885B-4AB1-A953-DBEAE894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234E-F8B5-4077-95C9-4F5FAE8D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9384-99E2-48F1-BDAE-90E5F459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41FF-810D-4EFA-95DE-884AFFB8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F517-C296-4511-BDEF-B376794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B2C1-095F-4D63-B56C-D87AED5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56D2-85F9-4A31-BCE2-C8F5B4FB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35BA-6C33-438F-A6E8-1B16C9BB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B242-CD2F-4460-B63A-4F0C440A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515-8923-4814-ABAE-412FDBBF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3B8-2AD0-48DD-B46D-1336F05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EF0-F7EA-4515-BDED-4F62673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85E-44C2-41D4-B534-D62B4EF4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CD8-530F-4FA0-9DAD-A5B928C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20AC-4587-4D9C-884D-45B7619DEE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6236-8A92-4247-980A-B16C3E9670B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204-DB36-4962-8F64-35F6397FE1A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CFC7-9B3D-4E3A-8BDE-12C58542322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youtube.com/watch?v=eWMOZ_RVbQM&amp;feature=player_embedded" TargetMode="External"/><Relationship Id="rId3" Type="http://schemas.openxmlformats.org/officeDocument/2006/relationships/hyperlink" Target="file:///&#1052;&#1086;&#1088;&#1089;&#1082;&#1086;&#1081;%20&#1043;&#1088;&#1080;&#1085;&#1074;&#1080;&#1095;.mp4" TargetMode="External"/><Relationship Id="rId4" Type="http://schemas.openxmlformats.org/officeDocument/2006/relationships/hyperlink" Target="file:///&#1052;&#1086;&#1088;&#1089;&#1082;&#1086;&#1081;%20&#1043;&#1088;&#1080;&#1085;&#1074;&#1080;&#1095;.mp4" TargetMode="External"/><Relationship Id="rId5" Type="http://schemas.openxmlformats.org/officeDocument/2006/relationships/hyperlink" Target="file:///&#1095;&#1072;&#1089;&#1086;&#1074;&#1099;&#1077;%20&#1087;&#1086;&#1103;&#1089;&#1072;.mp4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chool-collection.edu.ru/catalog/res/c24249d3-ecaa-4521-9b8d-35fbaa734d2b/?from=8f5d7210-86a6-11da-a72b-0800200c9a66&amp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74;%20&#1084;&#1086;&#1089;&#1082;&#1074;&#1077;%2015%20&#1095;&#1072;&#1089;&#1086;&#1074;.wma" TargetMode="External"/><Relationship Id="rId3" Type="http://schemas.openxmlformats.org/officeDocument/2006/relationships/hyperlink" Target="http://time100.ru/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g.co/maps/ejm2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46160" y="1176480"/>
            <a:ext cx="8528040" cy="1950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57160" y="47858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Козлова Светлана Георгиевн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учитель географии и биологи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МБОУ «Средняя общеобразовательная школа № 2»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г. Великие Луки Псковской обла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alez\Desktop\МОИ документы\МОИ РИСУНКИ\творчество - это.jpg"/>
          <p:cNvPicPr/>
          <p:nvPr/>
        </p:nvPicPr>
        <p:blipFill>
          <a:blip r:embed="rId1"/>
          <a:stretch/>
        </p:blipFill>
        <p:spPr>
          <a:xfrm>
            <a:off x="1285920" y="357120"/>
            <a:ext cx="67863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alez\Desktop\Рисунок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а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Users\alez\Desktop\Рисунок1.jpg"/>
          <p:cNvPicPr/>
          <p:nvPr/>
        </p:nvPicPr>
        <p:blipFill>
          <a:blip r:embed="rId2"/>
          <a:stretch/>
        </p:blipFill>
        <p:spPr>
          <a:xfrm>
            <a:off x="357120" y="28584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alez\Desktop\Рисунок2.jpg"/>
          <p:cNvPicPr/>
          <p:nvPr/>
        </p:nvPicPr>
        <p:blipFill>
          <a:blip r:embed="rId3"/>
          <a:stretch/>
        </p:blipFill>
        <p:spPr>
          <a:xfrm>
            <a:off x="5500800" y="3929040"/>
            <a:ext cx="3232080" cy="2571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lez\Desktop\Рисунок2.jpg"/>
          <p:cNvPicPr/>
          <p:nvPr/>
        </p:nvPicPr>
        <p:blipFill>
          <a:blip r:embed="rId4"/>
          <a:stretch/>
        </p:blipFill>
        <p:spPr>
          <a:xfrm>
            <a:off x="5929200" y="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alez\Desktop\Рисунок3.jpg"/>
          <p:cNvPicPr/>
          <p:nvPr/>
        </p:nvPicPr>
        <p:blipFill>
          <a:blip r:embed="rId5"/>
          <a:stretch/>
        </p:blipFill>
        <p:spPr>
          <a:xfrm>
            <a:off x="357120" y="3929040"/>
            <a:ext cx="3278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6760" y="714240"/>
            <a:ext cx="4040280" cy="85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3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Астрономически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3280" y="713880"/>
            <a:ext cx="4042080" cy="10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Кукольны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Users\alez\Desktop\Рисунок6.jpg"/>
          <p:cNvPicPr/>
          <p:nvPr/>
        </p:nvPicPr>
        <p:blipFill>
          <a:blip r:embed="rId1"/>
          <a:stretch/>
        </p:blipFill>
        <p:spPr>
          <a:xfrm>
            <a:off x="357120" y="1785960"/>
            <a:ext cx="431640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alez\Desktop\Рисунок7.jpg"/>
          <p:cNvPicPr/>
          <p:nvPr/>
        </p:nvPicPr>
        <p:blipFill>
          <a:blip r:embed="rId2"/>
          <a:stretch/>
        </p:blipFill>
        <p:spPr>
          <a:xfrm>
            <a:off x="4786200" y="1785960"/>
            <a:ext cx="4140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28760" y="785520"/>
            <a:ext cx="403992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9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одяны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4560" y="785880"/>
            <a:ext cx="40417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«Павлин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Users\alez\Desktop\Рисунок8.jpg"/>
          <p:cNvPicPr/>
          <p:nvPr/>
        </p:nvPicPr>
        <p:blipFill>
          <a:blip r:embed="rId1"/>
          <a:stretch/>
        </p:blipFill>
        <p:spPr>
          <a:xfrm>
            <a:off x="642960" y="1857240"/>
            <a:ext cx="3571920" cy="471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alez\Desktop\Рисунок9.jpg"/>
          <p:cNvPicPr/>
          <p:nvPr/>
        </p:nvPicPr>
        <p:blipFill>
          <a:blip r:embed="rId2"/>
          <a:stretch/>
        </p:blipFill>
        <p:spPr>
          <a:xfrm>
            <a:off x="4572000" y="1857240"/>
            <a:ext cx="392904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alez\Desktop\Рисунок5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асовые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поя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286080" y="5786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рской Гринвич» (Лондон) виде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www.youtube.com/watch?v=eWMOZ_RVbQM&amp;feature=player_embedded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500040" y="185724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Сколько времени? 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428760" y="257184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Котор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3" descr=""/>
          <p:cNvPicPr/>
          <p:nvPr/>
        </p:nvPicPr>
        <p:blipFill>
          <a:blip r:embed="rId1"/>
          <a:stretch/>
        </p:blipFill>
        <p:spPr>
          <a:xfrm>
            <a:off x="353880" y="554040"/>
            <a:ext cx="8240760" cy="51768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2857680" y="5929200"/>
            <a:ext cx="60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сное время разных регионов Росси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Ресурс: (N 159947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school-collection.edu.ru/catalog/res/c24249d3-ecaa-4521-9b8d-35fbaa734d2b/?from=8f5d7210-86a6-11da-a72b-0800200c9a66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alez\Desktop\Часовые пояса - Козлова С.Г\0244759927.jpg"/>
          <p:cNvPicPr/>
          <p:nvPr/>
        </p:nvPicPr>
        <p:blipFill>
          <a:blip r:embed="rId1"/>
          <a:srcRect l="0" t="7789" r="-49" b="57"/>
          <a:stretch/>
        </p:blipFill>
        <p:spPr>
          <a:xfrm>
            <a:off x="0" y="15717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Московское время</a:t>
            </a:r>
            <a:br>
              <a:rPr sz="4400"/>
            </a:br>
            <a:r>
              <a:rPr b="1" lang="en-US" sz="14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http://time100.ru/</a:t>
            </a:r>
            <a:r>
              <a:rPr b="0" lang="en-US" sz="1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71680" y="3357720"/>
            <a:ext cx="64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7929720" y="33577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571680" y="2643120"/>
            <a:ext cx="642600" cy="642960"/>
          </a:xfrm>
          <a:prstGeom prst="ellipse">
            <a:avLst/>
          </a:prstGeom>
          <a:solidFill>
            <a:srgbClr val="b0dfa1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7929720" y="4214880"/>
            <a:ext cx="714240" cy="714240"/>
          </a:xfrm>
          <a:prstGeom prst="ellipse">
            <a:avLst/>
          </a:prstGeom>
          <a:solidFill>
            <a:srgbClr val="91c6f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0"/>
          <p:cNvSpPr/>
          <p:nvPr/>
        </p:nvSpPr>
        <p:spPr>
          <a:xfrm>
            <a:off x="785880" y="4929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4357800" y="5072040"/>
            <a:ext cx="28548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2"/>
          <p:cNvSpPr/>
          <p:nvPr/>
        </p:nvSpPr>
        <p:spPr>
          <a:xfrm>
            <a:off x="7072200" y="521496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Содержимое 3" descr=""/>
          <p:cNvPicPr/>
          <p:nvPr/>
        </p:nvPicPr>
        <p:blipFill>
          <a:blip r:embed="rId4"/>
          <a:stretch/>
        </p:blipFill>
        <p:spPr>
          <a:xfrm>
            <a:off x="566640" y="213984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3"/>
          <p:cNvSpPr/>
          <p:nvPr/>
        </p:nvSpPr>
        <p:spPr>
          <a:xfrm>
            <a:off x="214200" y="6000840"/>
            <a:ext cx="328608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асовые пояса России»  - </a:t>
            </a:r>
            <a:r>
              <a:rPr b="1" lang="ru-RU" sz="1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http://g.co/maps/ejm2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828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357120" y="500040"/>
            <a:ext cx="78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асовые </a:t>
            </a: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з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на территории Р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Линия перемен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C:\Users\alez\Desktop\Часовые пояса - Козлова С.Г\0244759927.jpg"/>
          <p:cNvPicPr/>
          <p:nvPr/>
        </p:nvPicPr>
        <p:blipFill>
          <a:blip r:embed="rId1"/>
          <a:srcRect l="0" t="0" r="-49" b="57"/>
          <a:stretch/>
        </p:blipFill>
        <p:spPr>
          <a:xfrm>
            <a:off x="-20520" y="1357200"/>
            <a:ext cx="9164520" cy="5500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alez\Desktop\МОИ документы\документы\Курсы\курсы - география 2013\Часовые пояса - Козлова С.Г\Diomede_Islands_Bering_Sea_Jul_2006.jpg"/>
          <p:cNvPicPr/>
          <p:nvPr/>
        </p:nvPicPr>
        <p:blipFill>
          <a:blip r:embed="rId2"/>
          <a:stretch/>
        </p:blipFill>
        <p:spPr>
          <a:xfrm>
            <a:off x="214200" y="3571920"/>
            <a:ext cx="6112080" cy="30718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ая соединительная линия 9"/>
          <p:cNvSpPr/>
          <p:nvPr/>
        </p:nvSpPr>
        <p:spPr>
          <a:xfrm flipH="1">
            <a:off x="8286840" y="1785960"/>
            <a:ext cx="1440" cy="1571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"/>
          <p:cNvSpPr/>
          <p:nvPr/>
        </p:nvSpPr>
        <p:spPr>
          <a:xfrm>
            <a:off x="8287560" y="3357720"/>
            <a:ext cx="498600" cy="6429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3"/>
          <p:cNvSpPr/>
          <p:nvPr/>
        </p:nvSpPr>
        <p:spPr>
          <a:xfrm flipH="1">
            <a:off x="7714800" y="4286160"/>
            <a:ext cx="1143000" cy="1214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5"/>
          <p:cNvSpPr/>
          <p:nvPr/>
        </p:nvSpPr>
        <p:spPr>
          <a:xfrm>
            <a:off x="8786880" y="4000680"/>
            <a:ext cx="71280" cy="2854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7"/>
          <p:cNvSpPr/>
          <p:nvPr/>
        </p:nvSpPr>
        <p:spPr>
          <a:xfrm flipH="1" flipV="1">
            <a:off x="7715160" y="5500800"/>
            <a:ext cx="571680" cy="357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9"/>
          <p:cNvSpPr/>
          <p:nvPr/>
        </p:nvSpPr>
        <p:spPr>
          <a:xfrm flipH="1">
            <a:off x="8286840" y="5857920"/>
            <a:ext cx="1440" cy="1000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2"/>
          <p:cNvSpPr/>
          <p:nvPr/>
        </p:nvSpPr>
        <p:spPr>
          <a:xfrm>
            <a:off x="285840" y="55008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. Крузенштерна (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лева) живёт «вчер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3"/>
          <p:cNvSpPr/>
          <p:nvPr/>
        </p:nvSpPr>
        <p:spPr>
          <a:xfrm>
            <a:off x="3071880" y="45007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. Ратманова (Росс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справа) — «сегод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22:30:25Z</dcterms:created>
  <dc:creator>Козлова С.Г.</dc:creator>
  <dc:description/>
  <dc:language>en-US</dc:language>
  <cp:lastModifiedBy>Козлова С.Г.</cp:lastModifiedBy>
  <dcterms:modified xsi:type="dcterms:W3CDTF">2014-01-12T11:03:58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20000000000010250300207f7000400038000</vt:lpwstr>
  </property>
</Properties>
</file>