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0635-76DD-4909-9F87-2D02DDB775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1E1C-2BCD-481C-A20E-A3DAF4B39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ремя - это простор для развития способностей...»  (Карл Марк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661B-D145-43A5-B553-05839F32EA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м этапе уро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Постановка учебных задач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читель  создаёт проблемную ситуацию для осознания  новой учебной задачи, читает стихотворение К. Абоимова, Часы бывают раз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ы бывают раз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детские, есть важ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ильники пузат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тенные глазастые,   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манные почт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чные надм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льные серьёз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башенные грозные. 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сочные стройняшки, 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ивные близняш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омняги электро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солнечные со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ие ещё часы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D0B5-DCD0-40DF-BBC5-1A4F2D403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йте вопрос классу (пример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общего у всех часов?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опросы и ответы на вопросы.  выявляют, что общего у всех час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уйте определение – «часы – это …». формулируют определение понятия «часы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асы - прибор для измерения текущего времени, прибор для отсчёт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мывают  тему и план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8E0A-0D45-4969-BAB7-79564B347F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тором  этапе уро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местное исследование проблемы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читель  организовывает  коллективный анализ учебной задачи: предлагает заслушать  историческую справку об изобретении первых часов и решить  математическую задач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предлагает объединить полученные знания на первых этапах урока и сформулировать тему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оссия на карте часовых поясов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узнаем в ходе изучения данной темы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источники  информации мы будем  использовать для выполнения учебной задачи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83FC-BD36-47C8-B7E6-E182EE0CE8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етьем этапе урока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отвечают  на вопрос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так важно зн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колько времени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«который час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 просмотр и обсуждение  видеофильма «Морской Гринвич», обучающиеся называют причины принятия поясного счёта време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, находящиеся на различной долготе, имели каждый собственный счёт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вседневной жизни пользоваться  местным временем стало неудобно, так как на каждом меридиане оно своё, поэтому был принят поясной счёт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который час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 в/ф - «Часовые поя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поверхность земного шара разделили на 24 часовых пояса по 15' каждый – карты атласа «Часовые пояс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3A10-02AF-4720-A25A-1A5C3DB324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т с картой атласа «Часовые пояса»  и по параграфу учебника  составляют  схему «Виды времени», дают характеристику «време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сурс: Поясное время разных регионо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ение нового материала по Э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ест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ремя часовых поя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ределитель времени в городах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8F3D-4D98-47EA-BE3F-85EDDAEC9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я к этапу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частных 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обучающиеся самостоятельно и в парах  выполняют практическую  работу «Решение задач по определению местного и поясного времени», работая с ресурсом ЦОР:  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елитель времени в городах РФ и решение предложенной задачи в Ц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ходят способы решения или работают по предложенному алгорит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задач можно использовать сервис «Карты ГУГ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D0EA-B529-415B-8050-98F0B4C1C8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11 г  на территории Российской Федерации установлено 9 часовых поясов (точнее, в соответствии с новым законом «Об исчислении времени»,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овых з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с одинаковым временем в пределах каждого часового поя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73DA-8C9A-4FAF-B466-670BA97AD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флекс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случаях возможно следующее: между пунктами расстояние в 5 км,  а различие по времени соста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2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1 ча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целые сутки (понятие  «линия перемены дат» - самостоятельно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еремены даты проходит здесь, между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тровами Диоми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остров Крузенштерна (США) (слева) живёт «вчера», а остров Ратманова (Россия) (справа) — «сегодн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00DD-9A73-4672-867C-41B43D7C59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CD8-9FAB-4A3C-8066-53BB9002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E1F-31C2-4F36-B433-41FBDAC8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18A-541D-4712-9A27-BDAE8A2C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6FC-FB65-4795-A477-E3C7FDE5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EE17-23CB-46B6-B411-A736FD77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6D1C-6792-4984-8C11-4ED68EA4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1E18-2718-4846-91C0-80DC6477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300C-27DD-485E-989F-B039B7CC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B200-39F9-4E9E-9EE2-473C0260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5E68-300A-4B14-9DA5-C26B16F9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92F9-9D35-489E-8684-8602DB5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66D-CDBC-4DA6-89DD-2E983524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3D11-2A5D-4A08-A434-CDA6C0A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EC32-05D4-4F08-B888-FBB5C255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2B32-E035-4941-A652-9808842F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956F-9961-41C5-9B1C-761122B9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07E4-E61D-432F-8ED2-C63AB3DD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39A8-6ACB-492E-8C17-1522910D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D527-153D-49A4-AE4D-AC0E229B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5E9E-295B-43A1-BD5C-23584355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A8BE-D4A2-4581-8A71-0D18E6B6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EB70-1473-45F8-953F-B7B9D3DA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A7E-7E88-4C52-90D7-4378BB7F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7E52-F2B3-4991-869E-867E0557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4C04-208B-4733-A9E8-998C1023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B66B-1B12-499E-BDC1-A5159535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D115-53CD-4F2E-A757-5A79D2D8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A6F0B-AE73-498A-BC32-5674B614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286A-86EB-4399-9A1D-690FF48D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EB0B-B57B-45ED-823D-FD7D0BAC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CEE41-3601-446A-921B-08F25905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EA60-769A-45DE-B7B8-B49B1519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76461-AFA0-4960-B93F-1BA96C74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72B-AE9F-4979-916A-C54FE16A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9A9E1-855E-4015-9127-F8F79EDF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7750F-412F-457C-851E-8C544460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1235E-C607-4AF7-ABBF-C73279CD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2800C-0F4D-4090-AD3A-B23A9370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3267-1D7E-469D-A20B-40DA0D55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2A4F3-C737-44F4-A525-2460686C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6E34-BFAD-4FD6-96BC-D71E09FB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F176-C121-4720-9A19-3856A500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5014-6341-4623-818A-673ACEC3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95F-8243-4780-B2C6-9EDB7154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A35-8A83-40C2-94F5-B7BA4C90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0A5-EA55-4FB8-B7AC-F782FB23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47A-CD69-4360-8C46-162CAE5A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8FB-724F-40A0-B532-0DF631BE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B8D2-BC52-4C59-9C4F-04691BB4EDA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FCEF-6531-4231-B891-CEBAC3329B9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37D2-0ABA-40CC-B877-EDBC7BF419D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11C6-70E2-47AE-AC92-93AA62E3A6A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youtube.com/watch?v=eWMOZ_RVbQM&amp;feature=player_embedded" TargetMode="External"/><Relationship Id="rId3" Type="http://schemas.openxmlformats.org/officeDocument/2006/relationships/hyperlink" Target="file:///&#1052;&#1086;&#1088;&#1089;&#1082;&#1086;&#1081;%20&#1043;&#1088;&#1080;&#1085;&#1074;&#1080;&#1095;.mp4" TargetMode="External"/><Relationship Id="rId4" Type="http://schemas.openxmlformats.org/officeDocument/2006/relationships/hyperlink" Target="file:///&#1052;&#1086;&#1088;&#1089;&#1082;&#1086;&#1081;%20&#1043;&#1088;&#1080;&#1085;&#1074;&#1080;&#1095;.mp4" TargetMode="External"/><Relationship Id="rId5" Type="http://schemas.openxmlformats.org/officeDocument/2006/relationships/hyperlink" Target="file:///&#1095;&#1072;&#1089;&#1086;&#1074;&#1099;&#1077;%20&#1087;&#1086;&#1103;&#1089;&#1072;.mp4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school-collection.edu.ru/catalog/res/c24249d3-ecaa-4521-9b8d-35fbaa734d2b/?from=8f5d7210-86a6-11da-a72b-0800200c9a66&amp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1074;%20&#1084;&#1086;&#1089;&#1082;&#1074;&#1077;%2015%20&#1095;&#1072;&#1089;&#1086;&#1074;.wma" TargetMode="External"/><Relationship Id="rId3" Type="http://schemas.openxmlformats.org/officeDocument/2006/relationships/hyperlink" Target="http://time100.ru/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g.co/maps/ejm2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146160" y="1176480"/>
            <a:ext cx="8528040" cy="1950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57160" y="47858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Козлова Светлана Георгиевна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учитель географии и биологи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МБОУ «Средняя общеобразовательная школа № 2»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г. Великие Луки Псковской обла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alez\Desktop\МОИ документы\МОИ РИСУНКИ\творчество - это.jpg"/>
          <p:cNvPicPr/>
          <p:nvPr/>
        </p:nvPicPr>
        <p:blipFill>
          <a:blip r:embed="rId1"/>
          <a:stretch/>
        </p:blipFill>
        <p:spPr>
          <a:xfrm>
            <a:off x="1285920" y="357120"/>
            <a:ext cx="67863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Users\alez\Desktop\Рисунок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Час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C:\Users\alez\Desktop\Рисунок1.jpg"/>
          <p:cNvPicPr/>
          <p:nvPr/>
        </p:nvPicPr>
        <p:blipFill>
          <a:blip r:embed="rId2"/>
          <a:stretch/>
        </p:blipFill>
        <p:spPr>
          <a:xfrm>
            <a:off x="357120" y="28584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alez\Desktop\Рисунок2.jpg"/>
          <p:cNvPicPr/>
          <p:nvPr/>
        </p:nvPicPr>
        <p:blipFill>
          <a:blip r:embed="rId3"/>
          <a:stretch/>
        </p:blipFill>
        <p:spPr>
          <a:xfrm>
            <a:off x="5500800" y="3929040"/>
            <a:ext cx="3232080" cy="2571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lez\Desktop\Рисунок2.jpg"/>
          <p:cNvPicPr/>
          <p:nvPr/>
        </p:nvPicPr>
        <p:blipFill>
          <a:blip r:embed="rId4"/>
          <a:stretch/>
        </p:blipFill>
        <p:spPr>
          <a:xfrm>
            <a:off x="5929200" y="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Users\alez\Desktop\Рисунок3.jpg"/>
          <p:cNvPicPr/>
          <p:nvPr/>
        </p:nvPicPr>
        <p:blipFill>
          <a:blip r:embed="rId5"/>
          <a:stretch/>
        </p:blipFill>
        <p:spPr>
          <a:xfrm>
            <a:off x="357120" y="3929040"/>
            <a:ext cx="3278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56760" y="714240"/>
            <a:ext cx="4040280" cy="857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3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Астрономические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часы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3280" y="713880"/>
            <a:ext cx="4042080" cy="100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Кукольные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часы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C:\Users\alez\Desktop\Рисунок6.jpg"/>
          <p:cNvPicPr/>
          <p:nvPr/>
        </p:nvPicPr>
        <p:blipFill>
          <a:blip r:embed="rId1"/>
          <a:stretch/>
        </p:blipFill>
        <p:spPr>
          <a:xfrm>
            <a:off x="357120" y="1785960"/>
            <a:ext cx="431640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C:\Users\alez\Desktop\Рисунок7.jpg"/>
          <p:cNvPicPr/>
          <p:nvPr/>
        </p:nvPicPr>
        <p:blipFill>
          <a:blip r:embed="rId2"/>
          <a:stretch/>
        </p:blipFill>
        <p:spPr>
          <a:xfrm>
            <a:off x="4786200" y="1785960"/>
            <a:ext cx="4140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28760" y="785520"/>
            <a:ext cx="403992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79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одяные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часы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14560" y="785880"/>
            <a:ext cx="404172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Часы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«Павлин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C:\Users\alez\Desktop\Рисунок8.jpg"/>
          <p:cNvPicPr/>
          <p:nvPr/>
        </p:nvPicPr>
        <p:blipFill>
          <a:blip r:embed="rId1"/>
          <a:stretch/>
        </p:blipFill>
        <p:spPr>
          <a:xfrm>
            <a:off x="642960" y="1857240"/>
            <a:ext cx="3571920" cy="4714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alez\Desktop\Рисунок9.jpg"/>
          <p:cNvPicPr/>
          <p:nvPr/>
        </p:nvPicPr>
        <p:blipFill>
          <a:blip r:embed="rId2"/>
          <a:stretch/>
        </p:blipFill>
        <p:spPr>
          <a:xfrm>
            <a:off x="4572000" y="1857240"/>
            <a:ext cx="392904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Users\alez\Desktop\Рисунок5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Часовые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пояса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3286080" y="57862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рской Гринвич» (Лондон) виде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://www.youtube.com/watch?v=eWMOZ_RVbQM&amp;feature=player_embedded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500040" y="185724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Сколько времени?  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428760" y="257184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Котор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Содержимое 3" descr=""/>
          <p:cNvPicPr/>
          <p:nvPr/>
        </p:nvPicPr>
        <p:blipFill>
          <a:blip r:embed="rId1"/>
          <a:stretch/>
        </p:blipFill>
        <p:spPr>
          <a:xfrm>
            <a:off x="353880" y="554040"/>
            <a:ext cx="8240760" cy="51768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2857680" y="5929200"/>
            <a:ext cx="607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ясное время разных регионов Росси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Ресурс: (N 159947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://school-collection.edu.ru/catalog/res/c24249d3-ecaa-4521-9b8d-35fbaa734d2b/?from=8f5d7210-86a6-11da-a72b-0800200c9a66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Users\alez\Desktop\Часовые пояса - Козлова С.Г\0244759927.jpg"/>
          <p:cNvPicPr/>
          <p:nvPr/>
        </p:nvPicPr>
        <p:blipFill>
          <a:blip r:embed="rId1"/>
          <a:srcRect l="0" t="7789" r="-49" b="57"/>
          <a:stretch/>
        </p:blipFill>
        <p:spPr>
          <a:xfrm>
            <a:off x="0" y="157176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Московское время</a:t>
            </a:r>
            <a:br>
              <a:rPr sz="4400"/>
            </a:br>
            <a:r>
              <a:rPr b="1" lang="en-US" sz="14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http://time100.ru/</a:t>
            </a:r>
            <a:r>
              <a:rPr b="0" lang="en-US" sz="1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71680" y="3357720"/>
            <a:ext cx="64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7929720" y="335772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6"/>
          <p:cNvSpPr/>
          <p:nvPr/>
        </p:nvSpPr>
        <p:spPr>
          <a:xfrm>
            <a:off x="571680" y="2643120"/>
            <a:ext cx="642600" cy="642960"/>
          </a:xfrm>
          <a:prstGeom prst="ellipse">
            <a:avLst/>
          </a:prstGeom>
          <a:solidFill>
            <a:srgbClr val="b0dfa1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7"/>
          <p:cNvSpPr/>
          <p:nvPr/>
        </p:nvSpPr>
        <p:spPr>
          <a:xfrm>
            <a:off x="7929720" y="4214880"/>
            <a:ext cx="714240" cy="714240"/>
          </a:xfrm>
          <a:prstGeom prst="ellipse">
            <a:avLst/>
          </a:prstGeom>
          <a:solidFill>
            <a:srgbClr val="91c6f7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10"/>
          <p:cNvSpPr/>
          <p:nvPr/>
        </p:nvSpPr>
        <p:spPr>
          <a:xfrm>
            <a:off x="785880" y="492912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11"/>
          <p:cNvSpPr/>
          <p:nvPr/>
        </p:nvSpPr>
        <p:spPr>
          <a:xfrm>
            <a:off x="4357800" y="5072040"/>
            <a:ext cx="28548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2"/>
          <p:cNvSpPr/>
          <p:nvPr/>
        </p:nvSpPr>
        <p:spPr>
          <a:xfrm>
            <a:off x="7072200" y="5214960"/>
            <a:ext cx="285840" cy="2858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Содержимое 3" descr=""/>
          <p:cNvPicPr/>
          <p:nvPr/>
        </p:nvPicPr>
        <p:blipFill>
          <a:blip r:embed="rId4"/>
          <a:stretch/>
        </p:blipFill>
        <p:spPr>
          <a:xfrm>
            <a:off x="566640" y="213984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3"/>
          <p:cNvSpPr/>
          <p:nvPr/>
        </p:nvSpPr>
        <p:spPr>
          <a:xfrm>
            <a:off x="214200" y="6000840"/>
            <a:ext cx="3286080" cy="642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асовые пояса России»  - </a:t>
            </a:r>
            <a:r>
              <a:rPr b="1" lang="ru-RU" sz="18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http://g.co/maps/ejm2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0828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357120" y="500040"/>
            <a:ext cx="78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Часовые </a:t>
            </a: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зо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на территории Р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Линия перемен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2" descr="C:\Users\alez\Desktop\Часовые пояса - Козлова С.Г\0244759927.jpg"/>
          <p:cNvPicPr/>
          <p:nvPr/>
        </p:nvPicPr>
        <p:blipFill>
          <a:blip r:embed="rId1"/>
          <a:srcRect l="0" t="0" r="-49" b="57"/>
          <a:stretch/>
        </p:blipFill>
        <p:spPr>
          <a:xfrm>
            <a:off x="-20520" y="1357200"/>
            <a:ext cx="9164520" cy="5500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Users\alez\Desktop\МОИ документы\документы\Курсы\курсы - география 2013\Часовые пояса - Козлова С.Г\Diomede_Islands_Bering_Sea_Jul_2006.jpg"/>
          <p:cNvPicPr/>
          <p:nvPr/>
        </p:nvPicPr>
        <p:blipFill>
          <a:blip r:embed="rId2"/>
          <a:stretch/>
        </p:blipFill>
        <p:spPr>
          <a:xfrm>
            <a:off x="214200" y="3571920"/>
            <a:ext cx="6112080" cy="30718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ая соединительная линия 9"/>
          <p:cNvSpPr/>
          <p:nvPr/>
        </p:nvSpPr>
        <p:spPr>
          <a:xfrm flipH="1">
            <a:off x="8286840" y="1785960"/>
            <a:ext cx="1440" cy="15717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0"/>
          <p:cNvSpPr/>
          <p:nvPr/>
        </p:nvSpPr>
        <p:spPr>
          <a:xfrm>
            <a:off x="8287560" y="3357720"/>
            <a:ext cx="498600" cy="6429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3"/>
          <p:cNvSpPr/>
          <p:nvPr/>
        </p:nvSpPr>
        <p:spPr>
          <a:xfrm flipH="1">
            <a:off x="7714800" y="4286160"/>
            <a:ext cx="1143000" cy="1214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5"/>
          <p:cNvSpPr/>
          <p:nvPr/>
        </p:nvSpPr>
        <p:spPr>
          <a:xfrm>
            <a:off x="8786880" y="4000680"/>
            <a:ext cx="71280" cy="2854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7"/>
          <p:cNvSpPr/>
          <p:nvPr/>
        </p:nvSpPr>
        <p:spPr>
          <a:xfrm flipH="1" flipV="1">
            <a:off x="7715160" y="5500800"/>
            <a:ext cx="571680" cy="3571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9"/>
          <p:cNvSpPr/>
          <p:nvPr/>
        </p:nvSpPr>
        <p:spPr>
          <a:xfrm flipH="1">
            <a:off x="8286840" y="5857920"/>
            <a:ext cx="1440" cy="1000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2"/>
          <p:cNvSpPr/>
          <p:nvPr/>
        </p:nvSpPr>
        <p:spPr>
          <a:xfrm>
            <a:off x="285840" y="55008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. Крузенштерна (С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лева) живёт «вчер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3"/>
          <p:cNvSpPr/>
          <p:nvPr/>
        </p:nvSpPr>
        <p:spPr>
          <a:xfrm>
            <a:off x="3071880" y="45007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. Ратманова (Росс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справа) — «сегод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22:30:25Z</dcterms:created>
  <dc:creator>Козлова С.Г.</dc:creator>
  <dc:description/>
  <dc:language>en-US</dc:language>
  <cp:lastModifiedBy>Козлова С.Г.</cp:lastModifiedBy>
  <dcterms:modified xsi:type="dcterms:W3CDTF">2014-01-12T11:03:58Z</dcterms:modified>
  <cp:revision>1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120000000000010250300207f7000400038000</vt:lpwstr>
  </property>
</Properties>
</file>