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E1C-EC57-44E8-AABF-2D356AD74F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7B6-634E-41D5-8B49-C49005286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ремя - это простор для развития способностей...»  (Карл Марк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712-82A6-47EF-AB1E-03F7E7310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Постановка учебных задач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создаёт проблемную ситуацию для осознания  новой учебной задачи, читает стихотворение К. Абоимова, Часы бывают раз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ы бывают ра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детские, есть ва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ильники пузат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енные глазастые,  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манные почт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чные надм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льные серьё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ашенные грозные.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сочные стройняшки,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ивные близняш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омняги электро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солнечные со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ие ещё часы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04E-1F7B-4C09-803B-A11FF4C7D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йте вопрос классу (пример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общего у всех часов?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опросы и ответы на вопросы.  выявляют, что общего у все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определение – «часы – это …». формулируют определение понятия «часы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ы - прибор для измерения текущего времени, прибор для отсчёт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мывают  тему и план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3E2-F72E-4FD1-BC18-BCD621136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тором 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местное исследование проблемы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организовывает  коллективный анализ учебной задачи: предлагает заслушать  историческую справку об изобретении первых часов и решить  математическую задач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предлагает объединить полученные знания на первых этапах урока и сформулировать тему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ссия на карте часовых поясов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узнаем в ходе изучения данной темы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источники  информации мы будем  использовать для выполнения учебной задачи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9BB-962B-46F7-BE95-EAA8F64E3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м этапе урока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твечают  на вопрос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так важно зн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колько времен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 просмотр и обсуждение  видеофильма «Морской Гринвич», обучающиеся называют причины принятия поясного счёта време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находящиеся на различной долготе, имели каждый собственный счёт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седневной жизни пользоваться  местным временем стало неудобно, так как на каждом меридиане оно своё, поэтому был принят поясной счёт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 в/ф - «Часовые поя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поверхность земного шара разделили на 24 часовых пояса по 15' каждый – карты атласа «Часовые пояс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405-258E-4C01-9BEE-4E91FEB05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артой атласа «Часовые пояса»  и по параграфу учебника  составляют  схему «Виды времени», дают характеристику «време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сурс: Поясное время разных регионо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 нового материала по Э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ст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часовых поя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ель времени в городах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C85-44DA-489B-9C8E-2BBE82059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я к этапу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частных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бучающиеся самостоятельно и в парах  выполняют практическую  работу «Решение задач по определению местного и поясного времени», работая с ресурсом ЦОР: 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итель времени в городах РФ и решение предложенной задачи в Ц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 способы решения или работают по предложенному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задач можно использовать сервис «Карты ГУГ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3123-3569-49B9-8F1A-FF4B242F0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11 г  на территории Российской Федерации установлено 9 часовых поясов (точнее, в соответствии с новым законом «Об исчислении времени»,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овых з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с одинаковым временем в пределах каждого часового поя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271-E882-452B-A923-7D5ABFC17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возможно следующее: между пунктами расстояние в 5 км,  а различие по времени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ча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целые сутки (понятие  «линия перемены дат» - самостоятельно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еремены даты проходит здесь, между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тровами Диоми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остров Крузенштерна (США) (слева) живёт «вчера», а остров Ратманова (Россия) (справа) — «сегодн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7B14-F6FC-46B2-9065-E538E96F7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110-BB00-4979-A5BC-386A8FFE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0C2-EC01-47F3-A407-301AB499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18D-3DA4-4E47-8037-C2BEA206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E9E-1445-4C92-A94E-14DC6DE9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62EE-01C0-48F0-B35F-36757CF0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B16-04F2-460B-8298-E00D1E6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50B-95B8-47B7-AE1D-D58D77B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AD1-AFBE-4277-AA83-851826CD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820-7F70-48A0-8A1B-E45F81D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210-1BB6-41AC-B2A0-E6CA88C4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05F4-FAFB-4CEF-87EA-074844C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811-F739-4924-B9EA-91115BE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12F5-ECFC-4AF2-87E0-926D9C4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6EBC-1050-473B-89E4-E4441DE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9B65-DDEA-48E9-A610-C7320A2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625B-7C17-48BE-9AA4-75CEBD8C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43D-DDF0-459D-8B64-B394597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36B8-CF0F-416E-BA09-343DFDC5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54E5-5B0B-4985-9901-1D91F0F7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A252-C867-453E-BF08-1FFD98A0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4EFE-D1CF-4E5E-9C7B-F679C66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F6FD-79C8-4164-B558-DDFB343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C5E-0F71-42B9-B1F3-D0E00A73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68F3-C5D5-4F13-8DEF-EFAE2F58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FF31-5E6D-4C40-9613-86B7E79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03DB-7CA0-443C-8B17-372AB62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126E-EC54-4ECD-B315-FF3A070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C65D-5DCB-4961-AF1F-02455AD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B5CC-FB2B-4C28-A636-20EEB64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CA2-8921-42E3-8CB4-90C151C8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9D20-EF0C-47AF-98E2-5CCCBD44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D0C7-CF0C-4152-A83F-AD45FE12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10C4-73B5-449F-A504-A18AD40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D34-A2F0-4CF8-ABA6-3460E12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45AC-AC2B-4434-A339-FF916F9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3E4C-BA23-4BF9-A01C-1A485F12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3AEB-A903-4A23-A165-B00257A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F441-9663-491C-A5B7-EE16AD2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61FC-27F3-4CA1-B8B3-286E1CF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F7D0-0E7E-45B4-AFAC-0655DA2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0A57-F22D-427C-B60A-69F62AF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D257-7B81-432B-BE16-0699493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6268-BCA8-460A-837E-5DE8EB8B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31F-6B19-4C5B-A651-A44C033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E19-44D9-42C2-944F-BEF7BE5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D67-BC4C-4727-AA52-247073D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701-1B74-4898-AA3E-802779A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E01-26B9-4A20-94BA-877E16F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BF1-7D8F-4582-AEA3-8A4B74C1274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711B-0EE2-4614-BD06-1A9A386B53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647-F89D-4800-965C-59BE5DF408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7A7-3B8E-4C31-B7D2-A7C5A9B521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youtube.com/watch?v=eWMOZ_RVbQM&amp;feature=player_embedded" TargetMode="External"/><Relationship Id="rId3" Type="http://schemas.openxmlformats.org/officeDocument/2006/relationships/hyperlink" Target="file:///&#1052;&#1086;&#1088;&#1089;&#1082;&#1086;&#1081;%20&#1043;&#1088;&#1080;&#1085;&#1074;&#1080;&#1095;.mp4" TargetMode="External"/><Relationship Id="rId4" Type="http://schemas.openxmlformats.org/officeDocument/2006/relationships/hyperlink" Target="file:///&#1052;&#1086;&#1088;&#1089;&#1082;&#1086;&#1081;%20&#1043;&#1088;&#1080;&#1085;&#1074;&#1080;&#1095;.mp4" TargetMode="External"/><Relationship Id="rId5" Type="http://schemas.openxmlformats.org/officeDocument/2006/relationships/hyperlink" Target="file:///&#1095;&#1072;&#1089;&#1086;&#1074;&#1099;&#1077;%20&#1087;&#1086;&#1103;&#1089;&#1072;.mp4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chool-collection.edu.ru/catalog/res/c24249d3-ecaa-4521-9b8d-35fbaa734d2b/?from=8f5d7210-86a6-11da-a72b-0800200c9a66&amp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74;%20&#1084;&#1086;&#1089;&#1082;&#1074;&#1077;%2015%20&#1095;&#1072;&#1089;&#1086;&#1074;.wma" TargetMode="External"/><Relationship Id="rId3" Type="http://schemas.openxmlformats.org/officeDocument/2006/relationships/hyperlink" Target="http://time100.ru/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g.co/maps/ejm2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46160" y="1176480"/>
            <a:ext cx="8528040" cy="1950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57160" y="47858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Козлова Светлана Георгиевн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учитель географии и биологи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МБОУ «Средняя общеобразовательная школа № 2»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г. Великие Луки Псковской обла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alez\Desktop\МОИ документы\МОИ РИСУНКИ\творчество - это.jpg"/>
          <p:cNvPicPr/>
          <p:nvPr/>
        </p:nvPicPr>
        <p:blipFill>
          <a:blip r:embed="rId1"/>
          <a:stretch/>
        </p:blipFill>
        <p:spPr>
          <a:xfrm>
            <a:off x="1285920" y="357120"/>
            <a:ext cx="6786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alez\Desktop\Рисуно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Users\alez\Desktop\Рисунок1.jpg"/>
          <p:cNvPicPr/>
          <p:nvPr/>
        </p:nvPicPr>
        <p:blipFill>
          <a:blip r:embed="rId2"/>
          <a:stretch/>
        </p:blipFill>
        <p:spPr>
          <a:xfrm>
            <a:off x="357120" y="28584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alez\Desktop\Рисунок2.jpg"/>
          <p:cNvPicPr/>
          <p:nvPr/>
        </p:nvPicPr>
        <p:blipFill>
          <a:blip r:embed="rId3"/>
          <a:stretch/>
        </p:blipFill>
        <p:spPr>
          <a:xfrm>
            <a:off x="5500800" y="3929040"/>
            <a:ext cx="3232080" cy="2571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lez\Desktop\Рисунок2.jpg"/>
          <p:cNvPicPr/>
          <p:nvPr/>
        </p:nvPicPr>
        <p:blipFill>
          <a:blip r:embed="rId4"/>
          <a:stretch/>
        </p:blipFill>
        <p:spPr>
          <a:xfrm>
            <a:off x="5929200" y="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alez\Desktop\Рисунок3.jpg"/>
          <p:cNvPicPr/>
          <p:nvPr/>
        </p:nvPicPr>
        <p:blipFill>
          <a:blip r:embed="rId5"/>
          <a:stretch/>
        </p:blipFill>
        <p:spPr>
          <a:xfrm>
            <a:off x="357120" y="3929040"/>
            <a:ext cx="3278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6760" y="714240"/>
            <a:ext cx="4040280" cy="8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Астрономически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3280" y="713880"/>
            <a:ext cx="404208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уколь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Users\alez\Desktop\Рисунок6.jpg"/>
          <p:cNvPicPr/>
          <p:nvPr/>
        </p:nvPicPr>
        <p:blipFill>
          <a:blip r:embed="rId1"/>
          <a:stretch/>
        </p:blipFill>
        <p:spPr>
          <a:xfrm>
            <a:off x="357120" y="1785960"/>
            <a:ext cx="431640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alez\Desktop\Рисунок7.jpg"/>
          <p:cNvPicPr/>
          <p:nvPr/>
        </p:nvPicPr>
        <p:blipFill>
          <a:blip r:embed="rId2"/>
          <a:stretch/>
        </p:blipFill>
        <p:spPr>
          <a:xfrm>
            <a:off x="4786200" y="1785960"/>
            <a:ext cx="4140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28760" y="785520"/>
            <a:ext cx="403992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одя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4560" y="785880"/>
            <a:ext cx="40417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«Павлин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alez\Desktop\Рисунок8.jpg"/>
          <p:cNvPicPr/>
          <p:nvPr/>
        </p:nvPicPr>
        <p:blipFill>
          <a:blip r:embed="rId1"/>
          <a:stretch/>
        </p:blipFill>
        <p:spPr>
          <a:xfrm>
            <a:off x="642960" y="1857240"/>
            <a:ext cx="3571920" cy="471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alez\Desktop\Рисунок9.jpg"/>
          <p:cNvPicPr/>
          <p:nvPr/>
        </p:nvPicPr>
        <p:blipFill>
          <a:blip r:embed="rId2"/>
          <a:stretch/>
        </p:blipFill>
        <p:spPr>
          <a:xfrm>
            <a:off x="4572000" y="1857240"/>
            <a:ext cx="392904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lez\Desktop\Рисунок5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овые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поя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286080" y="5786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рской Гринвич» (Лондон) виде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youtube.com/watch?v=eWMOZ_RVbQM&amp;feature=player_embedded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500040" y="185724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Сколько времени? 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428760" y="25718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Котор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240760" cy="5176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2857680" y="5929200"/>
            <a:ext cx="60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сное время разных регионов Росс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Ресурс: (N 159947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school-collection.edu.ru/catalog/res/c24249d3-ecaa-4521-9b8d-35fbaa734d2b/?from=8f5d7210-86a6-11da-a72b-0800200c9a66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alez\Desktop\Часовые пояса - Козлова С.Г\0244759927.jpg"/>
          <p:cNvPicPr/>
          <p:nvPr/>
        </p:nvPicPr>
        <p:blipFill>
          <a:blip r:embed="rId1"/>
          <a:srcRect l="0" t="7789" r="-49" b="57"/>
          <a:stretch/>
        </p:blipFill>
        <p:spPr>
          <a:xfrm>
            <a:off x="0" y="15717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Московское время</a:t>
            </a:r>
            <a:br>
              <a:rPr sz="4400"/>
            </a:br>
            <a:r>
              <a:rPr b="1" lang="en-US" sz="14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http://time100.ru/</a:t>
            </a:r>
            <a:r>
              <a:rPr b="0" lang="en-US" sz="1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71680" y="3357720"/>
            <a:ext cx="64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929720" y="3357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571680" y="2643120"/>
            <a:ext cx="642600" cy="642960"/>
          </a:xfrm>
          <a:prstGeom prst="ellipse">
            <a:avLst/>
          </a:prstGeom>
          <a:solidFill>
            <a:srgbClr val="b0dfa1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7929720" y="4214880"/>
            <a:ext cx="714240" cy="714240"/>
          </a:xfrm>
          <a:prstGeom prst="ellipse">
            <a:avLst/>
          </a:prstGeom>
          <a:solidFill>
            <a:srgbClr val="91c6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785880" y="4929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4357800" y="5072040"/>
            <a:ext cx="28548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2"/>
          <p:cNvSpPr/>
          <p:nvPr/>
        </p:nvSpPr>
        <p:spPr>
          <a:xfrm>
            <a:off x="7072200" y="521496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одержимое 3" descr=""/>
          <p:cNvPicPr/>
          <p:nvPr/>
        </p:nvPicPr>
        <p:blipFill>
          <a:blip r:embed="rId4"/>
          <a:stretch/>
        </p:blipFill>
        <p:spPr>
          <a:xfrm>
            <a:off x="566640" y="213984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3"/>
          <p:cNvSpPr/>
          <p:nvPr/>
        </p:nvSpPr>
        <p:spPr>
          <a:xfrm>
            <a:off x="214200" y="6000840"/>
            <a:ext cx="328608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овые пояса России»  - 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g.co/maps/ejm2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828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357120" y="50004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овые </a:t>
            </a: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з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на территории Р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Линия перемен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C:\Users\alez\Desktop\Часовые пояса - Козлова С.Г\0244759927.jpg"/>
          <p:cNvPicPr/>
          <p:nvPr/>
        </p:nvPicPr>
        <p:blipFill>
          <a:blip r:embed="rId1"/>
          <a:srcRect l="0" t="0" r="-49" b="57"/>
          <a:stretch/>
        </p:blipFill>
        <p:spPr>
          <a:xfrm>
            <a:off x="-20520" y="1357200"/>
            <a:ext cx="9164520" cy="5500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alez\Desktop\МОИ документы\документы\Курсы\курсы - география 2013\Часовые пояса - Козлова С.Г\Diomede_Islands_Bering_Sea_Jul_2006.jpg"/>
          <p:cNvPicPr/>
          <p:nvPr/>
        </p:nvPicPr>
        <p:blipFill>
          <a:blip r:embed="rId2"/>
          <a:stretch/>
        </p:blipFill>
        <p:spPr>
          <a:xfrm>
            <a:off x="214200" y="3571920"/>
            <a:ext cx="6112080" cy="30718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ая соединительная линия 9"/>
          <p:cNvSpPr/>
          <p:nvPr/>
        </p:nvSpPr>
        <p:spPr>
          <a:xfrm flipH="1">
            <a:off x="8286840" y="1785960"/>
            <a:ext cx="1440" cy="157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>
            <a:off x="8287560" y="3357720"/>
            <a:ext cx="498600" cy="642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3"/>
          <p:cNvSpPr/>
          <p:nvPr/>
        </p:nvSpPr>
        <p:spPr>
          <a:xfrm flipH="1">
            <a:off x="7714800" y="4286160"/>
            <a:ext cx="1143000" cy="1214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8786880" y="4000680"/>
            <a:ext cx="71280" cy="2854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7"/>
          <p:cNvSpPr/>
          <p:nvPr/>
        </p:nvSpPr>
        <p:spPr>
          <a:xfrm flipH="1" flipV="1">
            <a:off x="7715160" y="5500800"/>
            <a:ext cx="571680" cy="357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9"/>
          <p:cNvSpPr/>
          <p:nvPr/>
        </p:nvSpPr>
        <p:spPr>
          <a:xfrm flipH="1">
            <a:off x="8286840" y="5857920"/>
            <a:ext cx="1440" cy="1000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2"/>
          <p:cNvSpPr/>
          <p:nvPr/>
        </p:nvSpPr>
        <p:spPr>
          <a:xfrm>
            <a:off x="285840" y="55008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Крузенштерна (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лева) живёт «вче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3071880" y="4500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. Ратманова (Росс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права) — «сегод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22:30:25Z</dcterms:created>
  <dc:creator>Козлова С.Г.</dc:creator>
  <dc:description/>
  <dc:language>en-US</dc:language>
  <cp:lastModifiedBy>Козлова С.Г.</cp:lastModifiedBy>
  <dcterms:modified xsi:type="dcterms:W3CDTF">2014-01-12T11:03:58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20000000000010250300207f7000400038000</vt:lpwstr>
  </property>
</Properties>
</file>