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608-9E60-48DF-AEB7-B4D6686C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FA0-2097-4425-BB38-A253C7FB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202-3118-402F-8EC5-D7CC81CC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034-A4D5-4714-897C-0112D7D3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6AA-6FB0-48F0-BA49-619A294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EC4-9A80-4468-A22F-618242A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671-466D-4E6A-910E-0EF423B0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D39-329B-4789-89DE-C69FF533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5C-77A0-49B4-85A7-82DD799D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0A0-5172-4057-A198-FFADF96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CF1-319C-424F-ADC3-650C6DA7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252-C7FD-494C-8C72-83796C5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FDEC-30F9-438A-A144-79180491E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zbyka.ru/parkhomenko/dnevnik_sviashennika/2009_4-all.s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4960.flagatrip.ru/report/id/4006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k_OG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Россия – многонациональное государ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Мы разные, но все равно мы вмес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1 из 81531"/>
          <p:cNvPicPr/>
          <p:nvPr/>
        </p:nvPicPr>
        <p:blipFill>
          <a:blip r:embed="rId1"/>
          <a:stretch/>
        </p:blipFill>
        <p:spPr>
          <a:xfrm>
            <a:off x="1332000" y="1289160"/>
            <a:ext cx="55688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Конституции Россия является многонациональным государством. На территории страны проживает более 180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артинка 18 из 154563"/>
          <p:cNvPicPr/>
          <p:nvPr/>
        </p:nvPicPr>
        <p:blipFill>
          <a:blip r:embed="rId1"/>
          <a:stretch/>
        </p:blipFill>
        <p:spPr>
          <a:xfrm>
            <a:off x="395280" y="620640"/>
            <a:ext cx="367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460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ым по численности населения народом России являются татары. Численность их составляет 5310 тыс. чел. Проживают в европейской части России, Поволжье, Приуралье, Сибири и на Дальнем Вост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10 из 129034"/>
          <p:cNvPicPr/>
          <p:nvPr/>
        </p:nvPicPr>
        <p:blipFill>
          <a:blip r:embed="rId1"/>
          <a:stretch/>
        </p:blipFill>
        <p:spPr>
          <a:xfrm>
            <a:off x="4948200" y="620640"/>
            <a:ext cx="4195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00" y="260280"/>
            <a:ext cx="397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, как титульная нация, составляют около 80% населения (111 млн.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усский человек широк в плечах, имеет светлый цвет волос. Светлые глаза встречаются чаще, чем темные. Умеренная ширина лица и невысокий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81700"/>
          <p:cNvPicPr/>
          <p:nvPr/>
        </p:nvPicPr>
        <p:blipFill>
          <a:blip r:embed="rId1"/>
          <a:stretch/>
        </p:blipFill>
        <p:spPr>
          <a:xfrm>
            <a:off x="155520" y="46080"/>
            <a:ext cx="48481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0" y="1123560"/>
            <a:ext cx="41148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цы – третий по численности населения народ России. В России их численность составляет 1927 тыс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kraintsy-dress1"/>
          <p:cNvPicPr/>
          <p:nvPr/>
        </p:nvPicPr>
        <p:blipFill>
          <a:blip r:embed="rId1"/>
          <a:stretch/>
        </p:blipFill>
        <p:spPr>
          <a:xfrm>
            <a:off x="155520" y="46080"/>
            <a:ext cx="4292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енные малочисленные народы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и – народ, проживающий в среднем течении Енисея, согласно переписи, насчитывается 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реки – проживают в Чукотском АО. Согласно переписи, насчитывается 8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ринговский район. Разделка моржа"/>
          <p:cNvPicPr/>
          <p:nvPr/>
        </p:nvPicPr>
        <p:blipFill>
          <a:blip r:embed="rId1"/>
          <a:stretch/>
        </p:blipFill>
        <p:spPr>
          <a:xfrm>
            <a:off x="4859280" y="412128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исти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жителей России исповедует православие, одну из ветвей христианства (75%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20px-%D0%92%D0%B5%D0%BB%D0%B8%D0%BA%D0%BE%D0%BA%D0%BD%D1%8F%D0%B6%D0%B5%D1%81%D0%BA%D0%B0%D1%8F_%D1%86%D0%B5%D1%80%D0%BA%D0%BE%D0%B2%D1%8C"/>
          <p:cNvPicPr/>
          <p:nvPr/>
        </p:nvPicPr>
        <p:blipFill>
          <a:blip r:embed="rId1"/>
          <a:stretch/>
        </p:blipFill>
        <p:spPr>
          <a:xfrm>
            <a:off x="250920" y="126828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azbyka.ru/parkhomenko/foto/dnevnik/d9_3_vikingi0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70028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сульм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10% населения страны исповедуют мусульманство. Народы, исповедующие мусульманство: татары, башкиры, даги, чеченцы, ингу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Файл:Kazan kremlin at night.JPG"/>
          <p:cNvPicPr/>
          <p:nvPr/>
        </p:nvPicPr>
        <p:blipFill>
          <a:blip r:embed="rId1"/>
          <a:stretch/>
        </p:blipFill>
        <p:spPr>
          <a:xfrm>
            <a:off x="4284720" y="3213000"/>
            <a:ext cx="4170240" cy="312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grigorjev.cc/travel/2010/cairo/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05264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6720" y="155736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дизм является исповедуемой религией в Бурятии, Туве и Калмыкии. Численность народов исповедующих буддизм составляет около 2 млн.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Файл:Spb datsan.jpg"/>
          <p:cNvPicPr/>
          <p:nvPr/>
        </p:nvPicPr>
        <p:blipFill>
          <a:blip r:embed="rId1"/>
          <a:stretch/>
        </p:blipFill>
        <p:spPr>
          <a:xfrm>
            <a:off x="250920" y="2349360"/>
            <a:ext cx="501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3:15:18Z</dcterms:created>
  <dc:creator>www.PHILka.RU</dc:creator>
  <dc:description/>
  <dc:language>en-US</dc:language>
  <cp:lastModifiedBy>Анастасия Владимиров</cp:lastModifiedBy>
  <dcterms:modified xsi:type="dcterms:W3CDTF">2012-03-14T09:39:46Z</dcterms:modified>
  <cp:revision>3</cp:revision>
  <dc:subject/>
  <dc:title>Россия – многонациональное государ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30000000000010250300207f7000400038000</vt:lpwstr>
  </property>
</Properties>
</file>