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6C3E-C2A7-4EFF-8B82-0D0ED2306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3334-1D94-4322-A054-14B9411C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8D60-F1F6-441C-A878-5B254826C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980C-753C-47F6-9AD7-866AFA8F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FD1E-E467-47EA-B7F5-008C9E9D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1084-42A5-4A97-ADA5-9762CD63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3258-3A9C-410F-BD4C-365F18C1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C445-6C99-49DD-B9C7-F43B1D71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744E-B336-427C-8CFB-A68EE3E0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AFDF-21EA-4B6E-8321-896A6E36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0886-9190-4527-8551-A7E933B6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3D64-CCDB-4597-AA30-16CE9E0F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FD91-3126-481B-BC1A-64C8329277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azbyka.ru/parkhomenko/dnevnik_sviashennika/2009_4-all.shtml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4960.flagatrip.ru/report/id/4006.html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rk_OG"/>
          <p:cNvPicPr/>
          <p:nvPr/>
        </p:nvPicPr>
        <p:blipFill>
          <a:blip r:embed="rId1"/>
          <a:stretch/>
        </p:blipFill>
        <p:spPr>
          <a:xfrm>
            <a:off x="0" y="189000"/>
            <a:ext cx="9396360" cy="6669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Times New Roman"/>
              </a:rPr>
              <a:t>Россия – многонациональное государств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Мы разные, но все равно мы вмест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Картинка 1 из 81531"/>
          <p:cNvPicPr/>
          <p:nvPr/>
        </p:nvPicPr>
        <p:blipFill>
          <a:blip r:embed="rId1"/>
          <a:stretch/>
        </p:blipFill>
        <p:spPr>
          <a:xfrm>
            <a:off x="1332000" y="1289160"/>
            <a:ext cx="556884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гласно Конституции Россия является многонациональным государством. На территории страны проживает более 180 нар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Картинка 18 из 154563"/>
          <p:cNvPicPr/>
          <p:nvPr/>
        </p:nvPicPr>
        <p:blipFill>
          <a:blip r:embed="rId1"/>
          <a:stretch/>
        </p:blipFill>
        <p:spPr>
          <a:xfrm>
            <a:off x="395280" y="620640"/>
            <a:ext cx="36781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4608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торым по численности населения народом России являются татары. Численность их составляет 5310 тыс. чел. Проживают в европейской части России, Поволжье, Приуралье, Сибири и на Дальнем Восто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Картинка 10 из 129034"/>
          <p:cNvPicPr/>
          <p:nvPr/>
        </p:nvPicPr>
        <p:blipFill>
          <a:blip r:embed="rId1"/>
          <a:stretch/>
        </p:blipFill>
        <p:spPr>
          <a:xfrm>
            <a:off x="4948200" y="620640"/>
            <a:ext cx="419580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00" y="260280"/>
            <a:ext cx="3970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ские, как титульная нация, составляют около 80% населения (111 млн. человек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усский человек широк в плечах, имеет светлый цвет волос. Светлые глаза встречаются чаще, чем темные. Умеренная ширина лица и невысокий ло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281700"/>
          <p:cNvPicPr/>
          <p:nvPr/>
        </p:nvPicPr>
        <p:blipFill>
          <a:blip r:embed="rId1"/>
          <a:stretch/>
        </p:blipFill>
        <p:spPr>
          <a:xfrm>
            <a:off x="155520" y="46080"/>
            <a:ext cx="484812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0" y="1123560"/>
            <a:ext cx="41148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краинцы – третий по численности населения народ России. В России их численность составляет 1927 тыс.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ukraintsy-dress1"/>
          <p:cNvPicPr/>
          <p:nvPr/>
        </p:nvPicPr>
        <p:blipFill>
          <a:blip r:embed="rId1"/>
          <a:stretch/>
        </p:blipFill>
        <p:spPr>
          <a:xfrm>
            <a:off x="155520" y="46080"/>
            <a:ext cx="429264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3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ренные малочисленные народы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ги – народ, проживающий в среднем течении Енисея, согласно переписи, насчитывается 1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ереки – проживают в Чукотском АО. Согласно переписи, насчитывается 8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Беринговский район. Разделка моржа"/>
          <p:cNvPicPr/>
          <p:nvPr/>
        </p:nvPicPr>
        <p:blipFill>
          <a:blip r:embed="rId1"/>
          <a:stretch/>
        </p:blipFill>
        <p:spPr>
          <a:xfrm>
            <a:off x="4859280" y="4121280"/>
            <a:ext cx="36496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ристиа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инство жителей России исповедует православие, одну из ветвей христианства (75% насел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220px-%D0%92%D0%B5%D0%BB%D0%B8%D0%BA%D0%BE%D0%BA%D0%BD%D1%8F%D0%B6%D0%B5%D1%81%D0%BA%D0%B0%D1%8F_%D1%86%D0%B5%D1%80%D0%BA%D0%BE%D0%B2%D1%8C"/>
          <p:cNvPicPr/>
          <p:nvPr/>
        </p:nvPicPr>
        <p:blipFill>
          <a:blip r:embed="rId1"/>
          <a:stretch/>
        </p:blipFill>
        <p:spPr>
          <a:xfrm>
            <a:off x="250920" y="1268280"/>
            <a:ext cx="4227480" cy="3168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http://azbyka.ru/parkhomenko/foto/dnevnik/d9_3_vikingi004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1700280"/>
            <a:ext cx="66675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сульма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оло 10% населения страны исповедуют мусульманство. Народы, исповедующие мусульманство: татары, башкиры, даги, чеченцы, ингуш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Файл:Kazan kremlin at night.JPG"/>
          <p:cNvPicPr/>
          <p:nvPr/>
        </p:nvPicPr>
        <p:blipFill>
          <a:blip r:embed="rId1"/>
          <a:stretch/>
        </p:blipFill>
        <p:spPr>
          <a:xfrm>
            <a:off x="4284720" y="3213000"/>
            <a:ext cx="4170240" cy="3127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http://grigorjev.cc/travel/2010/cairo/50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79640" y="1052640"/>
            <a:ext cx="857232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удд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76720" y="155736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ддизм является исповедуемой религией в Бурятии, Туве и Калмыкии. Численность народов исповедующих буддизм составляет около 2 млн. ч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Файл:Spb datsan.jpg"/>
          <p:cNvPicPr/>
          <p:nvPr/>
        </p:nvPicPr>
        <p:blipFill>
          <a:blip r:embed="rId1"/>
          <a:stretch/>
        </p:blipFill>
        <p:spPr>
          <a:xfrm>
            <a:off x="250920" y="2349360"/>
            <a:ext cx="50180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3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0T13:15:18Z</dcterms:created>
  <dc:creator>www.PHILka.RU</dc:creator>
  <dc:description/>
  <dc:language>en-US</dc:language>
  <cp:lastModifiedBy>Анастасия Владимиров</cp:lastModifiedBy>
  <dcterms:modified xsi:type="dcterms:W3CDTF">2012-03-14T09:39:46Z</dcterms:modified>
  <cp:revision>3</cp:revision>
  <dc:subject/>
  <dc:title>Россия – многонациональное государств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8130000000000010250300207f7000400038000</vt:lpwstr>
  </property>
</Properties>
</file>