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2C7-12DD-4E00-A90D-498A5CAB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44B-41A3-4F7E-8232-1BFBC6F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DB0-7E50-4D54-9C8F-37993EA7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73F-790C-4314-BBE4-848B725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E85-1569-4A29-A943-B4219660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CDE-E476-4718-BC27-7075F2A0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0BF-651F-470D-A906-E664173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1BD-6DC5-484D-BC39-30C9C5B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927-8520-44FD-AC3B-5424493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80C-4556-44B9-A2FF-6D99D90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E8D-8900-4365-BCA8-CC03044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C52-62A5-4CD7-BA34-B6C5B35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9F9-F2F5-4927-91DF-BCF983137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zbyka.ru/parkhomenko/dnevnik_sviashennika/2009_4-all.s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4960.flagatrip.ru/report/id/4006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rk_OG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Россия – многонациональное государ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Мы разные, но все равно мы вмес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Картинка 1 из 81531"/>
          <p:cNvPicPr/>
          <p:nvPr/>
        </p:nvPicPr>
        <p:blipFill>
          <a:blip r:embed="rId1"/>
          <a:stretch/>
        </p:blipFill>
        <p:spPr>
          <a:xfrm>
            <a:off x="1332000" y="1289160"/>
            <a:ext cx="55688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Конституции Россия является многонациональным государством. На территории страны проживает более 180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Картинка 18 из 154563"/>
          <p:cNvPicPr/>
          <p:nvPr/>
        </p:nvPicPr>
        <p:blipFill>
          <a:blip r:embed="rId1"/>
          <a:stretch/>
        </p:blipFill>
        <p:spPr>
          <a:xfrm>
            <a:off x="395280" y="620640"/>
            <a:ext cx="367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4608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ым по численности населения народом России являются татары. Численность их составляет 5310 тыс. чел. Проживают в европейской части России, Поволжье, Приуралье, Сибири и на Дальнем Вост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10 из 129034"/>
          <p:cNvPicPr/>
          <p:nvPr/>
        </p:nvPicPr>
        <p:blipFill>
          <a:blip r:embed="rId1"/>
          <a:stretch/>
        </p:blipFill>
        <p:spPr>
          <a:xfrm>
            <a:off x="4948200" y="620640"/>
            <a:ext cx="4195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397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, как титульная нация, составляют около 80% населения (111 млн.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усский человек широк в плечах, имеет светлый цвет волос. Светлые глаза встречаются чаще, чем темные. Умеренная ширина лица и невысокий л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81700"/>
          <p:cNvPicPr/>
          <p:nvPr/>
        </p:nvPicPr>
        <p:blipFill>
          <a:blip r:embed="rId1"/>
          <a:stretch/>
        </p:blipFill>
        <p:spPr>
          <a:xfrm>
            <a:off x="155520" y="46080"/>
            <a:ext cx="48481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0" y="1123560"/>
            <a:ext cx="41148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цы – третий по численности населения народ России. В России их численность составляет 1927 тыс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kraintsy-dress1"/>
          <p:cNvPicPr/>
          <p:nvPr/>
        </p:nvPicPr>
        <p:blipFill>
          <a:blip r:embed="rId1"/>
          <a:stretch/>
        </p:blipFill>
        <p:spPr>
          <a:xfrm>
            <a:off x="155520" y="46080"/>
            <a:ext cx="4292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ренные малочисленные народы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и – народ, проживающий в среднем течении Енисея, согласно переписи, насчитывается 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реки – проживают в Чукотском АО. Согласно переписи, насчитывается 8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ринговский район. Разделка моржа"/>
          <p:cNvPicPr/>
          <p:nvPr/>
        </p:nvPicPr>
        <p:blipFill>
          <a:blip r:embed="rId1"/>
          <a:stretch/>
        </p:blipFill>
        <p:spPr>
          <a:xfrm>
            <a:off x="4859280" y="412128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исти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инство жителей России исповедует православие, одну из ветвей христианства (75%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20px-%D0%92%D0%B5%D0%BB%D0%B8%D0%BA%D0%BE%D0%BA%D0%BD%D1%8F%D0%B6%D0%B5%D1%81%D0%BA%D0%B0%D1%8F_%D1%86%D0%B5%D1%80%D0%BA%D0%BE%D0%B2%D1%8C"/>
          <p:cNvPicPr/>
          <p:nvPr/>
        </p:nvPicPr>
        <p:blipFill>
          <a:blip r:embed="rId1"/>
          <a:stretch/>
        </p:blipFill>
        <p:spPr>
          <a:xfrm>
            <a:off x="250920" y="126828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azbyka.ru/parkhomenko/foto/dnevnik/d9_3_vikingi0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70028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сульма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10% населения страны исповедуют мусульманство. Народы, исповедующие мусульманство: татары, башкиры, даги, чеченцы, ингуш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Файл:Kazan kremlin at night.JPG"/>
          <p:cNvPicPr/>
          <p:nvPr/>
        </p:nvPicPr>
        <p:blipFill>
          <a:blip r:embed="rId1"/>
          <a:stretch/>
        </p:blipFill>
        <p:spPr>
          <a:xfrm>
            <a:off x="4284720" y="3213000"/>
            <a:ext cx="4170240" cy="312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grigorjev.cc/travel/2010/cairo/5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05264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6720" y="155736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дизм является исповедуемой религией в Бурятии, Туве и Калмыкии. Численность народов исповедующих буддизм составляет около 2 млн.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Файл:Spb datsan.jpg"/>
          <p:cNvPicPr/>
          <p:nvPr/>
        </p:nvPicPr>
        <p:blipFill>
          <a:blip r:embed="rId1"/>
          <a:stretch/>
        </p:blipFill>
        <p:spPr>
          <a:xfrm>
            <a:off x="250920" y="2349360"/>
            <a:ext cx="5018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3:15:18Z</dcterms:created>
  <dc:creator>www.PHILka.RU</dc:creator>
  <dc:description/>
  <dc:language>en-US</dc:language>
  <cp:lastModifiedBy>Анастасия Владимиров</cp:lastModifiedBy>
  <dcterms:modified xsi:type="dcterms:W3CDTF">2012-03-14T09:39:46Z</dcterms:modified>
  <cp:revision>3</cp:revision>
  <dc:subject/>
  <dc:title>Россия – многонациональное государ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30000000000010250300207f7000400038000</vt:lpwstr>
  </property>
</Properties>
</file>