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9D07-2A03-46B4-9065-19423B2A1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2A1A-7C89-4F2A-99D5-B3BC082A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4F88-0D33-41C7-A2CF-7429F58C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B436-B4CC-4EEC-B739-686B0EE1CF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9AD2-76C7-4221-B7C5-DDDBF29F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A8EF-6643-454E-8BCA-EEF59DD3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5F1D-C8DC-452A-B0D6-291EF76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0A9F-1770-40D9-A050-7D1DBB64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781A-EB52-4AF3-AC14-26E38FF3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AEFD-86B5-46F4-A948-95AB6392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3CC4-BCBD-422E-8034-80943CA0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7015-C53E-4FB5-86C8-088635DA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FA012-B7C1-4138-838B-7021C87701E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1571760" cy="286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72240" y="2286000"/>
            <a:ext cx="1571760" cy="286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36360" y="-36360"/>
            <a:ext cx="9266040" cy="1768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2276640"/>
            <a:ext cx="5734080" cy="11984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О-ДЕ-ЖАНЕЙ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789360"/>
            <a:ext cx="730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319640" y="5054760"/>
            <a:ext cx="4319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: учитель географии Жукова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0384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ио-де-Жанейро насчитывает до 6  млн. жителей на территории в 12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в.к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селение Рио-де-Жанейро по своим социальным и бытовым особенностям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чительной степени отличается от жителей других бразильских городов. Зде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живает основная масса исторически сложившейся бразильской знати: круп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левладельцы и богатейшая буржуазия. В городе много цветного населен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ки которых были завезены сюда из Африки в качестве раб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24944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ее 95 % жителей в Рио-де-Жанейро исповедуют католицизм, однако в послед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 влияние церкви среди горожан падает. Многие, особенно зажиточные сло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еления, продолжают посещать церковь и соблюдать религиозные обряды толь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и приличия, чтобы выглядеть добропорядочными христиан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3280" y="260280"/>
            <a:ext cx="410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касается бытовых особенностей населения Рио-де-Жанейро, то следу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тить, что кариоки (так называют коренных жителей города) весьма беспеч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ди, не склонные обременять себя работой и серьезными обязанностями. Вме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тем они любят хорошо одеться, поесть в хорошем ресторане, но, прежде все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охнуть и повеселиться. Основная забота многих жителей Рио-де-Жанейро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ятно провести свой досу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свое свободное время в хорошую солнечную погоду 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ят на пляж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410364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20640000">
            <a:off x="-398160" y="1128600"/>
            <a:ext cx="56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зяй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о-де-Жаней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3635280" cy="247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219640" y="3573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03848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ы судостроение, машиностроение, металлургическая, нефтяная, химическая, фармацевтическая, кожевенная, текстильная, деревообрабатывающая, стекольная, легкая, пищевая, табачная промышленность, алмазогранильные фабр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3203640" cy="2100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3024360" cy="213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356000" y="4653000"/>
            <a:ext cx="26654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619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ые с.-х. культуры — кофе и сахарный тростник, выращивают также кукурузу, рис, табак, какао, бананы. Овощеводство, плодоводство (цитрусовые). Животноводст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ый продукт Рио-де-Жанейро - сахарный тростник, с большими плантациями в области Кампуса. Также это и апельс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810160" cy="1933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2592360" cy="210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629400" y="3500280"/>
            <a:ext cx="2514600" cy="221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859280" y="4941720"/>
            <a:ext cx="254484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матические усло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25360"/>
            <a:ext cx="763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кий климат. В самое прохладное время (с мая по сентябрь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ночные температуры +17...+19, средние дневные+27...+2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жарко с января по март, когда средние ночные темп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+23, дневные +31...+32 граду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засушливые месяцы - зим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их месячное количество осадков 40-50 мм. Самый дождливый период с декабря по март (120-130 мм осадков в месяц). Влажность воздуха на побережь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высока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и осенью, особенно в марте и в октябре, дождь может зарядить на неделю. Летом, с ноября по март, климат менее предсказуем, но солнечных, жарких дней достаточ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20400000">
            <a:off x="-1261800" y="836640"/>
            <a:ext cx="90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лечения, экскур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достопримеча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4076640"/>
            <a:ext cx="894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о-де-Жанейро является символом Бразил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агнитом для миллионов отдыхающ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сты стремятся увидеть главные достопримеча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го «Изумительного город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54936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пакабане расположен ботанический сад, с красивейшими аллея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танами и, разумеется, растени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занимает площадь 137 га, из которых 83 га - дикая природа. Здесь представлено около 6000 самых разнообразных видов раст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3230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0720" y="3765600"/>
            <a:ext cx="441324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424980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353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зжая через Национальный парк Тижука и можно увидеть гигантскую статую Христа-Искупителя на горе Корковаду.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3657600" cy="255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64000" y="2421000"/>
            <a:ext cx="3591000" cy="269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24360" y="443700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562752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ещение Рио стоит приурочить к главному празднику страны — Бразильскому карнава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навал проходит перед великим по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заканчивается в полночь втор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время карнавала проводится множество конкурс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овсюду гремит музыка, и повсюду можно увидеть людей, танцующих самбу в ярк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лестящих костюм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4753080" cy="2230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651640" y="3573360"/>
            <a:ext cx="308448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19280" y="1209240"/>
            <a:ext cx="396072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ио-де-Жанейро располагается на полосе Атлантического побережья Бразилии. Центр Рио находится на равнинах западного берега бухты Гуанабара. Большая часть города располагается на северо-западных равнинах, холмах и небольших скалистых горах. Южная зона города — пляжи, обрамляющие море — отделена от центральной и северной части города прибрежными горами. Город занимает площадь 1256 км². Рио-де-Жанейро был столицей до 1960 года, теперь столицей является город Бразили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13508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6360" y="3959280"/>
            <a:ext cx="3563640" cy="26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60720" y="322200"/>
            <a:ext cx="540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ографическое по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4537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канатной дороге можно взобраться на Сахарную Голову. С горы открывается захватывающий дух вид на весь город и его окрестности. Эта гора- одна из самых главных достопримечательностей Ри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097440" cy="309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3902400" cy="259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8360" y="410040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374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для любителей футб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ут есть особен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опримечательность — стадион Маракана. Его ещё называют Храмом футбо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 вмещает до 180 000 зрител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460836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454644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о-де-Жанейро также известен и популяр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и иностранцев и местных ж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ими пляжами. именно туда стремится попасть почти каждый турист. Белоснежный и нежный песок, ласковая вода океана, покой, и умиротворение можно прочувствовать каждой клеточкой кожи. Пляжей несколько, так что можно выбрать именно тот, на котором вам будет комфортнее всего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59280" y="3500280"/>
            <a:ext cx="388800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19640" y="692280"/>
            <a:ext cx="3635280" cy="24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20760000">
            <a:off x="178920" y="1198440"/>
            <a:ext cx="57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пробл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672000" cy="2463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176720" cy="2787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ивная вырубка лесов поставила под угрозу лесную экосистему. Популяция большинства ценных пород деревьев резко сократилась, а на вырубленных участках началась эрозия почвы и заболачивание, что всегда влечет за собой нарушение пищевых цепоч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2920" y="4581360"/>
            <a:ext cx="4038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 производства в окружающую среду выбрасывается немало промышленных отходов как в воздух, так и в воду и почв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80000" y="2637000"/>
            <a:ext cx="316872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40384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генное воздействие на флору и фауну океана порой просто непредсказуемо, и каждый раз требует серьезных исследований для решения проблем. Это касается многих аспектов, начиная от исчезновения различных видов рыб и растений, заканчивая внезапным усилением агрессивности акул и изменение маршрута их мигр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3996000" cy="300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385308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20460000">
            <a:off x="19080" y="126360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кономика гор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362400" cy="380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43912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3672000" cy="439272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о-де-Жанейро стал привлекательным местом для многих компаний, потому что там находились административные центры и правительство. В Рио находятся филиалы таких компаний, как Royal Dutch Shell, EBX, Esso. Офисы больших международных компаний Кока-Кола, IBM и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El Pas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ио занимает второе место на национальном уровне в промышленном производстве и является вторым по величине финансовым центром, уступая только Сан-Паул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2421000"/>
            <a:ext cx="4319640" cy="42195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ые предприятия города производят пищевые продукт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ие и нефтепродукты, лекарства, изделия из метал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а, текстиль и мебель. Однако доминирующим сектором в эконом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ется сфера услуг, включая банковское дело и второй по активности фондов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разилии. Сфера туризма и развлеч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же является ключевой для экономики города и ст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4321080" cy="208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3672000" cy="23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3682800" cy="40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важных направлений деятельности является строительство, обеспечивающее занятость большого количества неквалифицированных рабочих. Для развития производства в некоторых окраинах города правительством были созданы промышленные районы с развитой инфраструктурой и специальными условиями для покупки земельных участ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2997360"/>
            <a:ext cx="4038480" cy="361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Рио-де-Жанейро является одним из крупнейших портов Южной Америки, через него проходит 1/3 импорта (уголь, нефть, цемент, машины, пшеница) и значительная часть экспорта страны (кофе, сахар, кожи, ценная древесина, марганцевая руда, хлопок, фрукты из штатов Рио-де-Жанейро, Минас-Жерайс, частично из штата Сан-Паулу и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4249800" cy="250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00720" y="189000"/>
            <a:ext cx="410364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20880000">
            <a:off x="376200" y="941400"/>
            <a:ext cx="66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Рио-де-Жаней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3006720"/>
            <a:ext cx="4681800" cy="338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9120" y="0"/>
            <a:ext cx="362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разилии преобладают леса на красноцветных латеритных (ферраллитны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вах.  По запасам твёрдой древесины Бразилия занимает 1-е место в ми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2924280"/>
            <a:ext cx="426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о-де-Жанейро - наибольший производитель нефти и газа в Бразили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производство осуществляется в прибрежных област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мотря на недавнее открытие бразильского рынка, гигантский Petrobras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амая большая бразильская компания) является все еще, безусловно, наибольшим производител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3600360" cy="261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36720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5061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о богат и водными ресурсами. Речная сеть Рио-де-Жанейро очень густ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Амазонка – величайшая в мире 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ам бассейна (7,2 млн. кв. км.) и водонос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бразует сли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 рек – Мараньон и Укая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Амазонки от истока Мараньон – 6400 км.,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ст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яли – более 7000 к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азонка впадает в Атлантический океан, образуя саму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ую в мире дельту (свыше 100 тыс. кв. к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3058920" cy="2040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67280" y="4581360"/>
            <a:ext cx="4392360" cy="207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333360"/>
            <a:ext cx="29527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20700000">
            <a:off x="323640" y="1268280"/>
            <a:ext cx="451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9T12:06:32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190000000000010250300207f7000400038000</vt:lpwstr>
  </property>
  <property fmtid="{D5CDD505-2E9C-101B-9397-08002B2CF9AE}" pid="3" name="_TemplateID">
    <vt:lpwstr>TC030007997</vt:lpwstr>
  </property>
</Properties>
</file>