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jpeg" ContentType="image/jpeg"/>
  <Override PartName="/ppt/media/image23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56.jpeg" ContentType="image/jpeg"/>
  <Override PartName="/ppt/media/image25.jpeg" ContentType="image/jpeg"/>
  <Override PartName="/ppt/media/image2.png" ContentType="image/png"/>
  <Override PartName="/ppt/media/image4.jpeg" ContentType="image/jpeg"/>
  <Override PartName="/ppt/media/image26.jpeg" ContentType="image/jpeg"/>
  <Override PartName="/ppt/media/image5.jpeg" ContentType="image/jpeg"/>
  <Override PartName="/ppt/media/image27.jpeg" ContentType="image/jpeg"/>
  <Override PartName="/ppt/media/image5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28.jpeg" ContentType="image/jpeg"/>
  <Override PartName="/ppt/media/image51.jpeg" ContentType="image/jpeg"/>
  <Override PartName="/ppt/media/image36.jpeg" ContentType="image/jpeg"/>
  <Override PartName="/ppt/media/image37.jpeg" ContentType="image/jpeg"/>
  <Override PartName="/ppt/media/image12.jpeg" ContentType="image/jpeg"/>
  <Override PartName="/ppt/media/image43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53.jpeg" ContentType="image/jpeg"/>
  <Override PartName="/ppt/media/image49.jpeg" ContentType="image/jpeg"/>
  <Override PartName="/ppt/media/image54.jpeg" ContentType="image/jpeg"/>
  <Override PartName="/ppt/media/image55.jpeg" ContentType="image/jpeg"/>
  <Override PartName="/ppt/media/image57.jpeg" ContentType="image/jpeg"/>
  <Override PartName="/ppt/media/image35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40.jpeg" ContentType="image/jpeg"/>
  <Override PartName="/ppt/media/image13.jpeg" ContentType="image/jpeg"/>
  <Override PartName="/ppt/media/image29.jpeg" ContentType="image/jpeg"/>
  <Override PartName="/ppt/media/image5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D40ED0-74B5-446F-9A2A-D0BC58BEF1E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25BF43-572D-4C7B-824D-537CBC390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BD468B-2344-4CEE-81A1-42183598E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24D6F1-56DD-46D1-AA14-860A3540885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26DE8A-2A18-4E46-961D-96F95287D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7328FC-D31A-4A6E-BD6E-A420480B3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098851-121B-46A9-8D14-C490945E3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8BDA11-6A0D-45E8-960E-752220284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263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7DCE73-2E5F-4DE3-A7A3-2D48A23F9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8FA21F-72E7-44B1-9573-5CE32621E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E36E21-16D1-4D1A-81E8-4EB542EFD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FE66FB-251E-497A-B15D-BCB74AA0C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3399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898989"/>
                </a:solidFill>
                <a:latin typeface="Calibri"/>
                <a:ea typeface="Arial Unicode MS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  <a:ea typeface="Arial Unicode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08640"/>
            <a:ext cx="28958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898989"/>
                </a:solidFill>
                <a:latin typeface="Calibri"/>
                <a:ea typeface="Arial Unicode MS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181DC5-3A65-4829-9961-AE492866CCBA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4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image" Target="../media/image5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jpeg"/><Relationship Id="rId3" Type="http://schemas.openxmlformats.org/officeDocument/2006/relationships/image" Target="../media/image55.jpeg"/><Relationship Id="rId4" Type="http://schemas.openxmlformats.org/officeDocument/2006/relationships/slideLayout" Target="../slideLayouts/slideLayout4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image" Target="../media/image57.jpe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3399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2286000"/>
            <a:ext cx="1571760" cy="286056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80000"/>
              </a:srgbClr>
            </a:outerShdw>
          </a:effectLst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7572240" y="2286000"/>
            <a:ext cx="1571760" cy="286056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80000"/>
              </a:srgbClr>
            </a:outerShdw>
          </a:effectLst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-36360" y="-36360"/>
            <a:ext cx="9266040" cy="17683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 txBox="1"/>
          <p:nvPr/>
        </p:nvSpPr>
        <p:spPr>
          <a:xfrm>
            <a:off x="1692360" y="2276640"/>
            <a:ext cx="5734080" cy="1198440"/>
          </a:xfrm>
          <a:prstGeom prst="rect">
            <a:avLst/>
          </a:prstGeom>
        </p:spPr>
        <p:txBody>
          <a:bodyPr wrap="none" fromWordArt="1" lIns="90000" rIns="90000" tIns="46800" bIns="46800" anchor="ctr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РИО-ДЕ-ЖАНЕЙР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893880" y="3789360"/>
            <a:ext cx="7308720" cy="19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/>
          <p:nvPr/>
        </p:nvSpPr>
        <p:spPr>
          <a:xfrm>
            <a:off x="4319640" y="5054760"/>
            <a:ext cx="4319640" cy="10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ыполнила: учитель географии Жукова А.С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3399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395280" y="404280"/>
            <a:ext cx="403848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Рио-де-Жанейро насчитывает до 6  млн. жителей на территории в 1256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кв.км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0" y="1628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Население Рио-де-Жанейро по своим социальным и бытовым особенностям 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значительной степени отличается от жителей других бразильских городов. Здес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роживает основная масса исторически сложившейся бразильской знати: крупны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землевладельцы и богатейшая буржуазия. В городе много цветного населения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редки которых были завезены сюда из Африки в качестве рабов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324000" y="1773360"/>
            <a:ext cx="4249440" cy="439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3399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324000" y="260280"/>
            <a:ext cx="403848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Более 95 % жителей в Рио-де-Жанейро исповедуют католицизм, однако в последне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ремя влияние церкви среди горожан падает. Многие, особенно зажиточные сло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селения, продолжают посещать церковь и соблюдать религиозные обряды тольк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ади приличия, чтобы выглядеть добропорядочными христианам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643280" y="260280"/>
            <a:ext cx="41054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то касается бытовых особенностей населения Рио-де-Жанейро, то следуе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тметить, что кариоки (так называют коренных жителей города) весьма беспечны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люди, не склонные обременять себя работой и серьезными обязанностями. Вмест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 тем они любят хорошо одеться, поесть в хорошем ресторане, но, прежде всего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тдохнуть и повеселиться. Основная забота многих жителей Рио-де-Жанейро -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иятно провести свой досуг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се свое свободное время в хорошую солнечную погоду он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оводят на пляжах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250920" y="3933720"/>
            <a:ext cx="4103640" cy="266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3399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 rot="20640000">
            <a:off x="-398160" y="1128600"/>
            <a:ext cx="5653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Хозяйство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Рио-де-Жанейро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5219640" y="1052640"/>
            <a:ext cx="3635280" cy="24717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971640" y="2924280"/>
            <a:ext cx="4681440" cy="351144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5219640" y="3573360"/>
            <a:ext cx="3456000" cy="273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3399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324000" y="981000"/>
            <a:ext cx="4038480" cy="50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азвиты судостроение, машиностроение, металлургическая, нефтяная, химическая, фармацевтическая, кожевенная, текстильная, деревообрабатывающая, стекольная, легкая, пищевая, табачная промышленность, алмазогранильные фабрики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5724360" y="2492280"/>
            <a:ext cx="3203640" cy="210024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4356000" y="260280"/>
            <a:ext cx="3024360" cy="21319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4356000" y="4653000"/>
            <a:ext cx="2665440" cy="200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3399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461952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Главные с.-х. культуры — кофе и сахарный тростник, выращивают также кукурузу, рис, табак, какао, бананы. Овощеводство, плодоводство (цитрусовые). Животноводство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Главный продукт Рио-де-Жанейро - сахарный тростник, с большими плантациями в области Кампуса. Также это и апельсин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867280" y="260280"/>
            <a:ext cx="2810160" cy="19335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4932360" y="1989000"/>
            <a:ext cx="2592360" cy="210024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6629400" y="3500280"/>
            <a:ext cx="2514600" cy="22132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>
            <a:off x="4859280" y="4941720"/>
            <a:ext cx="2544840" cy="1697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3399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250920" y="260280"/>
            <a:ext cx="864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лиматические услов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/>
          <p:nvPr/>
        </p:nvSpPr>
        <p:spPr>
          <a:xfrm>
            <a:off x="539640" y="1125360"/>
            <a:ext cx="763272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Жаркий климат. В самое прохладное время (с мая по сентябрь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редние ночные температуры +17...+19, средние дневные+27...+28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чень жарко с января по март, когда средние ночные температур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коло +23, дневные +31...+32 градуса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амые засушливые месяцы - зимние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них месячное количество осадков 40-50 мм. Самый дождливый период с декабря по март (120-130 мм осадков в месяц). Влажность воздуха на побережье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сегда высокая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есной и осенью, особенно в марте и в октябре, дождь может зарядить на неделю. Летом, с ноября по март, климат менее предсказуем, но солнечных, жарких дней достаточно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3399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 rot="20400000">
            <a:off x="-1261800" y="836640"/>
            <a:ext cx="9050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Развлечения, экскурси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и достопримечательност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Рио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/>
          <p:nvPr/>
        </p:nvSpPr>
        <p:spPr>
          <a:xfrm>
            <a:off x="193680" y="4076640"/>
            <a:ext cx="8949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ио-де-Жанейро является символом Бразили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магнитом для миллионов отдыхающих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уристы стремятся увидеть главные достопримечательнос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го «Изумительного города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932360" y="1413000"/>
            <a:ext cx="3313080" cy="248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3399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468360" y="549360"/>
            <a:ext cx="4319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Копакабане расположен ботанический сад, с красивейшими аллеями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онтанами и, разумеется, растениями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н занимает площадь 137 га, из которых 83 га - дикая природа. Здесь представлено около 6000 самых разнообразных видов растений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4859280" y="333360"/>
            <a:ext cx="4105440" cy="323064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4500720" y="3765600"/>
            <a:ext cx="4413240" cy="292896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179280" y="3789360"/>
            <a:ext cx="4249800" cy="283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3399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23640" y="1267920"/>
            <a:ext cx="353844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роезжая через Национальный парк Тижука и можно увидеть гигантскую статую Христа-Искупителя на горе Корковаду. 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3995640" y="476280"/>
            <a:ext cx="3657600" cy="255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364000" y="2421000"/>
            <a:ext cx="3591000" cy="26938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3924360" y="4437000"/>
            <a:ext cx="3619440" cy="2171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3399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250920" y="475920"/>
            <a:ext cx="5627520" cy="42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осещение Рио стоит приурочить к главному празднику страны — Бразильскому карнавалу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арнавал проходит перед великим посто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и заканчивается в полночь вторник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о время карнавала проводится множество конкурсов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товсюду гремит музыка, и повсюду можно увидеть людей, танцующих самбу в ярки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блестящих костюмах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395280" y="4437000"/>
            <a:ext cx="4753080" cy="223056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6227640" y="189000"/>
            <a:ext cx="2322720" cy="309564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5651640" y="3573360"/>
            <a:ext cx="3084480" cy="3056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3399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719280" y="1209240"/>
            <a:ext cx="3960720" cy="545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Рио-де-Жанейро располагается на полосе Атлантического побережья Бразилии. Центр Рио находится на равнинах западного берега бухты Гуанабара. Большая часть города располагается на северо-западных равнинах, холмах и небольших скалистых горах. Южная зона города — пляжи, обрамляющие море — отделена от центральной и северной части города прибрежными горами. Город занимает площадь 1256 км². Рио-де-Жанейро был столицей до 1960 года, теперь столицей является город Бразилиа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292720" y="1135080"/>
            <a:ext cx="3527280" cy="26449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256360" y="3959280"/>
            <a:ext cx="3563640" cy="26733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160720" y="322200"/>
            <a:ext cx="540072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Географическое положени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3399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250560" y="188640"/>
            <a:ext cx="4537080" cy="43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На канатной дороге можно взобраться на Сахарную Голову. С горы открывается захватывающий дух вид на весь город и его окрестности. Эта гора- одна из самых главных достопримечательностей Рио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5076720" y="189000"/>
            <a:ext cx="3097440" cy="30970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643280" y="3573360"/>
            <a:ext cx="3902400" cy="259416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468360" y="4100400"/>
            <a:ext cx="3672000" cy="244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3399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324000" y="404280"/>
            <a:ext cx="374472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А для любителей футбол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тут есть особенная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достопримечательность — стадион Маракана. Его ещё называют Храмом футбол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н вмещает до 180 000 зрителей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4356000" y="3284640"/>
            <a:ext cx="4176720" cy="3132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40360" y="333360"/>
            <a:ext cx="4608360" cy="2859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3399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56840" y="765000"/>
            <a:ext cx="4546440" cy="550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ио-де-Жанейро также известен и популяре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реди иностранцев и местных жителе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воими пляжами. именно туда стремится попасть почти каждый турист. Белоснежный и нежный песок, ласковая вода океана, покой, и умиротворение можно прочувствовать каждой клеточкой кожи. Пляжей несколько, так что можно выбрать именно тот, на котором вам будет комфортнее всего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4859280" y="3500280"/>
            <a:ext cx="3888000" cy="27432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5219640" y="692280"/>
            <a:ext cx="3635280" cy="240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3399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 rot="20760000">
            <a:off x="178920" y="1198440"/>
            <a:ext cx="570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Экологические проблем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4716360" y="1484280"/>
            <a:ext cx="3672000" cy="246384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468360" y="3141720"/>
            <a:ext cx="4176720" cy="278748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4932360" y="4149720"/>
            <a:ext cx="3095640" cy="232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3399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324000" y="260280"/>
            <a:ext cx="403848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ассивная вырубка лесов поставила под угрозу лесную экосистему. Популяция большинства ценных пород деревьев резко сократилась, а на вырубленных участках началась эрозия почвы и заболачивание, что всегда влечет за собой нарушение пищевых цепочек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642920" y="4581360"/>
            <a:ext cx="4038840" cy="17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процессе производства в окружающую среду выбрасывается немало промышленных отходов как в воздух, так и в воду и почву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79280" y="3429000"/>
            <a:ext cx="4762440" cy="317196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4427640" y="189000"/>
            <a:ext cx="3168720" cy="237636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5580000" y="2637000"/>
            <a:ext cx="3168720" cy="1888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3399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68360" y="692280"/>
            <a:ext cx="4038480" cy="54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ехногенное воздействие на флору и фауну океана порой просто непредсказуемо, и каждый раз требует серьезных исследований для решения проблем. Это касается многих аспектов, начиная от исчезновения различных видов рыб и растений, заканчивая внезапным усилением агрессивности акул и изменение маршрута их миграци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4643280" y="333360"/>
            <a:ext cx="3996000" cy="300024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4716360" y="3645000"/>
            <a:ext cx="3853080" cy="297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3399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 rot="20460000">
            <a:off x="19080" y="1263600"/>
            <a:ext cx="547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Экономика города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5292720" y="1413000"/>
            <a:ext cx="3362400" cy="38066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826920" y="3573360"/>
            <a:ext cx="4391280" cy="289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3399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395280" y="260280"/>
            <a:ext cx="3672000" cy="4392720"/>
          </a:xfrm>
          <a:prstGeom prst="rect">
            <a:avLst/>
          </a:prstGeom>
          <a:noFill/>
          <a:ln cap="rnd" w="6480">
            <a:solidFill>
              <a:srgbClr val="000000"/>
            </a:solidFill>
            <a:custDash>
              <a:ds d="100000" sp="1000"/>
            </a:custDash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Рио-де-Жанейро стал привлекательным местом для многих компаний, потому что там находились административные центры и правительство. В Рио находятся филиалы таких компаний, как Royal Dutch Shell, EBX, Esso. Офисы больших международных компаний Кока-Кола, IBM и 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El Paso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. Рио занимает второе место на национальном уровне в промышленном производстве и является вторым по величине финансовым центром, уступая только Сан-Паулу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/>
          <p:nvPr/>
        </p:nvSpPr>
        <p:spPr>
          <a:xfrm>
            <a:off x="4284720" y="2421000"/>
            <a:ext cx="4319640" cy="421956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мышленные предприятия города производят пищевые продукты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имические и нефтепродукты, лекарства, изделия из металла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уда, текстиль и мебель. Однако доминирующим сектором в экономик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является сфера услуг, включая банковское дело и второй по активности фондовый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ынок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Бразилии. Сфера туризма и развлечений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акже является ключевой для экономики города и страны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211640" y="260280"/>
            <a:ext cx="4321080" cy="20890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95280" y="4292640"/>
            <a:ext cx="3672000" cy="2311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3399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324000" y="189000"/>
            <a:ext cx="3682800" cy="4032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дним из важных направлений деятельности является строительство, обеспечивающее занятость большого количества неквалифицированных рабочих. Для развития производства в некоторых окраинах города правительством были созданы промышленные районы с развитой инфраструктурой и специальными условиями для покупки земельных участков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0" y="2997360"/>
            <a:ext cx="4038480" cy="3611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акже Рио-де-Жанейро является одним из крупнейших портов Южной Америки, через него проходит 1/3 импорта (уголь, нефть, цемент, машины, пшеница) и значительная часть экспорта страны (кофе, сахар, кожи, ценная древесина, марганцевая руда, хлопок, фрукты из штатов Рио-де-Жанейро, Минас-Жерайс, частично из штата Сан-Паулу и других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79280" y="4221000"/>
            <a:ext cx="4249800" cy="25052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4500720" y="189000"/>
            <a:ext cx="4103640" cy="2595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3399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 rot="20880000">
            <a:off x="376200" y="941400"/>
            <a:ext cx="6692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Ресурсы Рио-де-Жанейро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26920" y="3006720"/>
            <a:ext cx="4681800" cy="33894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4788000" y="1844640"/>
            <a:ext cx="3600360" cy="36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3399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519120" y="0"/>
            <a:ext cx="362124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Бразилии преобладают леса на красноцветных латеритных (ферраллитных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чвах.  По запасам твёрдой древесины Бразилия занимает 1-е место в мир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/>
          <p:nvPr/>
        </p:nvSpPr>
        <p:spPr>
          <a:xfrm>
            <a:off x="4427640" y="2924280"/>
            <a:ext cx="42685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ио-де-Жанейро - наибольший производитель нефти и газа в Бразилии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се производство осуществляется в прибрежных областях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смотря на недавнее открытие бразильского рынка, гигантский Petrobras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самая большая бразильская компания) является все еще, безусловно, наибольшим производителем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4572000" y="189000"/>
            <a:ext cx="3600360" cy="261936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468360" y="2637000"/>
            <a:ext cx="3672000" cy="3638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3399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539640" y="404640"/>
            <a:ext cx="506124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ио богат и водными ресурсами. Речная сеть Рио-де-Жанейро очень густая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ка Амазонка – величайшая в мире п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мерам бассейна (7,2 млн. кв. км.) и водоносности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на образует слияни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вух рек – Мараньон и Укаяли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ина Амазонки от истока Мараньон – 6400 км., 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 исток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каяли – более 7000 км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мазонка впадает в Атлантический океан, образуя самую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ольшую в мире дельту (свыше 100 тыс. кв. км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324000" y="4581360"/>
            <a:ext cx="3058920" cy="20401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4067280" y="4581360"/>
            <a:ext cx="4392360" cy="20782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5867280" y="333360"/>
            <a:ext cx="2952720" cy="388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3399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 rot="20700000">
            <a:off x="323640" y="1268280"/>
            <a:ext cx="4519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Arial"/>
              </a:rPr>
              <a:t>Население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4716360" y="1773360"/>
            <a:ext cx="3810240" cy="25336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1116000" y="3284640"/>
            <a:ext cx="3960720" cy="2971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2-04-19T12:06:32Z</dcterms:modified>
  <cp:revision>3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e6190000000000010250300207f7000400038000</vt:lpwstr>
  </property>
  <property fmtid="{D5CDD505-2E9C-101B-9397-08002B2CF9AE}" pid="3" name="_TemplateID">
    <vt:lpwstr>TC030007997</vt:lpwstr>
  </property>
</Properties>
</file>