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6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F68E-1DF2-42CE-B612-9BACDE43A5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FDCF-40B1-4049-B5EF-47966C65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7F51C-093F-47F6-B33B-DE3A5F2F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9F5F-9755-49EF-9783-04679A2FF4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97A0-C08B-4EBE-8406-F66AE534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4F8A-BE3B-4149-AFED-BCDF8B78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1C5E6-FE80-460A-B542-6D9A17A5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9CBFF-69DF-466E-9730-D763D473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B14C2-2FEF-43B2-A92A-DD3E9B2C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ED197-3941-4229-8D11-9D2A1F50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7205-C120-4BAE-B645-7AF2BF05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23395-8A39-4948-B46E-541C99CE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AEF0C-FB2D-4454-891C-38FEB3479F0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1571760" cy="2860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72240" y="2286000"/>
            <a:ext cx="1571760" cy="2860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-36360" y="-36360"/>
            <a:ext cx="9266040" cy="1768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692360" y="2276640"/>
            <a:ext cx="5734080" cy="11984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О-ДЕ-ЖАНЕЙ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789360"/>
            <a:ext cx="730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319640" y="5054760"/>
            <a:ext cx="431964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ла: учитель географии Жукова А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403848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ио-де-Жанейро насчитывает до 6  млн. жителей на территории в 125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в.к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селение Рио-де-Жанейро по своим социальным и бытовым особенностям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чительной степени отличается от жителей других бразильских городов. Зде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живает основная масса исторически сложившейся бразильской знати: круп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млевладельцы и богатейшая буржуазия. В городе много цветного населен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ки которых были завезены сюда из Африки в качестве раб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24944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84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ее 95 % жителей в Рио-де-Жанейро исповедуют католицизм, однако в последне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емя влияние церкви среди горожан падает. Многие, особенно зажиточные сло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еления, продолжают посещать церковь и соблюдать религиозные обряды тольк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ди приличия, чтобы выглядеть добропорядочными христиан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3280" y="260280"/>
            <a:ext cx="410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касается бытовых особенностей населения Рио-де-Жанейро, то следу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тить, что кариоки (так называют коренных жителей города) весьма беспеч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ди, не склонные обременять себя работой и серьезными обязанностями. Вмес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тем они любят хорошо одеться, поесть в хорошем ресторане, но, прежде всег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охнуть и повеселиться. Основная забота многих жителей Рио-де-Жанейро 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ятно провести свой досу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свое свободное время в хорошую солнечную погоду о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одят на пляж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3933720"/>
            <a:ext cx="410364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rot="20640000">
            <a:off x="-398160" y="1128600"/>
            <a:ext cx="56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зяйств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о-де-Жаней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219640" y="1052640"/>
            <a:ext cx="3635280" cy="2471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4681440" cy="351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219640" y="3573360"/>
            <a:ext cx="34560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403848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ы судостроение, машиностроение, металлургическая, нефтяная, химическая, фармацевтическая, кожевенная, текстильная, деревообрабатывающая, стекольная, легкая, пищевая, табачная промышленность, алмазогранильные фабри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3203640" cy="2100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3024360" cy="2131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356000" y="4653000"/>
            <a:ext cx="266544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6195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ные с.-х. культуры — кофе и сахарный тростник, выращивают также кукурузу, рис, табак, какао, бананы. Овощеводство, плодоводство (цитрусовые). Животноводств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ный продукт Рио-де-Жанейро - сахарный тростник, с большими плантациями в области Кампуса. Также это и апельс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810160" cy="1933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32360" y="1989000"/>
            <a:ext cx="2592360" cy="2100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629400" y="3500280"/>
            <a:ext cx="2514600" cy="2213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859280" y="4941720"/>
            <a:ext cx="2544840" cy="16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матические усло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125360"/>
            <a:ext cx="7632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аркий климат. В самое прохладное время (с мая по сентябрь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е ночные температуры +17...+19, средние дневные+27...+2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жарко с января по март, когда средние ночные темп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+23, дневные +31...+32 граду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засушливые месяцы - зим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их месячное количество осадков 40-50 мм. Самый дождливый период с декабря по март (120-130 мм осадков в месяц). Влажность воздуха на побережь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высока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ной и осенью, особенно в марте и в октябре, дождь может зарядить на неделю. Летом, с ноября по март, климат менее предсказуем, но солнечных, жарких дней достаточ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rot="20400000">
            <a:off x="-1261800" y="836640"/>
            <a:ext cx="905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влечения, экскур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достопримеча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и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93680" y="4076640"/>
            <a:ext cx="894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о-де-Жанейро является символом Бразил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агнитом для миллионов отдыхающ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ристы стремятся увидеть главные достопримеча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го «Изумительного город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549360"/>
            <a:ext cx="431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пакабане расположен ботанический сад, с красивейшими аллеям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нтанами и, разумеется, растения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занимает площадь 137 га, из которых 83 га - дикая природа. Здесь представлено около 6000 самых разнообразных видов расте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3230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00720" y="3765600"/>
            <a:ext cx="4413240" cy="2928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4249800" cy="28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3538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езжая через Национальный парк Тижука и можно увидеть гигантскую статую Христа-Искупителя на горе Корковаду.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95640" y="476280"/>
            <a:ext cx="3657600" cy="255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64000" y="2421000"/>
            <a:ext cx="3591000" cy="269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924360" y="443700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562752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ещение Рио стоит приурочить к главному празднику страны — Бразильскому карнавал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рнавал проходит перед великим по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заканчивается в полночь вторн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время карнавала проводится множество конкурс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овсюду гремит музыка, и повсюду можно увидеть людей, танцующих самбу в ярк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лестящих костюма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4437000"/>
            <a:ext cx="4753080" cy="2230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322720" cy="309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651640" y="3573360"/>
            <a:ext cx="3084480" cy="30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19280" y="1209240"/>
            <a:ext cx="3960720" cy="54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ио-де-Жанейро располагается на полосе Атлантического побережья Бразилии. Центр Рио находится на равнинах западного берега бухты Гуанабара. Большая часть города располагается на северо-западных равнинах, холмах и небольших скалистых горах. Южная зона города — пляжи, обрамляющие море — отделена от центральной и северной части города прибрежными горами. Город занимает площадь 1256 км². Рио-де-Жанейро был столицей до 1960 года, теперь столицей является город Бразили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92720" y="1135080"/>
            <a:ext cx="3527280" cy="264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6360" y="3959280"/>
            <a:ext cx="3563640" cy="267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60720" y="322200"/>
            <a:ext cx="5400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еографическое поло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4537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канатной дороге можно взобраться на Сахарную Голову. С горы открывается захватывающий дух вид на весь город и его окрестности. Эта гора- одна из самых главных достопримечательностей Ри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76720" y="189000"/>
            <a:ext cx="3097440" cy="3097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3902400" cy="2594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68360" y="410040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374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для любителей футб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ут есть особенн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стопримечательность — стадион Маракана. Его ещё называют Храмом футбо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н вмещает до 180 000 зрител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356000" y="328464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40360" y="333360"/>
            <a:ext cx="460836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4546440" cy="55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ио-де-Жанейро также известен и популяр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и иностранцев и местных ж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ими пляжами. именно туда стремится попасть почти каждый турист. Белоснежный и нежный песок, ласковая вода океана, покой, и умиротворение можно прочувствовать каждой клеточкой кожи. Пляжей несколько, так что можно выбрать именно тот, на котором вам будет комфортнее всего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59280" y="3500280"/>
            <a:ext cx="3888000" cy="2743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219640" y="692280"/>
            <a:ext cx="3635280" cy="24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rot="20760000">
            <a:off x="178920" y="1198440"/>
            <a:ext cx="57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логические пробле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3672000" cy="2463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4176720" cy="2787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932360" y="414972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8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ссивная вырубка лесов поставила под угрозу лесную экосистему. Популяция большинства ценных пород деревьев резко сократилась, а на вырубленных участках началась эрозия почвы и заболачивание, что всегда влечет за собой нарушение пищевых цепоче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2920" y="4581360"/>
            <a:ext cx="40388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роцессе производства в окружающую среду выбрасывается немало промышленных отходов как в воздух, так и в воду и почв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27640" y="189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580000" y="2637000"/>
            <a:ext cx="3168720" cy="188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40384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генное воздействие на флору и фауну океана порой просто непредсказуемо, и каждый раз требует серьезных исследований для решения проблем. Это касается многих аспектов, начиная от исчезновения различных видов рыб и растений, заканчивая внезапным усилением агрессивности акул и изменение маршрута их мигр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3996000" cy="3000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3853080" cy="29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20460000">
            <a:off x="19080" y="126360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кономика город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362400" cy="380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439128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3672000" cy="4392720"/>
          </a:xfrm>
          <a:prstGeom prst="rect">
            <a:avLst/>
          </a:prstGeom>
          <a:noFill/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о-де-Жанейро стал привлекательным местом для многих компаний, потому что там находились административные центры и правительство. В Рио находятся филиалы таких компаний, как Royal Dutch Shell, EBX, Esso. Офисы больших международных компаний Кока-Кола, IBM и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El Paso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Рио занимает второе место на национальном уровне в промышленном производстве и является вторым по величине финансовым центром, уступая только Сан-Паул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2421000"/>
            <a:ext cx="4319640" cy="421956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ышленные предприятия города производят пищевые продукт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ческие и нефтепродукты, лекарства, изделия из метал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да, текстиль и мебель. Однако доминирующим сектором в экономи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вляется сфера услуг, включая банковское дело и второй по активности фондов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Бразилии. Сфера туризма и развлеч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же является ключевой для экономики города и стр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211640" y="260280"/>
            <a:ext cx="4321080" cy="2089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4292640"/>
            <a:ext cx="3672000" cy="23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3682800" cy="40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им из важных направлений деятельности является строительство, обеспечивающее занятость большого количества неквалифицированных рабочих. Для развития производства в некоторых окраинах города правительством были созданы промышленные районы с развитой инфраструктурой и специальными условиями для покупки земельных участ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0" y="2997360"/>
            <a:ext cx="4038480" cy="361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же Рио-де-Жанейро является одним из крупнейших портов Южной Америки, через него проходит 1/3 импорта (уголь, нефть, цемент, машины, пшеница) и значительная часть экспорта страны (кофе, сахар, кожи, ценная древесина, марганцевая руда, хлопок, фрукты из штатов Рио-де-Жанейро, Минас-Жерайс, частично из штата Сан-Паулу и друг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4249800" cy="2505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00720" y="189000"/>
            <a:ext cx="410364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rot="20880000">
            <a:off x="376200" y="941400"/>
            <a:ext cx="669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сурсы Рио-де-Жаней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3006720"/>
            <a:ext cx="4681800" cy="3389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19120" y="0"/>
            <a:ext cx="3621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разилии преобладают леса на красноцветных латеритных (ферраллитны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вах.  По запасам твёрдой древесины Бразилия занимает 1-е место в ми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4427640" y="2924280"/>
            <a:ext cx="426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о-де-Жанейро - наибольший производитель нефти и газа в Бразили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производство осуществляется в прибрежных областя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смотря на недавнее открытие бразильского рынка, гигантский Petrobras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амая большая бразильская компания) является все еще, безусловно, наибольшим производителе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0" y="189000"/>
            <a:ext cx="3600360" cy="2619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36720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404640"/>
            <a:ext cx="5061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о богат и водными ресурсами. Речная сеть Рио-де-Жанейро очень густа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Амазонка – величайшая в мире 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ам бассейна (7,2 млн. кв. км.) и водонос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образует слия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х рек – Мараньон и Укаял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Амазонки от истока Мараньон – 6400 км.,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ист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яли – более 7000 к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азонка впадает в Атлантический океан, образуя саму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ую в мире дельту (свыше 100 тыс. кв. к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4581360"/>
            <a:ext cx="3058920" cy="2040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067280" y="4581360"/>
            <a:ext cx="4392360" cy="207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867280" y="333360"/>
            <a:ext cx="29527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rot="20700000">
            <a:off x="323640" y="1268280"/>
            <a:ext cx="451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3810240" cy="2533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16000" y="328464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19T12:06:32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6190000000000010250300207f7000400038000</vt:lpwstr>
  </property>
  <property fmtid="{D5CDD505-2E9C-101B-9397-08002B2CF9AE}" pid="3" name="_TemplateID">
    <vt:lpwstr>TC030007997</vt:lpwstr>
  </property>
</Properties>
</file>