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466-3F9C-46CF-9302-345221B3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1EB-1C00-4F3E-894B-C2068C5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A72-17DD-4B39-950F-CA089EE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448-115D-46CA-8D4D-F4CFF8F6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6C8-E9FC-4019-9150-8C974B6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F81-0881-4F95-9E5E-60FB282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1CB-B580-47BF-929F-427C296B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E84-C19F-4BC1-81BE-80319ED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775-429B-4EE1-A1A1-75374FB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FBF-8FFF-4B2B-85A4-812342F7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3F4-66D0-4167-A7D0-D379958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DA1-7C3A-4224-8331-516E290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512-9BCE-4E4F-A4C5-FB117D12C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Olietta script-Poesia"/>
              </a:rPr>
              <a:t>Рио-де-Жаней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3962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еница 7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ашко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итель: Волошина И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Администратор\Мои документы\Катя\Презентации\География\800px-Rio_de_Janeiro_Panoramic_from_Pão_de_Açúcar_cr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 на Рио-де-Жанейро с вершины Корковаду: слева гора Сахарная голова и район Ботафого, в центре — пляж Копак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езд, поднимающий туристов на вершину Корков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7820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бразильского города Парати, находящемся в 250 километрах от Рио-де-Жанейро,  устраивают свой карнавал под названием “Bloco de Lama”. Они вымазываются грязью из озера Джабакара и водят хороводы по улицам родного города. Все – от мала до ве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633680"/>
            <a:ext cx="7473960" cy="49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7160" y="914400"/>
            <a:ext cx="850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4920" y="1293840"/>
            <a:ext cx="8229600" cy="533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467840" cy="495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76720" y="3807000"/>
            <a:ext cx="58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ород чудес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800280"/>
            <a:ext cx="5410080" cy="6057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867280" y="198108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06 году тысячи жителей и туристов смотрели парад школы самбы Вила Изабель. На этом снимке показана декорация, отдающая дань Мексике, во время вечера открытия традиционного парада школы самбы Ри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уя Христа Спасителя – самый фотографируемый символ Рио-де-Жанейро – на горе Корковадо в Национальном парке в Тиджуке. Этот парк считается крупнейшим городским лес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33520" y="1327320"/>
            <a:ext cx="80769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ьские дети играют в футбол на закате на пляже Ипанема. В 2014 году в Бразилии пройдет Чемпионат мира по футб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ет лестницы, ведущей к Музею минералов в Рио-де-Жаней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1459080"/>
            <a:ext cx="79246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менитые пляж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Рио-де-Жанейро в переводе означает «Январская р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й славой Рио-де-Жанейро во многом обязан роскошным белоснежным океанским пляжам, прочно вошедшим в повседневную жизнь каждого кариоки. Самыми красивыми считаются те, что раскинулись к юго-востоку от центра – Фламенго, Ботафогу, Леми, Копакабана, Апроадор, Ипанема, Леблон, Видигал, Пепину и Барра-да-Тиж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й известностью пользуется пляж Копакабана, расположенный в одноимённом районе Рио. Ипанема – излюбленное место отдыха местных богачей и туристов. Индейское название этого пляжа означает "опасная пучина". И действительно океанские волны здесь особенно высоки и грозны, особенно в часы отлива. Местная молодежь предпочитает встречаться на пляже перед "Сезар-Парк-Отеле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няк 1920-ых годов возвышается на холме в парке Лаге на фоне статуи Христа Спасителя на вершине горы Корковадо вдал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328760"/>
            <a:ext cx="8305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яж Ипан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Администратор\Мои документы\Катя\Презентации\География\Пляж Ипанема.jpg"/>
          <p:cNvPicPr/>
          <p:nvPr/>
        </p:nvPicPr>
        <p:blipFill>
          <a:blip r:embed="rId1"/>
          <a:stretch/>
        </p:blipFill>
        <p:spPr>
          <a:xfrm>
            <a:off x="1066680" y="1295280"/>
            <a:ext cx="71931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навал в Ри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520" y="60912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авал – один из главнейших праздников в Южной Америке и, конечно же, в самом Рио. Начинаясь перед Великим постом, он длится 5 дней и завершается в полночь вторника. Ключевой момент карнавала – парад 48 соперничающих между собой официальных школ самбы, который проходит на "Самбодроме", построенном по проекту Оскара Нимейера. Ученики школ в течение всего года усердно готовятся к шествию, стараясь поразить публику своим мастерством и великолепием костюмов – ежегодно выбирается королева карнавала и проводится конкурс на лучший костю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карнавал – это не только одна из главных туристических достопримечательностей Рио-де-Жанейро и Бразилии. Прежде всего, это отличный бизнес – не зря ведь школы самбы ежегодно тратят на подготовку миллионы долларов. В дни самого дорогостоящего в истории карнавала 2000 года его участники, а это свыше 350 тысяч человек со всего мира, оставили в столице самбы 400 с лишним миллионов долл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несмотря ни на что, восхищенные туристы самозабвенно отплясывают самбу на улицах города и участвуют в карнавальных шествиях по главной улице Риу-Бранку, чтобы затем привезти домой незабываемые впечатления о знаменитом карнавале в Рио. И их можно понять – это ни с чем не сравнимое зрелище!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иоки (так называют себя коренные жители города) уверяют, что "Бог сотворил мир за шесть дней, а весь седьмой посвятил Рио-де-Жанейро" и не без оснований считают свой город самым красивым в мире. В этих словах можно усмотреть проявление местного патриотизма, но нельзя не признать, что Рио-де-Жанейро, втиснувшийся между хребтом гранитных гор и усеянным островками заливом Гуанабара, действительно очень краси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 водами бухты Гуанабара возвышается визитная карточка Рио-де-Жанейро – гора Сахарная Голова. Вокруг разбросаны бесчисленные островки, самый большой из которых – Говернадор. С вершины горы открывается не только панорама города, но и вид на бухту, острова и 14-километровый мост, соединяющий Рио-де-Жанейро с Нитеро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й на юго-востоке Бразилии, на берегу Атлантического океана и бухты Гуанабара Рио-де-Жанейро является столицей одноимённого штата, вторым по величине (после Сан-Паулу) городом страны и одной из важнейших метрополий Южной Америки. В состав Большого Рио-де-Жанейро входят связанные с метрополией города Нова-Игуасу, Дуки-ди-Кашиас, Сан-Жуан-ди-Мерити и Нилополи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Администратор\Мои документы\Катя\Презентации\География\rio_3.jpg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Сахарная голов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и знаменитая достопримечательность Рио-де-Жанейро – гора Пан-ди-Асукар или Сахарная Голова – господствует над всем городом и бухтой Гуанабара. Сев в вагончик канатной дороги на площади Праса-Женераль-Тибурсиу неподалеку от Прая-Вермелья, можно подняться на ее вершину. По дороге наверх вагончик останавливается на нижнем холме, где можно перекусить в ресторанчике и послушать игру бразильских музык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772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Корковад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 Корковаду находится на территории Национального парка Тижука. С ее вершины открывается прекрасный вид на весь город, океанские пляжи, в т. ч. знаменитую Копакабану, крупнейший в мире стадион "Маракана" площадью около 200 гектар, международный аэропорт и бесчисленные острова, рассыпанные в бухте Гуанаб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вершины Корковаду широким жестом распростертых рук обнимает город статуя Христа-Спасителя. Монтаж исполинского памятника весом более 1000 тонн завершился 12 октября 1931 года – с тех пор он является символом не только Рио-де-Жанейро, но и всей Бразилии. Идея же увенчать Корковаду 30-метровой статуей Христа-Спасителя зародилась еще в начале 1920-х годов, когда отмечалось столетие независимости Бразилии. По замыслу победителя конкурса Эктора да Силва-Кошта Христос распростер руки, словно благословляя весь город. На вершину Корковаду регулярно ходит фуникул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а Корковаду в Рио-де-Жаней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9320" y="1349280"/>
            <a:ext cx="7040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1-02-08T18:11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f0000000000010243100207f6000400038000</vt:lpwstr>
  </property>
  <property fmtid="{D5CDD505-2E9C-101B-9397-08002B2CF9AE}" pid="3" name="Version">
    <vt:r8>1</vt:r8>
  </property>
</Properties>
</file>