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A9F-1F83-4B22-8593-286FF126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6AE-B053-416C-B265-818A061B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287-0AC0-4F59-9EC8-96E93C55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CF1-09F4-41BF-AB36-DA2C37C2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4E6-41F6-424D-8A68-C0C3CA01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08F-E1B9-4321-B4DC-CE341F85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94A-5076-4113-B473-AEA668E4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23C-73A3-4640-AC43-23A94BC6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1C1-9E7E-4F75-A12B-2B12FE06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1BA-80F6-4001-9C0B-4411705D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BCC-537F-492C-A62D-86CE5DF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B23-D861-42D7-94A2-C239427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5393-3333-4663-9D0F-1D77DD0EF2A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3E69-0A14-4466-8327-8EC88C59D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7;&#1080;&#1090;&#1072;&#1083;&#1080;&#1079;&#1084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%28&#1086;&#1073;&#1088;&#1072;&#1079;&#1086;&#1074;&#1072;&#1085;&#1080;&#1077;%29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%28&#1101;&#1082;&#1086;&#1085;&#1086;&#1084;&#1080;&#1082;&#1072;%2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49C2-3612-4942-95D5-297B83AC706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питализ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4693-C98E-4320-B954-F8CE8AB6B0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57120" y="1000080"/>
            <a:ext cx="8286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3CD4-0434-46D6-A584-23AB9370DC5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28760" y="1028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BB65-037B-4289-83FF-760807BD21A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экономический рост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эффективности и производительности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5270-3E97-400F-822E-DBF64DA3201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59AC-08BE-4E95-B9C7-220834F6A3C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C493-FA42-4984-A200-ABF787276DE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4C5C-B0C1-4A89-BBAD-CB2417A44BE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2634-1C65-45A0-9028-B8ABEEBCF76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B2AA-B871-492E-9562-D5F53BA57F0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F237-FFC1-4CD4-8FEB-FE8CEB58393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14280"/>
          <a:ext cx="8229600" cy="3978360"/>
        </p:xfrm>
        <a:graphic>
          <a:graphicData uri="http://schemas.openxmlformats.org/drawingml/2006/table">
            <a:tbl>
              <a:tblPr/>
              <a:tblGrid>
                <a:gridCol w="1757520"/>
                <a:gridCol w="153504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бу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8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CB9A-645B-4492-A39E-2C32D4CEDF8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56437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расчет на свою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C04D-C122-4EB8-A158-BD8030C7605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E9A4-87C6-468F-9863-2F53D8C2F95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5010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"/>
          <p:cNvPicPr/>
          <p:nvPr/>
        </p:nvPicPr>
        <p:blipFill>
          <a:blip r:embed="rId6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г"/>
          <p:cNvPicPr/>
          <p:nvPr/>
        </p:nvPicPr>
        <p:blipFill>
          <a:blip r:embed="rId7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6B6C-69BE-40A6-B542-12A0806BF7B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E:\Мои документы\Анимационные картинки для презентаций. Часть 2\Люди\688eefce77194fac99ba5bb0fb6fb63a.gif"/>
          <p:cNvPicPr/>
          <p:nvPr/>
        </p:nvPicPr>
        <p:blipFill>
          <a:blip r:embed="rId5"/>
          <a:stretch/>
        </p:blipFill>
        <p:spPr>
          <a:xfrm>
            <a:off x="3571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E:\Мои документы\Анимационные картинки для презентаций. Часть 2\Люди\medical_41.gif"/>
          <p:cNvPicPr/>
          <p:nvPr/>
        </p:nvPicPr>
        <p:blipFill>
          <a:blip r:embed="rId6"/>
          <a:stretch/>
        </p:blipFill>
        <p:spPr>
          <a:xfrm>
            <a:off x="2643120" y="2357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E:\Мои документы\Анимационные картинки для презентаций. Часть 2\Люди\ballerina_tanec.gif"/>
          <p:cNvPicPr/>
          <p:nvPr/>
        </p:nvPicPr>
        <p:blipFill>
          <a:blip r:embed="rId7"/>
          <a:stretch/>
        </p:blipFill>
        <p:spPr>
          <a:xfrm>
            <a:off x="5715000" y="2286000"/>
            <a:ext cx="281772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E:\Мои документы\Анимационные картинки для презентаций. Часть 2\Люди\повар.gif"/>
          <p:cNvPicPr/>
          <p:nvPr/>
        </p:nvPicPr>
        <p:blipFill>
          <a:blip r:embed="rId8"/>
          <a:stretch/>
        </p:blipFill>
        <p:spPr>
          <a:xfrm>
            <a:off x="2928960" y="4500720"/>
            <a:ext cx="1000080" cy="19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E:\Мои документы\Анимационные картинки для презентаций. Часть 2\Люди\почтальон.gif"/>
          <p:cNvPicPr/>
          <p:nvPr/>
        </p:nvPicPr>
        <p:blipFill>
          <a:blip r:embed="rId9"/>
          <a:stretch/>
        </p:blipFill>
        <p:spPr>
          <a:xfrm>
            <a:off x="1000080" y="4484520"/>
            <a:ext cx="1357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5693-6DB8-461E-9413-D55D2DA5E8C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г"/>
          <p:cNvPicPr/>
          <p:nvPr/>
        </p:nvPicPr>
        <p:blipFill>
          <a:blip r:embed="rId1"/>
          <a:stretch/>
        </p:blipFill>
        <p:spPr>
          <a:xfrm>
            <a:off x="292896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г"/>
          <p:cNvPicPr/>
          <p:nvPr/>
        </p:nvPicPr>
        <p:blipFill>
          <a:blip r:embed="rId2"/>
          <a:stretch/>
        </p:blipFill>
        <p:spPr>
          <a:xfrm>
            <a:off x="4429080" y="5921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262B-F749-462F-8D65-15A67E65012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D5DB-8935-4E24-A7FA-DC77CD9D38D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г"/>
          <p:cNvPicPr/>
          <p:nvPr/>
        </p:nvPicPr>
        <p:blipFill>
          <a:blip r:embed="rId4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г"/>
          <p:cNvPicPr/>
          <p:nvPr/>
        </p:nvPicPr>
        <p:blipFill>
          <a:blip r:embed="rId5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96B1-CD50-4DF4-B81F-EF029B0DFDB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0:52Z</dcterms:created>
  <dc:creator>Loner-XP</dc:creator>
  <dc:description/>
  <dc:language>en-US</dc:language>
  <cp:lastModifiedBy>Loner-XP</cp:lastModifiedBy>
  <dcterms:modified xsi:type="dcterms:W3CDTF">2011-03-17T19:07:3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50300207f7000400038000</vt:lpwstr>
  </property>
</Properties>
</file>