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6ED-B038-487C-9FCA-8A85702D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A33-EE4F-4339-8E82-668ED703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845-5B98-4E25-9454-ECEAB522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6A4-7E70-41F3-AB85-0728D744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655-DA9C-4298-9560-8E770FAE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EAE-6871-4BB6-BC79-2FD85D86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334-A0EA-41E6-A432-D7593EA8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336-C9DA-430C-A0CB-58EB6001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B18-7E92-428E-9756-804EAE6A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DB2-2E20-4380-B62C-3B609DEF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07A-B192-436C-8002-AE6B6AC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1E8-432B-410D-9E13-19BBC46E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E32-DE69-46A2-9AA5-418042D6B35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179D-AB19-4220-AFAB-B02145241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7;&#1080;&#1090;&#1072;&#1083;&#1080;&#1079;&#1084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%28&#1086;&#1073;&#1088;&#1072;&#1079;&#1086;&#1074;&#1072;&#1085;&#1080;&#1077;%29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%28&#1101;&#1082;&#1086;&#1085;&#1086;&#1084;&#1080;&#1082;&#1072;%2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DB8B-193E-46DA-ABAA-2F96B0023C2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питализ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14C-4A3C-43CD-9D12-4C95D45621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57120" y="1000080"/>
            <a:ext cx="8286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C391-CD89-4B22-A01B-2C76BE59C23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28760" y="1028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853A-EFD9-44C2-AB39-E0C0DAF8832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экономический рост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эффективности и производительности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D4AD-F1FE-4D58-971C-DF727365DA7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4BE-0D93-448D-B99C-7234D023E14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AAD9-9F1E-4D5F-8211-94B838035BA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6C1B-9DC4-43A1-981A-8CA96A7AA11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3769-2F06-43BA-9671-F3FB7A7F210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9EFA-6108-4ED6-940A-ECEC2381EBA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AD8A-7236-4956-A901-5E311CE54F1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14280"/>
          <a:ext cx="8229600" cy="3978360"/>
        </p:xfrm>
        <a:graphic>
          <a:graphicData uri="http://schemas.openxmlformats.org/drawingml/2006/table">
            <a:tbl>
              <a:tblPr/>
              <a:tblGrid>
                <a:gridCol w="1757520"/>
                <a:gridCol w="153504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бу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14D7-4CB6-4D34-A5CC-8ADEE17C7A2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56437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расчет на свою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0B94-C208-40CE-9C53-E0D6598BC48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806A-E8EE-451B-92C4-8301003F74A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5010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"/>
          <p:cNvPicPr/>
          <p:nvPr/>
        </p:nvPicPr>
        <p:blipFill>
          <a:blip r:embed="rId6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г"/>
          <p:cNvPicPr/>
          <p:nvPr/>
        </p:nvPicPr>
        <p:blipFill>
          <a:blip r:embed="rId7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CF6D-61EC-4B94-801C-F4FA7F42367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E:\Мои документы\Анимационные картинки для презентаций. Часть 2\Люди\688eefce77194fac99ba5bb0fb6fb63a.gif"/>
          <p:cNvPicPr/>
          <p:nvPr/>
        </p:nvPicPr>
        <p:blipFill>
          <a:blip r:embed="rId5"/>
          <a:stretch/>
        </p:blipFill>
        <p:spPr>
          <a:xfrm>
            <a:off x="3571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E:\Мои документы\Анимационные картинки для презентаций. Часть 2\Люди\medical_41.gif"/>
          <p:cNvPicPr/>
          <p:nvPr/>
        </p:nvPicPr>
        <p:blipFill>
          <a:blip r:embed="rId6"/>
          <a:stretch/>
        </p:blipFill>
        <p:spPr>
          <a:xfrm>
            <a:off x="2643120" y="2357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E:\Мои документы\Анимационные картинки для презентаций. Часть 2\Люди\ballerina_tanec.gif"/>
          <p:cNvPicPr/>
          <p:nvPr/>
        </p:nvPicPr>
        <p:blipFill>
          <a:blip r:embed="rId7"/>
          <a:stretch/>
        </p:blipFill>
        <p:spPr>
          <a:xfrm>
            <a:off x="5715000" y="2286000"/>
            <a:ext cx="281772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E:\Мои документы\Анимационные картинки для презентаций. Часть 2\Люди\повар.gif"/>
          <p:cNvPicPr/>
          <p:nvPr/>
        </p:nvPicPr>
        <p:blipFill>
          <a:blip r:embed="rId8"/>
          <a:stretch/>
        </p:blipFill>
        <p:spPr>
          <a:xfrm>
            <a:off x="2928960" y="4500720"/>
            <a:ext cx="1000080" cy="19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E:\Мои документы\Анимационные картинки для презентаций. Часть 2\Люди\почтальон.gif"/>
          <p:cNvPicPr/>
          <p:nvPr/>
        </p:nvPicPr>
        <p:blipFill>
          <a:blip r:embed="rId9"/>
          <a:stretch/>
        </p:blipFill>
        <p:spPr>
          <a:xfrm>
            <a:off x="1000080" y="4484520"/>
            <a:ext cx="1357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A4B0-F7F7-4EB3-8580-FC66B20C499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г"/>
          <p:cNvPicPr/>
          <p:nvPr/>
        </p:nvPicPr>
        <p:blipFill>
          <a:blip r:embed="rId1"/>
          <a:stretch/>
        </p:blipFill>
        <p:spPr>
          <a:xfrm>
            <a:off x="292896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г"/>
          <p:cNvPicPr/>
          <p:nvPr/>
        </p:nvPicPr>
        <p:blipFill>
          <a:blip r:embed="rId2"/>
          <a:stretch/>
        </p:blipFill>
        <p:spPr>
          <a:xfrm>
            <a:off x="4429080" y="5921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820D-3469-412D-AD33-11607E08B4F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3C63-F7A0-4AA6-BEE4-1CC92F98F80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г"/>
          <p:cNvPicPr/>
          <p:nvPr/>
        </p:nvPicPr>
        <p:blipFill>
          <a:blip r:embed="rId4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г"/>
          <p:cNvPicPr/>
          <p:nvPr/>
        </p:nvPicPr>
        <p:blipFill>
          <a:blip r:embed="rId5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296D-80D1-40CC-AAE5-C9939FFACEF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0:52Z</dcterms:created>
  <dc:creator>Loner-XP</dc:creator>
  <dc:description/>
  <dc:language>en-US</dc:language>
  <cp:lastModifiedBy>Loner-XP</cp:lastModifiedBy>
  <dcterms:modified xsi:type="dcterms:W3CDTF">2011-03-17T19:07:3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50300207f7000400038000</vt:lpwstr>
  </property>
</Properties>
</file>