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758-999A-4EA0-B1AE-2C7915DA3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53F-75BB-44AB-8615-E56EA02EC8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8F5C-1CFC-4E68-A0C8-083FCB976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AF0A-EAD8-4FBD-9B7D-A1F6699C78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E3F-627C-4C74-B753-01C5162282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292-4A74-4047-AE1E-0D83DC10D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FBC-1E0F-43ED-A3FD-9D6698B8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41E-D4C3-4605-8C1D-EF8DA4C8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AB5-05A1-46B5-8C71-207741D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70F-C226-4F0E-8631-5D3826B9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4D0A-E207-4539-BB1F-842B1627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C00-36F1-443C-9C2C-873A282A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BBB7-7746-4E8E-B6B2-8CE16BA2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8CE-3FA3-4675-9029-CFAEC2AD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04BE-1B32-478E-9534-B27E634C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85F0-1781-4877-B2C3-7E17DFDE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88F0-9163-480A-BB51-D10A98B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F37-F257-44CD-8AA7-5980BA1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CCB-156A-4506-A22F-2DEF410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11FB-64EB-41C0-8993-FE33F98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3C6-D0D6-43FB-955C-2E22436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529E-E4F2-4E16-8639-4D292CAB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3B89-B823-483E-A984-4A3A154C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3FC-DE77-4F43-83F7-F916E71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60B-D4F1-43EF-8DBB-0801B41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6A8-A01F-4B4D-B5A6-65ADFC65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8CD-067C-4746-8787-26036779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84A-23F9-48EB-AFCC-BF6B545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167-CAE9-4A55-9725-B97427F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DCA-85E0-4B87-A621-6538EA0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E90-B391-4656-8026-BF2014B04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C999-2C72-4E8A-A55B-BFE3BB347B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Я гражданин России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70581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68400" y="1844640"/>
            <a:ext cx="7205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2840" y="475920"/>
            <a:ext cx="78073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оссийская Федера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88880" y="1557360"/>
            <a:ext cx="818676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57680" y="1939680"/>
            <a:ext cx="3726000" cy="1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2840" y="709200"/>
            <a:ext cx="78073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еспублика Алта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98600" y="1633680"/>
            <a:ext cx="6437160" cy="4890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64160" y="1620360"/>
            <a:ext cx="4022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105228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22 по 1947 годы Республика Алтай называлась Ойрот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48 по 1990 годы - Горно-Алтай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 июля 1991 г. область преобразована в Горно-Алтайскую республику в составе Российской Федерации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в мае 1992 г. переименована в Республику Алтай.</a:t>
            </a: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 Алтай, как субъект Российской Федерации имеет свою Конституцию, принятую 7 июня 1997 года, государственные символы - флаг и герб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ыми языками в республике являются равноправные русский и алтайский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История назв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55640" y="33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рно-Алтайск – столица нашей республ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4249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76720" y="2550960"/>
            <a:ext cx="36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толице проживает 56 тыс. человек. Историческое название нашей столицы – Улала. Городом Улала стала 1928 го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 Горно- Алтайск получил в 1948 году. Столицей Республики Алтай – 1992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73200" y="404640"/>
            <a:ext cx="78073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Флаг и герб Республики Алта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46280" y="1940040"/>
            <a:ext cx="37256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421160" y="1754280"/>
            <a:ext cx="394488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рб Республики Алта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утвержден 6 октября 1993 год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421160" y="1197000"/>
            <a:ext cx="4183200" cy="489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673200" y="1341360"/>
            <a:ext cx="35719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Административные районы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08720" y="1052640"/>
            <a:ext cx="3178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Чо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Чемальск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Кош-Агач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4.Турачак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5.Майм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6.Онгуда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7.Улаг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8.Усть-К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Усть-Кокс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0.Шебалин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5256000" cy="475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250920" y="6093000"/>
            <a:ext cx="8497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544680"/>
            <a:ext cx="780876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Шебалинский район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2840" y="1987560"/>
            <a:ext cx="78087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946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32840" cy="61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Мое  село - Акте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880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2:33:39Z</dcterms:created>
  <dc:creator>Denver</dc:creator>
  <dc:description/>
  <dc:language>en-US</dc:language>
  <cp:lastModifiedBy>людмила</cp:lastModifiedBy>
  <dcterms:modified xsi:type="dcterms:W3CDTF">2015-08-31T15:12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b0000000000010261200207f7000400038000</vt:lpwstr>
  </property>
</Properties>
</file>