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3F7D-F1D2-463C-B96B-C15EB61D57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E5DF-25C6-49FA-A8DA-433412D8F0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1061640" y="4349880"/>
            <a:ext cx="4721400" cy="34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5E09-756B-4E43-A7EF-790F0714E8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061640" y="4349880"/>
            <a:ext cx="4721400" cy="34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AD9A-DB69-4DD2-85D1-3F9B191026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3436-0A94-42AF-BA3F-F0A606DF40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06164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4116-7CF0-4350-A445-341DED9564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07B-97D2-4A25-B8C7-3AF49063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A61-14E4-4E55-A94D-092137F2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B0D7-C42D-4AE7-A54E-3A8B2158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BC6-830F-4EE2-AE85-2B2C394D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6CD7-92FC-4DC5-A90F-6635352B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9F70-CE57-42A3-B13D-7CFDA65F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3FE9-8A0B-4269-80C1-65552237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D9A4-E0DA-4583-B48B-99151C13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C4D7-623D-4B0E-9B1B-7D559237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A0F5-93A0-4526-98B4-B9AE1C3D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6847-3DBB-4E0D-9C63-A6AC2531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E264-B66A-4687-841A-FD85D867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7E1C-E065-48FE-8A89-965BF165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B415-756E-49AE-AD2F-BC8F8281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DEF6-9DA7-4089-A9CF-029E1921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A380-D2A3-4233-BD76-EEF6BBF5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4D5C-7B5A-41DD-BE24-17DDEB06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07B9-111C-4905-9B4A-F8E95D0D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64A5-006A-483F-B145-855F7EFA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A55B-9847-4129-887D-F841DE95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7E90-A4F2-41CD-9A65-0EE8EC42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DC8D-8839-401B-AB25-0DB22FDE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D1EE-3853-4E40-8DEB-B3BE45D7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8595-9B68-466B-AD8B-0045F1FB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DD23-7460-404A-BECF-BF62C57DB6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9C51-0421-4AB6-AE98-433C79978A1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Я гражданин России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42920" y="475920"/>
            <a:ext cx="705816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968400" y="1844640"/>
            <a:ext cx="72057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2840" y="475920"/>
            <a:ext cx="780732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8040" indent="0" algn="ctr">
              <a:lnSpc>
                <a:spcPct val="98000"/>
              </a:lnSpc>
              <a:buNone/>
              <a:tabLst>
                <a:tab algn="l" pos="0"/>
                <a:tab algn="l" pos="3380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Российская Федерац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88880" y="1557360"/>
            <a:ext cx="8186760" cy="5111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57680" y="1939680"/>
            <a:ext cx="3726000" cy="1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2840" y="709200"/>
            <a:ext cx="780732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8040" indent="0" algn="ctr">
              <a:lnSpc>
                <a:spcPct val="98000"/>
              </a:lnSpc>
              <a:buNone/>
              <a:tabLst>
                <a:tab algn="l" pos="0"/>
                <a:tab algn="l" pos="3380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Республика Алта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398600" y="1633680"/>
            <a:ext cx="6437160" cy="48909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64160" y="1620360"/>
            <a:ext cx="40226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105228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 1922 по 1947 годы Республика Алтай называлась Ойротская автономная область,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 1948 по 1990 годы - Горно-Алтайская автономная область,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3 июля 1991 г. область преобразована в Горно-Алтайскую республику в составе Российской Федерации,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а в мае 1992 г. переименована в Республику Алтай.</a:t>
            </a:r>
            <a:br>
              <a:rPr sz="18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спублика Алтай, как субъект Российской Федерации имеет свою Конституцию, принятую 7 июня 1997 года, государственные символы - флаг и герб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сударственными языками в республике являются равноправные русский и алтайский.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2216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История названи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755640" y="333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Горно-Алтайск – столица нашей республи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897440" cy="424944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2"/>
          <p:cNvSpPr/>
          <p:nvPr/>
        </p:nvSpPr>
        <p:spPr>
          <a:xfrm>
            <a:off x="5076720" y="2550960"/>
            <a:ext cx="36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толице проживает 56 тыс. человек. Историческое название нашей столицы – Улала. Городом Улала стала 1928 год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звание Горно- Алтайск получил в 1948 году. Столицей Республики Алтай – 1992 год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673200" y="404640"/>
            <a:ext cx="78073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Флаг и герб Республики Алта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46280" y="1940040"/>
            <a:ext cx="37256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421160" y="1754280"/>
            <a:ext cx="3944880" cy="43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ерб Республики Алта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утвержден 6 октября 1993 года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4421160" y="1197000"/>
            <a:ext cx="4183200" cy="489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2"/>
          <a:stretch/>
        </p:blipFill>
        <p:spPr>
          <a:xfrm>
            <a:off x="673200" y="1341360"/>
            <a:ext cx="357192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Административные районы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508720" y="1052640"/>
            <a:ext cx="3178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Чойски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Чемальски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Кош-Агачский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4.Турачакский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5.Маймински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6.Онгудайски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7.Улаганский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8.Усть-Канский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.Усть-Коксински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10.Шебалин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5256000" cy="4751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3"/>
          <a:stretch/>
        </p:blipFill>
        <p:spPr>
          <a:xfrm>
            <a:off x="250920" y="6093000"/>
            <a:ext cx="849780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2840" y="544680"/>
            <a:ext cx="780876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4800" spc="-1" strike="noStrike">
                <a:solidFill>
                  <a:srgbClr val="333333"/>
                </a:solidFill>
                <a:latin typeface="Times New Roman"/>
              </a:rPr>
              <a:t>Шебалинский район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72840" y="1987560"/>
            <a:ext cx="780876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09460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539640"/>
            <a:ext cx="8232840" cy="61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Мое  село - Акте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5688000" cy="5111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02:33:39Z</dcterms:created>
  <dc:creator>Denver</dc:creator>
  <dc:description/>
  <dc:language>en-US</dc:language>
  <cp:lastModifiedBy>людмила</cp:lastModifiedBy>
  <dcterms:modified xsi:type="dcterms:W3CDTF">2015-08-31T15:12:05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0b0000000000010261200207f7000400038000</vt:lpwstr>
  </property>
</Properties>
</file>