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8551-0B97-474B-B296-B1A7AFF19A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EA43-F241-4462-AB24-23D83606B2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061640" y="4349880"/>
            <a:ext cx="4721400" cy="34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EE5C-9D19-4282-9EFC-27C772AF76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061640" y="4349880"/>
            <a:ext cx="4721400" cy="34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F94F-9240-4747-82D7-376222AC61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13C8-BC25-4FF7-91BB-39A347B986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06164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425B-B963-4896-9C04-9BFC411376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401-37BC-4D6D-A3B2-84B8F1F3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4AE8-1714-461D-B389-882FF6CD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703-1F81-4031-A14B-154E6A78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72B0-C50E-4C7D-9714-B4B9691B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1808-37E6-4D20-8D96-8A50C0E9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F050-28EF-4C15-B828-D61BFEF2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9471-2412-4634-B477-3AC6C330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4D45-8ADF-4A22-85F4-BC47BA19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A583-EE44-4748-BD94-8B2676D0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EFD3-EE6F-420D-8A8F-DD2FDB93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079C-2A80-4CA4-9CB3-8E2CADBF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2E4-DA96-409C-B8A7-CDE54523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1204-4D24-46E1-B9F2-74EE3F57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6028-0422-4B53-BFD0-FDA4F54B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30A2-3CF6-4A23-9E89-67064F92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013C-D855-42D1-93E6-7A07A58E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2E06-2840-48F9-9F65-6EB0CCEF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0E7-E118-4C05-9683-538DFFD3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A60-5113-4073-BDE5-FDAAC6BC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99F-FAF2-4BCB-B49E-B02DB647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362-0538-4ED3-B852-3D64DDB5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6CC-4EC8-422C-BE9E-05D5DDDD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740-24C8-42ED-82F3-65533055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892-0DF9-44EA-B962-B985FCAC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5A19-41D8-4F8D-8AEB-37FAE445DC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B2E7-3D8D-4A0E-9348-356D73CFAC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Я гражданин России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42920" y="475920"/>
            <a:ext cx="705816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968400" y="1844640"/>
            <a:ext cx="72057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2840" y="475920"/>
            <a:ext cx="780732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8040" indent="0" algn="ctr">
              <a:lnSpc>
                <a:spcPct val="98000"/>
              </a:lnSpc>
              <a:buNone/>
              <a:tabLst>
                <a:tab algn="l" pos="0"/>
                <a:tab algn="l" pos="3380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Российская Федерац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88880" y="1557360"/>
            <a:ext cx="8186760" cy="5111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57680" y="1939680"/>
            <a:ext cx="3726000" cy="1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2840" y="709200"/>
            <a:ext cx="780732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8040" indent="0" algn="ctr">
              <a:lnSpc>
                <a:spcPct val="98000"/>
              </a:lnSpc>
              <a:buNone/>
              <a:tabLst>
                <a:tab algn="l" pos="0"/>
                <a:tab algn="l" pos="3380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Республика Алта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398600" y="1633680"/>
            <a:ext cx="6437160" cy="48909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64160" y="1620360"/>
            <a:ext cx="40226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105228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 1922 по 1947 годы Республика Алтай называлась Ойротская автономная область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 1948 по 1990 годы - Горно-Алтайская автономная область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3 июля 1991 г. область преобразована в Горно-Алтайскую республику в составе Российской Федерации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а в мае 1992 г. переименована в Республику Алтай.</a:t>
            </a:r>
            <a:br>
              <a:rPr sz="18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спублика Алтай, как субъект Российской Федерации имеет свою Конституцию, принятую 7 июня 1997 года, государственные символы - флаг и герб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сударственными языками в республике являются равноправные русский и алтайский.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2216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История назван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755640" y="333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орно-Алтайск – столица нашей республ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897440" cy="42494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5076720" y="2550960"/>
            <a:ext cx="36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толице проживает 56 тыс. человек. Историческое название нашей столицы – Улала. Городом Улала стала 1928 год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звание Горно- Алтайск получил в 1948 году. Столицей Республики Алтай – 1992 го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73200" y="404640"/>
            <a:ext cx="78073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Флаг и герб Республики Алта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46280" y="1940040"/>
            <a:ext cx="37256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421160" y="1754280"/>
            <a:ext cx="3944880" cy="43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рб Республики Алта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утвержден 6 октября 1993 года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4421160" y="1197000"/>
            <a:ext cx="4183200" cy="489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673200" y="1341360"/>
            <a:ext cx="357192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Административные районы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508720" y="1052640"/>
            <a:ext cx="3178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Чойски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Чемальски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Кош-Агачский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4.Турачакский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5.Маймински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6.Онгудайски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7.Улаганский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8.Усть-Канский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Усть-Коксински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10.Шебалин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5256000" cy="4751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250920" y="6093000"/>
            <a:ext cx="849780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2840" y="544680"/>
            <a:ext cx="780876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Times New Roman"/>
              </a:rPr>
              <a:t>Шебалинский район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72840" y="1987560"/>
            <a:ext cx="78087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09460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539640"/>
            <a:ext cx="8232840" cy="61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Мое  село - Акте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688000" cy="5111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02:33:39Z</dcterms:created>
  <dc:creator>Denver</dc:creator>
  <dc:description/>
  <dc:language>en-US</dc:language>
  <cp:lastModifiedBy>людмила</cp:lastModifiedBy>
  <dcterms:modified xsi:type="dcterms:W3CDTF">2015-08-31T15:12:05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b0000000000010261200207f7000400038000</vt:lpwstr>
  </property>
</Properties>
</file>