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24A5-E016-40F2-96CC-FE581EF2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89A7-7A72-4B4E-BE52-575549B7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C64-40B9-4052-9775-7D169D9D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FEE-A65E-4247-B519-D0D164D7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C6A-2629-4355-9EB5-7A1BBA61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495-76B0-4773-ADB6-C28C2570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265B-61FF-428D-B96A-06969499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8B8-1DBB-4215-8AAB-2330A7A0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8C7-4F3D-420F-829A-36FA1BCB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D3C-7C7B-4B01-9155-8E09E45D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6FF-82A3-481C-8DBE-4B719FFD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05DB-206A-4A9C-A9D6-48FF3104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07C2-3DE5-4380-ADEE-21F7BB77E5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3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7"/>
          <p:cNvSpPr/>
          <p:nvPr/>
        </p:nvSpPr>
        <p:spPr>
          <a:xfrm>
            <a:off x="1000080" y="2571840"/>
            <a:ext cx="73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Рельеф дна Мирового океан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3071880" y="407196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Урок географии 6 кла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p21_2_2"/>
          <p:cNvPicPr/>
          <p:nvPr/>
        </p:nvPicPr>
        <p:blipFill>
          <a:blip r:embed="rId1"/>
          <a:stretch/>
        </p:blipFill>
        <p:spPr>
          <a:xfrm>
            <a:off x="0" y="0"/>
            <a:ext cx="9540720" cy="71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шельфе ведется добыча нефти, алмаз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фть добывают В Северном  море, Персидском и Мексиканском заливах, в России – на о.Сахалин, Каспийском , Карском и Баренцевом мо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p23_3_1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70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5712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2.Материковый склон</a:t>
            </a: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часть океанического дна, переходная от шельфа к ложу океана. Средние глубины от 140 до 3600 м. На скло­нах часто встречаются каньоны (они могут служить продолжением речных долин - Гудзон, Инд, Конго и др.) В пределах материковых склонов уменьшается мощность земной коры, исчезает гранитный слой. Для материковых склонов характерна повышенная сейсмич­ность, активны оползн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3.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Океанические котлованы</a:t>
            </a: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элементы рельефа дна океана, ограниченные материковыми склонами и подводными хребтами. Средние глубины около 5000 м, дно обычно холмистое с относительными  высотами 500-1000 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4.Срединно-океанические хребты</a:t>
            </a: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мощные горные сооружения в  пределах ложа океана, образующие общемировую систему всех океанов более 60 тыс. км, протягивающуюся по дну всех океан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7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5. Глубоководные желоба</a:t>
            </a:r>
            <a:r>
              <a:rPr b="0" lang="ru-RU" sz="2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— глубокие (5-11 км) понижения океани­ческого дна, вытянутые на несколько тыс. км при ширине до не­сколько километров, с крутыми склонами и обычно плоским и узким дном. Располагаются с внешней (океанической) стороны островной дуги, повторяя ее очертания. Наибольшую глубину имеет Мариан­ский желоб в Тихом океане - 11022 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6. Островные дуги</a:t>
            </a:r>
            <a:r>
              <a:rPr b="0" lang="ru-RU" sz="2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— молодые горные сооружения близ окраин ма­териков. Частично выступают над уровнем океана в виде гористых островов и вулканов. Для островных дуг характерны вулканизм и высокая сейсмичнос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21420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оже океана – наибольшая по площади и самая глубокая часть дн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меет сложное неоднородное строение. Ложе всех океанов пересекают СОХ –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срединно-океанические хребт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х общая протяженность в 2 раза превышает длину экватора и составляет 80 000 км. Средняя ширина океанических хребтов – 2,5 тыс. км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тдельные участки хребтов возвышаются над поверхностью в виде островов – Исландия, Св. Елены, Тристан-да-Кунь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щая площадь СОХ сопоставима с площадью всех материк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центре СОХ образуется рифт – длинное узкое ущелье, глубиной 1 500 м. трещина. Разлом в СО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Глубоководные желоб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длинные узкие океанические впадины. Ширина желоба– 100-200 м, а длина тыс. к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ивительно, но даже самый глубокий желоб 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риа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11022 м) обита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p21_2_1"/>
          <p:cNvPicPr/>
          <p:nvPr/>
        </p:nvPicPr>
        <p:blipFill>
          <a:blip r:embed="rId1"/>
          <a:stretch/>
        </p:blipFill>
        <p:spPr>
          <a:xfrm>
            <a:off x="0" y="0"/>
            <a:ext cx="9144000" cy="71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 дна Атлантического оке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17760" y="3222720"/>
          <a:ext cx="6108480" cy="41256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412560">
                <a:tc>
                  <a:txBody>
                    <a:bodyPr lIns="3042000" rIns="3042000" tIns="17640" bIns="176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26920" y="2714760"/>
            <a:ext cx="7886880" cy="20714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4481640" y="13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642960" y="25718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ель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7286760" y="235728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ель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 дня Тихого оке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1725480" y="2714760"/>
            <a:ext cx="5859720" cy="257148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1000080" y="257184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тров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2857680" y="52149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ло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7215120" y="3714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л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7358040" y="27860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ель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формировать представление о формах рельефа дна океана, та­ких как котловина, шельф, склон, сок, глубоководные желоба, ост­ровные ду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Научить определять по карте глубину океана по цвет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Научить чертить профиль дна оке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583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ктическая работ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«Выявление изменений глубины океана»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2560" y="1356840"/>
            <a:ext cx="8729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м предстоит начертить профиль дна Индийского океана, и у вас должен получиться чертеж не хуже, чем схемы дна Атлантического и Тихого океанов, а затем сравните, на какой океан похоже ложе Индийского океана по широте? Откройте атласы. Найдите шкалу глуб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ертим систему координат, ноль находится в верхнем лево углу. По горизонтали - длина цветовых отрезков. По вертикали -глубина в метр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рем линейку и отмеряем первый цветовой отрезок светло-голубого цвета. Отмечаем его по горизонтали. Посмотрите на  шкалу, первый цвет какой глубины? Находим эту глубину по вертикали и проводим отрез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вершите все эти операции, со вторым и третьим цветовым отрез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едините получившиеся отрезки плавными лини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кончив самостоятельно дальнейшую работу, сотрите лишние линии. Сделайте вывод, на какой океан похож ваш профи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сточки сдайт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асибо за работ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071800" y="857160"/>
            <a:ext cx="4429080" cy="265752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000160" y="4071960"/>
            <a:ext cx="5072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пишите  циф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изучают рельеф дн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ньше глубину измеряли с помощью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ЛОТ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(старинный прибор , состоящий из троса с грузилом на конце)каната или троса, так длина троса с грузом у Магеллана составляла  370 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временные ученые для измерения глубин используют прибор 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ЭХОЛОТ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Прибор для изучения рельефа дна МО. В основе действия – принцип измерения времени, которое требуется звуку, чтобы дойти с борта корабля до дна и вернуться назад(скорость распространения звука в воде 1500 м/сек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p20_2_1"/>
          <p:cNvPicPr/>
          <p:nvPr/>
        </p:nvPicPr>
        <p:blipFill>
          <a:blip r:embed="rId1"/>
          <a:stretch/>
        </p:blipFill>
        <p:spPr>
          <a:xfrm>
            <a:off x="0" y="-9360"/>
            <a:ext cx="9325080" cy="69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ая карта океанов появилась после кругосветной экспедиции британского корабля «Челленджер» в 1872-1876г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педиция «Челленджера» опровергла представление о том, что океаническое дно_- это ровное песчаное пространство, усеянное остров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изучении дна океана помогает и метод глубинного бур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0168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70c0"/>
                </a:solidFill>
                <a:uFillTx/>
                <a:latin typeface="Calibri"/>
              </a:rPr>
              <a:t>Основные части дна М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материковая отмель </a:t>
            </a:r>
            <a:r>
              <a:rPr b="0" lang="ru-RU" sz="3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шельф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 – подводная окраина матери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мель, подводная окраина материка, прилегающая к берегам суши и отмечающаяся общим с ней геологическим строением (в частности, континентальной земной корой). Ширина от нескольких километров до 1200-1500 км, общая площадь около 8% от площади Мирового океана. Нижняя граница на глубине от 50 до 100 к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пример, в Южно-Курильской котловине Охотского моря ширина шельфа – 1500 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шельфовом мелководье вода хорошо прогревается , реки приносят с суши питательные вещества, развивается ПЛАНКТОН, а следовательно здесь много рыбы. Именно шельфовая зона МО да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0 % мирового улова рыб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3:55:02Z</dcterms:created>
  <dc:creator>пользователь</dc:creator>
  <dc:description/>
  <dc:language>en-US</dc:language>
  <cp:lastModifiedBy>пользователь</cp:lastModifiedBy>
  <dcterms:modified xsi:type="dcterms:W3CDTF">2009-02-01T14:50:36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50000000000010250600207f7000400038000</vt:lpwstr>
  </property>
</Properties>
</file>