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F63-988E-45E6-AC4A-DE966312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3E3-BD84-46A0-B11B-AF70DBE9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88C-3460-40CD-8A12-52376E58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AC4-E4B8-4926-9956-4E619D12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F69F7-448F-4C53-984A-850B9DC5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A0D8E-13CB-44D1-89C8-319B4489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BB3C9-8355-4AB4-B1F5-B29225A2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19532-F28E-4346-8D6E-5E53D663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E8FE1-8203-4C01-B3C2-57D54BD8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3CC33-F323-4DD8-99F2-3696420E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C311D-B1F2-4806-8883-3A3C3E65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55B-89B7-488F-A3E7-84D89417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6B97E-7362-4EA4-934E-7B0069D0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04984-A007-4A85-A287-C8C6E4AB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4F1D1-9665-424A-9C71-EA5D294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D4344-F48F-40DC-906C-C33607B0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3A487-D92B-402F-9589-025F6B4E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818-8322-4101-8D06-B77E355C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1E9-084B-4C1B-86A2-D06C4BC2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BAC-E598-4E03-B205-E7DED318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9F7-152F-49DD-83A7-AEE215F8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7B5-D533-4DF1-A648-3A9DB4E5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539-1B86-4C22-91BA-9A1584C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697-7814-4459-910A-7E794D98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B5DE-452A-45EE-91F1-108E75214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8B54-BC11-4F0E-9AD8-71DB80023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dic.nsf/bse/129116/&#1057;&#1064;&#1040;" TargetMode="External"/><Relationship Id="rId3" Type="http://schemas.openxmlformats.org/officeDocument/2006/relationships/hyperlink" Target="http://dic.academic.ru/dic.nsf/bse/84981/&#1044;&#1083;&#1080;&#1085;&#1072;" TargetMode="External"/><Relationship Id="rId4" Type="http://schemas.openxmlformats.org/officeDocument/2006/relationships/hyperlink" Target="http://dic.academic.ru/dic.nsf/bse/120350/&#1055;&#1080;&#1076;&#1084;&#1086;&#1085;&#1090;" TargetMode="External"/><Relationship Id="rId5" Type="http://schemas.openxmlformats.org/officeDocument/2006/relationships/hyperlink" Target="http://dic.academic.ru/dic.nsf/bse/65867/&#1040;&#1090;&#1083;&#1072;&#1085;&#1090;&#1080;&#1095;&#1077;&#1089;&#1082;&#1080;&#1081;" TargetMode="External"/><Relationship Id="rId6" Type="http://schemas.openxmlformats.org/officeDocument/2006/relationships/hyperlink" Target="http://dic.academic.ru/dic.nsf/bse/140957/&#1058;&#1088;&#1077;&#1085;&#1090;&#1086;&#1085;" TargetMode="External"/><Relationship Id="rId7" Type="http://schemas.openxmlformats.org/officeDocument/2006/relationships/hyperlink" Target="http://img-2003-12.photosight.ru/01/357139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89;&#1087;&#1072;&#1085;&#1089;&#1082;&#1080;&#1081;_&#1103;&#1079;&#1099;&#1082;" TargetMode="External"/><Relationship Id="rId3" Type="http://schemas.openxmlformats.org/officeDocument/2006/relationships/hyperlink" Target="http://ru.wikipedia.org/wiki/&#1055;&#1086;&#1088;&#1090;&#1091;&#1075;&#1072;&#1083;&#1100;&#1089;&#1082;&#1080;&#1081;_&#1103;&#1079;&#1099;&#1082;" TargetMode="External"/><Relationship Id="rId4" Type="http://schemas.openxmlformats.org/officeDocument/2006/relationships/hyperlink" Target="http://ru.wikipedia.org/wiki/&#1070;&#1078;&#1085;&#1072;&#1103;_&#1040;&#1084;&#1077;&#1088;&#1080;&#1082;&#1072;" TargetMode="External"/><Relationship Id="rId5" Type="http://schemas.openxmlformats.org/officeDocument/2006/relationships/hyperlink" Target="http://ru.wikipedia.org/wiki/&#1040;&#1084;&#1072;&#1079;&#1086;&#1085;&#1082;&#1072;" TargetMode="External"/><Relationship Id="rId6" Type="http://schemas.openxmlformats.org/officeDocument/2006/relationships/hyperlink" Target="http://ru.wikipedia.org/wiki/&#1070;&#1078;&#1085;&#1099;&#1081;_&#1082;&#1086;&#1085;&#1091;&#1089;" TargetMode="External"/><Relationship Id="rId7" Type="http://schemas.openxmlformats.org/officeDocument/2006/relationships/hyperlink" Target="http://ru.wikipedia.org/wiki/&#1041;&#1088;&#1072;&#1079;&#1080;&#1083;&#1080;&#1103;" TargetMode="External"/><Relationship Id="rId8" Type="http://schemas.openxmlformats.org/officeDocument/2006/relationships/hyperlink" Target="http://ru.wikipedia.org/wiki/&#1055;&#1072;&#1088;&#1072;&#1075;&#1074;&#1072;&#1081;" TargetMode="External"/><Relationship Id="rId9" Type="http://schemas.openxmlformats.org/officeDocument/2006/relationships/hyperlink" Target="http://ru.wikipedia.org/wiki/&#1040;&#1088;&#1075;&#1077;&#1085;&#1090;&#1080;&#1085;&#1072;" TargetMode="External"/><Relationship Id="rId10" Type="http://schemas.openxmlformats.org/officeDocument/2006/relationships/hyperlink" Target="http://ru.wikipedia.org/wiki/&#1041;&#1072;&#1089;&#1089;&#1077;&#1081;&#1085;_&#1074;&#1086;&#1076;&#1086;&#1105;&#1084;&#1072;" TargetMode="External"/><Relationship Id="rId11" Type="http://schemas.openxmlformats.org/officeDocument/2006/relationships/hyperlink" Target="http://ru.wikipedia.org/wiki/&#1041;&#1072;&#1089;&#1089;&#1077;&#1081;&#1085;_&#1074;&#1086;&#1076;&#1086;&#1105;&#1084;&#1072;" TargetMode="External"/><Relationship Id="rId12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13" Type="http://schemas.openxmlformats.org/officeDocument/2006/relationships/hyperlink" Target="http://ru.wikipedia.org/wiki/&#1056;&#1072;&#1089;&#1093;&#1086;&#1076;_&#1074;&#1086;&#1076;&#1099;" TargetMode="External"/><Relationship Id="rId14" Type="http://schemas.openxmlformats.org/officeDocument/2006/relationships/hyperlink" Target="http://ru.wikipedia.org/wiki/&#1048;&#1089;&#1090;&#1086;&#1082;" TargetMode="External"/><Relationship Id="rId15" Type="http://schemas.openxmlformats.org/officeDocument/2006/relationships/hyperlink" Target="http://ru.wikipedia.org/wiki/&#1051;&#1072;-&#1055;&#1083;&#1072;&#1090;&#1072;" TargetMode="External"/><Relationship Id="rId16" Type="http://schemas.openxmlformats.org/officeDocument/2006/relationships/hyperlink" Target="http://ru.wikipedia.org/wiki/&#1051;&#1072;-&#1055;&#1083;&#1072;&#1090;&#1072;_(&#1101;&#1089;&#1090;&#1091;&#1072;&#1088;&#1080;&#1081;)" TargetMode="External"/><Relationship Id="rId17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18" Type="http://schemas.openxmlformats.org/officeDocument/2006/relationships/hyperlink" Target="http://ru.wikipedia.org/wiki/&#1041;&#1091;&#1101;&#1085;&#1086;&#1089;-&#1040;&#1081;&#1088;&#1077;&#1089;" TargetMode="External"/><Relationship Id="rId19" Type="http://schemas.openxmlformats.org/officeDocument/2006/relationships/hyperlink" Target="http://ru.wikipedia.org/wiki/&#1056;&#1086;&#1089;&#1072;&#1088;&#1080;&#1086;" TargetMode="External"/><Relationship Id="rId20" Type="http://schemas.openxmlformats.org/officeDocument/2006/relationships/hyperlink" Target="http://ru.wikipedia.org/wiki/&#1040;&#1088;&#1075;&#1077;&#1085;&#1090;&#1080;&#1085;&#1089;&#1082;&#1072;&#1103;_&#1052;&#1077;&#1089;&#1086;&#1087;&#1086;&#1090;&#1072;&#1084;&#1080;&#1103;" TargetMode="External"/><Relationship Id="rId21" Type="http://schemas.openxmlformats.org/officeDocument/2006/relationships/hyperlink" Target="http://upload.wikimedia.org/wikipedia/commons/6/61/Paranarivermap.png" TargetMode="External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8;&#1100;&#1077;&#1090;&#1077;" TargetMode="External"/><Relationship Id="rId3" Type="http://schemas.openxmlformats.org/officeDocument/2006/relationships/hyperlink" Target="http://ru.wikipedia.org/wiki/&#1055;&#1072;&#1088;&#1072;&#1085;&#1072;&#1087;&#1072;&#1085;&#1077;&#1084;&#1072;_(&#1088;&#1077;&#1082;&#1072;)" TargetMode="External"/><Relationship Id="rId4" Type="http://schemas.openxmlformats.org/officeDocument/2006/relationships/hyperlink" Target="http://ru.wikipedia.org/w/index.php?title=&#1048;&#1074;&#1072;&#1080;_(&#1087;&#1088;&#1080;&#1090;&#1086;&#1082;_&#1055;&#1072;&#1088;&#1072;&#1085;&#1099;)&amp;action=edit&amp;redlink=1" TargetMode="External"/><Relationship Id="rId5" Type="http://schemas.openxmlformats.org/officeDocument/2006/relationships/hyperlink" Target="http://ru.wikipedia.org/wiki/&#1048;&#1075;&#1091;&#1072;&#1089;&#1091;_(&#1088;&#1077;&#1082;&#1072;)" TargetMode="External"/><Relationship Id="rId6" Type="http://schemas.openxmlformats.org/officeDocument/2006/relationships/hyperlink" Target="http://ru.wikipedia.org/w/index.php?title=&#1050;&#1086;&#1088;&#1088;&#1080;&#1077;&#1085;&#1090;&#1077;&#1089;_(&#1088;&#1077;&#1082;&#1072;)&amp;action=edit&amp;redlink=1" TargetMode="External"/><Relationship Id="rId7" Type="http://schemas.openxmlformats.org/officeDocument/2006/relationships/hyperlink" Target="http://ru.wikipedia.org/w/index.php?title=&#1043;&#1091;&#1072;&#1083;&#1077;&#1075;&#1091;&#1072;&#1081;&amp;action=edit&amp;redlink=1" TargetMode="External"/><Relationship Id="rId8" Type="http://schemas.openxmlformats.org/officeDocument/2006/relationships/hyperlink" Target="http://ru.wikipedia.org/wiki/&#1059;&#1088;&#1091;&#1075;&#1074;&#1072;&#1081;_(&#1088;&#1077;&#1082;&#1072;)" TargetMode="External"/><Relationship Id="rId9" Type="http://schemas.openxmlformats.org/officeDocument/2006/relationships/hyperlink" Target="http://ru.wikipedia.org/wiki/&#1055;&#1072;&#1088;&#1072;&#1075;&#1074;&#1072;&#1081;_(&#1088;&#1077;&#1082;&#1072;)" TargetMode="External"/><Relationship Id="rId10" Type="http://schemas.openxmlformats.org/officeDocument/2006/relationships/hyperlink" Target="http://ru.wikipedia.org/w/index.php?title=&#1057;&#1072;&#1085;-&#1061;&#1072;&#1074;&#1100;&#1077;&#1088;_(&#1088;&#1077;&#1082;&#1072;)&amp;action=edit&amp;redlink=1" TargetMode="External"/><Relationship Id="rId11" Type="http://schemas.openxmlformats.org/officeDocument/2006/relationships/hyperlink" Target="http://ru.wikipedia.org/wiki/&#1056;&#1080;&#1086;-&#1057;&#1072;&#1083;&#1072;&#1076;&#1086;" TargetMode="External"/><Relationship Id="rId12" Type="http://schemas.openxmlformats.org/officeDocument/2006/relationships/hyperlink" Target="http://ru.wikipedia.org/wiki/&#1055;&#1072;&#1074;&#1086;&#1076;&#1086;&#1082;" TargetMode="External"/><Relationship Id="rId13" Type="http://schemas.openxmlformats.org/officeDocument/2006/relationships/hyperlink" Target="http://ru.wikipedia.org/wiki/&#1057;&#1077;&#1076;&#1080;&#1084;&#1077;&#1085;&#1090;&#1099;" TargetMode="External"/><Relationship Id="rId14" Type="http://schemas.openxmlformats.org/officeDocument/2006/relationships/hyperlink" Target="http://www.brasileiro.ru/foz2/images/118_jpg.jpg" TargetMode="External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dic.nsf/brokgauz_efron/64017/&#1052;&#1072;&#1083;" TargetMode="External"/><Relationship Id="rId3" Type="http://schemas.openxmlformats.org/officeDocument/2006/relationships/hyperlink" Target="http://dic.academic.ru/dic.nsf/brokgauz_efron/119137/&#1069;&#1085;&#1090;&#1088;&#1077;-&#1056;&#1080;&#1086;&#1089;" TargetMode="External"/><Relationship Id="rId4" Type="http://schemas.openxmlformats.org/officeDocument/2006/relationships/hyperlink" Target="http://dic.academic.ru/dic.nsf/brokgauz_efron/43544/&#1048;&#1073;&#1080;&#1082;&#1091;&#1080;" TargetMode="External"/><Relationship Id="rId5" Type="http://schemas.openxmlformats.org/officeDocument/2006/relationships/hyperlink" Target="http://dic.academic.ru/dic.nsf/brokgauz_efron/87660/&#1056;&#1080;&#1086;-&#1053;&#1077;&#1075;&#1088;&#1086;" TargetMode="External"/><Relationship Id="rId6" Type="http://schemas.openxmlformats.org/officeDocument/2006/relationships/hyperlink" Target="http://dic.academic.ru/dic.nsf/brokgauz_efron/84699/&#1055;&#1091;&#1085;&#1090;&#1072;" TargetMode="External"/><Relationship Id="rId7" Type="http://schemas.openxmlformats.org/officeDocument/2006/relationships/hyperlink" Target="http://research.amnh.org/users/alporze/Montevideo1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2/Orange_watershed_topo.png" TargetMode="External"/><Relationship Id="rId3" Type="http://schemas.openxmlformats.org/officeDocument/2006/relationships/image" Target="../media/image15.png"/><Relationship Id="rId4" Type="http://schemas.openxmlformats.org/officeDocument/2006/relationships/hyperlink" Target="http://radio.rphf.spbstu.ru/~abris/s_africa2005/pic/sa051045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72;&#1089;&#1089;&#1077;&#1081;&#1085;_&#1074;&#1086;&#1076;&#1086;&#1105;&#1084;&#1072;" TargetMode="External"/><Relationship Id="rId3" Type="http://schemas.openxmlformats.org/officeDocument/2006/relationships/hyperlink" Target="http://ru.wikipedia.org/wiki/&#1048;&#1089;&#1090;&#1086;&#1082;" TargetMode="External"/><Relationship Id="rId4" Type="http://schemas.openxmlformats.org/officeDocument/2006/relationships/hyperlink" Target="http://ru.wikipedia.org/wiki/&#1056;&#1091;&#1072;&#1087;&#1077;&#1093;&#1091;" TargetMode="External"/><Relationship Id="rId5" Type="http://schemas.openxmlformats.org/officeDocument/2006/relationships/hyperlink" Target="http://ru.wikipedia.org/wiki/&#1059;&#1089;&#1090;&#1100;&#1077;" TargetMode="External"/><Relationship Id="rId6" Type="http://schemas.openxmlformats.org/officeDocument/2006/relationships/hyperlink" Target="http://ru.wikipedia.org/wiki/&#1058;&#1072;&#1089;&#1084;&#1072;&#1085;&#1086;&#1074;&#1086;_&#1084;&#1086;&#1088;&#1077;" TargetMode="External"/><Relationship Id="rId7" Type="http://schemas.openxmlformats.org/officeDocument/2006/relationships/hyperlink" Target="http://ru.wikipedia.org/wiki/&#1058;&#1072;&#1089;&#1084;&#1072;&#1085;&#1086;&#1074;&#1086;_&#1084;&#1086;&#1088;&#1077;" TargetMode="External"/><Relationship Id="rId8" Type="http://schemas.openxmlformats.org/officeDocument/2006/relationships/hyperlink" Target="http://ru.wikipedia.org/wiki/&#1060;&#1072;&#1081;&#1083;:NZ-Waikato_R.png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0;&#1090;&#1072;&#1081;&#1089;&#1082;&#1080;&#1081;_&#1103;&#1079;&#1099;&#1082;" TargetMode="External"/><Relationship Id="rId3" Type="http://schemas.openxmlformats.org/officeDocument/2006/relationships/hyperlink" Target="http://ru.wikipedia.org/wiki/&#1050;&#1080;&#1090;&#1072;&#1081;&#1089;&#1082;&#1086;&#1077;_&#1087;&#1080;&#1089;&#1100;&#1084;&#1086;#.D0.9F.D0.BE.D0.BB.D0.BD.D1.8B.D0.B5_.D0.B8_.D1.83.D0.BF.D1.80.D0.BE.D1.89.D1.91.D0.BD.D0.BD.D1.8B.D0.B5_.D0.B8.D0.B5.D1.80.D0.BE.D0.B3.D0.BB.D0.B8.D1.84.D1.8B" TargetMode="External"/><Relationship Id="rId4" Type="http://schemas.openxmlformats.org/officeDocument/2006/relationships/hyperlink" Target="http://ru.wikipedia.org/wiki/&#1050;&#1080;&#1090;&#1072;&#1081;&#1089;&#1082;&#1086;&#1077;_&#1087;&#1080;&#1089;&#1100;&#1084;&#1086;#.D0.9F.D0.BE.D0.BB.D0.BD.D1.8B.D0.B5_.D0.B8_.D1.83.D0.BF.D1.80.D0.BE.D1.89.D1.91.D0.BD.D0.BD.D1.8B.D0.B5_.D0.B8.D0.B5.D1.80.D0.BE.D0.B3.D0.BB.D0.B8.D1.84.D1.8B" TargetMode="External"/><Relationship Id="rId5" Type="http://schemas.openxmlformats.org/officeDocument/2006/relationships/hyperlink" Target="http://ru.wikipedia.org/wiki/&#1050;&#1080;&#1090;&#1072;&#1081;&#1089;&#1082;&#1086;&#1077;_&#1087;&#1080;&#1089;&#1100;&#1084;&#1086;#.D0.9F.D0.BE.D0.BB.D0.BD.D1.8B.D0.B5_.D0.B8_.D1.83.D0.BF.D1.80.D0.BE.D1.89.D1.91.D0.BD.D0.BD.D1.8B.D0.B5_.D0.B8.D0.B5.D1.80.D0.BE.D0.B3.D0.BB.D0.B8.D1.84.D1.8B" TargetMode="External"/><Relationship Id="rId6" Type="http://schemas.openxmlformats.org/officeDocument/2006/relationships/hyperlink" Target="http://ru.wikipedia.org/wiki/&#1055;&#1080;&#1085;&#1100;&#1080;&#1085;&#1100;" TargetMode="External"/><Relationship Id="rId7" Type="http://schemas.openxmlformats.org/officeDocument/2006/relationships/hyperlink" Target="http://ru.wikipedia.org/wiki/&#1052;&#1072;&#1085;&#1100;&#1095;&#1078;&#1091;&#1088;&#1080;&#1103;" TargetMode="External"/><Relationship Id="rId8" Type="http://schemas.openxmlformats.org/officeDocument/2006/relationships/hyperlink" Target="http://ru.wikipedia.org/wiki/&#1051;&#1103;&#1086;&#1085;&#1080;&#1085;" TargetMode="External"/><Relationship Id="rId9" Type="http://schemas.openxmlformats.org/officeDocument/2006/relationships/hyperlink" Target="http://bse.sci-lib.com/article107646.html" TargetMode="External"/><Relationship Id="rId10" Type="http://schemas.openxmlformats.org/officeDocument/2006/relationships/hyperlink" Target="http://ethnoblog.ru/slaviane/resource/dsc03967%5B1%5D.jpg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0;&#1090;&#1072;&#1081;&#1089;&#1082;&#1080;&#1081;_&#1103;&#1079;&#1099;&#1082;" TargetMode="External"/><Relationship Id="rId3" Type="http://schemas.openxmlformats.org/officeDocument/2006/relationships/hyperlink" Target="http://ru.wikipedia.org/wiki/&#1050;&#1086;&#1088;&#1077;&#1081;&#1089;&#1082;&#1080;&#1081;_&#1103;&#1079;&#1099;&#1082;" TargetMode="External"/><Relationship Id="rId4" Type="http://schemas.openxmlformats.org/officeDocument/2006/relationships/hyperlink" Target="http://ru.wikipedia.org/wiki/&#1050;&#1086;&#1088;&#1077;&#1081;&#1089;&#1082;&#1080;&#1081;_&#1103;&#1079;&#1099;&#1082;" TargetMode="External"/><Relationship Id="rId5" Type="http://schemas.openxmlformats.org/officeDocument/2006/relationships/hyperlink" Target="http://ru.wikipedia.org/wiki/&#1050;&#1080;&#1090;&#1072;&#1081;" TargetMode="External"/><Relationship Id="rId6" Type="http://schemas.openxmlformats.org/officeDocument/2006/relationships/hyperlink" Target="http://ru.wikipedia.org/wiki/&#1050;&#1053;&#1044;&#1056;" TargetMode="External"/><Relationship Id="rId7" Type="http://schemas.openxmlformats.org/officeDocument/2006/relationships/hyperlink" Target="http://ru.wikipedia.org/wiki/&#1051;&#1103;&#1086;&#1085;&#1080;&#1085;" TargetMode="External"/><Relationship Id="rId8" Type="http://schemas.openxmlformats.org/officeDocument/2006/relationships/hyperlink" Target="http://ru.wikipedia.org/wiki/&#1055;&#1093;&#1105;&#1085;&#1072;&#1085;-&#1055;&#1091;&#1082;&#1090;&#1086;" TargetMode="External"/><Relationship Id="rId9" Type="http://schemas.openxmlformats.org/officeDocument/2006/relationships/hyperlink" Target="http://dic.academic.ru/dic.nsf/ruwiki/618594" TargetMode="External"/><Relationship Id="rId10" Type="http://schemas.openxmlformats.org/officeDocument/2006/relationships/hyperlink" Target="http://dic.academic.ru/dic.nsf/ruwiki/618594" TargetMode="External"/><Relationship Id="rId11" Type="http://schemas.openxmlformats.org/officeDocument/2006/relationships/hyperlink" Target="http://dic.academic.ru/dic.nsf/ruwiki/51923" TargetMode="External"/><Relationship Id="rId12" Type="http://schemas.openxmlformats.org/officeDocument/2006/relationships/hyperlink" Target="http://dic.academic.ru/dic.nsf/ruwiki/102303" TargetMode="External"/><Relationship Id="rId13" Type="http://schemas.openxmlformats.org/officeDocument/2006/relationships/hyperlink" Target="http://dic.academic.ru/dic.nsf/ruwiki/57614" TargetMode="External"/><Relationship Id="rId14" Type="http://schemas.openxmlformats.org/officeDocument/2006/relationships/hyperlink" Target="http://dic.academic.ru/dic.nsf/ruwiki/798029" TargetMode="External"/><Relationship Id="rId15" Type="http://schemas.openxmlformats.org/officeDocument/2006/relationships/hyperlink" Target="http://dic.academic.ru/dic.nsf/ruwiki/8250" TargetMode="External"/><Relationship Id="rId16" Type="http://schemas.openxmlformats.org/officeDocument/2006/relationships/hyperlink" Target="http://dic.academic.ru/dic.nsf/ruwiki/638950" TargetMode="External"/><Relationship Id="rId17" Type="http://schemas.openxmlformats.org/officeDocument/2006/relationships/hyperlink" Target="http://dic.academic.ru/pictures/wiki/files/70/Flag_of_the_People%27s_Republic_of_China.svg" TargetMode="External"/><Relationship Id="rId18" Type="http://schemas.openxmlformats.org/officeDocument/2006/relationships/hyperlink" Target="http://dic.academic.ru/dic.nsf/ruwiki/646054" TargetMode="External"/><Relationship Id="rId19" Type="http://schemas.openxmlformats.org/officeDocument/2006/relationships/hyperlink" Target="http://dic.academic.ru/pictures/wiki/files/70/Flag_of_North_Korea.svg" TargetMode="External"/><Relationship Id="rId20" Type="http://schemas.openxmlformats.org/officeDocument/2006/relationships/hyperlink" Target="http://dic.academic.ru/dic.nsf/ruwiki/1542" TargetMode="External"/><Relationship Id="rId21" Type="http://schemas.openxmlformats.org/officeDocument/2006/relationships/image" Target="../media/image3.jpeg"/><Relationship Id="rId22" Type="http://schemas.openxmlformats.org/officeDocument/2006/relationships/hyperlink" Target="http://dic.academic.ru/dic.nsf/ruwiki/798029" TargetMode="External"/><Relationship Id="rId23" Type="http://schemas.openxmlformats.org/officeDocument/2006/relationships/hyperlink" Target="http://dic.academic.ru/dic.nsf/ruwiki/1189749" TargetMode="External"/><Relationship Id="rId24" Type="http://schemas.openxmlformats.org/officeDocument/2006/relationships/hyperlink" Target="http://dic.academic.ru/dic.nsf/ruwiki/638950" TargetMode="External"/><Relationship Id="rId25" Type="http://schemas.openxmlformats.org/officeDocument/2006/relationships/hyperlink" Target="http://dic.academic.ru/dic.nsf/ruwiki/17676" TargetMode="External"/><Relationship Id="rId2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dic.nsf/bse/73416/&#1042;&#1077;&#1083;&#1080;&#1082;&#1080;&#1081;" TargetMode="External"/><Relationship Id="rId3" Type="http://schemas.openxmlformats.org/officeDocument/2006/relationships/hyperlink" Target="http://www.legendtour.ru/foto/cn/xian_map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15/linalina5.2/0_826b_609296ad_X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csd.k12.ny.us/sabbatic/images/stories/geography/Hudson_river_from_bear_mountain_bridge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13/komarovia.1d/0_77ed_9192904c_X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меренно муссонного клима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Сицзя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ка на Ю. Кита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Дл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2130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км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площадь бассей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437 тыс.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в т. ч. около 11 тыс.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2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территории Вьетнам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Берёт начал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пределах Юньнаньского нагорья. Название С. получает выше г. Наньнин при слиянии двух истоков: северного (главного) — р. Юцзян (Сиянцзян) и южного — р. Цзо-цзян, верховья которой находятся на территории Вьетнама. На значительном протяжении течёт в узкой, глубокой долине с крутыми берегами, пересекает районы с широким развитием карста; встречаются пороги, затрудняющие судоход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Ширина русл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среднем течении в самом узком месте (ущелье Лунданся) составляет 34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,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расширениях доходит до 266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Образует обширную дельту Чжуцзян (площадь 16,9 тыс.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де сливаются воды рр. С., Бэйцзян и Дунцзя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впада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Южно-Китайское море близ г. Аомынь. Средний расход воды у г. Учжоу около 800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3/сек,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аксимальный — 58 00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во время летних муссонных дождевых паводков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Среднегодовой сто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ек бассейна С. 363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3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Колебания уровня воды в течение года достигают 15—2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астые наводнения (с начала 17 в. свыше 100), особенно опасные в дельте при комбинации паводков с морскими приливами. Для защиты полей и населённых пунктов вдоль С. и её притоков построены дамбы общей протяжённостью свыше 200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ды С. используются для орошения. В нижнем течении сбор жемчужных раковин. Судоходна до г. Учжоу. В дельте С. — морской порт Гуанчжоу (Кантон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Делавэ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4211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лавэр (река в США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лавэ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Delaware), река на В.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Ш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Дл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660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31,1 тыс.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Берёт начал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горах Кэтскилл истоками Западный Д. и Восточный Д.; пересекает осевую часть Аппалачей, плат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Пидмон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Приатлантическую низме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Атлантический океа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образует эстуарий, называемый в южной части заливом Делавэ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сеннее половодье, паводки в остальное время год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Средний расход вод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у г.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Тренто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17,6 тыс.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 350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наибольший  9 тыс.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наименьший  35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Судоходна до г. Трентон (210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т устья); сюда доходят морские приливы. Выше (до г. Истон) судоходство по каналу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Image 12 of 401">
            <a:hlinkClick r:id="rId7"/>
          </p:cNvPr>
          <p:cNvPicPr/>
          <p:nvPr/>
        </p:nvPicPr>
        <p:blipFill>
          <a:blip r:embed="rId8"/>
          <a:srcRect l="0" t="0" r="-28" b="101"/>
          <a:stretch/>
        </p:blipFill>
        <p:spPr>
          <a:xfrm>
            <a:off x="0" y="1844640"/>
            <a:ext cx="4859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Саскуэхан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9280" y="1483920"/>
            <a:ext cx="410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скуэханна — река в северо-восточном США, самая длинная среди североамериканских рек, впадающих в Атлантический океан между устьем Святого Лаврентия и Миссисипи и 16-я по длине среди рек СШ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contrast="6000"/>
          </a:blip>
          <a:srcRect l="0" t="0" r="16" b="-16"/>
          <a:stretch/>
        </p:blipFill>
        <p:spPr>
          <a:xfrm>
            <a:off x="108000" y="134136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16280" y="586728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ассейн Саскуэхан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03280" y="333360"/>
            <a:ext cx="4032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Бассей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еки площадью в 71 225 км² покрывает около половины территории Пенсильвании, а также часть штата Нью-Йорк и Мэрилен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Река имеет два рука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Северный (течет на юг из штата Нью-Йорк, исток в озере Отсего) и Западный (течет на восток из западной Пенсильвании). Рукава соединяются у города Нортамберленд в Пенсильв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Усть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аскуэханны в северной части Чесапикского залива; собственно, Чесапикский залив является эстуарием Саскуэханны, который затопило в результате повышения уровня моря после конца прошлого ледникового периода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5003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Пар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арана́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исп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Paran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орт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pt-PT" sz="1800" spc="-1" strike="noStrike">
                <a:solidFill>
                  <a:srgbClr val="ffffff"/>
                </a:solidFill>
                <a:latin typeface="Tahoma"/>
              </a:rPr>
              <a:t>Paran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 — река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Южной Америк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вторая по длине река этого континента (после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Амазон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екает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южной части континен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о территори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Бразил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Параг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Аргенти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Площад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бассей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582 672[1] км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Бассей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Атлантический оке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Расход вод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7 500 м³/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4"/>
              </a:rPr>
              <a:t>Исто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ияние рек Паранаиба и Риу-Гран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Усть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ли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Ла-Пла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Дли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570км, от слияния притоков — 4380 км, впадает в зали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Ла-Пла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Атлантического океа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едалеко от город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Буэнос-Айрес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До город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Росари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нижнем течении осуществляется морское судоход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реднем течении река образует часть естественной границы между Парагваем и Аргентиной, ниже является западной границей низменного район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аргентинского Междуреч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Файл:Paranarivermap.pn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1125360"/>
            <a:ext cx="46432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67280" y="0"/>
            <a:ext cx="507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евые приток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Тьет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Агуапеи, Пейши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Паранапанем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Ива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Пикири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Игуасу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Корриентес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Гуалегуа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Уругва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авые приток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Парагва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Сан-Хавье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Рио-Салад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Times New Roman"/>
              </a:rPr>
              <a:t>Водный реж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итание реки главным образом дождевое. Осадки на большей части бассейна реки составляют 1000—2000 мм/го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Уровень вод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неравномерный, часто случаются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паводк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и наводнения. В верхнем течении высокая вода приходится на весенний период, в среднем — на лето, а в нижнем течении — на осен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Среднегодовой расход вод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составляет 17,5 тыс. м³/с, может колебаться от 6 тыс. до 30 тыс. м³/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</a:rPr>
              <a:t>Годовой сто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 океан составляет около 480 км³, а вместе с рекой Уругвай — около 650 км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арана выносит в океан большое количеств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седименто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90—95 млн т/год), след от которых заметен на расстоянии 100—150 км от берега. По оценкам, за последние 2 млн лет вынесенные седименты осели на океаническом дне на площади 1 км² слоем 400 метровой толщины, ещё столько же были растворены океан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Image 5 of 656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0" y="692280"/>
            <a:ext cx="4427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Уругва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ка в Южной Америке, текущая в Бразилии, Аргентине и Уругвае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берет начал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Кордильерах Южной Бразилии, носящих название Сьерра Гераль, в бразил. штате Санта Катарина, образуясь из двух истоков, Рио-дас-Пелотас и Маромбас с их притоками,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течет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стрым потоком в направлении, принятом Дас Пелотас, именно на З. На этом пути принимает в себя слева — Пассо Фундо, так назыв. У.-Мирим, ил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Мал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У., справа — Чапеко; далее — Pио-Варсеа, У. Пуитам, или Красный У.; поворачивает на Ю и отделяет Бразилию, а дальше и Уругвай от Аргентинских пров. Карриент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Энтре-Рио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Приняв в себя справа Пепери, Меринэй. а слева — Юи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Ибику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Куарэм, Арапей, Куэгуа и, наконец, могучий поток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Рио-Негр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к северу от Буэнос-Айреса, в Ла-Пла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Длина течен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1600 км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358000 кв. км. На расстоянии 130 км от своего устья вверх У. образует д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Пунт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Фрей-Бентос расширение от 11 — 16,6 км, и на этом пути он неглубок и течет медленно, далее образует нижние стремнины, Сальто-Чико, на 15 км дальше вверх спадает грандиозным водопадом Сальто-Гранде. У. подвержен периодическим разливам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Image 2 of 64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484280"/>
            <a:ext cx="4859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Оранжев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4956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ранжев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река в южной Афри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Берёт нача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Драконовых горах на границе ЮАР и Лесото,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ротек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 территории Намибии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Атлантический оке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Дли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2200 к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973 000 км к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еке Оранжерая располагается известный 146-метровый водопад Ауграбис (ЮАР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вание реки происходит от Оранской династ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Файл:Orange watershed topo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981000"/>
            <a:ext cx="4500720" cy="33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Image 8 of 1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076640"/>
            <a:ext cx="4140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Уаика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80000" y="980640"/>
            <a:ext cx="356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упнейшая река Новой Зеландии, протяженностью 425 км, протекающая в центральной част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еверного остров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 впадающая в Тасманово мор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а425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щад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бассей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3 701 км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Исто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осточный склон вулкана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Руапех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Усть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Тасманово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м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NZ-Waikato R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00360" y="1700280"/>
            <a:ext cx="2857320" cy="4152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Image 1 of 208"/>
          <p:cNvPicPr/>
          <p:nvPr/>
        </p:nvPicPr>
        <p:blipFill>
          <a:blip r:embed="rId10"/>
          <a:stretch/>
        </p:blipFill>
        <p:spPr>
          <a:xfrm>
            <a:off x="0" y="3500280"/>
            <a:ext cx="33242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915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Ляох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4956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Ляохэ </a:t>
            </a:r>
            <a:r>
              <a:rPr b="1" lang="ru-RU" sz="1600" spc="-1" strike="noStrike">
                <a:solidFill>
                  <a:srgbClr val="00c600"/>
                </a:solidFill>
                <a:latin typeface="Times New Roman"/>
              </a:rPr>
              <a:t>(</a:t>
            </a:r>
            <a:r>
              <a:rPr b="1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кит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трад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遼河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упр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辽河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пиньин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Liáohé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) — крупнейшая река в южной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Маньчжури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Названа по област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Ляони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яохэ, река на северо-востоке Китая, вторая по величине в этом районе после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Сунгар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Длина</a:t>
            </a:r>
            <a:r>
              <a:rPr b="0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от истоков реки Силяохэ) 143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площадь бассейна 231 тысяча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Берёт начал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 горах на стыке Большого Хингана и Жэхэ, большая часть течения на равнине Сунляо, </a:t>
            </a:r>
            <a:r>
              <a:rPr b="0" lang="ru-RU" sz="1600" spc="-1" strike="noStrike">
                <a:solidFill>
                  <a:srgbClr val="00c600"/>
                </a:solidFill>
                <a:latin typeface="Times New Roman"/>
              </a:rPr>
              <a:t>впадает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Ляодунский залив Жёлтого моря. Средний расход воды в нижнем течении свыше 63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Питан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главным образом дождевое, половодье в июле - августе, с декабря по апрель замерзае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бассейне Ляохэ частые наводнения. Во время катастрофического наводнения 1935 в низовьях Ляохэ было затоплено 17 тысяч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В бассейне Ляохэ для регулирования стока созданы водохранилища Дахофан, Эрлуншань. Воздействие приливов на 4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т устья. Ляохэ судоходна от города Шуанляо. В устье - крупный морской порт Инко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Картинка 1 из 5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1052640"/>
            <a:ext cx="5003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Ялуцзя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03280" y="620640"/>
            <a:ext cx="4140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600"/>
                </a:solidFill>
                <a:latin typeface="Times New Roman"/>
              </a:rPr>
              <a:t>Ялуцзя́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кит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или </a:t>
            </a:r>
            <a:r>
              <a:rPr b="1" lang="ru-RU" sz="2400" spc="-1" strike="noStrike">
                <a:solidFill>
                  <a:srgbClr val="00c600"/>
                </a:solidFill>
                <a:latin typeface="Times New Roman"/>
              </a:rPr>
              <a:t>Амноккан</a:t>
            </a:r>
            <a:r>
              <a:rPr b="0" lang="ru-RU" sz="24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кор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) — река, определяющая границу между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Китае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КНД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— на правом берегу располагается китайская провинци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Ляони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на левом — провинция КНДР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Пхёнан-Пукт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</a:rPr>
              <a:t>Характери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ин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813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лощад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бассейна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63 тыс. км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Бассей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Жёлтое м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Водоток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Исто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4"/>
              </a:rPr>
              <a:t>Байтоуша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Усть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6"/>
              </a:rPr>
              <a:t>Западно-Корейский зали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Располож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текает по территории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8"/>
              </a:rPr>
              <a:t>КНР</a:t>
            </a:r>
            <a:br>
              <a:rPr sz="2000"/>
            </a:b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9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20"/>
              </a:rPr>
              <a:t>КНД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Расход воды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составляет 900 м³/с,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годовой сток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 — около 28 км³. В зимнее время река замерз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1"/>
          <a:stretch/>
        </p:blipFill>
        <p:spPr>
          <a:xfrm>
            <a:off x="0" y="1125360"/>
            <a:ext cx="5003640" cy="3527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941720"/>
            <a:ext cx="5003640" cy="21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ка берёт своё начало на склонах вулкан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Байтоуша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далее протекает через глубокое ущелье в южной части плоскогорья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Чанбайша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западных отрогах Маньчжуро-Корейских гор, а затем впадает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Западно-Корейский зали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образуя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эстуар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Вэйх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6720" y="1628640"/>
            <a:ext cx="4067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ка на В. Кита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ли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коло 600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Исто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в горах Тайханшань, основной частью течёт по северным районам Великой Китайской равни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слияния с р. Юндинхэ образует р. Хайхэ,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впадающу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залив Бохайвань Жёлтого моря. Нижнее течение В. (от г. Линьцин) входит в систему Великого канала (См.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Великий кана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Муссонный режи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спользуется для орошения и судоходст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Картинка 6 из 37">
            <a:hlinkClick r:id="rId3"/>
          </p:cNvPr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1601640"/>
            <a:ext cx="4859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Потома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32000" y="1557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Потома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— река на востоке США, впадающая в Атлантический океа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Длин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коло 617 км (по другой оценке около 460 к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порядка 38 тыс. км² — по этому параметру Потомак занимает среди атлантических рек США четвертое место, среди всех рек страны — 21-е место. Вашингтон, столица США, стоит на северном берегу Потома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>
            <a:lum contrast="6000"/>
          </a:blip>
          <a:srcRect l="0" t="0" r="-16" b="16"/>
          <a:stretch/>
        </p:blipFill>
        <p:spPr>
          <a:xfrm>
            <a:off x="250920" y="1700280"/>
            <a:ext cx="432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076720" y="549360"/>
            <a:ext cx="40672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Река образуетс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 слиянии Южного рукава Потомака и Северного рукава Потомака у г. Камберленда в штате Мэриленд. Северный рукав берет начало у так называемого Камня Фэрфакса в Западной Виргинии и течет на северо-восток. Южный рукав берет начало у деревни Хайтаун в Виргинии и также течет на северо-восток. После их слияния Потомак поворачивает на юго-восток и течет до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пад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Чесапикский залив Атлантического океа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еке проходит граница штатов Вирджиния и Мэрилен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томак судоходен от Великих водопадов (22 км вверх по течению от Вашингтона) до уст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Image 3 of 5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13000"/>
            <a:ext cx="507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Гудзо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3280" y="1412640"/>
            <a:ext cx="4140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Гудзо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река в США. Протекает по штату Нью-Йорк и Нью-Джерси.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Берет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е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нача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горах Адирондак,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в Атлантический оке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Длина ре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коло 500 к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34 600 кв.к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токи Гудзона - Мохок, Валкиль, Гусик, Сакондэга. Расположены города: Трой, Олбани, Йонкерс, Джерси-Сити, Нью-Йорк (в дельте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ит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ека снеговое и дождевое. Река судоходна. Водится: карп, сом, угорь, камбала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Image 2 of 25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700280"/>
            <a:ext cx="507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убтропического муссонного клима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65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к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юго-востока Ази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также имеют четко выраженный муссонный режим с летним максимумом. Однако очень сильного обмеления в зимний период у них не бывает, так как к югу от бассейна Янцзы и на юге Японских островов зимой выпадают циклонические осадки. В качестве примера может быть названа полноводная в течение всего года река Сицзян. Для рек Юго-Восточной Азии характерно еще осеннее половодье, которое связано с прохождением тайфунов и часто принимает характер катастрофического бедст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Картинка 4 из 52">
            <a:hlinkClick r:id="rId2"/>
          </p:cNvPr>
          <p:cNvPicPr/>
          <p:nvPr/>
        </p:nvPicPr>
        <p:blipFill>
          <a:blip r:embed="rId3"/>
          <a:srcRect l="0" t="0" r="-27" b="65"/>
          <a:stretch/>
        </p:blipFill>
        <p:spPr>
          <a:xfrm>
            <a:off x="5435640" y="549360"/>
            <a:ext cx="3708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51:42Z</dcterms:created>
  <dc:creator>gbf</dc:creator>
  <dc:description/>
  <dc:language>en-US</dc:language>
  <cp:lastModifiedBy>Oleg</cp:lastModifiedBy>
  <dcterms:modified xsi:type="dcterms:W3CDTF">2010-12-24T07:19:25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d000000000001024140</vt:lpwstr>
  </property>
</Properties>
</file>