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3D0A-99C0-443B-BB40-A0AA4C87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46EE-6A5A-4DB2-80CE-52DC3161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A45-F3F2-481D-8238-770D9FFB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6B0-EDA0-4789-8BF3-26D342DF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04A3-4AEB-414E-86E2-9F05AA1F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9451-39CB-4339-965A-B4CEF6D9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1643-2AEE-4ADD-A191-FF50A02F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F453-BB74-4060-B410-1E3DD1F3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F277-4A2F-4163-92C9-91925F48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73D8-BD1C-459C-825E-7FAFED1C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4823-1E11-4F06-8A8B-8A56031D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18A-20C3-404C-8F34-7DAB3DEA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A9CF-3ADA-40EC-AD2B-936090B5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A0C7-21CC-4B17-BE7B-B3F296CE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2A1F-8849-4DBC-9128-1AB014B2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5CA2-0690-4151-A379-1E1D8FD0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9DFE-E546-4400-A7B7-B9B3FB14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9432-1687-4A60-89C9-678D7557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591-9539-46C1-9C3A-DB706477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B7F-4BD2-4C3A-AA9A-DE31AD55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A52C-0A48-470E-83F1-76ABBEC8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E1B-A1AB-4925-B922-D0D7BC0A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FF17-DF5C-411E-94E4-E84E3D37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FFE-C83B-4C47-A67B-F6A2CC22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E8D9-A88C-4AD6-874B-CB6DC4CD0B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7DF3-C6E4-4822-A6F1-A60AD395E4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гионы мира и международные организ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1557000"/>
            <a:ext cx="4546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неральная Ассамблея (ГА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диняет всех членов ООН по принципу «одна страна – один голос». Резолюции ГА носят рекомендательный характер. ГА определяет политику и программу действия организации. Сессии ГА проходят ежегодно, но могут созываться и чрезвычай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4022640" cy="2673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ческий и Социальный сов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ЭкоСоС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ет по опек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ый су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кретариа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неральный секретарь  О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значается Генеральной Ассамблеей по рекомендации Совета Безопас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ругие организации при ООН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НЕСКО – по проблемам образования, культуры, экологии и т.п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НЕП – по вопросам охраны прир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 – по проблемам здравоохран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ГАТЭ – агенство по атомной энер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Т – по вопросам организации т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О – продовольствие и сельское хозяйство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32000" y="2349360"/>
            <a:ext cx="5848560" cy="4324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2857680" cy="2857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Организация по безопасности и сотрудничеству в Европе (ОБСЕ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на в 1975 г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ходят 52 государства евразийского региона и Канада с США, статус наблюдателя у Македо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90 году подписана Пражская хар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СЕ наблюдатель при ООН, секретариат в Вене (Австр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24360" y="3094200"/>
            <a:ext cx="4987800" cy="3592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353120" cy="3000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Организация стран – экспортёров нефти (ОПЕК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ана в 1960 году в Багда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ходят 13 государ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и ОПЕК – координация политики в области добычи и экспорта нефти, обеспечение стабильности цен на мировых нефтяных рынках, охрана окружающей среды и др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ководящие органы в Вене (Австр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318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Европейский Союз (ЕС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5194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фициально существует с 1 ноября 1993 года (предшественником было ЕЭС, образованное Бельгией, Нидерландами, Люксембургом, ФРГ, Францией и Италией в 1958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24360" y="1773360"/>
            <a:ext cx="3221280" cy="4868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152800" cy="1619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Организация Североатлантического договора (НАТО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056360" cy="3978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Регион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– территория, выделяющаяся по какому-либо признаку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11280" y="159984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итерии выделения регион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ограф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цион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лигиоз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ном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циальный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7516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изация Азиатско-Тихоокеанского экономического сотрудничества (АТЭС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3068640"/>
            <a:ext cx="42591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реждена в 1989 г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ъединяет 21 государство, создана по инициативе Австрал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96000" y="1413000"/>
            <a:ext cx="3962160" cy="5283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«Большая семёрка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ША, Япония, Великобритания, Германия, Франция, Италия, Кана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Россией называется «Большая восьмёрка» (с 1996 го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ругие организаци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ссоциация государств юго-восточной Азии (АСЕАН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адноевропейский союз (ЗЕС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ибское сообщество(КС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га Арабских государств (ЛАГ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 Американских государств (ОАГ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 Африканского единства (ОА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 «Исламская конференция» (ОИК) – 50 государ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 экономического сотрудничества и развития (ОЭСР) – 25 стран – участниц, штаб – квартира в Париже (Франц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, задания в Рабочей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вторить понят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: форма правления, государственное устройство, суверенное государство, освободившаяся страна, региональный конфликт, политическая география, унитарное государство, федерация, республика, монархия и её в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сновные типы регионов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рико – географическ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( территории, связанные принадлежностью к какому – либо географическому объекту – материку, полуострову,реке и т.п) – таблица 1, стр 1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ьно – экономическ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бъединяют страны, имеющие близкий уровень социально-экономического разви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сторико – географические регионы мир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0560" y="1599840"/>
            <a:ext cx="66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фр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окита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ндина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ижний Вост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е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гри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т – Инд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аны Персидского зали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тинская Америка, Центральная Европа, Дунайские страны и др.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еждународные организа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ежправительствен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объединения суверенных государств, играют важную роль в современных международных отношен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еправительствен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не учреждённые на основании межправительственного соглашения     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мирный совет мира, Всемирная федерация профсоюзов, Международная демократическая федерация женщин, Международная организация журналист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Организация Объединённых Наций</a:t>
            </a:r>
            <a:br>
              <a:rPr sz="3400"/>
            </a:b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штаб – квартира в Нью - Йорк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на 24 октября 1945 г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лены -  свыше 190 государ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блюдатели – Ватикан, Швейцария, Организация Освобождения Палестины, Организация африканского единства, Европейский Союз, Организация «Исламская конференция», Международный комитет Красного Креста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35280" y="1628640"/>
            <a:ext cx="5256360" cy="5061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324144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Цели ООН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держка мира и международной безопасн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отношений между нациями на основе уважения принципов равноправия и самоопреде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разрешении мировых проблем политического, экономического, социального, культурного характе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ощрение уважения к правам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вращение ООН в центр согласования усилий наций и народов по достижению общих ц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Главные органы ООН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ет Безопасности (СБ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состоит из 15 членов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 постоянны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Великобритания, Китай, Россия, США, Франция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0 непостоянны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избираемых на 2 года по квотам –         5 мест для Азии и Африки,                      1 для Восточной Европы,                        2 места для Латинской Америки и          2 для стран Западной Евр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2:19:48Z</dcterms:created>
  <dc:creator>Admin</dc:creator>
  <dc:description/>
  <dc:language>en-US</dc:language>
  <cp:lastModifiedBy>Admin</cp:lastModifiedBy>
  <dcterms:modified xsi:type="dcterms:W3CDTF">2011-09-26T15:19:19Z</dcterms:modified>
  <cp:revision>46</cp:revision>
  <dc:subject/>
  <dc:title>Регионы мира и международные организации</dc:title>
</cp:coreProperties>
</file>