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DB60-8A65-411E-88C7-7C5C7647D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3A3D-0431-44D1-A4ED-A3214C667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330D-C38B-4431-98CA-4C40D567B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E5A1-A28D-4631-9D11-ED4D5835F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ECBEE-762C-4D07-9BE9-29755DF36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0882A-7B78-4729-B656-D7DEA8BFC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01F69-F60C-4DE8-8FA1-6C498BA5B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D4028-85E0-46A2-B8FF-F95A87BFA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968B5-051D-4B66-9846-0FC609387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C9ADF-4978-423A-96DA-1A6089745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9CCF8-04F8-444C-9EF1-612ECB42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EEE3-BA88-4D4B-B3A0-2AFBB15C8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CB50B-628E-45BB-AF67-EBF2ED659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21F96-570C-45A1-B27B-8F624086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D5668-4569-4953-82D2-6B73918AB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12768-B11E-494B-811F-F6CB1A33E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B6846-8D75-4C80-B757-5AAC3487D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1757-D975-427A-B73E-8C5CB24E4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39B1-231C-4825-B66A-B54C7522C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BC79-FFF8-46A4-AD05-37738FA15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718D-15F2-4705-9CB6-F5DC24EB6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159A-55DD-40D3-BB52-8805C4E4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302D-E2BC-4555-B2FF-F7F79D44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9D7D-9138-483A-84E6-4114DF2F0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1e0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1e0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bb0c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bb0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bb0cb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8B787-E3DA-4FBC-A47E-E88637A0ACD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1e0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1e0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F092D-D95B-4CA5-981B-63683B61D3C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9bb0cb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bb0cb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bb0cb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гионы мира и международные организ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6840" y="1557000"/>
            <a:ext cx="4546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енеральная Ассамблея (ГА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ъединяет всех членов ООН по принципу «одна страна – один голос». Резолюции ГА носят рекомендательный характер. ГА определяет политику и программу действия организации. Сессии ГА проходят ежегодно, но могут созываться и чрезвычай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859280" y="2565360"/>
            <a:ext cx="4022640" cy="26733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кономический и Социальный сове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ЭкоСоС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вет по опек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ждународный су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екретариа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енеральный секретарь  ОО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азначается Генеральной Ассамблеей по рекомендации Совета Безопас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Другие организации при ООН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ЮНЕСКО – по проблемам образования, культуры, экологии и т.п.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ЮНЕП – по вопросам охраны природ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З – по проблемам здравоохран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ГАТЭ – агенство по атомной энерг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Т – по вопросам организации тру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АО – продовольствие и сельское хозяйство 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132000" y="2349360"/>
            <a:ext cx="5848560" cy="43243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2857680" cy="28573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Организация по безопасности и сотрудничеству в Европе (ОБСЕ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здана в 1975 год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ходят 52 государства евразийского региона и Канада с США, статус наблюдателя у Македо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1990 году подписана Пражская харт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СЕ наблюдатель при ООН, секретариат в Вене (Австри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924360" y="3094200"/>
            <a:ext cx="4987800" cy="35924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4353120" cy="30002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Организация стран – экспортёров нефти (ОПЕК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нована в 1960 году в Багдад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ходят 13 государст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ли ОПЕК – координация политики в области добычи и экспорта нефти, обеспечение стабильности цен на мировых нефтяных рынках, охрана окружающей среды и др.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уководящие органы в Вене (Австри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424720" cy="63183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Европейский Союз (ЕС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773000"/>
            <a:ext cx="51944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фициально существует с 1 ноября 1993 года (предшественником было ЕЭС, образованное Бельгией, Нидерландами, Люксембургом, ФРГ, Францией и Италией в 1958г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724360" y="1773360"/>
            <a:ext cx="3221280" cy="48686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152800" cy="1619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Организация Североатлантического договора (НАТО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116000" y="1989000"/>
            <a:ext cx="7056360" cy="39783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Регион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– территория, выделяющаяся по какому-либо признаку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11280" y="1599840"/>
            <a:ext cx="627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ритерии выделения регион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bb0cb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еографиче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bb0cb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сториче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bb0cb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циональ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bb0cb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лигиоз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bb0cb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кономиче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bb0cb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циальный 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47516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рганизация Азиатско-Тихоокеанского экономического сотрудничества (АТЭС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3068640"/>
            <a:ext cx="42591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чреждена в 1989 год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ъединяет 21 государство, создана по инициативе Австрал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896000" y="1413000"/>
            <a:ext cx="3962160" cy="52830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«Большая семёрка»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22960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ША, Япония, Великобритания, Германия, Франция, Италия, Кана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 Россией называется «Большая восьмёрка» (с 1996 год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Другие организации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ссоциация государств юго-восточной Азии (АСЕАН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падноевропейский союз (ЗЕС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рибское сообщество(КС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ига Арабских государств (ЛАГ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рганизация Американских государств (ОАГ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рганизация Африканского единства (ОАЕ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рганизация «Исламская конференция» (ОИК) – 50 государст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рганизация экономического сотрудничества и развития (ОЭСР) – 25 стран – участниц, штаб – квартира в Париже (Франция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2, задания в Рабочей тетра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овторить понят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: форма правления, государственное устройство, суверенное государство, освободившаяся страна, региональный конфликт, политическая география, унитарное государство, федерация, республика, монархия и её ви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Основные типы регионов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торико – географическ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( территории, связанные принадлежностью к какому – либо географическому объекту – материку, полуострову,реке и т.п) – таблица 1, стр 13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циально – экономически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объединяют страны, имеющие близкий уровень социально-экономического развит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Историко – географические регионы мира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050560" y="1599840"/>
            <a:ext cx="663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фри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докита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кандинав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лижний Восто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ке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агриб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ст – Инд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раны Персидского залив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атинская Америка, Центральная Европа, Дунайские страны и др.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Международные организаци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Межправительственны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объединения суверенных государств, играют важную роль в современных международных отношения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Неправительственны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не учреждённые на основании межправительственного соглашения      (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семирный совет мира, Всемирная федерация профсоюзов, Международная демократическая федерация женщин, Международная организация журналистов и д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Организация Объединённых Наций</a:t>
            </a:r>
            <a:br>
              <a:rPr sz="3400"/>
            </a:br>
            <a:r>
              <a:rPr b="0" i="1" lang="ru-RU" sz="3400" spc="-1" strike="noStrike">
                <a:solidFill>
                  <a:srgbClr val="000000"/>
                </a:solidFill>
                <a:latin typeface="Arial"/>
              </a:rPr>
              <a:t>штаб – квартира в Нью - Йорк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здана 24 октября 1945 го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лены -  свыше 190 государст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блюдатели – Ватикан, Швейцария, Организация Освобождения Палестины, Организация африканского единства, Европейский Союз, Организация «Исламская конференция», Международный комитет Красного Креста 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635280" y="1628640"/>
            <a:ext cx="5256360" cy="50612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50920" y="1628640"/>
            <a:ext cx="3241440" cy="25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Цели ООН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держка мира и международной безопасност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витие отношений между нациями на основе уважения принципов равноправия и самоопредел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ждународное сотрудничество в разрешении мировых проблем политического, экономического, социального, культурного характер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ощрение уважения к правам челове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вращение ООН в центр согласования усилий наций и народов по достижению общих це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Главные органы ООН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вет Безопасности (СБ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состоит из 15 членов –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5 постоянны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Великобритания, Китай, Россия, США, Франция)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10 непостоянны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избираемых на 2 года по квотам –         5 мест для Азии и Африки,                      1 для Восточной Европы,                        2 места для Латинской Америки и          2 для стран Западной Евр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2:19:48Z</dcterms:created>
  <dc:creator>Admin</dc:creator>
  <dc:description/>
  <dc:language>en-US</dc:language>
  <cp:lastModifiedBy>Admin</cp:lastModifiedBy>
  <dcterms:modified xsi:type="dcterms:W3CDTF">2011-09-26T15:19:19Z</dcterms:modified>
  <cp:revision>46</cp:revision>
  <dc:subject/>
  <dc:title>Регионы мира и международные организации</dc:title>
</cp:coreProperties>
</file>