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8CB-DA36-4883-8CCE-F1F586F0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A65-5256-4914-92DB-CEE04BB1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3CB-E6E6-4A9F-9609-E8EBCCA0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AC3-63B1-497C-83DE-EDDB467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F3C-2052-4E5F-B714-1356C9E9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988-8E8E-4859-B61F-F2441CD3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4F8-BBC1-403D-97D6-82BCF580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F724-1792-4454-A04A-A2BE2BD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4B3-9BAC-4058-A700-F3C75CCC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8CA2-7E57-40C6-B3AE-A4ACA55C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F44-BD14-450B-B533-FFD0D4E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645-D0F5-4A2C-9888-61DCC84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DD6-6BAE-4C78-BF09-5582E0E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AC2-0070-475A-AE39-E877CEE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8771-079D-4648-9A91-009D94B0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7CC-5610-4D11-A5A1-8F839F1F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225E-A4DF-4018-998F-DFDD507E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00A-EBE0-46CD-8D2D-D8804909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402-B372-40BC-93FB-34B64625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496-8FAA-4EAD-92A6-6A78094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265-27DC-43FE-8113-0FFCDF0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93B-CD08-42B5-9F49-DE57CD27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BD3-5F47-46E3-A3F8-FD13EE6F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BA0-421A-441C-BCC0-EE968F50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5D6-129E-4BB0-AD25-B34CD5329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3900-9389-46EF-B504-8E77179CA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ионы мира и международные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454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неральная Ассамблея (Г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диняет всех членов ООН по принципу «одна страна – один голос». Резолюции ГА носят рекомендательный характер. ГА определяет политику и программу действия организации. Сессии ГА проходят ежегодно, но могут созываться и чрезвычай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022640" cy="2673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ий и Социальный со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ЭкоСо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 по опе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су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ариа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еральный секретарь  О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начается Генеральной Ассамблеей по рекомендации Совета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 пр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СКО – по проблемам образования, культуры, экологии и т.п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НЕП – по вопросам охраны прир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 – по проблемам здравоохра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АТЭ – агенство по атомной энер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 – по вопросам организации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О – продовольствие и сельское хозяйство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5848560" cy="432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857680" cy="285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по безопасности и сотрудничеству в Европе (ОБСЕ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в 1975 г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52 государства евразийского региона и Канада с США, статус наблюдателя у Макед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90 году подписана Пражская хар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СЕ наблюдатель при ООН, секретариат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3094200"/>
            <a:ext cx="4987800" cy="3592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53120" cy="3000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тран – экспортёров нефти (ОПЕК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ана в 1960 году в Багда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ят 13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ОПЕК – координация политики в области добычи и экспорта нефти, обеспечение стабильности цен на мировых нефтяных рынках, охрана окружающей среды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ящие органы в Вене (Австр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вропейский Союз (ЕС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5194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фициально существует с 1 ноября 1993 года (предшественником было ЕЭС, образованное Бельгией, Нидерландами, Люксембургом, ФРГ, Францией и Италией в 1958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221280" cy="4868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152800" cy="1619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рганизация Североатлантического договора (НАТО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056360" cy="3978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территория, выделяющаяся по какому-либо признак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терии выделения регио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ы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Азиатско-Тихоокеанского экономического сотрудничества (АТЭС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3068640"/>
            <a:ext cx="4259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реждена в 1989 г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диняет 21 государство, создана по инициативе Австр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3962160" cy="5283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«Большая семёр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ША, Япония, Великобритания, Германия, Франция, Италия, Кан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Россией называется «Большая восьмёрка» (с 1996 г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ругие организаци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социация государств юго-восточной Азии (АСЕА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европейский союз (ЗЕ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ибское сообщество(КС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га Арабских государств (Л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мериканских государств (ОА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Африканского единства (ОА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«Исламская конференция» (ОИК) – 5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 экономического сотрудничества и развития (ОЭСР) – 25 стран – участниц, штаб – квартира в Париже (Франц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, задания в Рабочей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по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: форма правления, государственное устройство, суверенное государство, освободившаяся страна, региональный конфликт, политическая география, унитарное государство, федерация, республика, монархия и её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типы регионов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ко – географ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( территории, связанные принадлежностью к какому – либо географическому объекту – материку, полуострову,реке и т.п) – таблица 1, стр 1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о – экономическ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ъединяют страны, имеющие близкий уровень социально-экономического разви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сторико – географические регионы мир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фр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окита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ндина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жний Вос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е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ри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т – Инд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аны Персидского зали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тинская Америка, Центральная Европа, Дунайские страны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ж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бъединения суверенных государств, играют важную роль в современных международных отнош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правительствен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не учреждённые на основании межправительственного соглашения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мирный совет мира, Всемирная федерация профсоюзов, Международная демократическая федерация женщин, Международная организация журналист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рганизация Объединённых Наций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штаб – квартира в Нью - Йорк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а 24 октября 1945 г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лены -  свыше 190 государ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атели – Ватикан, Швейцария, Организация Освобождения Палестины, Организация африканского единства, Европейский Союз, Организация «Исламская конференция», Международный комитет Красного Крес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5256360" cy="50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241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держка мира и международной безопас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отношений между нациями на основе уважения принципов равноправия и самоопред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зрешении мировых проблем политического, экономического, социального, культурного характ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ение уважения к права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ращение ООН в центр согласования усилий наций и народов по достижению общих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лавные органы ОО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т Безопасности (С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стоит из 15 членов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еликобритания, Китай, Россия, США, Франция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непостоян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збираемых на 2 года по квотам –         5 мест для Азии и Африки,                      1 для Восточной Европы,                        2 места для Латинской Америки и          2 для стран Западной Евр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2:19:48Z</dcterms:created>
  <dc:creator>Admin</dc:creator>
  <dc:description/>
  <dc:language>en-US</dc:language>
  <cp:lastModifiedBy>Admin</cp:lastModifiedBy>
  <dcterms:modified xsi:type="dcterms:W3CDTF">2011-09-26T15:19:19Z</dcterms:modified>
  <cp:revision>46</cp:revision>
  <dc:subject/>
  <dc:title>Регионы мира и международные организации</dc:title>
</cp:coreProperties>
</file>