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B7FA-8DDE-41FE-ABEC-4961E21B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D2ED-E73D-48D9-9F36-8229B460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FCD1-765C-4F34-91AA-BD3CDC35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7CA1-1CA2-4353-9DF1-ADE08E9B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CC50-D62C-43CF-A18B-4F76366F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9552-5E21-4645-BE83-08CE0036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DD44-6C33-41EC-8008-457BF22B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6044-0242-43DE-AF00-FDEFDD45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446B-C21D-43FE-86E5-06CF202B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1474-BDC6-4281-ADD8-50933092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1CF3-EF6E-4C66-B089-C38656D7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424F-1489-4664-8A1B-8D8DFD56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1C50-63E9-4CD9-93A9-319487C2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7C44-CB9E-4025-97B2-E8E9D7B6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85BE-A3E9-4DA0-9166-9474E16D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3F26-3D67-4E1D-BC53-16448FBF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9977-16FA-44B8-AAE5-BCFDEE2A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7A6E-7E66-4F87-B1DE-4FE9474B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A750-8EAA-4143-BAE3-ABC8F58C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311-B597-46E0-ACFA-D91BD08A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56F-4BB9-497D-9D3E-9798D86A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5864-ECE5-46C3-8191-170AA373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1800-3F34-4ADB-902E-6DE182F7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E706-CD0A-4922-A292-CB0CCFFB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6D14-2541-438D-9BBF-9E4290C61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32AD-C094-48AC-82AD-BB7588EB0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podrobnosti.ua/upload/news/2009/05/06/600282_3.jpg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arunyahya.org/evrim/yaratilis_atlasi_cilt3/res/trilobit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845080" y="333360"/>
            <a:ext cx="3404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Развитие жизни на планет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(силурийский период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700360" y="1125360"/>
            <a:ext cx="3633840" cy="5264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4430520" y="602028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0 миллионов л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4752720" cy="4354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529240" y="2276640"/>
            <a:ext cx="3484440" cy="4402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5656320" y="680760"/>
            <a:ext cx="27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кантоды (реконструкция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5467320" cy="3066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5" name="" descr="Картинка 4 из 72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2678040"/>
            <a:ext cx="4726080" cy="378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386360" y="3691080"/>
            <a:ext cx="215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рилобит Asaphiscu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Картинка 5 из 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620640"/>
            <a:ext cx="7201080" cy="575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3889440" cy="54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715200" y="5660640"/>
            <a:ext cx="48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конструкция первых сосудисты растений суш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3306960" cy="6481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5278320" cy="2865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198880" y="371628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тин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4905720" cy="5977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156360" y="1844640"/>
            <a:ext cx="2636640" cy="3621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6138720" y="56988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еконстру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на силурийского мор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2732040" cy="6191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9280" y="1989000"/>
            <a:ext cx="5076720" cy="3218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4216680" y="622440"/>
            <a:ext cx="31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рдовикский ракоскорпи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илурийский скорпи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635280" y="907920"/>
            <a:ext cx="720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126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4314960" cy="5715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72000" y="909720"/>
            <a:ext cx="3540240" cy="4895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5345640" y="378000"/>
            <a:ext cx="294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илурийские ракоскорпио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3816360" cy="268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88000" y="3500280"/>
            <a:ext cx="4133880" cy="2781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780000" y="333360"/>
            <a:ext cx="4633920" cy="2479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1312920" y="4770360"/>
            <a:ext cx="259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илурийские брахиопо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21080" y="476280"/>
            <a:ext cx="2622240" cy="33732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овременные брахиопо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66000" y="100080"/>
            <a:ext cx="2849400" cy="4552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3619440" cy="311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124000" y="3500280"/>
            <a:ext cx="3810240" cy="285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5995440" y="513072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раптоли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6000" y="3429000"/>
            <a:ext cx="3817800" cy="2832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356000" y="189000"/>
            <a:ext cx="4606920" cy="3522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995440" y="513072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раптоли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0" y="3571920"/>
            <a:ext cx="4052880" cy="2865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87280" y="189000"/>
            <a:ext cx="6096240" cy="376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2341800" y="450756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кант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3T14:20:24Z</dcterms:created>
  <dc:creator>Soroka</dc:creator>
  <dc:description/>
  <dc:language>en-US</dc:language>
  <cp:lastModifiedBy>Леонова</cp:lastModifiedBy>
  <dcterms:modified xsi:type="dcterms:W3CDTF">2009-10-06T18:06:08Z</dcterms:modified>
  <cp:revision>3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b000000000001024140</vt:lpwstr>
  </property>
</Properties>
</file>