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FA6-D9E3-4779-B927-3460105A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04E-2DBF-415E-B46A-157E35AC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3C5-11EC-4217-989E-6D309C36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178-F834-43EC-A588-DC3367CD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0585-3FC3-4078-89A3-317849F1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100E-502C-4FD7-9149-83597CAF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0FAC-E6A2-4D37-AF55-81A1AA5C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5E24-FCE8-436B-88E9-DAB8C68B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0D62-769B-43E3-B57E-FA86E730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36BC-072D-4D05-B101-A888AB0B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1DED-80DD-40E6-8BC9-D7404995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4C3-0231-433C-857B-603FFCC8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6478-C3A5-4D8E-991B-4F31E2C1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649B-7175-400B-ACED-C8F17F0D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BA11-6CB3-40B0-87B1-2582304E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E6EE-9E3F-4FC3-9147-6D479AAD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3B1E-3DB8-469B-9769-9BE6E6CE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7BA-4873-4BAD-A838-8ADE86F8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A3D-8B16-4FAF-8805-84E722A8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C66-6583-4724-B00C-87B32D9D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9B6-1F43-47B1-AB48-00DD4447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520-D79E-4DB4-B2D5-6C23DC7E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8B3-5665-44A9-8D69-37496D6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F1F-918E-4AE4-B326-1C1EE8C4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E7B-6062-424A-9794-1B5F4EEA3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68AE-D62F-4DA3-A376-86366ECC4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podrobnosti.ua/upload/news/2009/05/06/600282_3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arunyahya.org/evrim/yaratilis_atlasi_cilt3/res/trilobit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45080" y="333360"/>
            <a:ext cx="340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Развитие жизни на планет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(силурийский период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633840" cy="526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4430520" y="60202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0 миллионов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4752720" cy="435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29240" y="2276640"/>
            <a:ext cx="3484440" cy="44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656320" y="680760"/>
            <a:ext cx="27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кантоды (реконструкция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67320" cy="306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5" name="" descr="Картинка 4 из 7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2678040"/>
            <a:ext cx="4726080" cy="378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386360" y="369108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илобит Asaphisc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Картинка 5 из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620640"/>
            <a:ext cx="7201080" cy="575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3889440" cy="54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715200" y="5660640"/>
            <a:ext cx="48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конструкция первых сосудисты растений суш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3306960" cy="648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278320" cy="2865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98880" y="37162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ин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4905720" cy="597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636640" cy="362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6138720" y="5698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еконстру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на силурийского мор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732040" cy="619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9280" y="1989000"/>
            <a:ext cx="5076720" cy="3218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216680" y="622440"/>
            <a:ext cx="31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довикский ракоскорпи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лурийский скорпи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35280" y="90792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431496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72000" y="909720"/>
            <a:ext cx="3540240" cy="48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5345640" y="378000"/>
            <a:ext cx="29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илурийские ракоскорпио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816360" cy="268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4133880" cy="2781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4633920" cy="247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312920" y="477036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илурийские брахиоп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21080" y="476280"/>
            <a:ext cx="2622240" cy="3373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еменные брахиоп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66000" y="100080"/>
            <a:ext cx="2849400" cy="455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3619440" cy="31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124000" y="3500280"/>
            <a:ext cx="3810240" cy="285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995440" y="51307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птоли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3817800" cy="28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606920" cy="352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995440" y="51307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птоли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0" y="3571920"/>
            <a:ext cx="4052880" cy="28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096240" cy="37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2341800" y="45075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ант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4:20:24Z</dcterms:created>
  <dc:creator>Soroka</dc:creator>
  <dc:description/>
  <dc:language>en-US</dc:language>
  <cp:lastModifiedBy>Леонова</cp:lastModifiedBy>
  <dcterms:modified xsi:type="dcterms:W3CDTF">2009-10-06T18:06:08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b000000000001024140</vt:lpwstr>
  </property>
</Properties>
</file>