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46E-77BD-482E-9F7B-D9266193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C59-65D1-474B-910A-EAD089B5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FB9-3353-4B1D-9616-8C4D255A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6C2-B89B-457E-B9A1-3BE38CC4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8344-B0BC-4CD9-877E-21FB92E7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A530-42F8-4720-910E-255BE3E9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7640-AAFA-4A41-B202-75D3892C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1534-62EE-4B8B-9556-A11A57E0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8798-9AA3-43D5-A8B3-C480A2EB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68C2-87A6-4C92-9956-94A2B589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EE25-5140-4F54-A54F-16F6668D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B4A-2674-4EA1-92ED-691E4121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6A16-5AAD-4C5D-9F7E-E2C7E82C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FC38-092D-4B29-8554-CDB52BF3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3B64-6C04-46B0-A509-A3696605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E402-7EAB-443B-B6CC-076A6C79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4159-1154-4B17-890F-1CE184E4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ED0-852D-4379-91D9-657EB34E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DFF-6456-4F61-8595-766FE222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CB3-40DF-4577-B1FE-76E2DE3E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76B-4E88-4C98-AB37-5BF2CE21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74F-3939-4C0B-856A-DCB65642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32A-0F2B-4244-9073-BFCF2229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48D-3F70-4C41-BE0A-46AA75FE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11F0-9C07-42A7-8270-276034F3E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FE87-0DA8-4259-BE9B-85BC944EE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podrobnosti.ua/upload/news/2009/05/06/600282_3.jpg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arunyahya.org/evrim/yaratilis_atlasi_cilt3/res/trilobit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45080" y="333360"/>
            <a:ext cx="3404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Развитие жизни на планет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(силурийский период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3633840" cy="526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4430520" y="602028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0 миллионов л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4752720" cy="4354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529240" y="2276640"/>
            <a:ext cx="3484440" cy="4402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656320" y="680760"/>
            <a:ext cx="27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кантоды (реконструкция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5467320" cy="3066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5" name="" descr="Картинка 4 из 72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2678040"/>
            <a:ext cx="4726080" cy="378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386360" y="3691080"/>
            <a:ext cx="21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илобит Asaphisc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Картинка 5 из 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620640"/>
            <a:ext cx="7201080" cy="575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3889440" cy="54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715200" y="5660640"/>
            <a:ext cx="48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конструкция первых сосудисты растений суш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3306960" cy="6481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278320" cy="2865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98880" y="37162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тин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4905720" cy="5977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56360" y="1844640"/>
            <a:ext cx="2636640" cy="3621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6138720" y="56988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еконстру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на силурийского мор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2732040" cy="619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9280" y="1989000"/>
            <a:ext cx="5076720" cy="3218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216680" y="622440"/>
            <a:ext cx="31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довикский ракоскорпи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лурийский скорпи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635280" y="907920"/>
            <a:ext cx="720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126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4314960" cy="571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72000" y="909720"/>
            <a:ext cx="3540240" cy="489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5345640" y="378000"/>
            <a:ext cx="294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илурийские ракоскорпио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816360" cy="268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88000" y="3500280"/>
            <a:ext cx="4133880" cy="2781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780000" y="333360"/>
            <a:ext cx="4633920" cy="247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312920" y="4770360"/>
            <a:ext cx="259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илурийские брахиоп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21080" y="476280"/>
            <a:ext cx="2622240" cy="33732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овременные брахиоп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66000" y="100080"/>
            <a:ext cx="2849400" cy="4552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3619440" cy="31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124000" y="3500280"/>
            <a:ext cx="3810240" cy="285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995440" y="513072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раптоли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6000" y="3429000"/>
            <a:ext cx="3817800" cy="283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356000" y="189000"/>
            <a:ext cx="4606920" cy="352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995440" y="513072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раптоли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0" y="3571920"/>
            <a:ext cx="4052880" cy="2865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6096240" cy="376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2341800" y="450756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кант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14:20:24Z</dcterms:created>
  <dc:creator>Soroka</dc:creator>
  <dc:description/>
  <dc:language>en-US</dc:language>
  <cp:lastModifiedBy>Леонова</cp:lastModifiedBy>
  <dcterms:modified xsi:type="dcterms:W3CDTF">2009-10-06T18:06:08Z</dcterms:modified>
  <cp:revision>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b000000000001024140</vt:lpwstr>
  </property>
</Properties>
</file>