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B2CA-DCC5-447E-8649-B408D3A8C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2B8E-5B17-4FCA-9134-292C1374C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CC1-6D5C-4DF1-998B-C1391943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AAE-379B-4505-B4D0-1238AE67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6F5-0C2A-412C-A3FA-2470B614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CF5-50F5-4B38-AEE6-5D3986AD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599-8445-44AC-94DE-07B638BD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3CC-8F83-470D-AD79-B39CC6A7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0E3-B594-438B-9411-443F86C7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396-6086-4D55-A413-D5FF30FC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A43-45D9-4BC8-A0EF-46F41F25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A3E-28C8-4E15-95FE-73218C3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FE5-73D6-4CEC-AD73-DA13DC1C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EB4-D4E0-4D6C-BAF9-B35C1B41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37AD-1395-4425-AAC9-92872A779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rotectacow.typepad.com/.a/6a00d8345191c169e20111689a293d970c-320wi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rishna-ural.ru/gita/f_11271734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scue-world.org/images3/india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eentravel.by/thumb/1000x0xM/files/catalog/extra/ru/249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keralatourism.org/images/destination/2132066230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rosstour.by/content/images/slony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mobile-arsenal.com.ua/image/July2009/india_map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g0.liveinternet.ru/images/attach/c/0/46/544/46544689_shiva.gi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ermes-press.com/krishna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bvml.org/SBBTM/ram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пагода ШведагонЗолотой Даг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32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циального воспита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государствах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евнего Востока: </a:t>
            </a:r>
            <a:br>
              <a:rPr sz="44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1845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1845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чальный этап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сем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яд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зачатие, рож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чение им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вынос из до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кормл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стриж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10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13360" y="990720"/>
            <a:ext cx="3473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 уче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8377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гу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духовный отец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анияма – посвя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ченики (взрослую жиз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ки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хманы – с 8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шатрии – с 11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йшьи – с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– 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артинка 38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219320"/>
            <a:ext cx="3247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казы в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и пи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ое образ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зия, литерату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матика, филос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, астроном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Картинка 77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14300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едства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 семей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е прав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общеж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а за 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рки, помощь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36 из 5929"/>
          <p:cNvPicPr/>
          <p:nvPr/>
        </p:nvPicPr>
        <p:blipFill>
          <a:blip r:embed="rId1"/>
          <a:stretch/>
        </p:blipFill>
        <p:spPr>
          <a:xfrm>
            <a:off x="5638680" y="1523880"/>
            <a:ext cx="33670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тхатха Гаутам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а = просветл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19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23-544 гг. 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шель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овершенств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ветитель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stina.ucoz.ua/pic/budda.jpg"/>
          <p:cNvPicPr/>
          <p:nvPr/>
        </p:nvPicPr>
        <p:blipFill>
          <a:blip r:embed="rId1"/>
          <a:stretch/>
        </p:blipFill>
        <p:spPr>
          <a:xfrm>
            <a:off x="5486400" y="1523880"/>
            <a:ext cx="342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изм о помощи и взаимо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342900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ртвенная любовь, имеющая одно чистое побуждение – облегчить страда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статуя Будды Таиланд"/>
          <p:cNvPicPr/>
          <p:nvPr/>
        </p:nvPicPr>
        <p:blipFill>
          <a:blip r:embed="rId1"/>
          <a:stretch/>
        </p:blipFill>
        <p:spPr>
          <a:xfrm>
            <a:off x="5354640" y="1828800"/>
            <a:ext cx="356076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476280" y="1447920"/>
            <a:ext cx="47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ополагающий принцип служение ближн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аяние и возда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ав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-то свобод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всяких усло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я с друг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е счасть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ти его брем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здо больше, чем д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милосерд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теприим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11 из 64000"/>
          <p:cNvPicPr/>
          <p:nvPr/>
        </p:nvPicPr>
        <p:blipFill>
          <a:blip r:embed="rId1"/>
          <a:stretch/>
        </p:blipFill>
        <p:spPr>
          <a:xfrm>
            <a:off x="5105520" y="685800"/>
            <a:ext cx="35701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дии достижения нирв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дваритель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средоточен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кончательного усв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шее блаженство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Картинка 18 из 64000"/>
          <p:cNvPicPr/>
          <p:nvPr/>
        </p:nvPicPr>
        <p:blipFill>
          <a:blip r:embed="rId1"/>
          <a:stretch/>
        </p:blipFill>
        <p:spPr>
          <a:xfrm>
            <a:off x="5591160" y="1600200"/>
            <a:ext cx="3324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спитание в буддийских монастыр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древних трак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лософии, математи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е, астроно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енство (бессослов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vyshivai.ru/images/resize/34902.jpg"/>
          <p:cNvPicPr/>
          <p:nvPr/>
        </p:nvPicPr>
        <p:blipFill>
          <a:blip r:embed="rId1"/>
          <a:stretch/>
        </p:blipFill>
        <p:spPr>
          <a:xfrm>
            <a:off x="6705720" y="914400"/>
            <a:ext cx="2292120" cy="269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Картинка 64 из 64000"/>
          <p:cNvPicPr/>
          <p:nvPr/>
        </p:nvPicPr>
        <p:blipFill>
          <a:blip r:embed="rId2"/>
          <a:stretch/>
        </p:blipFill>
        <p:spPr>
          <a:xfrm>
            <a:off x="6095880" y="3505320"/>
            <a:ext cx="22100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52280" y="1523880"/>
            <a:ext cx="601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ай-лама XIV (род. 6 июля 1935) — духовный лидер буддистов Тибета, Монголии, Бурят-Монголии, Тывы, Калмыкии,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декабря 1989 года Далай-лама получил Нобелевскую премию от имени всех, кто подвергается гонениям, всех, кто борется за свободу и трудится во имя мира во всём мире, а также от имени тибетского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Его Святейшество Далай-лама 14 (Тензин Гьяцо)"/>
          <p:cNvPicPr/>
          <p:nvPr/>
        </p:nvPicPr>
        <p:blipFill>
          <a:blip r:embed="rId1"/>
          <a:stretch/>
        </p:blipFill>
        <p:spPr>
          <a:xfrm>
            <a:off x="6356520" y="1371600"/>
            <a:ext cx="2573280" cy="3657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мощь и взаимопомощь в буддизме в настояще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Картинка 267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е (миф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енные (археологические памятн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исьмен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ы художественно-религиозного характера («Бхагавата-пурана», «Махабхарата», «Рамаяна»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е книги («Бхагавадгита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документы (законы Ману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о-географ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geopoesia.ru/gp/map/admin/india-map-admin.jpg"/>
          <p:cNvPicPr/>
          <p:nvPr/>
        </p:nvPicPr>
        <p:blipFill>
          <a:blip r:embed="rId1"/>
          <a:stretch/>
        </p:blipFill>
        <p:spPr>
          <a:xfrm>
            <a:off x="1843200" y="1143000"/>
            <a:ext cx="52434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де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товод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олов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ме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Картинка 1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7432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артинка 6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800600"/>
            <a:ext cx="4038480" cy="18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44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762120"/>
            <a:ext cx="3097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единого государства д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 до н. 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" descr="Картинка 51 из 64000"/>
          <p:cNvPicPr/>
          <p:nvPr/>
        </p:nvPicPr>
        <p:blipFill>
          <a:blip r:embed="rId1"/>
          <a:stretch/>
        </p:blipFill>
        <p:spPr>
          <a:xfrm>
            <a:off x="228600" y="28954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Картинка 98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3880" y="1905120"/>
            <a:ext cx="411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ховны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образие религиозных куль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Картинка 101 из 64000"/>
          <p:cNvPicPr/>
          <p:nvPr/>
        </p:nvPicPr>
        <p:blipFill>
          <a:blip r:embed="rId1"/>
          <a:stretch/>
        </p:blipFill>
        <p:spPr>
          <a:xfrm>
            <a:off x="304920" y="3352680"/>
            <a:ext cx="2590560" cy="3364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Картинка 9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1905120"/>
            <a:ext cx="2600280" cy="340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241 из 64000"/>
          <p:cNvPicPr/>
          <p:nvPr/>
        </p:nvPicPr>
        <p:blipFill>
          <a:blip r:embed="rId4"/>
          <a:stretch/>
        </p:blipFill>
        <p:spPr>
          <a:xfrm>
            <a:off x="5943600" y="3700440"/>
            <a:ext cx="30481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ая 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с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ы (жрецы) – праведность, чистота помы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шатрии (воины) – мужество и смел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йшьи (крестьяне, ремесленники. Торговцы) – трудолюбие, терп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дры (слуги) – трудолюбие, покорность, безропотность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ал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высшие ка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ственное развитие; духовность (способность к самопознанию); физическое совершенство; любовь к природе, прекрасному, самообладание и сдержа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тог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рганичное сочетание индивидуального и общественного нач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фические иде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шна                  Рама             Арджу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хагавата-пурана»      «Махабхарата»    «Бхагаватг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артинка 2 из 44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514600"/>
            <a:ext cx="262872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Картинка 15 из 6226"/>
          <p:cNvPicPr/>
          <p:nvPr/>
        </p:nvPicPr>
        <p:blipFill>
          <a:blip r:embed="rId3"/>
          <a:stretch/>
        </p:blipFill>
        <p:spPr>
          <a:xfrm>
            <a:off x="3505320" y="25146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bvml.org/SBBTM/ram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80000" y="2514600"/>
            <a:ext cx="2511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 Николаевич Грибан</cp:lastModifiedBy>
  <dcterms:modified xsi:type="dcterms:W3CDTF">2011-01-17T12:52:1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f000000000001024140</vt:lpwstr>
  </property>
  <property fmtid="{D5CDD505-2E9C-101B-9397-08002B2CF9AE}" pid="3" name="Version">
    <vt:r8>1</vt:r8>
  </property>
</Properties>
</file>