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6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2.jpeg" ContentType="image/jpeg"/>
  <Override PartName="/ppt/media/image7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mage1.png" ContentType="image/pn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96D45-CC9A-45EC-9F41-EB674E78E48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65098-2860-433C-828B-4A267C9BE97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52502-7828-4172-B501-64FC690F3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F977C-C2BE-4770-BC16-3C292AA2C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24555-0671-43BC-B08B-AD594BE8F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39D70-4703-48B5-8457-A7F9A4D0E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CC389-895F-4E1E-A6AE-B4652639C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11D2A-6A05-46A0-A869-FD71DB1C1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37DBF-E0F3-44CB-8389-C438D2491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62BB7-6B29-4790-9D35-8E3E09DA1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0361D-3890-4FFE-AE4B-D0306457E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3CABB-7EB1-431E-A79F-4759EB6EC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8E960-9D4B-44C3-94DC-5CF93875F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6E2C0-04E9-43A7-A1A4-D946B5FE9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5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12AD8-7A3F-43F7-A43E-CAF5B164C53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protectacow.typepad.com/.a/6a00d8345191c169e20111689a293d970c-320wi" TargetMode="Externa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krishna-ural.ru/gita/f_11271734.jpg" TargetMode="External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rescue-world.org/images3/india04.jpg" TargetMode="External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greentravel.by/thumb/1000x0xM/files/catalog/extra/ru/249.jpg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www.keralatourism.org/images/destination/2132066230.jpg" TargetMode="External"/><Relationship Id="rId4" Type="http://schemas.openxmlformats.org/officeDocument/2006/relationships/image" Target="../media/image5.jpeg"/><Relationship Id="rId5" Type="http://schemas.openxmlformats.org/officeDocument/2006/relationships/hyperlink" Target="http://crosstour.by/content/images/slony.jpg" TargetMode="External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mobile-arsenal.com.ua/image/July2009/india_map.jpg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img0.liveinternet.ru/images/attach/c/0/46/544/46544689_shiva.gif" TargetMode="External"/><Relationship Id="rId3" Type="http://schemas.openxmlformats.org/officeDocument/2006/relationships/image" Target="../media/image10.pn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hermes-press.com/krishna4.jpg" TargetMode="External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hyperlink" Target="http://www.bvml.org/SBBTM/rama.jpg" TargetMode="External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2" descr="пагода ШведагонЗолотой Дагон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828800"/>
            <a:ext cx="8305920" cy="32767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ffcc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Развитие 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оциального воспитания 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 государствах 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Древнего Востока: </a:t>
            </a:r>
            <a:br>
              <a:rPr sz="4400"/>
            </a:b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Инд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3184560" y="363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3184560" y="2649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Начальный этап воспит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837720"/>
            <a:ext cx="8229600" cy="52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убъект – семь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рядност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зачатие, рождение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речение имен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рвый вынос из дом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рвое кормлени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рвая стрижк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сутствие систе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обучен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2" descr="Картинка 109 из 6400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13360" y="990720"/>
            <a:ext cx="34732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Этап ученичест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228600" y="837720"/>
            <a:ext cx="8686800" cy="52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убъект – гуру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«духовный отец»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панияма – посвяще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ученики (взрослую жизнь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роки обуче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рахманы – с 8 лет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шатрии – с 11 лет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айшьи – с 12 л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сего – 8 л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Картинка 38 из 592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715000" y="1219320"/>
            <a:ext cx="32479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одержание обуч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228600" y="990360"/>
            <a:ext cx="86868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ересказы ве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тение и письм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вышенное образован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эзия, литератур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рамматика, философи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атематика, астрономи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2" descr="Картинка 77 из 592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791320" y="1143000"/>
            <a:ext cx="32004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редства воспит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228600" y="1600200"/>
            <a:ext cx="8763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ип семейных отноше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своение прави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еловеческого общежит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лата за обучен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дарки, помощь ученик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2" descr="Картинка 36 из 5929"/>
          <p:cNvPicPr/>
          <p:nvPr/>
        </p:nvPicPr>
        <p:blipFill>
          <a:blip r:embed="rId1"/>
          <a:stretch/>
        </p:blipFill>
        <p:spPr>
          <a:xfrm>
            <a:off x="5638680" y="1523880"/>
            <a:ext cx="3367080" cy="484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итхатха Гаутама 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Будда = просветленн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1920" y="1599840"/>
            <a:ext cx="85345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623-544 гг. до н.э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шельничест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амосовершенствов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ирван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светительска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еятель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еятель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следователе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2" descr="http://istina.ucoz.ua/pic/budda.jpg"/>
          <p:cNvPicPr/>
          <p:nvPr/>
        </p:nvPicPr>
        <p:blipFill>
          <a:blip r:embed="rId1"/>
          <a:stretch/>
        </p:blipFill>
        <p:spPr>
          <a:xfrm>
            <a:off x="5486400" y="1523880"/>
            <a:ext cx="342900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Буддизм о помощи и взаимопомощ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533520" y="3429000"/>
            <a:ext cx="44956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buClr>
                <a:srgbClr val="00004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жертвенная любовь, имеющая одно чистое побуждение – облегчить страдания други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6" descr="статуя Будды Таиланд"/>
          <p:cNvPicPr/>
          <p:nvPr/>
        </p:nvPicPr>
        <p:blipFill>
          <a:blip r:embed="rId1"/>
          <a:stretch/>
        </p:blipFill>
        <p:spPr>
          <a:xfrm>
            <a:off x="5354640" y="1828800"/>
            <a:ext cx="3560760" cy="380988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10"/>
          <p:cNvSpPr/>
          <p:nvPr/>
        </p:nvSpPr>
        <p:spPr>
          <a:xfrm>
            <a:off x="476280" y="1447920"/>
            <a:ext cx="4781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сновополагающий принцип служение ближнему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3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8" nodeType="afterEffect" fill="hold" presetClass="entr" presetID="3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35" nodeType="afterEffect" fill="hold" presetClass="entr" presetID="40">
                                  <p:stCondLst>
                                    <p:cond delay="2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457200" y="304920"/>
            <a:ext cx="822960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 даяние и воздаян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давая другом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то-то свободно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ез всяких условий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еля с други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вое счастье 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могая другом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сти его бремя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еловек получае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ораздо больше, чем дал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 милосердие 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остеприимство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2" descr="Картинка 11 из 64000"/>
          <p:cNvPicPr/>
          <p:nvPr/>
        </p:nvPicPr>
        <p:blipFill>
          <a:blip r:embed="rId1"/>
          <a:stretch/>
        </p:blipFill>
        <p:spPr>
          <a:xfrm>
            <a:off x="5105520" y="685800"/>
            <a:ext cx="3570120" cy="517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тадии достижения нирван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30456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предварительная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сосредоточенности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окончательного усво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ирвана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сшее блаженство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ичт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2" descr="Картинка 18 из 64000"/>
          <p:cNvPicPr/>
          <p:nvPr/>
        </p:nvPicPr>
        <p:blipFill>
          <a:blip r:embed="rId1"/>
          <a:stretch/>
        </p:blipFill>
        <p:spPr>
          <a:xfrm>
            <a:off x="5591160" y="1600200"/>
            <a:ext cx="332424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оспитание в буддийских монастыря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228240" y="14475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учен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зучение древних трактато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 философии, математике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дицине, астроном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венство (бессословность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ндивидуальный характе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латно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2" descr="http://www.vyshivai.ru/images/resize/34902.jpg"/>
          <p:cNvPicPr/>
          <p:nvPr/>
        </p:nvPicPr>
        <p:blipFill>
          <a:blip r:embed="rId1"/>
          <a:stretch/>
        </p:blipFill>
        <p:spPr>
          <a:xfrm>
            <a:off x="6705720" y="914400"/>
            <a:ext cx="2292120" cy="26938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4" descr="Картинка 64 из 64000"/>
          <p:cNvPicPr/>
          <p:nvPr/>
        </p:nvPicPr>
        <p:blipFill>
          <a:blip r:embed="rId2"/>
          <a:stretch/>
        </p:blipFill>
        <p:spPr>
          <a:xfrm>
            <a:off x="6095880" y="3505320"/>
            <a:ext cx="2210040" cy="29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4"/>
          <p:cNvSpPr/>
          <p:nvPr/>
        </p:nvSpPr>
        <p:spPr>
          <a:xfrm>
            <a:off x="152280" y="1523880"/>
            <a:ext cx="60199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алай-лама XIV (род. 6 июля 1935) — духовный лидер буддистов Тибета, Монголии, Бурят-Монголии, Тывы, Калмыкии, и др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0 декабря 1989 года Далай-лама получил Нобелевскую премию от имени всех, кто подвергается гонениям, всех, кто борется за свободу и трудится во имя мира во всём мире, а также от имени тибетского народ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5" descr="Его Святейшество Далай-лама 14 (Тензин Гьяцо)"/>
          <p:cNvPicPr/>
          <p:nvPr/>
        </p:nvPicPr>
        <p:blipFill>
          <a:blip r:embed="rId1"/>
          <a:stretch/>
        </p:blipFill>
        <p:spPr>
          <a:xfrm>
            <a:off x="6356520" y="1371600"/>
            <a:ext cx="2573280" cy="365760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омощь и взаимопомощь в буддизме в настоящее врем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3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4" nodeType="afterEffect" fill="hold" presetClass="entr" presetID="3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61" nodeType="afterEffect" fill="hold" presetClass="entr" presetID="40">
                                  <p:stCondLst>
                                    <p:cond delay="2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3" descr="Картинка 267 из 6400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Источник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228600" y="1294920"/>
            <a:ext cx="861048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09040" indent="-5090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стные (мифы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9040" indent="-5090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ещественные (археологические памятники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9040" indent="-50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 Письменны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9040" indent="-50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ексты художественно-религиозного характера («Бхагавата-пурана», «Махабхарата», «Рамаяна»)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9040" indent="-50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чебные книги («Бхагавадгита»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9040" indent="-50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ормативные документы (законы Ману»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1523880" y="3063960"/>
          <a:ext cx="6096240" cy="731880"/>
        </p:xfrm>
        <a:graphic>
          <a:graphicData uri="http://schemas.openxmlformats.org/drawingml/2006/table">
            <a:tbl>
              <a:tblPr/>
              <a:tblGrid>
                <a:gridCol w="1524240"/>
                <a:gridCol w="1523880"/>
                <a:gridCol w="1523880"/>
                <a:gridCol w="1524240"/>
              </a:tblGrid>
              <a:tr h="366120">
                <a:tc gridSpan="4"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риродно-географический факто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http://www.geopoesia.ru/gp/map/admin/india-map-admin.jpg"/>
          <p:cNvPicPr/>
          <p:nvPr/>
        </p:nvPicPr>
        <p:blipFill>
          <a:blip r:embed="rId1"/>
          <a:stretch/>
        </p:blipFill>
        <p:spPr>
          <a:xfrm>
            <a:off x="1843200" y="1143000"/>
            <a:ext cx="5243400" cy="557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Экономический факто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сновные занят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хот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емледели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котоводство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ыболовство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емесл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орговл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" descr="Картинка 19 из 6400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81280" y="2743200"/>
            <a:ext cx="3276720" cy="21891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5" descr="Картинка 66 из 64000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876920" y="4800600"/>
            <a:ext cx="4038480" cy="18637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7" descr="Картинка 44 из 64000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791320" y="762120"/>
            <a:ext cx="3097080" cy="23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олитический факто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сутствие единого государства до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в. до н. э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1523880" y="3063960"/>
          <a:ext cx="6096240" cy="731880"/>
        </p:xfrm>
        <a:graphic>
          <a:graphicData uri="http://schemas.openxmlformats.org/drawingml/2006/table">
            <a:tbl>
              <a:tblPr/>
              <a:tblGrid>
                <a:gridCol w="1524240"/>
                <a:gridCol w="1523880"/>
                <a:gridCol w="1523880"/>
                <a:gridCol w="1524240"/>
              </a:tblGrid>
              <a:tr h="366120">
                <a:tc gridSpan="4"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6" name="Picture 1" descr="Картинка 51 из 64000"/>
          <p:cNvPicPr/>
          <p:nvPr/>
        </p:nvPicPr>
        <p:blipFill>
          <a:blip r:embed="rId1"/>
          <a:stretch/>
        </p:blipFill>
        <p:spPr>
          <a:xfrm>
            <a:off x="228600" y="2895480"/>
            <a:ext cx="5076720" cy="38102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" descr="Картинка 98 из 64000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033880" y="1905120"/>
            <a:ext cx="411012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Духовный факто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304560" y="990360"/>
            <a:ext cx="838188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ногообразие религиозных культо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ндуиз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рахманиз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уддиз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1" descr="Картинка 101 из 64000"/>
          <p:cNvPicPr/>
          <p:nvPr/>
        </p:nvPicPr>
        <p:blipFill>
          <a:blip r:embed="rId1"/>
          <a:stretch/>
        </p:blipFill>
        <p:spPr>
          <a:xfrm>
            <a:off x="304920" y="3352680"/>
            <a:ext cx="2590560" cy="33642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" descr="Картинка 96 из 64000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200400" y="1905120"/>
            <a:ext cx="2600280" cy="34099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4" descr="Картинка 241 из 64000"/>
          <p:cNvPicPr/>
          <p:nvPr/>
        </p:nvPicPr>
        <p:blipFill>
          <a:blip r:embed="rId4"/>
          <a:stretch/>
        </p:blipFill>
        <p:spPr>
          <a:xfrm>
            <a:off x="5943600" y="3700440"/>
            <a:ext cx="3048120" cy="30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оциальная структур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асты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рахманы (жрецы) – праведность, чистота помысл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шатрии (воины) – мужество и смелос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айшьи (крестьяне, ремесленники. Торговцы) – трудолюбие, терп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Шудры (слуги) – трудолюбие, покорность, безропотность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Идеал воспит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олько высшие каст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мственное развитие; духовность (способность к самопознанию); физическое совершенство; любовь к природе, прекрасному, самообладание и сдержаннос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Итог воспитани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: органичное сочетание индивидуального и общественного нач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Мифические идеал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304560" y="1294920"/>
            <a:ext cx="83818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ришна                  Рама             Арджун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Бхагавата-пурана»      «Махабхарата»    «Бхагаватгит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" descr="Картинка 2 из 4416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3520" y="2514600"/>
            <a:ext cx="2628720" cy="38098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3" descr="Картинка 15 из 6226"/>
          <p:cNvPicPr/>
          <p:nvPr/>
        </p:nvPicPr>
        <p:blipFill>
          <a:blip r:embed="rId3"/>
          <a:stretch/>
        </p:blipFill>
        <p:spPr>
          <a:xfrm>
            <a:off x="3505320" y="2514600"/>
            <a:ext cx="2743200" cy="36576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5" descr="http://www.bvml.org/SBBTM/rama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480000" y="2514600"/>
            <a:ext cx="251172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Олег Николаевич Грибан</cp:lastModifiedBy>
  <dcterms:modified xsi:type="dcterms:W3CDTF">2011-01-17T12:52:12Z</dcterms:modified>
  <cp:revision>3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240f000000000001024140</vt:lpwstr>
  </property>
  <property fmtid="{D5CDD505-2E9C-101B-9397-08002B2CF9AE}" pid="3" name="Version">
    <vt:r8>1</vt:r8>
  </property>
</Properties>
</file>