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2DD-14A7-4E00-B6FF-46814AA1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0D9-5337-4DAB-8248-A76A158D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FF2-354B-4474-A50A-57AD9F4F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2CD-A135-45AD-919E-52EBAAA3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120-07FC-43C3-83BB-7E071924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462-E679-4FF8-BE1C-C423F1B7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608-8C71-40C4-A6DD-17E9D244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7FE-C6F9-4370-AD3B-DB90A15F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C57-0BD3-444C-9130-24C0D883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3FC-2169-4902-A053-D1CC3429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A57-ACCF-4336-BFEC-6638F40F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90E-9C81-470D-BE96-A8674D29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1206-6074-429B-954A-7928F692431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 rot="20838000">
            <a:off x="644040" y="8485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Развитие международного туризма в России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«История развития туризма в России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85840" y="857160"/>
          <a:ext cx="8643960" cy="5775480"/>
        </p:xfrm>
        <a:graphic>
          <a:graphicData uri="http://schemas.openxmlformats.org/drawingml/2006/table">
            <a:tbl>
              <a:tblPr/>
              <a:tblGrid>
                <a:gridCol w="285840"/>
                <a:gridCol w="1643040"/>
                <a:gridCol w="3214440"/>
                <a:gridCol w="350064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поха развити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и и задач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 туризм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я Росс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евний м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е человеком окружающего ми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делал у себя то, что видел у других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9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век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ей э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новых земель. Познание жизни и быта населе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уки. Позна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опыта других стран в своей стран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вековь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е водных путе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аживание торговли России с другими народами и странами. Развитие позна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е новых торговых путей, открытие новых стра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ждение партнеров по торговле. Освоение неизведанног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Нового Света, морского пути в Индию, пути в Монголию, Китай, Азию, Сибирь, Дальний Восток и др. стран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оварно-денежных отношений, складывание российского рынка. Изменение мировоззрения людей, населения Росс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Петр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о странами Европы, познание Камчат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уки, развитие отношений России с Западом, географические исследования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( продолжение таблицы 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71680" y="1214280"/>
          <a:ext cx="8229600" cy="5362560"/>
        </p:xfrm>
        <a:graphic>
          <a:graphicData uri="http://schemas.openxmlformats.org/drawingml/2006/table">
            <a:tbl>
              <a:tblPr/>
              <a:tblGrid>
                <a:gridCol w="328320"/>
                <a:gridCol w="1643040"/>
                <a:gridCol w="2357640"/>
                <a:gridCol w="3900600"/>
              </a:tblGrid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I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начало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X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новых земель, стран, изучение опыта хозяйствов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дипломатических, торговых отношений с Китаем, со странами Южной и Юго-Восточной Азии, с Индией. Процесс активизации хозяйственных связ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0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экскурсионного дела, организаций по туризм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окружающей природы, исторических мест. Возникновение первых туристских организаций, прием иностранных гостей. Возникновение кружков по туризму. Становление туристско-организационной работ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77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е десятилетие ХХ ве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е мира в кругосветных путешествия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ад в развитие России поездок за границу. Распространение технических знаний. Создание туристско-экскурсионного дела, первых экскурсионных комисс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( продолжение таблицы 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00040" y="1143000"/>
          <a:ext cx="8229600" cy="5362560"/>
        </p:xfrm>
        <a:graphic>
          <a:graphicData uri="http://schemas.openxmlformats.org/drawingml/2006/table">
            <a:tbl>
              <a:tblPr/>
              <a:tblGrid>
                <a:gridCol w="399960"/>
                <a:gridCol w="1500480"/>
                <a:gridCol w="2786040"/>
                <a:gridCol w="3543120"/>
              </a:tblGrid>
              <a:tr h="220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7 –1940 г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оциально-экономических услов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ная революция в хозяйстве страны. Интерес к туризму. Появление учреждений по туризму, Бюро туризма. Развитие иностранного туризма, прием и обслуживание («Интурист» гостиница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0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 – 1960 г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дрение новых организационных форм по туризм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й туризм. Создание маршрутов, ознакомление с природой и хозяйством страны. Создание молодежного международного туризма с целью приема гостей на отдых, выезд за границу для отдых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0 – 1980 г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е развитие внутреннего и зарубежного туризм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е, отдых, лечение людей, организация группового международного туризм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Диаграмм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«Структура поездок в Россию иностранных граждан»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(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о данным Госкомстата РФ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Объект 2" descr=""/>
          <p:cNvPicPr/>
          <p:nvPr/>
        </p:nvPicPr>
        <p:blipFill>
          <a:blip r:embed="rId1"/>
          <a:stretch/>
        </p:blipFill>
        <p:spPr>
          <a:xfrm>
            <a:off x="457200" y="2214720"/>
            <a:ext cx="8229600" cy="421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Диаграмм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«Распределение числа прибытий с целью туризма из всех стран мира»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за 2005 год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(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о данным Госкомстата РФ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)</a:t>
            </a:r>
            <a:br>
              <a:rPr sz="25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457200" y="2357280"/>
            <a:ext cx="8229600" cy="400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«Классификация  международного  туризма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(автор А. Ю. Александрова)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14200" y="1101600"/>
          <a:ext cx="8715600" cy="5218200"/>
        </p:xfrm>
        <a:graphic>
          <a:graphicData uri="http://schemas.openxmlformats.org/drawingml/2006/table">
            <a:tbl>
              <a:tblPr/>
              <a:tblGrid>
                <a:gridCol w="2071800"/>
                <a:gridCol w="2589120"/>
                <a:gridCol w="405468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ифика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из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туриз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6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иду используемых ресур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ально-пляж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о для богатых жителей страны и для иностранных гос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знатных жителей, имеющих дох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 не в полную меру и возмож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источникам финансир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ер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озрастному составу участников путешест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зм пожилых люд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зм лиц среднего возрас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ый туриз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числу участников путешест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(продолжение  таблицы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1680" y="1071720"/>
          <a:ext cx="8229600" cy="5973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особу организаций путешест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зова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особу размещения турис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иничного ти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гостиничного ти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т 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идам используемых транспортных средст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бус, авиация, водный, автомобильный, железнодорожный тран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вид использован не на полную возмож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альности поезд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ж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большие возможности, резер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родолжительности путеше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осроч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сроч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осроч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итмичности туристских пото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зо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годич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«Распределение интересов граждан по различным видам туризма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(по данным опроса А.Овсянникова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5200560"/>
        </p:xfrm>
        <a:graphic>
          <a:graphicData uri="http://schemas.openxmlformats.org/drawingml/2006/table">
            <a:tbl>
              <a:tblPr/>
              <a:tblGrid>
                <a:gridCol w="971640"/>
                <a:gridCol w="451476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отдыха (туризм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я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на мор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доров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тур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ал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ле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 горо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чная жизнь (дискотеки, бар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о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й тур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знес-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твети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3:29:27Z</dcterms:created>
  <dc:creator>Томилина И.В.</dc:creator>
  <dc:description/>
  <dc:language>en-US</dc:language>
  <cp:lastModifiedBy>Санек</cp:lastModifiedBy>
  <dcterms:modified xsi:type="dcterms:W3CDTF">2011-09-10T13:41:52Z</dcterms:modified>
  <cp:revision>12</cp:revision>
  <dc:subject/>
  <dc:title>Развитие международного туризма в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080000000000010243100207f6000400038000</vt:lpwstr>
  </property>
</Properties>
</file>