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9DE-9C9C-4829-B52D-6EAF3975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22C-7E67-48E6-A086-8F1E9460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E91-DD39-4F36-86F8-8676A0B4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A4D-92F2-4BAF-BAA6-89341A1A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E84-8723-42B2-8F13-38BA409C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4C4-FD21-4590-ADBE-C72F20CE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EEC-F9BF-4A0B-BC6E-4896D16D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AE3-6F77-47EC-95A9-316C4BED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54E-0363-46B7-9271-7F4DC1D4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C42-79DD-4783-9E2C-2DCF51E3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D01-899C-42E2-96EF-B3CD5340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844-A914-4225-ACF2-75E21690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2E73-6FD0-482A-8AFF-FB5E898E24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 rot="20838000">
            <a:off x="644040" y="8485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Развитие международного туризма в России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«История развития туризма в России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85840" y="857160"/>
          <a:ext cx="8643960" cy="5775480"/>
        </p:xfrm>
        <a:graphic>
          <a:graphicData uri="http://schemas.openxmlformats.org/drawingml/2006/table">
            <a:tbl>
              <a:tblPr/>
              <a:tblGrid>
                <a:gridCol w="285840"/>
                <a:gridCol w="1643040"/>
                <a:gridCol w="3214440"/>
                <a:gridCol w="350064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оха развит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и и задач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 туриз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я Росс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евний м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 человеком окружающего мир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делал у себя то, что видел у други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9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век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ей э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ых земель. Познание жизни и быта насел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уки. Позна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опыта других стран в своей стран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вековь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водных пут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аживание торговли России с другими народами и странами. Развитие позна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е новых торговых путей, открытие новых стра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ждение партнеров по торговле. Освоение неизведанног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ого Света, морского пути в Индию, пути в Монголию, Китай, Азию, Сибирь, Дальний Восток и др. стран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оварно-денежных отношений, складывание российского рынка. Изменение мировоззрения людей, населения Росс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Петр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о странами Европы, познание Камчат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уки, развитие отношений России с Западом, географические исследования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( продолжение таблицы 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71680" y="1214280"/>
          <a:ext cx="8229600" cy="5362560"/>
        </p:xfrm>
        <a:graphic>
          <a:graphicData uri="http://schemas.openxmlformats.org/drawingml/2006/table">
            <a:tbl>
              <a:tblPr/>
              <a:tblGrid>
                <a:gridCol w="328320"/>
                <a:gridCol w="1643040"/>
                <a:gridCol w="2357640"/>
                <a:gridCol w="3900600"/>
              </a:tblGrid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VII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начало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X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ых земель, стран, изучение опыта хозяйствов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дипломатических, торговых отношений с Китаем, со странами Южной и Юго-Восточной Азии, с Индией. Процесс активизации хозяйственных связ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0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экскурсионного дела, организаций по туризм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окружающей природы, исторических мест. Возникновение первых туристских организаций, прием иностранных гостей. Возникновение кружков по туризму. Становление туристско-организационной рабо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7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е десятилетие ХХ ве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 мира в кругосветных путешествия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ад в развитие России поездок за границу. Распространение технических знаний. Создание туристско-экскурсионного дела, первых экскурсионных комисс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( продолжение таблицы 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00040" y="1143000"/>
          <a:ext cx="8229600" cy="5362560"/>
        </p:xfrm>
        <a:graphic>
          <a:graphicData uri="http://schemas.openxmlformats.org/drawingml/2006/table">
            <a:tbl>
              <a:tblPr/>
              <a:tblGrid>
                <a:gridCol w="399960"/>
                <a:gridCol w="1500480"/>
                <a:gridCol w="2786040"/>
                <a:gridCol w="3543120"/>
              </a:tblGrid>
              <a:tr h="220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7 –1940 г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оциально-экономических услов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ная революция в хозяйстве страны. Интерес к туризму. Появление учреждений по туризму, Бюро туризма. Развитие иностранного туризма, прием и обслуживание («Интурист» гостиница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0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 – 1960 г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дрение новых организационных форм по туризм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й туризм. Создание маршрутов, ознакомление с природой и хозяйством страны. Создание молодежного международного туризма с целью приема гостей на отдых, выезд за границу для отдых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0 – 1980 г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е развитие внутреннего и зарубежного туризм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, отдых, лечение людей, организация группового международного туризм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Диаграмм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«Структура поездок в Россию иностранных граждан»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(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о данным Госкомстата РФ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Объект 2" descr=""/>
          <p:cNvPicPr/>
          <p:nvPr/>
        </p:nvPicPr>
        <p:blipFill>
          <a:blip r:embed="rId1"/>
          <a:stretch/>
        </p:blipFill>
        <p:spPr>
          <a:xfrm>
            <a:off x="457200" y="2214720"/>
            <a:ext cx="8229600" cy="421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Диаграмм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«Распределение числа прибытий с целью туризма из всех стран мира»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за 2005 год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(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о данным Госкомстата РФ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)</a:t>
            </a:r>
            <a:br>
              <a:rPr sz="25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457200" y="2357280"/>
            <a:ext cx="8229600" cy="400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«Классификация  международного  туризма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(автор А. Ю. Александрова)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4200" y="1101600"/>
          <a:ext cx="8715600" cy="5218200"/>
        </p:xfrm>
        <a:graphic>
          <a:graphicData uri="http://schemas.openxmlformats.org/drawingml/2006/table">
            <a:tbl>
              <a:tblPr/>
              <a:tblGrid>
                <a:gridCol w="2071800"/>
                <a:gridCol w="2589120"/>
                <a:gridCol w="40546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ифик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из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туриз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6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иду используемых ресур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ально-пляж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чеб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 для богатых жителей страны и для иностранных гос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знатных жителей, имеющих дох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 не в полную меру и возмож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источникам финансир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ер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озрастному составу участников путешест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зм пожилых люд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зм лиц среднего возрас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ый туриз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числу участников путешест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(продолжение  таблицы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1680" y="1071720"/>
          <a:ext cx="8229600" cy="5973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организаций путешест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зова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размещения турис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тиничного ти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гостиничного ти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т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разви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идам используемых транспортных средст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, авиация, водный, автомобильный, железнодорожный тран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вид использован не на полную возмо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альности поезд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ж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большие возможности, резер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одолжительности путеше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сро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ро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сро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итмичности туристских пото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зо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годич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 разв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«Распределение интересов граждан по различным видам туризма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(по данным опроса А.Овсянникова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5200560"/>
        </p:xfrm>
        <a:graphic>
          <a:graphicData uri="http://schemas.openxmlformats.org/drawingml/2006/table">
            <a:tbl>
              <a:tblPr/>
              <a:tblGrid>
                <a:gridCol w="971640"/>
                <a:gridCol w="451476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отдыха (туризм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я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на мо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доров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тур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ал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ле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 горо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чная жизнь (дискотеки, бар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о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й тур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знес-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твети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29:27Z</dcterms:created>
  <dc:creator>Томилина И.В.</dc:creator>
  <dc:description/>
  <dc:language>en-US</dc:language>
  <cp:lastModifiedBy>Санек</cp:lastModifiedBy>
  <dcterms:modified xsi:type="dcterms:W3CDTF">2011-09-10T13:41:52Z</dcterms:modified>
  <cp:revision>12</cp:revision>
  <dc:subject/>
  <dc:title>Развитие международного туризма в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80000000000010243100207f6000400038000</vt:lpwstr>
  </property>
</Properties>
</file>