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D14-A368-4C3B-AF03-F7183D40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02D-2947-44DB-A174-13D379AC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2D9-62EE-4AF7-B012-E8A8FFC2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502-CE2F-4430-9775-1BDD3A71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B50-F447-4A1B-8C23-80779336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6C7-7151-4309-83C1-804E7E30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7D4-FAFD-4BAB-B13D-E13F667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57B-85AD-4350-9984-B704A14C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BC3-06FD-437C-A1D6-92801950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86A-7CE9-491E-9EE0-D792DC5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47C-5523-408E-9FCD-606AA55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D44-0DF4-4193-BEBB-F0C6C0F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9230-303A-4495-B2D2-646047D726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20838000">
            <a:off x="644040" y="8485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Развитие международного туризма в России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История развития туризма в России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85840" y="857160"/>
          <a:ext cx="8643960" cy="5775480"/>
        </p:xfrm>
        <a:graphic>
          <a:graphicData uri="http://schemas.openxmlformats.org/drawingml/2006/table">
            <a:tbl>
              <a:tblPr/>
              <a:tblGrid>
                <a:gridCol w="285840"/>
                <a:gridCol w="1643040"/>
                <a:gridCol w="3214440"/>
                <a:gridCol w="350064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оха развит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и и задач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 туриз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Росс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ний 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человеком окружающего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делал у себя то, что видел у други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ве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ей э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ых земель. Познание жизни и быта насел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уки. 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опыта других стран в своей стран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веков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водных пу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аживание торговли России с другими народами и странами. Развитие позна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новых торговых путей, открытие новых стра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ждение партнеров по торговле. Освоение неизведанн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ого Света, морского пути в Индию, пути в Монголию, Китай, Азию, Сибирь, Дальний Восток и др. стра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оварно-денежных отношений, складывание российского рынка. Изменение мировоззрения людей, населения Росс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Петр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 странами Европы, познание Камчат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уки, развитие отношений России с Западом, географические исследования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( продолжение таблицы 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1680" y="1214280"/>
          <a:ext cx="8229600" cy="5362560"/>
        </p:xfrm>
        <a:graphic>
          <a:graphicData uri="http://schemas.openxmlformats.org/drawingml/2006/table">
            <a:tbl>
              <a:tblPr/>
              <a:tblGrid>
                <a:gridCol w="328320"/>
                <a:gridCol w="1643040"/>
                <a:gridCol w="2357640"/>
                <a:gridCol w="3900600"/>
              </a:tblGrid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ачал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X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ых земель, стран, изучение опыта хозяйств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ипломатических, торговых отношений с Китаем, со странами Южной и Юго-Восточной Азии, с Индией. Процесс активизации хозяйственных связ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0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экскурсионного дела, организаций по туриз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окружающей природы, исторических мест. Возникновение первых туристских организаций, прием иностранных гостей. Возникновение кружков по туризму. Становление туристско-организационной раб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 десятилетие ХХ в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мира в кругосветных путешествия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ад в развитие России поездок за границу. Распространение технических знаний. Создание туристско-экскурсионного дела, первых экскурсионных комисс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( продолжение таблицы 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00040" y="1143000"/>
          <a:ext cx="8229600" cy="5362560"/>
        </p:xfrm>
        <a:graphic>
          <a:graphicData uri="http://schemas.openxmlformats.org/drawingml/2006/table">
            <a:tbl>
              <a:tblPr/>
              <a:tblGrid>
                <a:gridCol w="399960"/>
                <a:gridCol w="1500480"/>
                <a:gridCol w="2786040"/>
                <a:gridCol w="3543120"/>
              </a:tblGrid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7 –194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оциально-экономических услов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ая революция в хозяйстве страны. Интерес к туризму. Появление учреждений по туризму, Бюро туризма. Развитие иностранного туризма, прием и обслуживание («Интурист» гостиница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 – 196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новых организационных форм по туриз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туризм. Создание маршрутов, ознакомление с природой и хозяйством страны. Создание молодежного международного туризма с целью приема гостей на отдых, выезд за границу для отдых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– 198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е развитие внутреннего и зарубежного тур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, отдых, лечение людей, организация группового международного тур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Диаграмм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Структура поездок в Россию иностранных граждан»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(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 данным Госкомстата РФ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8229600" cy="42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Диаграмм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Распределение числа прибытий с целью туризма из всех стран мира»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а 2005 год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(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 данным Госкомстата РФ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)</a:t>
            </a:r>
            <a:br>
              <a:rPr sz="25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57200" y="2357280"/>
            <a:ext cx="8229600" cy="40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Классификация  международного  туризма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(автор А. Ю. Александрова)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1101600"/>
          <a:ext cx="8715600" cy="5218200"/>
        </p:xfrm>
        <a:graphic>
          <a:graphicData uri="http://schemas.openxmlformats.org/drawingml/2006/table">
            <a:tbl>
              <a:tblPr/>
              <a:tblGrid>
                <a:gridCol w="2071800"/>
                <a:gridCol w="2589120"/>
                <a:gridCol w="40546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ту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6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у используемых ресур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ально-пляж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для богатых жителей страны и для иностранных гос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знатных жителей, имеющих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 не в полную меру и возмо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сточникам финанс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р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растному составу участников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зм пожилых люд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зм лиц среднего возра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ый туриз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ислу участников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(продолжение  таблицы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1680" y="1071720"/>
          <a:ext cx="8229600" cy="5973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организаций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з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размещения турис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инич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гостинич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т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используемых транспортных сред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, авиация, водный, автомобильный, железнодорожный 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вид использован не на полную 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альности поез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ж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большие возможности, резер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должительности путеше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итмичности туристских пото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зо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годи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Распределение интересов граждан по различным видам туризма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(по данным опроса А.Овсянникова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5200560"/>
        </p:xfrm>
        <a:graphic>
          <a:graphicData uri="http://schemas.openxmlformats.org/drawingml/2006/table">
            <a:tbl>
              <a:tblPr/>
              <a:tblGrid>
                <a:gridCol w="971640"/>
                <a:gridCol w="451476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отдыха (туризм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я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на мо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доро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ту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а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 горо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ная жизнь (дискотеки, бар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ту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нес-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твети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29:27Z</dcterms:created>
  <dc:creator>Томилина И.В.</dc:creator>
  <dc:description/>
  <dc:language>en-US</dc:language>
  <cp:lastModifiedBy>Санек</cp:lastModifiedBy>
  <dcterms:modified xsi:type="dcterms:W3CDTF">2011-09-10T13:41:52Z</dcterms:modified>
  <cp:revision>12</cp:revision>
  <dc:subject/>
  <dc:title>Развитие международного туризма 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80000000000010243100207f6000400038000</vt:lpwstr>
  </property>
</Properties>
</file>