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EC3761-EFB9-42AC-9ABA-850BA732036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EA1D95-7382-4380-A20E-89A693B0A86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9879EB-386A-4C59-9D8D-F5C1A995085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514CF7-D340-4CE5-A8B1-FB3D3489A7A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F87A12-E911-4D34-9E9E-BA85768795B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41DCC1-3059-411C-A9DA-B37DD080C7C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68E1AB-EC95-427D-8EC1-D6580DAB784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28BA96-AD00-4F41-B76F-21FD8202E53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3443B9-4EF6-4E90-BA63-69E0A1D37AF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FCDF-7BA5-4A84-A0D9-BF23E9FF5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2F00-83B6-4B87-923E-494F6F77B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1500-D46C-4E8F-8727-812D869F9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2F64-AD00-4ED6-A9AA-4FE6DA17B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FFD9-6CD1-43A5-820A-C4FBB1618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0611-E47F-4A3B-8CF0-B5EB94759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57F0-2B01-4330-AA06-4DB5C62F0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8C49-3E35-45B7-A3D4-4DEEBD5BF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07AC-BBE5-4010-8F7C-EF3C050BD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6704-1853-43FF-B5A4-23C5E27B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C49E-82C3-49EF-84A9-23DB0257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960D-0656-4760-A6F8-908AECE2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DC026C4-CC09-4292-971C-A9F9E67BC17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25720" y="993600"/>
            <a:ext cx="5499360" cy="25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Разнообразие</a:t>
            </a:r>
            <a:br>
              <a:rPr sz="6000"/>
            </a:b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 природы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68720" y="4922640"/>
            <a:ext cx="4429440" cy="2143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никова Ольга Виталь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начальных классов Грибановской СОШ №3  Воронежской обл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ружающий ми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арство бактери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Содержимое 3" descr="715px-SalmonellaNIAID.jpg"/>
          <p:cNvPicPr/>
          <p:nvPr/>
        </p:nvPicPr>
        <p:blipFill>
          <a:blip r:embed="rId1"/>
          <a:stretch/>
        </p:blipFill>
        <p:spPr>
          <a:xfrm>
            <a:off x="825480" y="1279440"/>
            <a:ext cx="3643200" cy="305748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4" descr="39604767_stafilokokk.jpg"/>
          <p:cNvPicPr/>
          <p:nvPr/>
        </p:nvPicPr>
        <p:blipFill>
          <a:blip r:embed="rId2"/>
          <a:stretch/>
        </p:blipFill>
        <p:spPr>
          <a:xfrm>
            <a:off x="5183280" y="1279440"/>
            <a:ext cx="4095720" cy="307188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5" descr="Kanapulya44.jpg"/>
          <p:cNvPicPr/>
          <p:nvPr/>
        </p:nvPicPr>
        <p:blipFill>
          <a:blip r:embed="rId3"/>
          <a:stretch/>
        </p:blipFill>
        <p:spPr>
          <a:xfrm>
            <a:off x="5254560" y="4494240"/>
            <a:ext cx="4000680" cy="271476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7" descr="www.yeniresim.com_mikroorganizmalar.jpg"/>
          <p:cNvPicPr/>
          <p:nvPr/>
        </p:nvPicPr>
        <p:blipFill>
          <a:blip r:embed="rId4"/>
          <a:stretch/>
        </p:blipFill>
        <p:spPr>
          <a:xfrm>
            <a:off x="825480" y="4494240"/>
            <a:ext cx="364320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Спасибо за внимание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512720" y="4282560"/>
            <a:ext cx="70567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такое природ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Содержимое 5" descr="78dc16696286.jpg"/>
          <p:cNvPicPr/>
          <p:nvPr/>
        </p:nvPicPr>
        <p:blipFill>
          <a:blip r:embed="rId2"/>
          <a:stretch/>
        </p:blipFill>
        <p:spPr>
          <a:xfrm>
            <a:off x="325440" y="1208160"/>
            <a:ext cx="4381560" cy="32860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6" descr="0_40be_ee153aa1_XL.jpg"/>
          <p:cNvPicPr/>
          <p:nvPr/>
        </p:nvPicPr>
        <p:blipFill>
          <a:blip r:embed="rId3"/>
          <a:stretch/>
        </p:blipFill>
        <p:spPr>
          <a:xfrm>
            <a:off x="2111400" y="3780000"/>
            <a:ext cx="4175280" cy="340992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7" descr="09235eff511efafdaa8556555ef77647.jpg"/>
          <p:cNvPicPr/>
          <p:nvPr/>
        </p:nvPicPr>
        <p:blipFill>
          <a:blip r:embed="rId4"/>
          <a:stretch/>
        </p:blipFill>
        <p:spPr>
          <a:xfrm>
            <a:off x="4917960" y="1351080"/>
            <a:ext cx="4400640" cy="292896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8" descr="58472699_1272660725_9b3be9702e100fec844f8810cf1605f4.jpg"/>
          <p:cNvPicPr/>
          <p:nvPr/>
        </p:nvPicPr>
        <p:blipFill>
          <a:blip r:embed="rId5"/>
          <a:stretch/>
        </p:blipFill>
        <p:spPr>
          <a:xfrm>
            <a:off x="5969160" y="4422600"/>
            <a:ext cx="3676320" cy="27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7" descr="651_medium.jpg"/>
          <p:cNvPicPr/>
          <p:nvPr/>
        </p:nvPicPr>
        <p:blipFill>
          <a:blip r:embed="rId2"/>
          <a:stretch/>
        </p:blipFill>
        <p:spPr>
          <a:xfrm>
            <a:off x="539640" y="4065480"/>
            <a:ext cx="4237200" cy="31863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68720" y="5279760"/>
            <a:ext cx="4429440" cy="18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9" descr="reWalls.com-8771.jpg"/>
          <p:cNvPicPr/>
          <p:nvPr/>
        </p:nvPicPr>
        <p:blipFill>
          <a:blip r:embed="rId3"/>
          <a:srcRect l="3021" t="0" r="3021" b="0"/>
          <a:stretch/>
        </p:blipFill>
        <p:spPr>
          <a:xfrm>
            <a:off x="539640" y="422280"/>
            <a:ext cx="5262840" cy="35002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68360" y="5422680"/>
            <a:ext cx="461988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0000"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рода –это всё, что нас окружает и не сделано руками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10" descr="57785198185592.jpg"/>
          <p:cNvPicPr/>
          <p:nvPr/>
        </p:nvPicPr>
        <p:blipFill>
          <a:blip r:embed="rId4"/>
          <a:stretch/>
        </p:blipFill>
        <p:spPr>
          <a:xfrm>
            <a:off x="5897520" y="493560"/>
            <a:ext cx="3571920" cy="476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6"/>
          <p:cNvSpPr/>
          <p:nvPr/>
        </p:nvSpPr>
        <p:spPr>
          <a:xfrm>
            <a:off x="3683160" y="1851120"/>
            <a:ext cx="264312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р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7"/>
          <p:cNvSpPr/>
          <p:nvPr/>
        </p:nvSpPr>
        <p:spPr>
          <a:xfrm>
            <a:off x="2611440" y="3208320"/>
            <a:ext cx="214308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и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8"/>
          <p:cNvSpPr/>
          <p:nvPr/>
        </p:nvSpPr>
        <p:spPr>
          <a:xfrm>
            <a:off x="5111640" y="3208320"/>
            <a:ext cx="25005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жи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ая соединительная линия 11"/>
          <p:cNvSpPr/>
          <p:nvPr/>
        </p:nvSpPr>
        <p:spPr>
          <a:xfrm>
            <a:off x="3254400" y="1851120"/>
            <a:ext cx="3357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25"/>
          <p:cNvSpPr/>
          <p:nvPr/>
        </p:nvSpPr>
        <p:spPr>
          <a:xfrm flipH="1">
            <a:off x="2395080" y="3208320"/>
            <a:ext cx="1800" cy="71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ая соединительная линия 27"/>
          <p:cNvSpPr/>
          <p:nvPr/>
        </p:nvSpPr>
        <p:spPr>
          <a:xfrm flipH="1">
            <a:off x="3252960" y="1851120"/>
            <a:ext cx="1440" cy="78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ая соединительная линия 29"/>
          <p:cNvSpPr/>
          <p:nvPr/>
        </p:nvSpPr>
        <p:spPr>
          <a:xfrm>
            <a:off x="3254400" y="2637000"/>
            <a:ext cx="3357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ая соединительная линия 31"/>
          <p:cNvSpPr/>
          <p:nvPr/>
        </p:nvSpPr>
        <p:spPr>
          <a:xfrm flipV="1">
            <a:off x="6611040" y="1850760"/>
            <a:ext cx="1800" cy="78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ая соединительная линия 40"/>
          <p:cNvSpPr/>
          <p:nvPr/>
        </p:nvSpPr>
        <p:spPr>
          <a:xfrm flipV="1">
            <a:off x="4683240" y="3208320"/>
            <a:ext cx="1440" cy="71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ая соединительная линия 42"/>
          <p:cNvSpPr/>
          <p:nvPr/>
        </p:nvSpPr>
        <p:spPr>
          <a:xfrm flipH="1">
            <a:off x="5040360" y="3208320"/>
            <a:ext cx="1440" cy="71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46"/>
          <p:cNvSpPr/>
          <p:nvPr/>
        </p:nvSpPr>
        <p:spPr>
          <a:xfrm flipV="1">
            <a:off x="7539840" y="3208320"/>
            <a:ext cx="1800" cy="71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ая соединительная линия 49"/>
          <p:cNvSpPr/>
          <p:nvPr/>
        </p:nvSpPr>
        <p:spPr>
          <a:xfrm>
            <a:off x="5040360" y="3208320"/>
            <a:ext cx="2500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ая соединительная линия 51"/>
          <p:cNvSpPr/>
          <p:nvPr/>
        </p:nvSpPr>
        <p:spPr>
          <a:xfrm>
            <a:off x="5040360" y="3922560"/>
            <a:ext cx="2500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ая соединительная линия 57"/>
          <p:cNvSpPr/>
          <p:nvPr/>
        </p:nvSpPr>
        <p:spPr>
          <a:xfrm>
            <a:off x="2397240" y="32083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ая соединительная линия 61"/>
          <p:cNvSpPr/>
          <p:nvPr/>
        </p:nvSpPr>
        <p:spPr>
          <a:xfrm>
            <a:off x="2397240" y="3922560"/>
            <a:ext cx="2286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Прямая со стрелкой 63"/>
          <p:cNvCxnSpPr/>
          <p:nvPr/>
        </p:nvCxnSpPr>
        <p:spPr>
          <a:xfrm flipH="1">
            <a:off x="3254040" y="2635920"/>
            <a:ext cx="1072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" name="Прямая со стрелкой 65"/>
          <p:cNvCxnSpPr/>
          <p:nvPr/>
        </p:nvCxnSpPr>
        <p:spPr>
          <a:xfrm>
            <a:off x="5397480" y="2636640"/>
            <a:ext cx="128664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77" name="Рисунок 66" descr="1000299.jpg"/>
          <p:cNvPicPr/>
          <p:nvPr/>
        </p:nvPicPr>
        <p:blipFill>
          <a:blip r:embed="rId2"/>
          <a:stretch/>
        </p:blipFill>
        <p:spPr>
          <a:xfrm>
            <a:off x="396720" y="422280"/>
            <a:ext cx="2643480" cy="198288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67" descr="59835395_WindowsLiveWriter_e69ae2d613bf_A3C3_NA001787.jpg"/>
          <p:cNvPicPr/>
          <p:nvPr/>
        </p:nvPicPr>
        <p:blipFill>
          <a:blip r:embed="rId3"/>
          <a:stretch/>
        </p:blipFill>
        <p:spPr>
          <a:xfrm>
            <a:off x="6826320" y="493560"/>
            <a:ext cx="2797200" cy="18576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68" descr="siny_kamen.jpg"/>
          <p:cNvPicPr/>
          <p:nvPr/>
        </p:nvPicPr>
        <p:blipFill>
          <a:blip r:embed="rId4"/>
          <a:stretch/>
        </p:blipFill>
        <p:spPr>
          <a:xfrm>
            <a:off x="6826320" y="4923000"/>
            <a:ext cx="2881080" cy="216036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69" descr="f_223301.jpg"/>
          <p:cNvPicPr/>
          <p:nvPr/>
        </p:nvPicPr>
        <p:blipFill>
          <a:blip r:embed="rId5"/>
          <a:stretch/>
        </p:blipFill>
        <p:spPr>
          <a:xfrm>
            <a:off x="396720" y="4994280"/>
            <a:ext cx="3321360" cy="221472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70" descr="wapos_ru_12058g.jpg"/>
          <p:cNvPicPr/>
          <p:nvPr/>
        </p:nvPicPr>
        <p:blipFill>
          <a:blip r:embed="rId6"/>
          <a:stretch/>
        </p:blipFill>
        <p:spPr>
          <a:xfrm>
            <a:off x="396720" y="2494080"/>
            <a:ext cx="1928880" cy="227952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23" descr="Img214338342.jpg"/>
          <p:cNvPicPr/>
          <p:nvPr/>
        </p:nvPicPr>
        <p:blipFill>
          <a:blip r:embed="rId7"/>
          <a:stretch/>
        </p:blipFill>
        <p:spPr>
          <a:xfrm>
            <a:off x="7612200" y="2494080"/>
            <a:ext cx="2109600" cy="221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отличить живую природу от неживой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02920" y="1565280"/>
            <a:ext cx="9069480" cy="5191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вые существа, или организмы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ыш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итаю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азвиваю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иносят потом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мираю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3" descr="0_900a_9cef5dc0_XL.jpg"/>
          <p:cNvPicPr/>
          <p:nvPr/>
        </p:nvPicPr>
        <p:blipFill>
          <a:blip r:embed="rId2"/>
          <a:stretch/>
        </p:blipFill>
        <p:spPr>
          <a:xfrm>
            <a:off x="6326280" y="2136600"/>
            <a:ext cx="3182760" cy="238608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5" descr="09235eff511efafdaa8556555ef77647.jpg"/>
          <p:cNvPicPr/>
          <p:nvPr/>
        </p:nvPicPr>
        <p:blipFill>
          <a:blip r:embed="rId3"/>
          <a:stretch/>
        </p:blipFill>
        <p:spPr>
          <a:xfrm>
            <a:off x="4468680" y="4780080"/>
            <a:ext cx="3721320" cy="247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21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вую природу изучает особая наука –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иологи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от греческих слов «биос» – жизнь, «логос» – наука). Всё живое учёные – биологи делят на группы – цар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Содержимое 3" descr="42_102.jpg"/>
          <p:cNvPicPr/>
          <p:nvPr/>
        </p:nvPicPr>
        <p:blipFill>
          <a:blip r:embed="rId1"/>
          <a:stretch/>
        </p:blipFill>
        <p:spPr>
          <a:xfrm>
            <a:off x="1968480" y="2494080"/>
            <a:ext cx="5810400" cy="435744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4" descr="Emperor-Penguin-Pair,-Antarctica.jpg"/>
          <p:cNvPicPr/>
          <p:nvPr/>
        </p:nvPicPr>
        <p:blipFill>
          <a:blip r:embed="rId2"/>
          <a:stretch/>
        </p:blipFill>
        <p:spPr>
          <a:xfrm>
            <a:off x="1897200" y="2422440"/>
            <a:ext cx="6357960" cy="476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арство растени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Содержимое 3" descr="0_affc_22867742_XL.jpg"/>
          <p:cNvPicPr/>
          <p:nvPr/>
        </p:nvPicPr>
        <p:blipFill>
          <a:blip r:embed="rId2"/>
          <a:stretch/>
        </p:blipFill>
        <p:spPr>
          <a:xfrm>
            <a:off x="396720" y="1279440"/>
            <a:ext cx="4476960" cy="33577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4" descr="ab303.jpg"/>
          <p:cNvPicPr/>
          <p:nvPr/>
        </p:nvPicPr>
        <p:blipFill>
          <a:blip r:embed="rId3"/>
          <a:stretch/>
        </p:blipFill>
        <p:spPr>
          <a:xfrm>
            <a:off x="5230800" y="3708360"/>
            <a:ext cx="4476600" cy="335772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6" descr="image_123109320564537000_1.jpg"/>
          <p:cNvPicPr/>
          <p:nvPr/>
        </p:nvPicPr>
        <p:blipFill>
          <a:blip r:embed="rId4"/>
          <a:stretch/>
        </p:blipFill>
        <p:spPr>
          <a:xfrm>
            <a:off x="1254240" y="4708440"/>
            <a:ext cx="2500200" cy="250056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7" descr="47c74574e79c2.jpg"/>
          <p:cNvPicPr/>
          <p:nvPr/>
        </p:nvPicPr>
        <p:blipFill>
          <a:blip r:embed="rId5"/>
          <a:stretch/>
        </p:blipFill>
        <p:spPr>
          <a:xfrm>
            <a:off x="6326280" y="1208160"/>
            <a:ext cx="2428920" cy="241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арство животны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Содержимое 3" descr="11494.jpg"/>
          <p:cNvPicPr/>
          <p:nvPr/>
        </p:nvPicPr>
        <p:blipFill>
          <a:blip r:embed="rId1"/>
          <a:stretch/>
        </p:blipFill>
        <p:spPr>
          <a:xfrm>
            <a:off x="396720" y="1279440"/>
            <a:ext cx="3651480" cy="27972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4" descr="COCCIONELLA SEMPTEMPUNCTATA.gif"/>
          <p:cNvPicPr/>
          <p:nvPr/>
        </p:nvPicPr>
        <p:blipFill>
          <a:blip r:embed="rId2"/>
          <a:stretch/>
        </p:blipFill>
        <p:spPr>
          <a:xfrm>
            <a:off x="6254640" y="4208400"/>
            <a:ext cx="338148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5" descr="zubr_12.jpg"/>
          <p:cNvPicPr/>
          <p:nvPr/>
        </p:nvPicPr>
        <p:blipFill>
          <a:blip r:embed="rId3"/>
          <a:stretch/>
        </p:blipFill>
        <p:spPr>
          <a:xfrm>
            <a:off x="254160" y="4137120"/>
            <a:ext cx="4095720" cy="307188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6" descr="grenouille_rousse .jpg"/>
          <p:cNvPicPr/>
          <p:nvPr/>
        </p:nvPicPr>
        <p:blipFill>
          <a:blip r:embed="rId4"/>
          <a:stretch/>
        </p:blipFill>
        <p:spPr>
          <a:xfrm>
            <a:off x="6397560" y="1351080"/>
            <a:ext cx="3333960" cy="25002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7" descr="24010a994431.jpg"/>
          <p:cNvPicPr/>
          <p:nvPr/>
        </p:nvPicPr>
        <p:blipFill>
          <a:blip r:embed="rId5"/>
          <a:stretch/>
        </p:blipFill>
        <p:spPr>
          <a:xfrm>
            <a:off x="3397320" y="1494000"/>
            <a:ext cx="3433680" cy="228600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8" descr="0a05f83c71edbe99df9f93270882bb33.jpg"/>
          <p:cNvPicPr/>
          <p:nvPr/>
        </p:nvPicPr>
        <p:blipFill>
          <a:blip r:embed="rId6"/>
          <a:stretch/>
        </p:blipFill>
        <p:spPr>
          <a:xfrm>
            <a:off x="3825720" y="4708440"/>
            <a:ext cx="3254400" cy="20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арство гриб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Содержимое 3" descr="7138_msg-big.jpg"/>
          <p:cNvPicPr/>
          <p:nvPr/>
        </p:nvPicPr>
        <p:blipFill>
          <a:blip r:embed="rId1"/>
          <a:stretch/>
        </p:blipFill>
        <p:spPr>
          <a:xfrm>
            <a:off x="396720" y="1279440"/>
            <a:ext cx="4711680" cy="336888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4" descr="5_76_3861458216.jpg"/>
          <p:cNvPicPr/>
          <p:nvPr/>
        </p:nvPicPr>
        <p:blipFill>
          <a:blip r:embed="rId2"/>
          <a:stretch/>
        </p:blipFill>
        <p:spPr>
          <a:xfrm>
            <a:off x="5183280" y="3851280"/>
            <a:ext cx="4500360" cy="337500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124707570414639379.jpg"/>
          <p:cNvPicPr/>
          <p:nvPr/>
        </p:nvPicPr>
        <p:blipFill>
          <a:blip r:embed="rId3"/>
          <a:stretch/>
        </p:blipFill>
        <p:spPr>
          <a:xfrm>
            <a:off x="5468760" y="1279440"/>
            <a:ext cx="4024440" cy="60501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7" descr="JCS Amanita muscaria 21363.jpg"/>
          <p:cNvPicPr/>
          <p:nvPr/>
        </p:nvPicPr>
        <p:blipFill>
          <a:blip r:embed="rId4"/>
          <a:stretch/>
        </p:blipFill>
        <p:spPr>
          <a:xfrm>
            <a:off x="1397160" y="4708440"/>
            <a:ext cx="338112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07:38:18Z</dcterms:created>
  <dc:creator/>
  <dc:description/>
  <dc:language>en-US</dc:language>
  <cp:lastModifiedBy>Admin</cp:lastModifiedBy>
  <dcterms:modified xsi:type="dcterms:W3CDTF">2011-09-04T19:02:06Z</dcterms:modified>
  <cp:revision>15</cp:revision>
  <dc:subject/>
  <dc:title>Разнообразие природы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6330000000000010243100207f6000400038000</vt:lpwstr>
  </property>
</Properties>
</file>