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2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6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FCF-E511-4156-9456-5681CD7D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FC8-7EF9-47A3-A1E5-0ACC8809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CB5-453D-4FDA-A445-29CBD8A1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A3D-87FB-4C9A-B6CC-123E0172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0C4-B0D3-47AE-AB55-A56B6BF5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FB4-7449-45CE-88B7-7E7DD50C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206-5219-41DA-B22F-CB259473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F45-704A-4E7C-A17D-957A1725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6E9-28AD-4037-8C21-8CDB8AE5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EE9-CCB3-4AD8-AF22-59B84DD8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160-95C6-4EDC-850E-46FC7243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66B-73F7-458D-A438-20082F0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fffffa"/>
            </a:gs>
            <a:gs pos="100000">
              <a:srgbClr val="ff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3411-3192-4FA8-ADE2-B030E9F1A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Гостюхина</a:t>
            </a:r>
            <a:br>
              <a:rPr sz="4000"/>
            </a:b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Светлана Никола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DSCN4978.jpg"/>
          <p:cNvPicPr/>
          <p:nvPr/>
        </p:nvPicPr>
        <p:blipFill>
          <a:blip r:embed="rId1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PH01046J.JPG"/>
          <p:cNvPicPr/>
          <p:nvPr/>
        </p:nvPicPr>
        <p:blipFill>
          <a:blip r:embed="rId2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642960" y="1214280"/>
            <a:ext cx="7689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их часовых поясах располаг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раз на территории России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речать Новый 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изменяется поясное врем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и с запада на вост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PH01046J"/>
          <p:cNvPicPr/>
          <p:nvPr/>
        </p:nvPicPr>
        <p:blipFill>
          <a:blip r:embed="rId1"/>
          <a:stretch/>
        </p:blipFill>
        <p:spPr>
          <a:xfrm>
            <a:off x="7956720" y="115920"/>
            <a:ext cx="10299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214280" y="1357200"/>
            <a:ext cx="714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у равна разница межд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ыми  поясами по долго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реме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часовой пояс принято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ле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изменения произойдут 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мени при    пересечении ли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дат с запада    на восток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H01046J"/>
          <p:cNvPicPr/>
          <p:nvPr/>
        </p:nvPicPr>
        <p:blipFill>
          <a:blip r:embed="rId1"/>
          <a:stretch/>
        </p:blipFill>
        <p:spPr>
          <a:xfrm>
            <a:off x="7858080" y="142920"/>
            <a:ext cx="10303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-153000" y="117360"/>
            <a:ext cx="987228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Алгоритм определения поясного врем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имер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ределите поясное время в Якут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 Москве 10.00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оследовательность выполнения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, в каких часовых поясах наход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ные пун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ва – во 2-м;   Якутск – в 8-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Определить разницу между часовыми поя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 -  2 =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Определить поясное время в заданном пунк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ывая, что к западу время уменьша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востоку – увеличи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+ 6 = 1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Якутске 16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37620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57120" y="428760"/>
            <a:ext cx="8642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ыполнит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елки часов  пассажир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етевшим из Санкт- Петербур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оск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агада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Перми  8.00 часов у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PH01046J"/>
          <p:cNvPicPr/>
          <p:nvPr/>
        </p:nvPicPr>
        <p:blipFill>
          <a:blip r:embed="rId1"/>
          <a:stretch/>
        </p:blipFill>
        <p:spPr>
          <a:xfrm>
            <a:off x="7880400" y="115920"/>
            <a:ext cx="1123920" cy="16574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357120" y="492912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оск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 Якутске  18.00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857160" y="57168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Якут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Благовещенске 10.00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ли получить  поздравлени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Новым Годом в Ставрополе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я, если оно было послано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ивостока 1 январ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 поясн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857160" y="450072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ы  пассажирам прилетевшим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кутска в Перм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24000" y="126828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науч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для вас наиболее труд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легко и поня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фортно ли вам было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ызвало у вас наибольш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захотелось побольше у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195320"/>
          <p:cNvPicPr/>
          <p:nvPr/>
        </p:nvPicPr>
        <p:blipFill>
          <a:blip r:embed="rId1"/>
          <a:stretch/>
        </p:blipFill>
        <p:spPr>
          <a:xfrm>
            <a:off x="250920" y="189000"/>
            <a:ext cx="1584360" cy="1139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PH01046J"/>
          <p:cNvPicPr/>
          <p:nvPr/>
        </p:nvPicPr>
        <p:blipFill>
          <a:blip r:embed="rId2"/>
          <a:stretch/>
        </p:blipFill>
        <p:spPr>
          <a:xfrm>
            <a:off x="7812000" y="5229360"/>
            <a:ext cx="105408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2998080" y="428760"/>
            <a:ext cx="29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668160" y="1071720"/>
            <a:ext cx="8128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 2. стр. учебника 10 –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думать несколько примеров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ояс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очему, находясь в следую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овом поясе, в наше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ет московское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J0295069"/>
          <p:cNvPicPr/>
          <p:nvPr/>
        </p:nvPicPr>
        <p:blipFill>
          <a:blip r:embed="rId1"/>
          <a:stretch/>
        </p:blipFill>
        <p:spPr>
          <a:xfrm>
            <a:off x="250920" y="189000"/>
            <a:ext cx="1830240" cy="131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H01046J"/>
          <p:cNvPicPr/>
          <p:nvPr/>
        </p:nvPicPr>
        <p:blipFill>
          <a:blip r:embed="rId2"/>
          <a:stretch/>
        </p:blipFill>
        <p:spPr>
          <a:xfrm>
            <a:off x="7812000" y="5300640"/>
            <a:ext cx="954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0" r="85" b="36"/>
          <a:stretch/>
        </p:blipFill>
        <p:spPr>
          <a:xfrm>
            <a:off x="324000" y="333360"/>
            <a:ext cx="8497800" cy="6129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 rot="20889000">
            <a:off x="1692360" y="3644640"/>
            <a:ext cx="5900760" cy="11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739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о с с и й с к а я Ф е д е р а ц и я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1476360" y="1916280"/>
            <a:ext cx="6481800" cy="33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территории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овые пояса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50200" y="260280"/>
            <a:ext cx="877248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на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лощадь и форму  территори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осси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чем преимущества и недостат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большой территории страны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как отсчитывают время н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ерритории Росси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3300"/>
                </a:solidFill>
                <a:latin typeface="Arial"/>
              </a:rPr>
              <a:t>Умет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ботать с картой атлас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пределять поясное время по карт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асовых пояс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линия перемены дат»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H01046J"/>
          <p:cNvPicPr/>
          <p:nvPr/>
        </p:nvPicPr>
        <p:blipFill>
          <a:blip r:embed="rId1"/>
          <a:stretch/>
        </p:blipFill>
        <p:spPr>
          <a:xfrm>
            <a:off x="7956720" y="260280"/>
            <a:ext cx="981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900000" y="260280"/>
            <a:ext cx="75819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и 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5" descr="справка"/>
          <p:cNvPicPr/>
          <p:nvPr/>
        </p:nvPicPr>
        <p:blipFill>
          <a:blip r:embed="rId1"/>
          <a:srcRect l="0" t="0" r="52" b="58"/>
          <a:stretch/>
        </p:blipFill>
        <p:spPr>
          <a:xfrm>
            <a:off x="179280" y="1413000"/>
            <a:ext cx="5168880" cy="5256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921840" y="1413000"/>
            <a:ext cx="550872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лощадь РФ – 17,1 млн.км</a:t>
            </a: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ru-RU" sz="3600" spc="-1" strike="noStrike" baseline="30000">
                <a:solidFill>
                  <a:srgbClr val="cc3300"/>
                </a:solidFill>
                <a:latin typeface="Arial"/>
              </a:rPr>
              <a:t>1/8 часть мировой суш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/3 часть площ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враз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ерритория Росс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е национ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остояние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PH01046J"/>
          <p:cNvPicPr/>
          <p:nvPr/>
        </p:nvPicPr>
        <p:blipFill>
          <a:blip r:embed="rId2"/>
          <a:stretch/>
        </p:blipFill>
        <p:spPr>
          <a:xfrm>
            <a:off x="7667640" y="5013360"/>
            <a:ext cx="11239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справка 002"/>
          <p:cNvPicPr/>
          <p:nvPr/>
        </p:nvPicPr>
        <p:blipFill>
          <a:blip r:embed="rId1"/>
          <a:srcRect l="0" t="49756" r="70735" b="-27"/>
          <a:stretch/>
        </p:blipFill>
        <p:spPr>
          <a:xfrm>
            <a:off x="324000" y="260280"/>
            <a:ext cx="8496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справка 002"/>
          <p:cNvPicPr/>
          <p:nvPr/>
        </p:nvPicPr>
        <p:blipFill>
          <a:blip r:embed="rId1"/>
          <a:srcRect l="81914" t="0" r="-1013" b="56972"/>
          <a:stretch/>
        </p:blipFill>
        <p:spPr>
          <a:xfrm>
            <a:off x="250920" y="1773360"/>
            <a:ext cx="4033800" cy="41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 rot="254400">
            <a:off x="1619280" y="115920"/>
            <a:ext cx="698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286880" y="1341360"/>
            <a:ext cx="4851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крайние т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шите фор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на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ческий цент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лияет вытянут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на прир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763640" y="278136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6,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.ш. 94,2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124000" y="2565360"/>
            <a:ext cx="216000" cy="21600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H01046J"/>
          <p:cNvPicPr/>
          <p:nvPr/>
        </p:nvPicPr>
        <p:blipFill>
          <a:blip r:embed="rId2"/>
          <a:stretch/>
        </p:blipFill>
        <p:spPr>
          <a:xfrm>
            <a:off x="250920" y="115920"/>
            <a:ext cx="10270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116000" y="189000"/>
            <a:ext cx="7781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имущества и недостатки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льших размеров территории Росси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3" name="Rectangle 5"/>
          <p:cNvGrpSpPr/>
          <p:nvPr/>
        </p:nvGrpSpPr>
        <p:grpSpPr>
          <a:xfrm>
            <a:off x="1560600" y="1517760"/>
            <a:ext cx="2706480" cy="841320"/>
            <a:chOff x="1560600" y="1517760"/>
            <a:chExt cx="2706480" cy="841320"/>
          </a:xfrm>
        </p:grpSpPr>
        <p:pic>
          <p:nvPicPr>
            <p:cNvPr id="64" name="Rectangle 5" descr=""/>
            <p:cNvPicPr/>
            <p:nvPr/>
          </p:nvPicPr>
          <p:blipFill>
            <a:blip r:embed="rId1"/>
            <a:stretch/>
          </p:blipFill>
          <p:spPr>
            <a:xfrm>
              <a:off x="1560600" y="1517760"/>
              <a:ext cx="2706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763640" y="1557360"/>
              <a:ext cx="2303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иму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ectangle 6"/>
          <p:cNvGrpSpPr/>
          <p:nvPr/>
        </p:nvGrpSpPr>
        <p:grpSpPr>
          <a:xfrm>
            <a:off x="500040" y="3176640"/>
            <a:ext cx="2760840" cy="907920"/>
            <a:chOff x="500040" y="3176640"/>
            <a:chExt cx="2760840" cy="907920"/>
          </a:xfrm>
        </p:grpSpPr>
        <p:pic>
          <p:nvPicPr>
            <p:cNvPr id="67" name="Rectangle 6" descr=""/>
            <p:cNvPicPr/>
            <p:nvPr/>
          </p:nvPicPr>
          <p:blipFill>
            <a:blip r:embed="rId2"/>
            <a:stretch/>
          </p:blipFill>
          <p:spPr>
            <a:xfrm>
              <a:off x="500040" y="3176640"/>
              <a:ext cx="27608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1280" y="3213000"/>
              <a:ext cx="259236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ое разнообраз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ectangle 7"/>
          <p:cNvGrpSpPr/>
          <p:nvPr/>
        </p:nvGrpSpPr>
        <p:grpSpPr>
          <a:xfrm>
            <a:off x="334800" y="2230560"/>
            <a:ext cx="2865600" cy="1019160"/>
            <a:chOff x="334800" y="2230560"/>
            <a:chExt cx="2865600" cy="1019160"/>
          </a:xfrm>
        </p:grpSpPr>
        <p:pic>
          <p:nvPicPr>
            <p:cNvPr id="70" name="Rectangle 7" descr=""/>
            <p:cNvPicPr/>
            <p:nvPr/>
          </p:nvPicPr>
          <p:blipFill>
            <a:blip r:embed="rId3"/>
            <a:stretch/>
          </p:blipFill>
          <p:spPr>
            <a:xfrm>
              <a:off x="334800" y="2230560"/>
              <a:ext cx="28656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95280" y="2357280"/>
              <a:ext cx="2747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статочно места д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щения насе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хозяй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Rectangle 8"/>
          <p:cNvGrpSpPr/>
          <p:nvPr/>
        </p:nvGrpSpPr>
        <p:grpSpPr>
          <a:xfrm>
            <a:off x="1176480" y="4962600"/>
            <a:ext cx="2712960" cy="822240"/>
            <a:chOff x="1176480" y="4962600"/>
            <a:chExt cx="2712960" cy="822240"/>
          </a:xfrm>
        </p:grpSpPr>
        <p:pic>
          <p:nvPicPr>
            <p:cNvPr id="73" name="Rectangle 8" descr=""/>
            <p:cNvPicPr/>
            <p:nvPr/>
          </p:nvPicPr>
          <p:blipFill>
            <a:blip r:embed="rId4"/>
            <a:stretch/>
          </p:blipFill>
          <p:spPr>
            <a:xfrm>
              <a:off x="1176480" y="4962600"/>
              <a:ext cx="27129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85920" y="5000760"/>
              <a:ext cx="2448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ую территор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удно завоевы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ectangle 9"/>
          <p:cNvGrpSpPr/>
          <p:nvPr/>
        </p:nvGrpSpPr>
        <p:grpSpPr>
          <a:xfrm>
            <a:off x="450720" y="3981600"/>
            <a:ext cx="3114720" cy="1035000"/>
            <a:chOff x="450720" y="3981600"/>
            <a:chExt cx="3114720" cy="1035000"/>
          </a:xfrm>
        </p:grpSpPr>
        <p:pic>
          <p:nvPicPr>
            <p:cNvPr id="76" name="Rectangle 9" descr=""/>
            <p:cNvPicPr/>
            <p:nvPr/>
          </p:nvPicPr>
          <p:blipFill>
            <a:blip r:embed="rId5"/>
            <a:stretch/>
          </p:blipFill>
          <p:spPr>
            <a:xfrm>
              <a:off x="450720" y="3981600"/>
              <a:ext cx="311472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39640" y="4076640"/>
              <a:ext cx="295272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можность со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нарушенных человек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ectangle 10"/>
          <p:cNvGrpSpPr/>
          <p:nvPr/>
        </p:nvGrpSpPr>
        <p:grpSpPr>
          <a:xfrm>
            <a:off x="1504800" y="5767560"/>
            <a:ext cx="2513160" cy="961920"/>
            <a:chOff x="1504800" y="5767560"/>
            <a:chExt cx="2513160" cy="961920"/>
          </a:xfrm>
        </p:grpSpPr>
        <p:pic>
          <p:nvPicPr>
            <p:cNvPr id="79" name="Rectangle 10" descr=""/>
            <p:cNvPicPr/>
            <p:nvPr/>
          </p:nvPicPr>
          <p:blipFill>
            <a:blip r:embed="rId6"/>
            <a:stretch/>
          </p:blipFill>
          <p:spPr>
            <a:xfrm>
              <a:off x="1504800" y="5767560"/>
              <a:ext cx="25131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619280" y="5805360"/>
              <a:ext cx="2303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ромные запас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ных богатст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Rectangle 11"/>
          <p:cNvGrpSpPr/>
          <p:nvPr/>
        </p:nvGrpSpPr>
        <p:grpSpPr>
          <a:xfrm>
            <a:off x="5254560" y="4906800"/>
            <a:ext cx="3071880" cy="897120"/>
            <a:chOff x="5254560" y="4906800"/>
            <a:chExt cx="3071880" cy="897120"/>
          </a:xfrm>
        </p:grpSpPr>
        <p:pic>
          <p:nvPicPr>
            <p:cNvPr id="82" name="Rectangle 11" descr=""/>
            <p:cNvPicPr/>
            <p:nvPr/>
          </p:nvPicPr>
          <p:blipFill>
            <a:blip r:embed="rId7"/>
            <a:stretch/>
          </p:blipFill>
          <p:spPr>
            <a:xfrm>
              <a:off x="5254560" y="4906800"/>
              <a:ext cx="30718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64000" y="4941720"/>
              <a:ext cx="273528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громные транспорт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тр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Rectangle 12"/>
          <p:cNvGrpSpPr/>
          <p:nvPr/>
        </p:nvGrpSpPr>
        <p:grpSpPr>
          <a:xfrm>
            <a:off x="5602320" y="3249720"/>
            <a:ext cx="2975040" cy="841320"/>
            <a:chOff x="5602320" y="3249720"/>
            <a:chExt cx="2975040" cy="841320"/>
          </a:xfrm>
        </p:grpSpPr>
        <p:pic>
          <p:nvPicPr>
            <p:cNvPr id="85" name="Rectangle 12" descr=""/>
            <p:cNvPicPr/>
            <p:nvPr/>
          </p:nvPicPr>
          <p:blipFill>
            <a:blip r:embed="rId8"/>
            <a:stretch/>
          </p:blipFill>
          <p:spPr>
            <a:xfrm>
              <a:off x="5602320" y="3249720"/>
              <a:ext cx="2975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715000" y="3286080"/>
              <a:ext cx="2808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еограф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общенность нац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5108400" y="5767560"/>
            <a:ext cx="2664000" cy="961920"/>
            <a:chOff x="5108400" y="5767560"/>
            <a:chExt cx="2664000" cy="96192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5108400" y="5767560"/>
              <a:ext cx="2664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219640" y="5805360"/>
              <a:ext cx="2495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жность защ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рритории и грани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ectangle 14"/>
          <p:cNvGrpSpPr/>
          <p:nvPr/>
        </p:nvGrpSpPr>
        <p:grpSpPr>
          <a:xfrm>
            <a:off x="5657760" y="4108320"/>
            <a:ext cx="3132360" cy="828720"/>
            <a:chOff x="5657760" y="4108320"/>
            <a:chExt cx="3132360" cy="828720"/>
          </a:xfrm>
        </p:grpSpPr>
        <p:pic>
          <p:nvPicPr>
            <p:cNvPr id="91" name="Rectangle 14" descr=""/>
            <p:cNvPicPr/>
            <p:nvPr/>
          </p:nvPicPr>
          <p:blipFill>
            <a:blip r:embed="rId10"/>
            <a:stretch/>
          </p:blipFill>
          <p:spPr>
            <a:xfrm>
              <a:off x="5657760" y="4108320"/>
              <a:ext cx="31323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715000" y="4143240"/>
              <a:ext cx="30225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ожность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тра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ectangle 15"/>
          <p:cNvGrpSpPr/>
          <p:nvPr/>
        </p:nvGrpSpPr>
        <p:grpSpPr>
          <a:xfrm>
            <a:off x="5962680" y="2266920"/>
            <a:ext cx="3022560" cy="1030320"/>
            <a:chOff x="5962680" y="2266920"/>
            <a:chExt cx="3022560" cy="1030320"/>
          </a:xfrm>
        </p:grpSpPr>
        <p:pic>
          <p:nvPicPr>
            <p:cNvPr id="94" name="Rectangle 15" descr=""/>
            <p:cNvPicPr/>
            <p:nvPr/>
          </p:nvPicPr>
          <p:blipFill>
            <a:blip r:embed="rId11"/>
            <a:stretch/>
          </p:blipFill>
          <p:spPr>
            <a:xfrm>
              <a:off x="5962680" y="2266920"/>
              <a:ext cx="30225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072120" y="2357280"/>
              <a:ext cx="28576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ольшие затра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редств и времени 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своение террито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ectangle 16"/>
          <p:cNvGrpSpPr/>
          <p:nvPr/>
        </p:nvGrpSpPr>
        <p:grpSpPr>
          <a:xfrm>
            <a:off x="4724280" y="1517760"/>
            <a:ext cx="2419560" cy="841320"/>
            <a:chOff x="4724280" y="1517760"/>
            <a:chExt cx="2419560" cy="841320"/>
          </a:xfrm>
        </p:grpSpPr>
        <p:pic>
          <p:nvPicPr>
            <p:cNvPr id="97" name="Rectangle 16" descr=""/>
            <p:cNvPicPr/>
            <p:nvPr/>
          </p:nvPicPr>
          <p:blipFill>
            <a:blip r:embed="rId12"/>
            <a:stretch/>
          </p:blipFill>
          <p:spPr>
            <a:xfrm>
              <a:off x="4724280" y="1517760"/>
              <a:ext cx="2419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788000" y="1557360"/>
              <a:ext cx="2303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17"/>
          <p:cNvSpPr/>
          <p:nvPr/>
        </p:nvSpPr>
        <p:spPr>
          <a:xfrm>
            <a:off x="341964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H="1">
            <a:off x="3143160" y="2276640"/>
            <a:ext cx="852480" cy="36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H="1">
            <a:off x="3203640" y="2276640"/>
            <a:ext cx="79200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>
            <a:off x="3492360" y="2276640"/>
            <a:ext cx="503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3714840" y="2276640"/>
            <a:ext cx="280800" cy="27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H="1">
            <a:off x="3924360" y="2276640"/>
            <a:ext cx="71280" cy="35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78800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4788000" y="2276640"/>
            <a:ext cx="93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4788000" y="2276640"/>
            <a:ext cx="863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>
            <a:off x="4788000" y="2276640"/>
            <a:ext cx="576000" cy="26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4788000" y="2276640"/>
            <a:ext cx="43164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8" descr="PH01046J"/>
          <p:cNvPicPr/>
          <p:nvPr/>
        </p:nvPicPr>
        <p:blipFill>
          <a:blip r:embed="rId13"/>
          <a:stretch/>
        </p:blipFill>
        <p:spPr>
          <a:xfrm>
            <a:off x="179280" y="115920"/>
            <a:ext cx="9320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440" y="-49320"/>
            <a:ext cx="893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чему на территории России существ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азница во  вре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справка 002"/>
          <p:cNvPicPr/>
          <p:nvPr/>
        </p:nvPicPr>
        <p:blipFill>
          <a:blip r:embed="rId1"/>
          <a:srcRect l="53405" t="69817" r="2717" b="43"/>
          <a:stretch/>
        </p:blipFill>
        <p:spPr>
          <a:xfrm>
            <a:off x="324000" y="981000"/>
            <a:ext cx="8496000" cy="2548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50560" y="3573360"/>
            <a:ext cx="822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на территории нашей планеты 24 часо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градусов в одном часовом поя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мест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пояс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уда начинается утр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линия перемены дат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декретное время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PH01046J"/>
          <p:cNvPicPr/>
          <p:nvPr/>
        </p:nvPicPr>
        <p:blipFill>
          <a:blip r:embed="rId2"/>
          <a:stretch/>
        </p:blipFill>
        <p:spPr>
          <a:xfrm>
            <a:off x="7524720" y="4581360"/>
            <a:ext cx="13240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справка 003"/>
          <p:cNvPicPr/>
          <p:nvPr/>
        </p:nvPicPr>
        <p:blipFill>
          <a:blip r:embed="rId1"/>
          <a:srcRect l="0" t="0" r="16" b="-53"/>
          <a:stretch/>
        </p:blipFill>
        <p:spPr>
          <a:xfrm>
            <a:off x="250920" y="907920"/>
            <a:ext cx="8640720" cy="576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H01046J"/>
          <p:cNvPicPr/>
          <p:nvPr/>
        </p:nvPicPr>
        <p:blipFill>
          <a:blip r:embed="rId2"/>
          <a:stretch/>
        </p:blipFill>
        <p:spPr>
          <a:xfrm>
            <a:off x="179280" y="189000"/>
            <a:ext cx="107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3:39:31Z</dcterms:created>
  <dc:creator>user</dc:creator>
  <dc:description/>
  <dc:language>en-US</dc:language>
  <cp:lastModifiedBy>User</cp:lastModifiedBy>
  <dcterms:modified xsi:type="dcterms:W3CDTF">2011-09-25T08:25:1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d0000000000010250300207f7000400038000</vt:lpwstr>
  </property>
</Properties>
</file>