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615-20DD-4718-ACB9-9C994692E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C45-0772-4BE1-874A-17588122E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2F5-F69C-4CE9-A86C-5C403A2F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B7E-01D3-4D6D-A4A2-A39D23A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F17-6FB5-4A75-8D70-0BA55FEE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541-0C01-4CF2-8B73-EA78CBE3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E28-8BBC-4FAF-850B-E90789B7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DA0-D420-4BCC-BE0F-1AAADB2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49E-0FF4-46F8-BF5E-1C2AFA90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5B3-077F-4810-BD8D-1746E46B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1F5-357A-4411-A795-8C93D1EF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07D-119F-4A78-A1F8-7B1617F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8B3-E00E-4DBA-8B19-75A86BBF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F01-7B87-4C8C-A9FB-A9016AB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B793-4CB2-44A1-8E94-5BC2468EB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Documents and Settings\Admin\Мои документы\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467800" y="68580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6d9f1"/>
                </a:solidFill>
                <a:latin typeface="Arial"/>
              </a:rPr>
              <a:t>Равнин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\Мои документы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\Мои документы\в-ев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Мои документы\зейско-буреинская ни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8ed5"/>
                </a:solidFill>
                <a:latin typeface="Calibri"/>
              </a:rPr>
              <a:t>Что такое равнин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Обширные участки земной поверхности с ровной или слабоволнистой поверхность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лассификация равнин: низм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Admin\Мои документы\н3.jpg"/>
          <p:cNvPicPr/>
          <p:nvPr/>
        </p:nvPicPr>
        <p:blipFill>
          <a:blip r:embed="rId1"/>
          <a:stretch/>
        </p:blipFill>
        <p:spPr>
          <a:xfrm>
            <a:off x="0" y="1663560"/>
            <a:ext cx="4343400" cy="519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\Мои документы\н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Мои документы\среднерусская.jpg"/>
          <p:cNvPicPr/>
          <p:nvPr/>
        </p:nvPicPr>
        <p:blipFill>
          <a:blip r:embed="rId1"/>
          <a:stretch/>
        </p:blipFill>
        <p:spPr>
          <a:xfrm>
            <a:off x="0" y="3276720"/>
            <a:ext cx="472140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\Мои документы\2.jpg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Admin\Мои документы\ср1.jpg"/>
          <p:cNvPicPr/>
          <p:nvPr/>
        </p:nvPicPr>
        <p:blipFill>
          <a:blip r:embed="rId3"/>
          <a:stretch/>
        </p:blipFill>
        <p:spPr>
          <a:xfrm>
            <a:off x="4826160" y="3276720"/>
            <a:ext cx="416556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951840" y="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48a54"/>
                </a:solidFill>
                <a:latin typeface="Arial"/>
              </a:rPr>
              <a:t>Классификация равни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48a54"/>
                </a:solidFill>
                <a:latin typeface="Arial"/>
              </a:rPr>
              <a:t>возвышен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Мои документы\3.jpg"/>
          <p:cNvPicPr/>
          <p:nvPr/>
        </p:nvPicPr>
        <p:blipFill>
          <a:blip r:embed="rId1"/>
          <a:stretch/>
        </p:blipFill>
        <p:spPr>
          <a:xfrm>
            <a:off x="-23760" y="4297320"/>
            <a:ext cx="4214880" cy="256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Admin\Мои документы\пл1.jpeg"/>
          <p:cNvPicPr/>
          <p:nvPr/>
        </p:nvPicPr>
        <p:blipFill>
          <a:blip r:embed="rId2"/>
          <a:stretch/>
        </p:blipFill>
        <p:spPr>
          <a:xfrm>
            <a:off x="4724280" y="426708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Admin\Мои документы\пл.jpg"/>
          <p:cNvPicPr/>
          <p:nvPr/>
        </p:nvPicPr>
        <p:blipFill>
          <a:blip r:embed="rId3"/>
          <a:stretch/>
        </p:blipFill>
        <p:spPr>
          <a:xfrm>
            <a:off x="0" y="0"/>
            <a:ext cx="8880480" cy="422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Documents and Settings\Admin\Мои документы\пл3.jpg"/>
          <p:cNvPicPr/>
          <p:nvPr/>
        </p:nvPicPr>
        <p:blipFill>
          <a:blip r:embed="rId4"/>
          <a:stretch/>
        </p:blipFill>
        <p:spPr>
          <a:xfrm>
            <a:off x="0" y="1866960"/>
            <a:ext cx="9144000" cy="497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Documents and Settings\Admin\Мои документы\пл4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646920" y="22860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лассификация равни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оскогор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Admin\Мои документы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Documents and Settings\Admin\Мои документы\пкрай.jpg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403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\Мои документы\4.jpg"/>
          <p:cNvPicPr/>
          <p:nvPr/>
        </p:nvPicPr>
        <p:blipFill>
          <a:blip r:embed="rId2"/>
          <a:stretch/>
        </p:blipFill>
        <p:spPr>
          <a:xfrm>
            <a:off x="0" y="3505320"/>
            <a:ext cx="5486400" cy="3352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82160" y="228600"/>
            <a:ext cx="644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933c"/>
                </a:solidFill>
                <a:latin typeface="Calibri"/>
              </a:rPr>
              <a:t>Равнины Прикам</a:t>
            </a:r>
            <a:r>
              <a:rPr b="1" i="1" lang="ru-RU" sz="4400" spc="-1" strike="noStrike">
                <a:solidFill>
                  <a:srgbClr val="77933c"/>
                </a:solidFill>
                <a:latin typeface="Calibri"/>
              </a:rPr>
              <a:t>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\Мои документы\пк3.jpg"/>
          <p:cNvPicPr/>
          <p:nvPr/>
        </p:nvPicPr>
        <p:blipFill>
          <a:blip r:embed="rId1"/>
          <a:stretch/>
        </p:blipFill>
        <p:spPr>
          <a:xfrm>
            <a:off x="0" y="2133720"/>
            <a:ext cx="609588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Admin\Мои документы\среднерусская.jpg"/>
          <p:cNvPicPr/>
          <p:nvPr/>
        </p:nvPicPr>
        <p:blipFill>
          <a:blip r:embed="rId2"/>
          <a:stretch/>
        </p:blipFill>
        <p:spPr>
          <a:xfrm>
            <a:off x="1371600" y="0"/>
            <a:ext cx="77724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Мои документы\п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1-21T19:52:4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210000000000010243100207f6000400038000</vt:lpwstr>
  </property>
</Properties>
</file>