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319-68F1-430C-9D42-DBF6A83A4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C70C-9E16-4520-AFF3-9053FAEE2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36B-B74A-4E22-8FFB-730F5596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B1D-3C9C-457E-A4A3-002A5A7C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453-5739-435A-836A-E73CDBFB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AA2-0376-4438-B34C-8F2C1B9A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FC4-ED2F-46D6-95B2-45AED97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F32-768B-48AF-8AF9-DCDF7304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6F9-75F2-4FB6-99E8-43F240F5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E61-8989-4E63-9268-585F14A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3FA-D50F-4374-A976-9CC0143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947-56CB-4328-A8A3-D8C8AE0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173-B72F-460E-86C9-87376F8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B7A-3DDA-4F55-A3A7-AB93A2B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9A81-A17C-433E-A15A-B7A58E5A9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Documents and Settings\Admin\Мои документы\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467800" y="68580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6d9f1"/>
                </a:solidFill>
                <a:latin typeface="Arial"/>
              </a:rPr>
              <a:t>Равни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Мои документы\в-ев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зейско-буреинская ни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8ed5"/>
                </a:solidFill>
                <a:latin typeface="Calibri"/>
              </a:rPr>
              <a:t>Что такое равнина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Обширные участки земной поверхности с ровной или слабоволнистой поверхност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лассификация равнин: низм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\Мои документы\н3.jpg"/>
          <p:cNvPicPr/>
          <p:nvPr/>
        </p:nvPicPr>
        <p:blipFill>
          <a:blip r:embed="rId1"/>
          <a:stretch/>
        </p:blipFill>
        <p:spPr>
          <a:xfrm>
            <a:off x="0" y="1663560"/>
            <a:ext cx="4343400" cy="519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Мои документы\н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\Мои документы\среднерусская.jpg"/>
          <p:cNvPicPr/>
          <p:nvPr/>
        </p:nvPicPr>
        <p:blipFill>
          <a:blip r:embed="rId1"/>
          <a:stretch/>
        </p:blipFill>
        <p:spPr>
          <a:xfrm>
            <a:off x="0" y="3276720"/>
            <a:ext cx="472140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\Мои документы\2.jpg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5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Admin\Мои документы\ср1.jpg"/>
          <p:cNvPicPr/>
          <p:nvPr/>
        </p:nvPicPr>
        <p:blipFill>
          <a:blip r:embed="rId3"/>
          <a:stretch/>
        </p:blipFill>
        <p:spPr>
          <a:xfrm>
            <a:off x="4826160" y="3276720"/>
            <a:ext cx="416556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951840" y="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48a54"/>
                </a:solidFill>
                <a:latin typeface="Arial"/>
              </a:rPr>
              <a:t>возвышен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Мои документы\3.jpg"/>
          <p:cNvPicPr/>
          <p:nvPr/>
        </p:nvPicPr>
        <p:blipFill>
          <a:blip r:embed="rId1"/>
          <a:stretch/>
        </p:blipFill>
        <p:spPr>
          <a:xfrm>
            <a:off x="-23760" y="4297320"/>
            <a:ext cx="4214880" cy="256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Admin\Мои документы\пл1.jpeg"/>
          <p:cNvPicPr/>
          <p:nvPr/>
        </p:nvPicPr>
        <p:blipFill>
          <a:blip r:embed="rId2"/>
          <a:stretch/>
        </p:blipFill>
        <p:spPr>
          <a:xfrm>
            <a:off x="4724280" y="426708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Admin\Мои документы\пл.jpg"/>
          <p:cNvPicPr/>
          <p:nvPr/>
        </p:nvPicPr>
        <p:blipFill>
          <a:blip r:embed="rId3"/>
          <a:stretch/>
        </p:blipFill>
        <p:spPr>
          <a:xfrm>
            <a:off x="0" y="0"/>
            <a:ext cx="8880480" cy="422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Documents and Settings\Admin\Мои документы\пл3.jpg"/>
          <p:cNvPicPr/>
          <p:nvPr/>
        </p:nvPicPr>
        <p:blipFill>
          <a:blip r:embed="rId4"/>
          <a:stretch/>
        </p:blipFill>
        <p:spPr>
          <a:xfrm>
            <a:off x="0" y="1866960"/>
            <a:ext cx="9144000" cy="4971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Admin\Мои документы\пл4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646920" y="22860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лассификация равнин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лоскогор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Admin\Мои документы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Documents and Settings\Admin\Мои документы\пкрай.jpg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403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\Мои документы\4.jpg"/>
          <p:cNvPicPr/>
          <p:nvPr/>
        </p:nvPicPr>
        <p:blipFill>
          <a:blip r:embed="rId2"/>
          <a:stretch/>
        </p:blipFill>
        <p:spPr>
          <a:xfrm>
            <a:off x="0" y="350532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82160" y="228600"/>
            <a:ext cx="644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933c"/>
                </a:solidFill>
                <a:latin typeface="Calibri"/>
              </a:rPr>
              <a:t>Равнины Прикам</a:t>
            </a:r>
            <a:r>
              <a:rPr b="1" i="1" lang="ru-RU" sz="4400" spc="-1" strike="noStrike">
                <a:solidFill>
                  <a:srgbClr val="77933c"/>
                </a:solidFill>
                <a:latin typeface="Calibri"/>
              </a:rPr>
              <a:t>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\Мои документы\пк3.jpg"/>
          <p:cNvPicPr/>
          <p:nvPr/>
        </p:nvPicPr>
        <p:blipFill>
          <a:blip r:embed="rId1"/>
          <a:stretch/>
        </p:blipFill>
        <p:spPr>
          <a:xfrm>
            <a:off x="0" y="2133720"/>
            <a:ext cx="609588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Admin\Мои документы\среднерусская.jpg"/>
          <p:cNvPicPr/>
          <p:nvPr/>
        </p:nvPicPr>
        <p:blipFill>
          <a:blip r:embed="rId2"/>
          <a:stretch/>
        </p:blipFill>
        <p:spPr>
          <a:xfrm>
            <a:off x="1371600" y="0"/>
            <a:ext cx="77724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Admin\Мои документы\п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1T19:52:4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10000000000010243100207f6000400038000</vt:lpwstr>
  </property>
</Properties>
</file>