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B4D-FDE3-4F3D-A46F-581442281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36FD-3447-4869-A9F3-05B5FB33A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1F5-D2D6-422B-B0CF-6103F4EF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86A-FBB2-45C1-9E66-E05668E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DC8-29C0-4804-BD7B-C32BE082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4FF-1D66-4C0A-B3FD-ADB60BE6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6D5-3CCC-4618-BEF0-9618C18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3F2-7953-4A50-AB51-EE8B207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23B-A4B5-4F89-AF77-0D065E87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143-08A0-4252-BE85-5D4A25EF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127-10DD-453E-8973-5A8A17BB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679-DB85-4395-9C42-740DC04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8C8-D877-40CF-AE90-CCF4E2E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D9F-4930-41F4-8F52-2F338FE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16F9-7474-4102-ACCF-687A485F4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467800" y="68580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6d9f1"/>
                </a:solidFill>
                <a:latin typeface="Arial"/>
              </a:rPr>
              <a:t>Равни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Мои документы\в-ев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зейско-буреинская ни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8ed5"/>
                </a:solidFill>
                <a:latin typeface="Calibri"/>
              </a:rPr>
              <a:t>Что такое равнин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Обширные участки земной поверхности с ровной или слабоволнистой поверхност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лассификация равнин: низм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\Мои документы\н3.jpg"/>
          <p:cNvPicPr/>
          <p:nvPr/>
        </p:nvPicPr>
        <p:blipFill>
          <a:blip r:embed="rId1"/>
          <a:stretch/>
        </p:blipFill>
        <p:spPr>
          <a:xfrm>
            <a:off x="0" y="1663560"/>
            <a:ext cx="4343400" cy="519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Мои документы\н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среднерусская.jpg"/>
          <p:cNvPicPr/>
          <p:nvPr/>
        </p:nvPicPr>
        <p:blipFill>
          <a:blip r:embed="rId1"/>
          <a:stretch/>
        </p:blipFill>
        <p:spPr>
          <a:xfrm>
            <a:off x="0" y="3276720"/>
            <a:ext cx="472140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\Мои документы\2.jpg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Мои документы\ср1.jpg"/>
          <p:cNvPicPr/>
          <p:nvPr/>
        </p:nvPicPr>
        <p:blipFill>
          <a:blip r:embed="rId3"/>
          <a:stretch/>
        </p:blipFill>
        <p:spPr>
          <a:xfrm>
            <a:off x="4826160" y="3276720"/>
            <a:ext cx="416556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951840" y="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возвышен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Мои документы\3.jpg"/>
          <p:cNvPicPr/>
          <p:nvPr/>
        </p:nvPicPr>
        <p:blipFill>
          <a:blip r:embed="rId1"/>
          <a:stretch/>
        </p:blipFill>
        <p:spPr>
          <a:xfrm>
            <a:off x="-23760" y="4297320"/>
            <a:ext cx="4214880" cy="256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Admin\Мои документы\пл1.jpeg"/>
          <p:cNvPicPr/>
          <p:nvPr/>
        </p:nvPicPr>
        <p:blipFill>
          <a:blip r:embed="rId2"/>
          <a:stretch/>
        </p:blipFill>
        <p:spPr>
          <a:xfrm>
            <a:off x="4724280" y="426708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Admin\Мои документы\пл.jpg"/>
          <p:cNvPicPr/>
          <p:nvPr/>
        </p:nvPicPr>
        <p:blipFill>
          <a:blip r:embed="rId3"/>
          <a:stretch/>
        </p:blipFill>
        <p:spPr>
          <a:xfrm>
            <a:off x="0" y="0"/>
            <a:ext cx="8880480" cy="422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Admin\Мои документы\пл3.jpg"/>
          <p:cNvPicPr/>
          <p:nvPr/>
        </p:nvPicPr>
        <p:blipFill>
          <a:blip r:embed="rId4"/>
          <a:stretch/>
        </p:blipFill>
        <p:spPr>
          <a:xfrm>
            <a:off x="0" y="1866960"/>
            <a:ext cx="9144000" cy="497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Admin\Мои документы\пл4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646920" y="22860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оскогор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Documents and Settings\Admin\Мои документы\пкрай.jpg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403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\Мои документы\4.jpg"/>
          <p:cNvPicPr/>
          <p:nvPr/>
        </p:nvPicPr>
        <p:blipFill>
          <a:blip r:embed="rId2"/>
          <a:stretch/>
        </p:blipFill>
        <p:spPr>
          <a:xfrm>
            <a:off x="0" y="350532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2160" y="228600"/>
            <a:ext cx="644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933c"/>
                </a:solidFill>
                <a:latin typeface="Calibri"/>
              </a:rPr>
              <a:t>Равнины Прикам</a:t>
            </a:r>
            <a:r>
              <a:rPr b="1" i="1" lang="ru-RU" sz="4400" spc="-1" strike="noStrike">
                <a:solidFill>
                  <a:srgbClr val="77933c"/>
                </a:solidFill>
                <a:latin typeface="Calibri"/>
              </a:rPr>
              <a:t>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\Мои документы\пк3.jpg"/>
          <p:cNvPicPr/>
          <p:nvPr/>
        </p:nvPicPr>
        <p:blipFill>
          <a:blip r:embed="rId1"/>
          <a:stretch/>
        </p:blipFill>
        <p:spPr>
          <a:xfrm>
            <a:off x="0" y="2133720"/>
            <a:ext cx="6095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Admin\Мои документы\среднерусская.jpg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п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1T19:52:4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10000000000010243100207f6000400038000</vt:lpwstr>
  </property>
</Properties>
</file>