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418-76FF-465C-B562-D3773924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78C-E594-4F3D-B742-ECEEEF4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906-9EBE-4D63-9EB0-8CA7B291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783-AA8E-4292-923B-B4271508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7D4-8C58-40CB-9997-350A8550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27A-7330-4BBC-9F35-B8BED13B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421-5AB9-46BD-9090-9F305C63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4B8-4D76-4964-A672-85990BD0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91E-5A15-4CBE-B653-9CC824C8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C77-B7DF-4D45-8F10-13525E4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67A-D965-4990-9AD5-A545898F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74D-EAC3-4536-816B-088DC68C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703-A4A7-49C9-B857-CAEFC7F2F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eography.kz/karty/transport-mira-znachenie-transporta-v-mirovom-xozyajstve-vidy-transporta-i-ix-osobennosti-transport-i-okruzhayushhaya-sreda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сселение и урба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реп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 делятся города по люд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зовите и покажите на карте города-миллион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зовите города своег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 называется урбанизаци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ие населенные пункты считаются сельскими посел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 характерно для сельского образа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лнить таблицу , используя текст § 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42920" y="1397160"/>
          <a:ext cx="6577200" cy="4984560"/>
        </p:xfrm>
        <a:graphic>
          <a:graphicData uri="http://schemas.openxmlformats.org/drawingml/2006/table">
            <a:tbl>
              <a:tblPr/>
              <a:tblGrid>
                <a:gridCol w="2762280"/>
                <a:gridCol w="1841400"/>
                <a:gridCol w="1973520"/>
              </a:tblGrid>
              <a:tr h="7966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г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игиозный 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 отдыха и тури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зличия сельских посел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1397160"/>
          <a:ext cx="7632720" cy="4984560"/>
        </p:xfrm>
        <a:graphic>
          <a:graphicData uri="http://schemas.openxmlformats.org/drawingml/2006/table">
            <a:tbl>
              <a:tblPr/>
              <a:tblGrid>
                <a:gridCol w="2595600"/>
                <a:gridCol w="2441880"/>
                <a:gridCol w="2595240"/>
              </a:tblGrid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рас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че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чевые формы посе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3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Читать §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твечать на вопросы стр.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5" descr="1191268972_c4107.jpg"/>
          <p:cNvPicPr/>
          <p:nvPr/>
        </p:nvPicPr>
        <p:blipFill>
          <a:blip r:embed="rId1"/>
          <a:stretch/>
        </p:blipFill>
        <p:spPr>
          <a:xfrm>
            <a:off x="971640" y="2060640"/>
            <a:ext cx="3828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4360" y="5157720"/>
            <a:ext cx="79200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Раскрыть особенности основных типов посел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формировать представление об урбаниз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явить взаимосвязи между процессом урбанизации и состоянием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)Установите регион России с низкой Р нас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сков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гадан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ижегород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да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)Выберите верные ответы. На размещение населения не влияет(ю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История заселения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Природн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Национальны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1919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Arial"/>
              </a:rPr>
              <a:t>Половозрастно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5+.gif"/>
          <p:cNvPicPr/>
          <p:nvPr/>
        </p:nvPicPr>
        <p:blipFill>
          <a:blip r:embed="rId1"/>
          <a:stretch/>
        </p:blipFill>
        <p:spPr>
          <a:xfrm>
            <a:off x="7956720" y="4365720"/>
            <a:ext cx="457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6"/>
          <p:cNvSpPr/>
          <p:nvPr/>
        </p:nvSpPr>
        <p:spPr>
          <a:xfrm>
            <a:off x="2556000" y="1341360"/>
            <a:ext cx="4032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ипы посе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971640" y="2637000"/>
            <a:ext cx="29527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5003640" y="2637000"/>
            <a:ext cx="30974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ельск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79280" y="4005360"/>
            <a:ext cx="1871640" cy="23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не менее 12 тыс.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95640" y="4005360"/>
            <a:ext cx="2160360" cy="23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елки городск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3-12 тыс. че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4572000" y="3860640"/>
            <a:ext cx="187164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ре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6948360" y="3860640"/>
            <a:ext cx="1778040" cy="50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5148360" y="4508640"/>
            <a:ext cx="3095640" cy="17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елки сельскохозяйственных пос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16"/>
          <p:cNvSpPr/>
          <p:nvPr/>
        </p:nvSpPr>
        <p:spPr>
          <a:xfrm>
            <a:off x="1187280" y="3573360"/>
            <a:ext cx="4842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7"/>
          <p:cNvSpPr/>
          <p:nvPr/>
        </p:nvSpPr>
        <p:spPr>
          <a:xfrm>
            <a:off x="3132000" y="3573360"/>
            <a:ext cx="4842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8"/>
          <p:cNvSpPr/>
          <p:nvPr/>
        </p:nvSpPr>
        <p:spPr>
          <a:xfrm>
            <a:off x="5508720" y="3573360"/>
            <a:ext cx="4842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19"/>
          <p:cNvSpPr/>
          <p:nvPr/>
        </p:nvSpPr>
        <p:spPr>
          <a:xfrm>
            <a:off x="7451640" y="3573360"/>
            <a:ext cx="4860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20"/>
          <p:cNvSpPr/>
          <p:nvPr/>
        </p:nvSpPr>
        <p:spPr>
          <a:xfrm>
            <a:off x="6516720" y="3573360"/>
            <a:ext cx="358920" cy="9352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оставьте схем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179280" y="1197000"/>
            <a:ext cx="64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ские поселения – населенные пункты, выполняющие следующие народнохозяйственные функции (одну или несколько в раз личных сочетаниях): 1) промышленную; 2)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ранспортную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; 3) организационно-хозяйственную, культурно-политическую и административную; 4) функции организации отдыха и лечения (курор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14 из 64000"/>
          <p:cNvPicPr/>
          <p:nvPr/>
        </p:nvPicPr>
        <p:blipFill>
          <a:blip r:embed="rId2"/>
          <a:stretch/>
        </p:blipFill>
        <p:spPr>
          <a:xfrm>
            <a:off x="6443640" y="2492280"/>
            <a:ext cx="24717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79280" y="1268280"/>
            <a:ext cx="5256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ля определения городских поселений необходимо исходить из совокупности признаков: численности населения, его занятости, экономического и культурного значения населенного пункта – с учетом местных особенностей различных стран и рай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Картинка 17 из 64000"/>
          <p:cNvPicPr/>
          <p:nvPr/>
        </p:nvPicPr>
        <p:blipFill>
          <a:blip r:embed="rId1"/>
          <a:stretch/>
        </p:blipFill>
        <p:spPr>
          <a:xfrm>
            <a:off x="5148360" y="357336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9280" y="1268280"/>
            <a:ext cx="42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 сельским поселениям можно отнести в основном небольшие на селенные пункты, жители которых занимаются территориально рас средоточенными видами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17 из 675"/>
          <p:cNvPicPr/>
          <p:nvPr/>
        </p:nvPicPr>
        <p:blipFill>
          <a:blip r:embed="rId1"/>
          <a:stretch/>
        </p:blipFill>
        <p:spPr>
          <a:xfrm>
            <a:off x="5219640" y="19890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908000" y="1628640"/>
            <a:ext cx="5185080" cy="1202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а по численности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79280" y="3284640"/>
            <a:ext cx="223200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алые (до 50 тыс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556000" y="3284640"/>
            <a:ext cx="201600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редние (50-100 тыс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4716360" y="3284640"/>
            <a:ext cx="194328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Большие (более 100 тыс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804000" y="3284640"/>
            <a:ext cx="2232000" cy="20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ода-миллионеры (более 1 млн. ж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Урбанизация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92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цесс роста доли городского населения, повышение роли городов и распространение городск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Картинка 20 из 64000"/>
          <p:cNvPicPr/>
          <p:nvPr/>
        </p:nvPicPr>
        <p:blipFill>
          <a:blip r:embed="rId1"/>
          <a:stretch/>
        </p:blipFill>
        <p:spPr>
          <a:xfrm>
            <a:off x="4011480" y="2421000"/>
            <a:ext cx="51325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1:49:43Z</dcterms:created>
  <dc:creator>татьяна</dc:creator>
  <dc:description/>
  <dc:language>en-US</dc:language>
  <cp:lastModifiedBy>User</cp:lastModifiedBy>
  <dcterms:modified xsi:type="dcterms:W3CDTF">2011-09-04T07:55:46Z</dcterms:modified>
  <cp:revision>10</cp:revision>
  <dc:subject/>
  <dc:title>Расселение и урбаниз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43100207f6000400038000</vt:lpwstr>
  </property>
</Properties>
</file>