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A42-7653-4388-882D-45D573F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68F-9345-41FF-9426-8E3DE28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47C-C384-4834-B025-9EB01156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564-CD44-4061-A49B-E70CD9B4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066-2AFB-4BA4-8725-BC8A07E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402-C655-4A3A-AB1C-BFB53439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B0A-0CDD-42B2-9D11-D794E9B8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0A8-9DC4-484E-94F9-372BDBC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CB8-25CD-49F1-A699-4FC4178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CF2-704E-4FC7-8EFB-61DB8D0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A5F-D894-49D4-AF0C-2DBEE8E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FB9-C36D-4318-A3A2-EE6D00C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886-6342-4E68-BA33-8C4A41D96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graphy.kz/karty/transport-mira-znachenie-transporta-v-mirovom-xozyajstve-vidy-transporta-i-ix-osobennosti-transport-i-okruzhayushhaya-sred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селение и урб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делятся города по люд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и покажите на карте города-миллион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города свое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называется урбаниза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населенные пункты считаются сельскими посел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характерно для сельского образа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лнить таблицу , используя текст § 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1397160"/>
          <a:ext cx="6577200" cy="4984560"/>
        </p:xfrm>
        <a:graphic>
          <a:graphicData uri="http://schemas.openxmlformats.org/drawingml/2006/table">
            <a:tbl>
              <a:tblPr/>
              <a:tblGrid>
                <a:gridCol w="2762280"/>
                <a:gridCol w="1841400"/>
                <a:gridCol w="1973520"/>
              </a:tblGrid>
              <a:tr h="7966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игиоз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отдыха и тур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личия сельских посел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397160"/>
          <a:ext cx="7632720" cy="4984560"/>
        </p:xfrm>
        <a:graphic>
          <a:graphicData uri="http://schemas.openxmlformats.org/drawingml/2006/table">
            <a:tbl>
              <a:tblPr/>
              <a:tblGrid>
                <a:gridCol w="2595600"/>
                <a:gridCol w="2441880"/>
                <a:gridCol w="2595240"/>
              </a:tblGrid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чевые формы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Читать §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твечать на вопросы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191268972_c4107.jpg"/>
          <p:cNvPicPr/>
          <p:nvPr/>
        </p:nvPicPr>
        <p:blipFill>
          <a:blip r:embed="rId1"/>
          <a:stretch/>
        </p:blipFill>
        <p:spPr>
          <a:xfrm>
            <a:off x="971640" y="2060640"/>
            <a:ext cx="3828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4360" y="5157720"/>
            <a:ext cx="7920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скрыть особенности основных типов посе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ть представление об урбан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явить взаимосвязи между процессом урбанизации и состоянием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Установите регион России с низкой Р на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сков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гадан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жегород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да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)Выберите верные ответы. На размещение населения не влияет(ю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История заселения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рирод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Националь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оловозрастно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5+.gif"/>
          <p:cNvPicPr/>
          <p:nvPr/>
        </p:nvPicPr>
        <p:blipFill>
          <a:blip r:embed="rId1"/>
          <a:stretch/>
        </p:blipFill>
        <p:spPr>
          <a:xfrm>
            <a:off x="7956720" y="436572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2556000" y="1341360"/>
            <a:ext cx="4032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ипы пос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971640" y="2637000"/>
            <a:ext cx="29527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003640" y="2637000"/>
            <a:ext cx="30974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ь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79280" y="4005360"/>
            <a:ext cx="187164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не менее 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95640" y="4005360"/>
            <a:ext cx="216036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городск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3-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572000" y="3860640"/>
            <a:ext cx="18716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ре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6948360" y="3860640"/>
            <a:ext cx="17780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5148360" y="4508640"/>
            <a:ext cx="3095640" cy="17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сельскохозяйственных пос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16"/>
          <p:cNvSpPr/>
          <p:nvPr/>
        </p:nvSpPr>
        <p:spPr>
          <a:xfrm>
            <a:off x="118728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7"/>
          <p:cNvSpPr/>
          <p:nvPr/>
        </p:nvSpPr>
        <p:spPr>
          <a:xfrm>
            <a:off x="313200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8"/>
          <p:cNvSpPr/>
          <p:nvPr/>
        </p:nvSpPr>
        <p:spPr>
          <a:xfrm>
            <a:off x="5508720" y="3573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9"/>
          <p:cNvSpPr/>
          <p:nvPr/>
        </p:nvSpPr>
        <p:spPr>
          <a:xfrm>
            <a:off x="7451640" y="3573360"/>
            <a:ext cx="4860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0"/>
          <p:cNvSpPr/>
          <p:nvPr/>
        </p:nvSpPr>
        <p:spPr>
          <a:xfrm>
            <a:off x="6516720" y="3573360"/>
            <a:ext cx="358920" cy="935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оставьте сх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179280" y="1197000"/>
            <a:ext cx="64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 поселения – населенные пункты, выполняющие следующие народнохозяйственные функции (одну или несколько в раз личных сочетаниях): 1) промышленную; 2)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ранспортную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; 3) организационно-хозяйственную, культурно-политическую и административную; 4) функции организации отдыха и лечения (курор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4 из 64000"/>
          <p:cNvPicPr/>
          <p:nvPr/>
        </p:nvPicPr>
        <p:blipFill>
          <a:blip r:embed="rId2"/>
          <a:stretch/>
        </p:blipFill>
        <p:spPr>
          <a:xfrm>
            <a:off x="6443640" y="2492280"/>
            <a:ext cx="24717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268280"/>
            <a:ext cx="52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я определения городских поселений необходимо исходить из совокупности признаков: численности населения, его занятости, экономического и культурного значения населенного пункта – с учетом местных особенностей различных стран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Картинка 17 из 64000"/>
          <p:cNvPicPr/>
          <p:nvPr/>
        </p:nvPicPr>
        <p:blipFill>
          <a:blip r:embed="rId1"/>
          <a:stretch/>
        </p:blipFill>
        <p:spPr>
          <a:xfrm>
            <a:off x="5148360" y="3573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1268280"/>
            <a:ext cx="42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 сельским поселениям можно отнести в основном небольшие на селенные пункты, жители которых занимаются территориально рас средоточенными видами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7 из 675"/>
          <p:cNvPicPr/>
          <p:nvPr/>
        </p:nvPicPr>
        <p:blipFill>
          <a:blip r:embed="rId1"/>
          <a:stretch/>
        </p:blipFill>
        <p:spPr>
          <a:xfrm>
            <a:off x="5219640" y="1989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908000" y="1628640"/>
            <a:ext cx="5185080" cy="120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 по 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7928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лые (до 5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556000" y="3284640"/>
            <a:ext cx="2016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редние (50-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716360" y="3284640"/>
            <a:ext cx="194328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ольшие (более 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0400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-миллионеры (более 1 млн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Урбанизация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92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цесс роста доли городского населения, повышение роли городов и распространение городск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20 из 64000"/>
          <p:cNvPicPr/>
          <p:nvPr/>
        </p:nvPicPr>
        <p:blipFill>
          <a:blip r:embed="rId1"/>
          <a:stretch/>
        </p:blipFill>
        <p:spPr>
          <a:xfrm>
            <a:off x="4011480" y="2421000"/>
            <a:ext cx="51325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1:49:43Z</dcterms:created>
  <dc:creator>татьяна</dc:creator>
  <dc:description/>
  <dc:language>en-US</dc:language>
  <cp:lastModifiedBy>User</cp:lastModifiedBy>
  <dcterms:modified xsi:type="dcterms:W3CDTF">2011-09-04T07:55:46Z</dcterms:modified>
  <cp:revision>10</cp:revision>
  <dc:subject/>
  <dc:title>Расселение и урбаниз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43100207f6000400038000</vt:lpwstr>
  </property>
</Properties>
</file>