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261-E1A1-43F8-A722-1B9D7FD8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9426-34A4-4997-8AA3-1B5B0D47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693-8FCC-4759-AE28-C8057105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1E4-7608-48DF-AF5B-FF557A4F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FEA2B-5218-4F3A-BCAD-FE88D85A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E5E43-274E-438E-B053-969DF76E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328DA-1BF7-46EB-AE97-70765DEA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1A556-90CC-4E59-80C7-DE1E0813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CB8D4-7735-41F0-B131-A1BA1E61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B3DEE-D29A-478D-BE94-FEA04F86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AB061-4426-4B36-8086-3B2CFC04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D6C-1A0C-42A6-AC22-C049DEE8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A1D89-292E-490B-8589-055AD1CA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7529A-3DD2-4FDA-9129-2984FBA9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FDCFB-3E14-400D-B729-3098FC62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4C7F4-E43F-47D6-9814-9BECBA49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93E14-99B2-4180-A583-FE509701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EB1E-2805-405E-BF97-50B9290F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56A-7CB6-4F5C-9259-1F0F4DD3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AE62-17A4-4308-8201-D67C3611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F06-D5D8-418A-B7F0-24A479CB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6DC8-1A9B-424D-9244-5DF7AA7F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20B-0F72-4AF7-A940-498B71C8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226-F61B-477B-B47A-89D68529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C8D0-C662-4A8C-9860-EC48C5D0F7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934E-BDDB-43D9-966E-87C044260F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hyperlink" Target="http://ru.wikipedia.org/" TargetMode="External"/><Relationship Id="rId9" Type="http://schemas.openxmlformats.org/officeDocument/2006/relationships/hyperlink" Target="http://images.yandex.ru/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87280" y="2205000"/>
            <a:ext cx="7129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ешествие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Волге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24000" y="4653000"/>
            <a:ext cx="2881080" cy="1973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6300720" y="18900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708360" y="4941720"/>
            <a:ext cx="39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Презентацию подготов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Кузьмина Анна Сергеев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ченица 9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7667640" y="4797360"/>
            <a:ext cx="1266840" cy="1725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189000"/>
            <a:ext cx="58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Колобовская муниципальная средняя общеобразовательная шк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796000" y="333360"/>
            <a:ext cx="3095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ар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608360" cy="3120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916360" y="2997360"/>
            <a:ext cx="5898960" cy="3598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076720" y="981000"/>
            <a:ext cx="40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амара - второй по числу жителей после Нижнего Новгорода город на Волге с населением более 1 млн. человек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86064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амара основана в 1586 г. по приказу царя Федора Иоаннович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60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508720" y="333360"/>
            <a:ext cx="2806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ратов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786200" cy="3598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067280" y="2997360"/>
            <a:ext cx="4797360" cy="3598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76720" y="981000"/>
            <a:ext cx="40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аратов - крупный поволжский город с населением более 870 тыс. челове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43700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аратов был основан для охраны волжского пути в 1590 году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48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580000" y="333360"/>
            <a:ext cx="3022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гоград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0" t="0" r="0" b="-19"/>
          <a:stretch/>
        </p:blipFill>
        <p:spPr>
          <a:xfrm>
            <a:off x="250920" y="189000"/>
            <a:ext cx="5038560" cy="3598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rcRect l="0" t="0" r="0" b="56"/>
          <a:stretch/>
        </p:blipFill>
        <p:spPr>
          <a:xfrm>
            <a:off x="3492360" y="2924280"/>
            <a:ext cx="5172120" cy="3598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076720" y="119700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олгоград - крупный промышленный центр, город-гер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4005360"/>
            <a:ext cx="280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Город Царицын был основан как сторожевая крепость в 1589 г. В 1961 г. переименован в Волгоград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92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219640" y="333360"/>
            <a:ext cx="3095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страхан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924360" y="2997360"/>
            <a:ext cx="4798800" cy="3598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936960" cy="3598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076720" y="1125360"/>
            <a:ext cx="40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Астрахань - крупный речной и морской порт, расположенный в дельте Волги на 11 островах.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450864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Астрахань основана внуком Чингизхана Бату-ханом в 1242 го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3148200" cy="3961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76720" y="620640"/>
            <a:ext cx="40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Города в Ивановской области, расположенные на Волге – Плес, Кинешма, Юрьевец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2881440" cy="191304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2484360" y="2508120"/>
            <a:ext cx="6408720" cy="4138920"/>
            <a:chOff x="2484360" y="2508120"/>
            <a:chExt cx="6408720" cy="4138920"/>
          </a:xfrm>
        </p:grpSpPr>
        <p:pic>
          <p:nvPicPr>
            <p:cNvPr id="151" name="Picture 8" descr="maps"/>
            <p:cNvPicPr/>
            <p:nvPr/>
          </p:nvPicPr>
          <p:blipFill>
            <a:blip r:embed="rId4"/>
            <a:stretch/>
          </p:blipFill>
          <p:spPr>
            <a:xfrm>
              <a:off x="2484360" y="2508120"/>
              <a:ext cx="6408720" cy="41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508720" y="3645000"/>
              <a:ext cx="539640" cy="2156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ahoma"/>
                </a:rPr>
                <a:t>Пле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56360" y="3645000"/>
              <a:ext cx="1079640" cy="2156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ahoma"/>
                </a:rPr>
                <a:t>Кинешм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20000" y="3860640"/>
              <a:ext cx="1079280" cy="2160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ahoma"/>
                </a:rPr>
                <a:t>Юрьевец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32720" y="3500280"/>
              <a:ext cx="107640" cy="108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67280" y="3500280"/>
              <a:ext cx="108000" cy="108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01080" y="3789360"/>
              <a:ext cx="108000" cy="108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443640" y="333360"/>
            <a:ext cx="187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е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0" t="0" r="0" b="21"/>
          <a:stretch/>
        </p:blipFill>
        <p:spPr>
          <a:xfrm>
            <a:off x="3780000" y="3357720"/>
            <a:ext cx="4808520" cy="3165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rcRect l="0" t="0" r="0" b="75"/>
          <a:stretch/>
        </p:blipFill>
        <p:spPr>
          <a:xfrm>
            <a:off x="250920" y="333360"/>
            <a:ext cx="5037120" cy="3598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292720" y="1197000"/>
            <a:ext cx="385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лёс - город в Приволжском районе Ивановской области. Население 2,6 тыс. жителе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443700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Официально история Плёса ведёт начало с 1410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80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508720" y="333360"/>
            <a:ext cx="2806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инешм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0" t="0" r="-54" b="0"/>
          <a:stretch/>
        </p:blipFill>
        <p:spPr>
          <a:xfrm>
            <a:off x="250920" y="189000"/>
            <a:ext cx="5041800" cy="3598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rcRect l="0" t="0" r="0" b="-47"/>
          <a:stretch/>
        </p:blipFill>
        <p:spPr>
          <a:xfrm>
            <a:off x="3492360" y="2924280"/>
            <a:ext cx="5247000" cy="3598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435640" y="1052640"/>
            <a:ext cx="37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Кинешма – один из старейших промышленных центров Верхнего Поволжь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407664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ервые письменные упоминания о Кинешме относятся к 1429 го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40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508720" y="333360"/>
            <a:ext cx="2806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Юрьевец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rcRect l="0" t="0" r="-82" b="0"/>
          <a:stretch/>
        </p:blipFill>
        <p:spPr>
          <a:xfrm>
            <a:off x="3203640" y="3068640"/>
            <a:ext cx="5595840" cy="3598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798800" cy="3598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76720" y="981000"/>
            <a:ext cx="40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Юрьевец, как самый древний город Ивановской области включен в список исторических городов Российской Федер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422100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Юрьевец основан в 1225 году великим князем Владимирским – Юрием II Всеволодовичем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96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920" y="333360"/>
            <a:ext cx="5833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ешествие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Волге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324000" y="3573360"/>
            <a:ext cx="2881080" cy="1973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6300720" y="18900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390840" y="3860640"/>
            <a:ext cx="575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Используемая литература и Интернет-ресурс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4508640"/>
            <a:ext cx="57960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Википедия – свободная энциклопедия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Tahoma"/>
                <a:hlinkClick r:id="rId8"/>
              </a:rPr>
              <a:t>http://ru.wikipedia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Рисунки. Яндекс –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Verdana"/>
                <a:hlinkClick r:id="rId9"/>
              </a:rPr>
              <a:t>http://images.yandex.ru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4533840" cy="5705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067280" y="4183200"/>
            <a:ext cx="4897440" cy="2457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932360" y="1052640"/>
            <a:ext cx="40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олга - великая русская река.  Она принадлежит к числу крупнейших рек земного шара и является самой большой в  Европе. Длина реки – 3690  км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1052640"/>
            <a:ext cx="40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Крупнейшие города на Волге - Тверь,  Ярославль, Кострома,  Нижний Новгород, Чебоксары, Казань, Ульяновск, Самара, Саратов, Волгоград, Астрахань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443640" y="333360"/>
            <a:ext cx="187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ер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348000" y="3068640"/>
            <a:ext cx="5488200" cy="3598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Город Тверь, река Волга, речной вокзал"/>
          <p:cNvPicPr/>
          <p:nvPr/>
        </p:nvPicPr>
        <p:blipFill>
          <a:blip r:embed="rId3"/>
          <a:stretch/>
        </p:blipFill>
        <p:spPr>
          <a:xfrm>
            <a:off x="179280" y="189000"/>
            <a:ext cx="5400720" cy="3000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724360" y="1268280"/>
            <a:ext cx="34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Тверь - один из старейших российских городо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400536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первые Тверь упоминается в исторических летописях в 1164 го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6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580000" y="333360"/>
            <a:ext cx="3238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рославл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0" b="-53"/>
          <a:stretch/>
        </p:blipFill>
        <p:spPr>
          <a:xfrm>
            <a:off x="3132000" y="3357720"/>
            <a:ext cx="5772240" cy="3240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rcRect l="0" t="0" r="-72" b="0"/>
          <a:stretch/>
        </p:blipFill>
        <p:spPr>
          <a:xfrm>
            <a:off x="250920" y="189000"/>
            <a:ext cx="4681440" cy="3598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076720" y="981000"/>
            <a:ext cx="40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Ярославль - крупный промышленный город, культурный и образовательный центр, его население более 500 тысяч челове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43700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Город основан князем Ярославом Мудрым в 1010 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64000" y="333360"/>
            <a:ext cx="2951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стром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348000" y="2997360"/>
            <a:ext cx="5405400" cy="3598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4799160" cy="3598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076720" y="981000"/>
            <a:ext cx="40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Кострома - крупный город, в котором проживают около 290 тыс. человек, центр машиностроения и деревообработки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443700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острома основана в 1152 г. князем Юрием Долгоруки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84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427640" y="333360"/>
            <a:ext cx="431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жний Новгород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598920" cy="3598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132000" y="3243240"/>
            <a:ext cx="5694480" cy="3424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00720" y="1341360"/>
            <a:ext cx="40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ижний Новгород - крупный торговый и промышленный центр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443700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ижний Новгород основан в 1221 г. князем Юрием Всеволодовичем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292720" y="333360"/>
            <a:ext cx="367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боксар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948200" cy="3598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0" t="0" r="0" b="-28"/>
          <a:stretch/>
        </p:blipFill>
        <p:spPr>
          <a:xfrm>
            <a:off x="3708360" y="3068640"/>
            <a:ext cx="5022720" cy="3598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076720" y="1052640"/>
            <a:ext cx="40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Чебоксары - крупный промышленный, научный и культурный центр, столица Чуваш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22100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Чебоксары основаны в 1555 г. на месте старинного чувашского посе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8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084720" y="333360"/>
            <a:ext cx="2230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зан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726080" cy="3598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780000" y="2924280"/>
            <a:ext cx="4798800" cy="3598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076720" y="1125360"/>
            <a:ext cx="40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Казань - столица Татарстана с населением более 1 млн. 100 тыс. человек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4581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Город основан булгарами в 1177 году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44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64000" y="333360"/>
            <a:ext cx="2951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льяновс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-43" b="-70"/>
          <a:stretch/>
        </p:blipFill>
        <p:spPr>
          <a:xfrm>
            <a:off x="2987640" y="2997360"/>
            <a:ext cx="5834160" cy="359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3525840" cy="3598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43280" y="148428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Ульяновск насчитывает более 680 тыс. жителей. До 1924 года город назывался Симбирск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422100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 1648 г. на правом берегу Волги была построена крепость Симбирск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96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9:33:00Z</dcterms:created>
  <dc:creator>1</dc:creator>
  <dc:description/>
  <dc:language>en-US</dc:language>
  <cp:lastModifiedBy>Отдел экономики</cp:lastModifiedBy>
  <dcterms:modified xsi:type="dcterms:W3CDTF">2012-02-09T07:11:43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170000000000010250300207f7000400038000</vt:lpwstr>
  </property>
</Properties>
</file>