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51F-2CDE-48A7-9A39-9BEE5E89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4E6-FC6E-473D-B936-5968ED1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D8D-EDFD-436F-A696-A71DAA5A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258-19E1-4A4D-B474-7E9C632A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AF3E7-68D9-4B76-8CF1-65151687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78AA1-D7DC-405B-8A87-49BF4E63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A572D-C954-4036-B9F1-DBC4CBE7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48CE5-5093-4767-AE66-01511E48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9E7A3-DE0A-4695-AB55-102002EC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CA3E5-3F75-4BE6-AF17-24AFB5DD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21E77-B2D8-4D58-834A-C760B21C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E94-B957-43BF-AA11-12603844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8D2E1-F8F6-4F91-B071-7924C3A8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91706-0C7F-48F3-AFDE-460F9DD2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35F32-EA7D-495F-B5F3-3029DD76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9C54B-2564-452D-A30E-312C5355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6DE86-28B1-418F-B701-23A02305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8C3-0FB9-4675-9DBA-0303A604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DFB-936D-4CD2-BCA2-13D2C8AD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280-3126-49A1-8520-90B3A02B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210-BADB-4338-9087-777A2A0F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B85-0BC4-4745-85AE-28D6C3C5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CF1-5796-4873-ABBD-E15C055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D88-287B-42C6-A0AE-119A837A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9CAA-950C-4E36-87F7-F28967AB91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C0D3-F25F-4089-89C6-41E971138D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hyperlink" Target="http://ru.wikipedia.org/" TargetMode="External"/><Relationship Id="rId9" Type="http://schemas.openxmlformats.org/officeDocument/2006/relationships/hyperlink" Target="http://images.yandex.ru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7280" y="2205000"/>
            <a:ext cx="7129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Волг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2881080" cy="1973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300720" y="18900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708360" y="49417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Презентацию подготов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Кузьмина Анна Сергее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еница 9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667640" y="4797360"/>
            <a:ext cx="1266840" cy="172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8900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Колобовская муниципальная средняя общеобразовательна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796000" y="333360"/>
            <a:ext cx="309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ар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08360" cy="3120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916360" y="2997360"/>
            <a:ext cx="5898960" cy="3598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76720" y="98100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мара - второй по числу жителей после Нижнего Новгорода город на Волге с населением более 1 млн. челове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86064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мара основана в 1586 г. по приказу царя Федора Иоаннович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6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508720" y="333360"/>
            <a:ext cx="280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ратов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786200" cy="359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67280" y="2997360"/>
            <a:ext cx="4797360" cy="3598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76720" y="98100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ратов - крупный поволжский город с населением более 870 тыс. челов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Саратов был основан для охраны волжского пути в 1590 году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48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580000" y="333360"/>
            <a:ext cx="3022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гогра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0" b="-19"/>
          <a:stretch/>
        </p:blipFill>
        <p:spPr>
          <a:xfrm>
            <a:off x="250920" y="189000"/>
            <a:ext cx="5038560" cy="3598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0" t="0" r="0" b="56"/>
          <a:stretch/>
        </p:blipFill>
        <p:spPr>
          <a:xfrm>
            <a:off x="3492360" y="2924280"/>
            <a:ext cx="5172120" cy="3598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76720" y="119700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лгоград - крупный промышленный центр, город-гер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4005360"/>
            <a:ext cx="280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 Царицын был основан как сторожевая крепость в 1589 г. В 1961 г. переименован в Волгоград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92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219640" y="333360"/>
            <a:ext cx="3095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страха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24360" y="2997360"/>
            <a:ext cx="4798800" cy="3598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936960" cy="3598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076720" y="112536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страхань - крупный речной и морской порт, расположенный в дельте Волги на 11 островах.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50864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Астрахань основана внуком Чингизхана Бату-ханом в 1242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3148200" cy="3961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76720" y="62064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а в Ивановской области, расположенные на Волге – Плес, Кинешма, Юрьевец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881440" cy="191304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2484360" y="2508120"/>
            <a:ext cx="6408720" cy="4138920"/>
            <a:chOff x="2484360" y="2508120"/>
            <a:chExt cx="6408720" cy="4138920"/>
          </a:xfrm>
        </p:grpSpPr>
        <p:pic>
          <p:nvPicPr>
            <p:cNvPr id="151" name="Picture 8" descr="maps"/>
            <p:cNvPicPr/>
            <p:nvPr/>
          </p:nvPicPr>
          <p:blipFill>
            <a:blip r:embed="rId4"/>
            <a:stretch/>
          </p:blipFill>
          <p:spPr>
            <a:xfrm>
              <a:off x="2484360" y="2508120"/>
              <a:ext cx="6408720" cy="41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508720" y="3645000"/>
              <a:ext cx="539640" cy="2156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Плес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3645000"/>
              <a:ext cx="1079640" cy="2156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Кинешм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20000" y="3860640"/>
              <a:ext cx="1079280" cy="216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ahoma"/>
                </a:rPr>
                <a:t>Юрьеве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32720" y="3500280"/>
              <a:ext cx="107640" cy="108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7280" y="3500280"/>
              <a:ext cx="108000" cy="108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01080" y="3789360"/>
              <a:ext cx="108000" cy="108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443640" y="333360"/>
            <a:ext cx="187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е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3780000" y="3357720"/>
            <a:ext cx="4808520" cy="3165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rcRect l="0" t="0" r="0" b="75"/>
          <a:stretch/>
        </p:blipFill>
        <p:spPr>
          <a:xfrm>
            <a:off x="250920" y="333360"/>
            <a:ext cx="5037120" cy="3598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292720" y="1197000"/>
            <a:ext cx="38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лёс - город в Приволжском районе Ивановской области. Население 2,6 тыс. жителе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Официально история Плёса ведёт начало с 141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508720" y="333360"/>
            <a:ext cx="280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инешм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0" r="-54" b="0"/>
          <a:stretch/>
        </p:blipFill>
        <p:spPr>
          <a:xfrm>
            <a:off x="250920" y="189000"/>
            <a:ext cx="5041800" cy="3598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0" t="0" r="0" b="-47"/>
          <a:stretch/>
        </p:blipFill>
        <p:spPr>
          <a:xfrm>
            <a:off x="3492360" y="2924280"/>
            <a:ext cx="5247000" cy="3598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35640" y="1052640"/>
            <a:ext cx="37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инешма – один из старейших промышленных центров Верхнего Поволжь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076640"/>
            <a:ext cx="24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ервые письменные упоминания о Кинешме относятся к 1429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4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508720" y="333360"/>
            <a:ext cx="280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Юрьевец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0" t="0" r="-82" b="0"/>
          <a:stretch/>
        </p:blipFill>
        <p:spPr>
          <a:xfrm>
            <a:off x="3203640" y="3068640"/>
            <a:ext cx="5595840" cy="3598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798800" cy="3598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76720" y="98100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Юрьевец, как самый древний город Ивановской области включен в список исторических городов Российской Федер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422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Юрьевец основан в 1225 году великим князем Владимирским – Юрием II Всеволодовиче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96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920" y="333360"/>
            <a:ext cx="5833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ешестви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Волге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24000" y="3573360"/>
            <a:ext cx="2881080" cy="1973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300720" y="18900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90840" y="3860640"/>
            <a:ext cx="57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Используемая литература и Интернет-ресурс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4508640"/>
            <a:ext cx="5796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Википедия – свободная энциклопедия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ahoma"/>
                <a:hlinkClick r:id="rId8"/>
              </a:rPr>
              <a:t>http://ru.wikipedi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Рисунки. Яндекс –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Verdana"/>
                <a:hlinkClick r:id="rId9"/>
              </a:rPr>
              <a:t>http://images.yandex.ru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533840" cy="570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067280" y="4183200"/>
            <a:ext cx="4897440" cy="245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32360" y="105264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олга - великая русская река.  Она принадлежит к числу крупнейших рек земного шара и является самой большой в  Европе. Длина реки – 3690  к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1052640"/>
            <a:ext cx="40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рупнейшие города на Волге - Тверь,  Ярославль, Кострома,  Нижний Новгород, Чебоксары, Казань, Ульяновск, Самара, Саратов, Волгоград, Астрахань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443640" y="333360"/>
            <a:ext cx="187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ер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5488200" cy="359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Город Тверь, река Волга, речной вокзал"/>
          <p:cNvPicPr/>
          <p:nvPr/>
        </p:nvPicPr>
        <p:blipFill>
          <a:blip r:embed="rId3"/>
          <a:stretch/>
        </p:blipFill>
        <p:spPr>
          <a:xfrm>
            <a:off x="179280" y="189000"/>
            <a:ext cx="540072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24360" y="126828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Тверь - один из старейших российских город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00536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первые Тверь упоминается в исторических летописях в 1164 го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6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580000" y="333360"/>
            <a:ext cx="323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рославл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0" b="-53"/>
          <a:stretch/>
        </p:blipFill>
        <p:spPr>
          <a:xfrm>
            <a:off x="3132000" y="3357720"/>
            <a:ext cx="577224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0" t="0" r="-72" b="0"/>
          <a:stretch/>
        </p:blipFill>
        <p:spPr>
          <a:xfrm>
            <a:off x="250920" y="189000"/>
            <a:ext cx="4681440" cy="359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98100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Ярославль - крупный промышленный город, культурный и образовательный центр, его население более 500 тысяч челов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 основан князем Ярославом Мудрым в 1010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64000" y="333360"/>
            <a:ext cx="295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тром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5405400" cy="359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4799160" cy="3598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76720" y="98100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острома - крупный город, в котором проживают около 290 тыс. человек, центр машиностроения и деревообработк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строма основана в 1152 г. князем Юрием Долгоруки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84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427640" y="33336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жний Новгоро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3598920" cy="359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132000" y="3243240"/>
            <a:ext cx="5694480" cy="3424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00720" y="1341360"/>
            <a:ext cx="40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ижний Новгород - крупный торговый и промышленный центр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443700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Нижний Новгород основан в 1221 г. князем Юрием Всеволодовичем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292720" y="333360"/>
            <a:ext cx="36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боксар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948200" cy="3598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0" b="-28"/>
          <a:stretch/>
        </p:blipFill>
        <p:spPr>
          <a:xfrm>
            <a:off x="3708360" y="3068640"/>
            <a:ext cx="5022720" cy="3598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76720" y="105264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Чебоксары - крупный промышленный, научный и культурный центр, столица Чуваш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22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Чебоксары основаны в 1555 г. на месте старинного чувашского посе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084720" y="333360"/>
            <a:ext cx="223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за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726080" cy="359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4798800" cy="3598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76720" y="112536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Казань - столица Татарстана с населением более 1 млн. 100 тыс. человек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581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Город основан булгарами в 1177 году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44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64000" y="333360"/>
            <a:ext cx="2951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льяновс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-43" b="-70"/>
          <a:stretch/>
        </p:blipFill>
        <p:spPr>
          <a:xfrm>
            <a:off x="2987640" y="2997360"/>
            <a:ext cx="5834160" cy="359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3525840" cy="359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43280" y="148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Ульяновск насчитывает более 680 тыс. жителей. До 1924 года город назывался Симбирс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422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1648 г. на правом берегу Волги была построена крепость Симбирск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96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9:33:00Z</dcterms:created>
  <dc:creator>1</dc:creator>
  <dc:description/>
  <dc:language>en-US</dc:language>
  <cp:lastModifiedBy>Отдел экономики</cp:lastModifiedBy>
  <dcterms:modified xsi:type="dcterms:W3CDTF">2012-02-09T07:11:43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70000000000010250300207f7000400038000</vt:lpwstr>
  </property>
</Properties>
</file>