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BC1-E2B4-4FAD-9431-42029B86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D33-18CB-4E8C-8E7E-DE390B5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3A8-A201-4A5E-A43F-CC4F4B75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577-B91A-485C-BECB-6EE06AED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C415F-F5AD-4F15-A101-3CEDB8F0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318BD-1815-42A0-8445-CDF12619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83E6-4635-4ED4-87E5-E4873C1A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E3D74-15CF-4303-A584-10F1B90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24AC4-C1AF-49B2-A6CA-9D8FC556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DAAFC-DB71-4418-8DAC-CC632A28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EC566-BCF8-46E3-9396-23CB5B1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C94-1571-40E4-AC3D-4B2A192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441B8-4227-480D-8A06-F88C727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6E14F-B47D-47B8-8EC9-36CE329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9F011-2462-407C-8D09-BDA014D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DEE1-8B26-470C-8093-37202F72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CD66A-E86A-4790-B75C-14879683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3DA-FD28-4876-88AE-50930AE3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ED7-2FA6-4201-8A42-546A37CC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2F8-5E5E-4705-8A78-FDC9878C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04C-8E65-4D5A-A69F-3D86FC7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947-A1A5-40D1-8EFF-B80BE7CF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537-FFA8-497C-B83B-0344618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494-BD4A-48E9-B983-01D8E2A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933B-04BD-486B-B197-3C915DE99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7870-FADB-43B4-9926-B12C385CA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2205000"/>
            <a:ext cx="7129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2881080" cy="197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49417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Кузьмина Анна Сергее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еница 9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667640" y="4797360"/>
            <a:ext cx="1266840" cy="17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8900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Колобовская муниципальн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9600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31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16360" y="2997360"/>
            <a:ext cx="5898960" cy="359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- второй по числу жителей после Нижнего Новгорода город на Волге с населением более 1 млн. челове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6064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основана в 1586 г. по приказу царя Федора Иоаннович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6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рат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786200" cy="359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67280" y="2997360"/>
            <a:ext cx="4797360" cy="3598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76720" y="98100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- крупный поволжский город с населением более 870 тыс.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был основан для охраны волжского пути в 1590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8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580000" y="333360"/>
            <a:ext cx="302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гогра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-19"/>
          <a:stretch/>
        </p:blipFill>
        <p:spPr>
          <a:xfrm>
            <a:off x="250920" y="189000"/>
            <a:ext cx="5038560" cy="35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0" r="0" b="56"/>
          <a:stretch/>
        </p:blipFill>
        <p:spPr>
          <a:xfrm>
            <a:off x="3492360" y="2924280"/>
            <a:ext cx="5172120" cy="3598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76720" y="119700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оград - крупный промышленный центр, город-гер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0536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Царицын был основан как сторожевая крепость в 1589 г. В 1961 г. переименован в Волгоград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2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21964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рах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4798800" cy="359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936960" cy="359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- крупный речной и морской порт, расположенный в дельте Волги на 11 островах.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508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основана внуком Чингизхана Бату-ханом в 1242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148200" cy="396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76720" y="620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а в Ивановской области, расположенные на Волге – Плес, Кинешма, Юрьевец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881440" cy="19130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484360" y="2508120"/>
            <a:ext cx="6408720" cy="4138920"/>
            <a:chOff x="2484360" y="2508120"/>
            <a:chExt cx="6408720" cy="4138920"/>
          </a:xfrm>
        </p:grpSpPr>
        <p:pic>
          <p:nvPicPr>
            <p:cNvPr id="151" name="Picture 8" descr="maps"/>
            <p:cNvPicPr/>
            <p:nvPr/>
          </p:nvPicPr>
          <p:blipFill>
            <a:blip r:embed="rId4"/>
            <a:stretch/>
          </p:blipFill>
          <p:spPr>
            <a:xfrm>
              <a:off x="2484360" y="2508120"/>
              <a:ext cx="6408720" cy="41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08720" y="3645000"/>
              <a:ext cx="53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Пле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3645000"/>
              <a:ext cx="107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Кинеш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0000" y="3860640"/>
              <a:ext cx="1079280" cy="216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Юрьеве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2720" y="3500280"/>
              <a:ext cx="10764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350028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01080" y="378936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е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3780000" y="3357720"/>
            <a:ext cx="4808520" cy="316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0" t="0" r="0" b="75"/>
          <a:stretch/>
        </p:blipFill>
        <p:spPr>
          <a:xfrm>
            <a:off x="250920" y="333360"/>
            <a:ext cx="5037120" cy="359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1197000"/>
            <a:ext cx="38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лёс - город в Приволжском районе Ивановской области. Население 2,6 тыс. жител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фициально история Плёса ведёт начало с 141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неш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-54" b="0"/>
          <a:stretch/>
        </p:blipFill>
        <p:spPr>
          <a:xfrm>
            <a:off x="250920" y="189000"/>
            <a:ext cx="504180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0" b="-47"/>
          <a:stretch/>
        </p:blipFill>
        <p:spPr>
          <a:xfrm>
            <a:off x="3492360" y="2924280"/>
            <a:ext cx="5247000" cy="359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105264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инешма – один из старейших промышленных центров Верхнего Поволжь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07664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ервые письменные упоминания о Кинешме относятся к 1429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рьеве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0" r="-82" b="0"/>
          <a:stretch/>
        </p:blipFill>
        <p:spPr>
          <a:xfrm>
            <a:off x="3203640" y="3068640"/>
            <a:ext cx="5595840" cy="359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, как самый древний город Ивановской области включен в список исторических городов Российской Федер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 основан в 1225 году великим князем Владимирским – Юрием II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920" y="333360"/>
            <a:ext cx="583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2881080" cy="1973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90840" y="3860640"/>
            <a:ext cx="57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Используемая литература и Интернет-ресурс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4508640"/>
            <a:ext cx="5796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икипедия – свободная энциклопедия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  <a:hlinkClick r:id="rId8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Рисунки. Яндекс –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  <a:hlinkClick r:id="rId9"/>
              </a:rPr>
              <a:t>http://images.yandex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533840" cy="570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183200"/>
            <a:ext cx="4897440" cy="245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32360" y="10526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а - великая русская река.  Она принадлежит к числу крупнейших рек земного шара и является самой большой в  Европе. Длина реки – 3690  к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052640"/>
            <a:ext cx="40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рупнейшие города на Волге - Тверь,  Ярославль, Кострома,  Нижний Новгород, Чебоксары, Казань, Ульяновск, Самара, Саратов, Волгоград, Астрахань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ер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5488200" cy="359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Город Тверь, река Волга, речной вокзал"/>
          <p:cNvPicPr/>
          <p:nvPr/>
        </p:nvPicPr>
        <p:blipFill>
          <a:blip r:embed="rId3"/>
          <a:stretch/>
        </p:blipFill>
        <p:spPr>
          <a:xfrm>
            <a:off x="179280" y="189000"/>
            <a:ext cx="540072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126828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ерь - один из старейших российских город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005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первые Тверь упоминается в исторических летописях в 1164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580000" y="333360"/>
            <a:ext cx="323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рославл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-53"/>
          <a:stretch/>
        </p:blipFill>
        <p:spPr>
          <a:xfrm>
            <a:off x="3132000" y="3357720"/>
            <a:ext cx="577224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0" r="-72" b="0"/>
          <a:stretch/>
        </p:blipFill>
        <p:spPr>
          <a:xfrm>
            <a:off x="250920" y="189000"/>
            <a:ext cx="4681440" cy="359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98100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Ярославль - крупный промышленный город, культурный и образовательный центр, его население более 500 тысяч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князем Ярославом Мудрым в 1010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тро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5405400" cy="359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799160" cy="35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острома - крупный город, в котором проживают около 290 тыс. человек, центр машиностроения и деревообработ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строма основана в 1152 г. князем Юрием Долгоруки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427640" y="33336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жний Новгоро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132000" y="3243240"/>
            <a:ext cx="5694480" cy="342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1341360"/>
            <a:ext cx="40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- крупный торговый и промышленный центр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основан в 1221 г. князем Юрием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292720" y="333360"/>
            <a:ext cx="36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бокса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948200" cy="359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-28"/>
          <a:stretch/>
        </p:blipFill>
        <p:spPr>
          <a:xfrm>
            <a:off x="3708360" y="3068640"/>
            <a:ext cx="5022720" cy="3598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6720" y="1052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- крупный промышленный, научный и культурный центр, столица Чуваш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основаны в 1555 г. на месте старинного чувашского посе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84720" y="333360"/>
            <a:ext cx="223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з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26080" cy="359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зань - столица Татарстана с населением более 1 млн. 100 тыс. челове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булгарами в 1177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ьяновс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-43" b="-70"/>
          <a:stretch/>
        </p:blipFill>
        <p:spPr>
          <a:xfrm>
            <a:off x="2987640" y="2997360"/>
            <a:ext cx="5834160" cy="35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525840" cy="359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3280" y="148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Ульяновск насчитывает более 680 тыс. жителей. До 1924 года город назывался Симбирс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1648 г. на правом берегу Волги была построена крепость Симбирс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33:00Z</dcterms:created>
  <dc:creator>1</dc:creator>
  <dc:description/>
  <dc:language>en-US</dc:language>
  <cp:lastModifiedBy>Отдел экономики</cp:lastModifiedBy>
  <dcterms:modified xsi:type="dcterms:W3CDTF">2012-02-09T07:11:4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70000000000010250300207f7000400038000</vt:lpwstr>
  </property>
</Properties>
</file>