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6.gif" ContentType="image/gif"/>
  <Override PartName="/ppt/media/image13.jpeg" ContentType="image/jpeg"/>
  <Override PartName="/ppt/media/image4.png" ContentType="image/png"/>
  <Override PartName="/ppt/media/image3.gif" ContentType="image/gif"/>
  <Override PartName="/ppt/media/image12.jpeg" ContentType="image/jpeg"/>
  <Override PartName="/ppt/media/image26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.wmf" ContentType="image/x-wmf"/>
  <Override PartName="/ppt/media/image7.jpeg" ContentType="image/jpeg"/>
  <Override PartName="/ppt/media/image20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3A5-36BC-477C-AADB-F3160B6D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4DD-751E-43DE-8825-15143898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30B-BACE-43B2-8CE2-969D7B3A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100-6C37-4CFA-9F36-04F51703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E68-1186-48B2-8180-655DCE66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64C-012E-45E1-BBE0-EA2B621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305-7C7F-4227-AC72-9DECD444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12B-152E-4B8B-BC28-F8C0A162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EA7-2551-4CD7-BA1E-3372DE43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44B-F937-4D68-AF0D-F39401AB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A95-74D3-4A5B-9CC6-C35B8D74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A22-366D-4DC2-B1CB-819F587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A9F8-EF40-4920-A23B-436CD78B7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Bolshoi_Kanon_Kolorado.ppt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&#1048;&#1085;&#1090;&#1077;&#1088;&#1072;&#1082;&#1090;&#1080;&#1074;&#1085;&#1099;&#1081;%20%20&#1087;&#1083;&#1072;&#1082;&#1072;&#1090;%20(&#1086;&#1089;&#1085;&#1086;&#1074;&#1085;&#1072;&#1103;%20&#1087;&#1088;&#1077;&#1079;&#1077;&#1085;&#1090;&#1072;&#1094;&#1080;&#1103;).ppt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hyperlink" Target="&#1078;&#1080;&#1074;&#1086;&#1090;&#1085;&#1099;&#1077;%20&#1080;%20&#1088;&#1072;&#1089;&#1090;&#1077;&#1085;&#1080;&#1103;.ppt" TargetMode="External"/><Relationship Id="rId4" Type="http://schemas.openxmlformats.org/officeDocument/2006/relationships/image" Target="../media/image18.png"/><Relationship Id="rId5" Type="http://schemas.openxmlformats.org/officeDocument/2006/relationships/hyperlink" Target="Iielloustonskii_natsionalnyi_park.ppt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Путешествие по природным зонам Северной Аме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Урок географии 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Учитель Петрунина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Мои документы\Мои рисунки\школа\d059.gif"/>
          <p:cNvPicPr/>
          <p:nvPr/>
        </p:nvPicPr>
        <p:blipFill>
          <a:blip r:embed="rId2"/>
          <a:stretch/>
        </p:blipFill>
        <p:spPr>
          <a:xfrm>
            <a:off x="6429240" y="428760"/>
            <a:ext cx="192276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Мои документы\Мои рисунки\школа\f858.gif"/>
          <p:cNvPicPr/>
          <p:nvPr/>
        </p:nvPicPr>
        <p:blipFill>
          <a:blip r:embed="rId3"/>
          <a:stretch/>
        </p:blipFill>
        <p:spPr>
          <a:xfrm>
            <a:off x="7000920" y="3714840"/>
            <a:ext cx="15001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>
            <a:hlinkClick r:id="rId2"/>
          </p:cNvPr>
          <p:cNvPicPr/>
          <p:nvPr/>
        </p:nvPicPr>
        <p:blipFill>
          <a:blip r:embed="rId3"/>
          <a:srcRect l="35195" t="23954" r="0" b="-194"/>
          <a:stretch/>
        </p:blipFill>
        <p:spPr>
          <a:xfrm>
            <a:off x="3203640" y="765000"/>
            <a:ext cx="2950920" cy="4264200"/>
          </a:xfrm>
          <a:prstGeom prst="rect">
            <a:avLst/>
          </a:prstGeom>
          <a:ln w="76320">
            <a:solidFill>
              <a:srgbClr val="00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5364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43280" y="3429000"/>
            <a:ext cx="73080" cy="7128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3573360"/>
            <a:ext cx="73080" cy="7164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2924280"/>
            <a:ext cx="73080" cy="7128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3357720"/>
            <a:ext cx="73080" cy="7128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8604360" y="6381720"/>
            <a:ext cx="360360" cy="142920"/>
          </a:xfrm>
          <a:prstGeom prst="leftArrow">
            <a:avLst>
              <a:gd name="adj1" fmla="val 50000"/>
              <a:gd name="adj2" fmla="val 6303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ка М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пи б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ёт начало (не)далеко от самого большо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г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о на земле прес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н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ого оз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а _____________. У неё два крупных пр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и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ока: правый ____________, а левый ___________. М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пи т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ё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 на ____ и вп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 в _________________. Ба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Текст 2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201080" cy="5402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995640" y="5572080"/>
            <a:ext cx="4422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itannic Bold"/>
              </a:rPr>
              <a:t>Цели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484280"/>
            <a:ext cx="8028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Показать особенности расположения природных зон Северной Аме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Дать характеристику природным зо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Рассказать о животных и растениях природных зон достопримечательност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Работа с кар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81356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2" descr=""/>
          <p:cNvPicPr/>
          <p:nvPr/>
        </p:nvPicPr>
        <p:blipFill>
          <a:blip r:embed="rId2"/>
          <a:stretch/>
        </p:blipFill>
        <p:spPr>
          <a:xfrm>
            <a:off x="1500120" y="357120"/>
            <a:ext cx="642960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357200" y="1357200"/>
            <a:ext cx="7031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ыс Сент –Чарльз – какая это точ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такое торнад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крупная река на матери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названия на карте включают слово «великие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озёра образуют систему Великих Североамериканских озё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885080" y="40464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2786040" y="0"/>
            <a:ext cx="52862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36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2"/>
          </p:cNvPr>
          <p:cNvSpPr/>
          <p:nvPr/>
        </p:nvSpPr>
        <p:spPr>
          <a:xfrm>
            <a:off x="7885080" y="6453360"/>
            <a:ext cx="719280" cy="404640"/>
          </a:xfrm>
          <a:prstGeom prst="rightArrow">
            <a:avLst>
              <a:gd name="adj1" fmla="val 50000"/>
              <a:gd name="adj2" fmla="val 4444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Каньон Колорадо (сл"/>
          <p:cNvPicPr/>
          <p:nvPr/>
        </p:nvPicPr>
        <p:blipFill>
          <a:blip r:embed="rId3"/>
          <a:stretch/>
        </p:blipFill>
        <p:spPr>
          <a:xfrm>
            <a:off x="2411280" y="1268280"/>
            <a:ext cx="4427640" cy="295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Айвазовский Иван. Ниагарский водопад. Печать на холсте, бумаге"/>
          <p:cNvPicPr/>
          <p:nvPr/>
        </p:nvPicPr>
        <p:blipFill>
          <a:blip r:embed="rId4"/>
          <a:stretch/>
        </p:blipFill>
        <p:spPr>
          <a:xfrm>
            <a:off x="2340000" y="907920"/>
            <a:ext cx="4475160" cy="419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5"/>
          <a:stretch/>
        </p:blipFill>
        <p:spPr>
          <a:xfrm>
            <a:off x="2268360" y="620640"/>
            <a:ext cx="4735800" cy="489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332000" y="549360"/>
            <a:ext cx="6697440" cy="484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042920" y="765000"/>
            <a:ext cx="7620120" cy="507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Поля"/>
          <p:cNvPicPr/>
          <p:nvPr/>
        </p:nvPicPr>
        <p:blipFill>
          <a:blip r:embed="rId8"/>
          <a:stretch/>
        </p:blipFill>
        <p:spPr>
          <a:xfrm>
            <a:off x="900000" y="549360"/>
            <a:ext cx="8244000" cy="5495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США, Кентуки"/>
          <p:cNvPicPr/>
          <p:nvPr/>
        </p:nvPicPr>
        <p:blipFill>
          <a:blip r:embed="rId9"/>
          <a:stretch/>
        </p:blipFill>
        <p:spPr>
          <a:xfrm>
            <a:off x="539640" y="404640"/>
            <a:ext cx="8604360" cy="573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Горы Кордильеры (сл"/>
          <p:cNvPicPr/>
          <p:nvPr/>
        </p:nvPicPr>
        <p:blipFill>
          <a:blip r:embed="rId10"/>
          <a:stretch/>
        </p:blipFill>
        <p:spPr>
          <a:xfrm>
            <a:off x="611280" y="333360"/>
            <a:ext cx="82818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1857240" y="642960"/>
            <a:ext cx="56134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557360"/>
            <a:ext cx="4284720" cy="313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716280"/>
            <a:ext cx="45036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543240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4608360" cy="442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13520" y="1773360"/>
            <a:ext cx="39304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07:50Z</dcterms:created>
  <dc:creator>Admin</dc:creator>
  <dc:description/>
  <dc:language>en-US</dc:language>
  <cp:lastModifiedBy>Admin</cp:lastModifiedBy>
  <dcterms:modified xsi:type="dcterms:W3CDTF">2011-03-15T05:29:04Z</dcterms:modified>
  <cp:revision>13</cp:revision>
  <dc:subject/>
  <dc:title>Путешествие по природным зонам Северной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2b0000000000010243100207f6000400038000</vt:lpwstr>
  </property>
</Properties>
</file>