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6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12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wmf" ContentType="image/x-wmf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A02-1D60-4A1B-9438-1E9BCC5C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AF0-91C9-4414-86E6-65B71B4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0E0-957E-4CAD-8829-A225BF5E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3B7-0996-44C2-B71A-5BA51E12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71A-BA0E-4E55-99B4-3117AE7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47A-C5B5-49DA-93D5-7747D12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32A-2988-4F5E-B5C9-A1104D0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33B-3BD6-4BBC-8F04-2C2C5C98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E95-0DFD-4E44-9D0F-4D17C3F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A6C-89A3-4E7E-8F4E-EF782CB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721-FD9C-4CE4-917C-C2F3901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1FC-AAA6-405E-B85F-942F5A8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0AE-435C-4C00-8D34-E31AF3F38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Bolshoi_Kanon_Kolorado.ppt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&#1048;&#1085;&#1090;&#1077;&#1088;&#1072;&#1082;&#1090;&#1080;&#1074;&#1085;&#1099;&#1081;%20%20&#1087;&#1083;&#1072;&#1082;&#1072;&#1090;%20(&#1086;&#1089;&#1085;&#1086;&#1074;&#1085;&#1072;&#1103;%20&#1087;&#1088;&#1077;&#1079;&#1077;&#1085;&#1090;&#1072;&#1094;&#1080;&#1103;).ppt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hyperlink" Target="&#1078;&#1080;&#1074;&#1086;&#1090;&#1085;&#1099;&#1077;%20&#1080;%20&#1088;&#1072;&#1089;&#1090;&#1077;&#1085;&#1080;&#1103;.ppt" TargetMode="External"/><Relationship Id="rId4" Type="http://schemas.openxmlformats.org/officeDocument/2006/relationships/image" Target="../media/image18.png"/><Relationship Id="rId5" Type="http://schemas.openxmlformats.org/officeDocument/2006/relationships/hyperlink" Target="Iielloustonskii_natsionalnyi_park.ppt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Путешествие по природным зонам Северной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рок географии 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читель Петрунина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Мои рисунки\школа\d059.gif"/>
          <p:cNvPicPr/>
          <p:nvPr/>
        </p:nvPicPr>
        <p:blipFill>
          <a:blip r:embed="rId2"/>
          <a:stretch/>
        </p:blipFill>
        <p:spPr>
          <a:xfrm>
            <a:off x="6429240" y="428760"/>
            <a:ext cx="192276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Мои документы\Мои рисунки\школа\f858.gif"/>
          <p:cNvPicPr/>
          <p:nvPr/>
        </p:nvPicPr>
        <p:blipFill>
          <a:blip r:embed="rId3"/>
          <a:stretch/>
        </p:blipFill>
        <p:spPr>
          <a:xfrm>
            <a:off x="7000920" y="3714840"/>
            <a:ext cx="15001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>
            <a:hlinkClick r:id="rId2"/>
          </p:cNvPr>
          <p:cNvPicPr/>
          <p:nvPr/>
        </p:nvPicPr>
        <p:blipFill>
          <a:blip r:embed="rId3"/>
          <a:srcRect l="35195" t="23954" r="0" b="-194"/>
          <a:stretch/>
        </p:blipFill>
        <p:spPr>
          <a:xfrm>
            <a:off x="3203640" y="765000"/>
            <a:ext cx="2950920" cy="426420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536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3280" y="342900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3573360"/>
            <a:ext cx="73080" cy="7164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92428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335772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6381720"/>
            <a:ext cx="360360" cy="142920"/>
          </a:xfrm>
          <a:prstGeom prst="leftArrow">
            <a:avLst>
              <a:gd name="adj1" fmla="val 50000"/>
              <a:gd name="adj2" fmla="val 6303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ка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б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ёт начало (не)далеко от самого большо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г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 на земле прес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го оз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а _____________. У неё два крупных п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ока: правый ____________, а левый ___________.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т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ё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на ____ и вп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в _________________. Б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995640" y="5572080"/>
            <a:ext cx="4422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itannic Bold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484280"/>
            <a:ext cx="8028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Показать особенности расположения природных зон Северной Аме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Дать характеристику природным зо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ссказать о животных и растениях природных зон достопримечательност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бота с кар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81356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1500120" y="357120"/>
            <a:ext cx="642960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357200" y="1357200"/>
            <a:ext cx="7031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ыс Сент –Чарльз – какая это точ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такое торнад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крупная река на матер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названия на карте включают слово «велики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озёра образуют систему Великих Североамериканских озё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278604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36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/>
          </p:cNvPr>
          <p:cNvSpPr/>
          <p:nvPr/>
        </p:nvSpPr>
        <p:spPr>
          <a:xfrm>
            <a:off x="7885080" y="6453360"/>
            <a:ext cx="719280" cy="404640"/>
          </a:xfrm>
          <a:prstGeom prst="rightArrow">
            <a:avLst>
              <a:gd name="adj1" fmla="val 50000"/>
              <a:gd name="adj2" fmla="val 444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Каньон Колорадо (сл"/>
          <p:cNvPicPr/>
          <p:nvPr/>
        </p:nvPicPr>
        <p:blipFill>
          <a:blip r:embed="rId3"/>
          <a:stretch/>
        </p:blipFill>
        <p:spPr>
          <a:xfrm>
            <a:off x="2411280" y="1268280"/>
            <a:ext cx="442764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Айвазовский Иван. Ниагарский водопад. Печать на холсте, бумаге"/>
          <p:cNvPicPr/>
          <p:nvPr/>
        </p:nvPicPr>
        <p:blipFill>
          <a:blip r:embed="rId4"/>
          <a:stretch/>
        </p:blipFill>
        <p:spPr>
          <a:xfrm>
            <a:off x="2340000" y="907920"/>
            <a:ext cx="447516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5"/>
          <a:stretch/>
        </p:blipFill>
        <p:spPr>
          <a:xfrm>
            <a:off x="2268360" y="620640"/>
            <a:ext cx="4735800" cy="489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332000" y="549360"/>
            <a:ext cx="6697440" cy="48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042920" y="765000"/>
            <a:ext cx="7620120" cy="507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Поля"/>
          <p:cNvPicPr/>
          <p:nvPr/>
        </p:nvPicPr>
        <p:blipFill>
          <a:blip r:embed="rId8"/>
          <a:stretch/>
        </p:blipFill>
        <p:spPr>
          <a:xfrm>
            <a:off x="900000" y="549360"/>
            <a:ext cx="8244000" cy="549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ША, Кентуки"/>
          <p:cNvPicPr/>
          <p:nvPr/>
        </p:nvPicPr>
        <p:blipFill>
          <a:blip r:embed="rId9"/>
          <a:stretch/>
        </p:blipFill>
        <p:spPr>
          <a:xfrm>
            <a:off x="539640" y="404640"/>
            <a:ext cx="8604360" cy="573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Горы Кордильеры (сл"/>
          <p:cNvPicPr/>
          <p:nvPr/>
        </p:nvPicPr>
        <p:blipFill>
          <a:blip r:embed="rId10"/>
          <a:stretch/>
        </p:blipFill>
        <p:spPr>
          <a:xfrm>
            <a:off x="611280" y="33336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1857240" y="642960"/>
            <a:ext cx="56134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557360"/>
            <a:ext cx="428472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16280"/>
            <a:ext cx="45036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54324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608360" cy="442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3520" y="1773360"/>
            <a:ext cx="3930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07:50Z</dcterms:created>
  <dc:creator>Admin</dc:creator>
  <dc:description/>
  <dc:language>en-US</dc:language>
  <cp:lastModifiedBy>Admin</cp:lastModifiedBy>
  <dcterms:modified xsi:type="dcterms:W3CDTF">2011-03-15T05:29:04Z</dcterms:modified>
  <cp:revision>13</cp:revision>
  <dc:subject/>
  <dc:title>Путешествие по природным зонам Северной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b0000000000010243100207f6000400038000</vt:lpwstr>
  </property>
</Properties>
</file>