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8BF-C104-4A71-8469-1B28522A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3E5-1E84-4E40-8AE5-197A4F0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C45-917A-4F89-A9E6-34CDE07E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556-A03A-4869-814D-89E9EE34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D16-42E5-4476-BD14-1A7054E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74C-A1E5-4E8C-A86B-75A6555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514-D139-4207-9FA8-B9802C9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338-EF89-4B00-B0E8-9482AAC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2E-79EB-4286-8BD2-EB2AD17E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B8A-2EA0-4208-A838-97315B2E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720-106B-476E-943A-567BF78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8DB-58E2-4830-B426-7C5B9D3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3979-428B-4636-A0E1-7F13EF51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sezagadki.ru/2011/04/zagadki-na-temu-ximiya/" TargetMode="External"/><Relationship Id="rId3" Type="http://schemas.openxmlformats.org/officeDocument/2006/relationships/hyperlink" Target="http://www.vsezagadki.ru/2011/04/zagadki-na-temu-ximiya/" TargetMode="External"/><Relationship Id="rId4" Type="http://schemas.openxmlformats.org/officeDocument/2006/relationships/hyperlink" Target="http://www.vsezagadki.ru/2011/04/zagadki-na-temu-ximiya/" TargetMode="External"/><Relationship Id="rId5" Type="http://schemas.openxmlformats.org/officeDocument/2006/relationships/hyperlink" Target="http://www.vsezagadki.ru/2011/04/zagadki-na-temu-ximiya/" TargetMode="External"/><Relationship Id="rId6" Type="http://schemas.openxmlformats.org/officeDocument/2006/relationships/hyperlink" Target="http://www.vsezagadki.ru/2011/04/zagadki-na-temu-ximiya/" TargetMode="External"/><Relationship Id="rId7" Type="http://schemas.openxmlformats.org/officeDocument/2006/relationships/hyperlink" Target="http://www.vsezagadki.ru/2011/04/zagadki-na-temu-ximiya/" TargetMode="External"/><Relationship Id="rId8" Type="http://schemas.openxmlformats.org/officeDocument/2006/relationships/hyperlink" Target="http://www.superhimik.com/t2472-topic" TargetMode="External"/><Relationship Id="rId9" Type="http://schemas.openxmlformats.org/officeDocument/2006/relationships/hyperlink" Target="http://www.superhimik.com/t2472-topic" TargetMode="External"/><Relationship Id="rId10" Type="http://schemas.openxmlformats.org/officeDocument/2006/relationships/hyperlink" Target="http://www.superhimik.com/t2472-topic" TargetMode="External"/><Relationship Id="rId11" Type="http://schemas.openxmlformats.org/officeDocument/2006/relationships/hyperlink" Target="http://www.superhimik.com/t2472-topic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00000" y="1989000"/>
            <a:ext cx="734400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Периодической систем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х элементо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073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6240" y="5156280"/>
            <a:ext cx="33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рогова Т.В. Учитель хи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У «Куженерская средня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еобразовательная школа № 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84360" y="19162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вание какого мет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ет в себе волшеб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28920" y="5535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141300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, хотя и частично может присутствоват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футбольном или хоккейном мат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52560" y="5608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ь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14130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годен для непрерыв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гревания и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ипячения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52920" y="53928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119700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вый слог - из зоопар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других – игра с аза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вместе ты их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 получится мет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о знают даже де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пластичней всех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9280" y="54640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-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й первый слог найдете в с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два других есть в нашем т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в целом я в кольце, серёж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почках, вилках, даже в лож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503244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-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83664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– газ, простое вещ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узначен номер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слог мой первый – б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ка – мой слог вт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2720" y="51037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-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а моя – сухая тр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обоих концов – согласны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целом я – газ, дорог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кто я, думаю, ясно ва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98360" y="51753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-сено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27840" y="5319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76944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1080" y="56800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88360" cy="453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74000" y="58960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ubRRectCallout"/>
          <p:cNvSpPr/>
          <p:nvPr/>
        </p:nvSpPr>
        <p:spPr>
          <a:xfrm>
            <a:off x="1219320" y="1460520"/>
            <a:ext cx="2200320" cy="1523880"/>
          </a:xfrm>
          <a:custGeom>
            <a:avLst/>
            <a:gdLst>
              <a:gd name="textAreaLeft" fmla="*/ 14760 w 2200320"/>
              <a:gd name="textAreaRight" fmla="*/ 2180880 w 22003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RRectCallout"/>
          <p:cNvSpPr/>
          <p:nvPr/>
        </p:nvSpPr>
        <p:spPr>
          <a:xfrm>
            <a:off x="5651640" y="1486080"/>
            <a:ext cx="2171520" cy="1523880"/>
          </a:xfrm>
          <a:custGeom>
            <a:avLst/>
            <a:gdLst>
              <a:gd name="textAreaLeft" fmla="*/ 14400 w 2171520"/>
              <a:gd name="textAreaRight" fmla="*/ 2152440 w 21715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RRectCallout"/>
          <p:cNvSpPr/>
          <p:nvPr/>
        </p:nvSpPr>
        <p:spPr>
          <a:xfrm>
            <a:off x="3564000" y="3683160"/>
            <a:ext cx="2232000" cy="1523880"/>
          </a:xfrm>
          <a:custGeom>
            <a:avLst/>
            <a:gdLst>
              <a:gd name="textAreaLeft" fmla="*/ 14760 w 2232000"/>
              <a:gd name="textAreaRight" fmla="*/ 2212560 w 22320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475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22000" y="575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13640" y="56088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230" b="51"/>
          <a:stretch/>
        </p:blipFill>
        <p:spPr>
          <a:xfrm>
            <a:off x="1908000" y="1341360"/>
            <a:ext cx="5185080" cy="431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50360" y="5680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83664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ова Т.М. Внеклассная работа по химии.Москва. Др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vsezagadk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011/04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agadki-na-temu-ximiy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superhimik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t2472-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irhim.ucoz.ru/publ/rebusy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ebusy-zagadki.ru/rebusy-po-ximi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im.1september.ru/2006/10/41-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penclass.ru/node/99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lhimik.ru/fun/concurs2008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легок и пласти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блеском серебрист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 снаружи никогда не бывает чи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 найдем его на кух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на стройке, и в полё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чуть подума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го вы назов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5240" y="527220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48560" y="57513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воздухе он главный га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кружает всюду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гасает жизнь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з него, без удоб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наших клеточках жи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ажный элемент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05640" y="56800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620640"/>
            <a:ext cx="7561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й металл давно известный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даже интересный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нтгенолог им довол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тот, кто рыбалкой с детства болен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 охотника он в почё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для кабеля сгодится в рабо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мотря на скромный вид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довольно ядовит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жет действовать на г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ак как он канцеро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11080" y="6040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981000"/>
            <a:ext cx="777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гадаем без проблем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лемент, известный всем!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ходит он в состав оксидов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кислоты разных видов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поваренную соль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вот какая это роль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з, - зелёный, ядовитый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- очень знамени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361880" cy="190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70000" y="52484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дивить готов он нас -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уголь, и алмаз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в карандашах сидит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тому что он – графит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рамотный народ поймет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, что это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4720" y="417816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7080" y="5175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84360" y="191628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 в кристаллах и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детей наводит стр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54640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360" y="191628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элемент вра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круг солнц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451640" y="551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00Z</dcterms:created>
  <dc:creator>Саша</dc:creator>
  <dc:description/>
  <dc:language>en-US</dc:language>
  <cp:lastModifiedBy>Саша</cp:lastModifiedBy>
  <dcterms:modified xsi:type="dcterms:W3CDTF">2011-09-14T14:56:4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30000000000010250300207f7000400038000</vt:lpwstr>
  </property>
</Properties>
</file>