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wmf" ContentType="image/x-wmf"/>
  <Override PartName="/ppt/media/image7.jpeg" ContentType="image/jpeg"/>
  <Override PartName="/ppt/media/image12.jpeg" ContentType="image/jpeg"/>
  <Override PartName="/ppt/media/image6.wmf" ContentType="image/x-wmf"/>
  <Override PartName="/ppt/media/image9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F919-1523-4AFC-8068-50DAAC061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39EA-F670-4DC5-8A16-4DCDBB90E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BA20-77A0-4DAD-B963-7D79FA205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DA3F-BD30-46A1-BAE3-52BB2C61F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830D-87A2-4936-B3CB-D3721CA48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F136-EBF1-419A-B4F6-AA6CA4ED5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DBEA-8F6A-4B50-95F8-26AD88D11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8929-AF9D-43DC-8A30-522EB8016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A556-3A3F-4081-875E-CB28995A2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D4F6-E8B9-4296-9E25-4ED603EE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BB59-42CD-4714-B9E7-77B66823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4CED-F0F8-4805-9ECE-69CC4D2F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6E335-27BC-47C9-ACB5-2EEC55B7E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vsezagadki.ru/2011/04/zagadki-na-temu-ximiya/" TargetMode="External"/><Relationship Id="rId3" Type="http://schemas.openxmlformats.org/officeDocument/2006/relationships/hyperlink" Target="http://www.vsezagadki.ru/2011/04/zagadki-na-temu-ximiya/" TargetMode="External"/><Relationship Id="rId4" Type="http://schemas.openxmlformats.org/officeDocument/2006/relationships/hyperlink" Target="http://www.vsezagadki.ru/2011/04/zagadki-na-temu-ximiya/" TargetMode="External"/><Relationship Id="rId5" Type="http://schemas.openxmlformats.org/officeDocument/2006/relationships/hyperlink" Target="http://www.vsezagadki.ru/2011/04/zagadki-na-temu-ximiya/" TargetMode="External"/><Relationship Id="rId6" Type="http://schemas.openxmlformats.org/officeDocument/2006/relationships/hyperlink" Target="http://www.vsezagadki.ru/2011/04/zagadki-na-temu-ximiya/" TargetMode="External"/><Relationship Id="rId7" Type="http://schemas.openxmlformats.org/officeDocument/2006/relationships/hyperlink" Target="http://www.vsezagadki.ru/2011/04/zagadki-na-temu-ximiya/" TargetMode="External"/><Relationship Id="rId8" Type="http://schemas.openxmlformats.org/officeDocument/2006/relationships/hyperlink" Target="http://www.superhimik.com/t2472-topic" TargetMode="External"/><Relationship Id="rId9" Type="http://schemas.openxmlformats.org/officeDocument/2006/relationships/hyperlink" Target="http://www.superhimik.com/t2472-topic" TargetMode="External"/><Relationship Id="rId10" Type="http://schemas.openxmlformats.org/officeDocument/2006/relationships/hyperlink" Target="http://www.superhimik.com/t2472-topic" TargetMode="External"/><Relationship Id="rId11" Type="http://schemas.openxmlformats.org/officeDocument/2006/relationships/hyperlink" Target="http://www.superhimik.com/t2472-topic" TargetMode="External"/><Relationship Id="rId1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900000" y="1989000"/>
            <a:ext cx="7344000" cy="260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утешествие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 Периодической системе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химических элементов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/>
          <p:nvPr/>
        </p:nvSpPr>
        <p:spPr>
          <a:xfrm>
            <a:off x="7020000" y="10731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96240" y="5156280"/>
            <a:ext cx="3304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ирогова Т.В. Учитель хим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МОУ «Куженерская средня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бщеобразовательная школа № 2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584360" y="1916280"/>
            <a:ext cx="6324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Название какого метал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несет в себе волшебни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276720" y="3860640"/>
            <a:ext cx="1825560" cy="1828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928920" y="5535720"/>
            <a:ext cx="12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г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971640" y="1413000"/>
            <a:ext cx="7200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Какой химический элемент, хотя и частично может присутствовать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на футбольном или хоккейном матч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708360" y="4221000"/>
            <a:ext cx="1825560" cy="18288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352560" y="560880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льм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11280" y="1413000"/>
            <a:ext cx="784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Какой химический элемен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ригоден для непрерывн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нагревания и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кипячения вод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708360" y="4221000"/>
            <a:ext cx="1825560" cy="1828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352920" y="5392800"/>
            <a:ext cx="10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и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700200" y="4421160"/>
            <a:ext cx="1827000" cy="1827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755640" y="1197000"/>
            <a:ext cx="7561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ервый слог - из зоопар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Два других – игра с азар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И если вместе ты их взя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То получится метал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Это знают даже дети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Он пластичней всех на све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69280" y="546408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о-ло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00200" y="4421160"/>
            <a:ext cx="1827000" cy="1827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755640" y="836640"/>
            <a:ext cx="7561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Мой первый слог найдете в се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А два других есть в нашем те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А в целом я в кольце, серёжк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Цепочках, вилках, даже в лож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5800" y="5032440"/>
            <a:ext cx="152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-реб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0200" y="4421160"/>
            <a:ext cx="1827000" cy="1827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755640" y="836640"/>
            <a:ext cx="7561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Я – газ, простое вещест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Двузначен номер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А слог мой первый – божест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Река – мой слог втор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282720" y="5103720"/>
            <a:ext cx="11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-д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00200" y="4421160"/>
            <a:ext cx="1827000" cy="18273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55640" y="836640"/>
            <a:ext cx="7561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Основа моя – сухая тра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 обоих концов – согласные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 целом я – газ, дорогие друз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И кто я, думаю, ясно вам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498360" y="5175360"/>
            <a:ext cx="13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-сено-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755640" y="836640"/>
            <a:ext cx="7561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755640" y="1052640"/>
            <a:ext cx="7632720" cy="4681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927840" y="5319720"/>
            <a:ext cx="11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м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755640" y="836640"/>
            <a:ext cx="7561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187280" y="1268280"/>
            <a:ext cx="6769440" cy="43927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931080" y="5680080"/>
            <a:ext cx="10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л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755640" y="836640"/>
            <a:ext cx="7561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900000" y="1413000"/>
            <a:ext cx="7488360" cy="45370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7074000" y="5896080"/>
            <a:ext cx="12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ик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ubRRectCallout"/>
          <p:cNvSpPr/>
          <p:nvPr/>
        </p:nvSpPr>
        <p:spPr>
          <a:xfrm>
            <a:off x="1219320" y="1460520"/>
            <a:ext cx="2200320" cy="1523880"/>
          </a:xfrm>
          <a:custGeom>
            <a:avLst/>
            <a:gdLst>
              <a:gd name="textAreaLeft" fmla="*/ 14760 w 2200320"/>
              <a:gd name="textAreaRight" fmla="*/ 2180880 w 2200320"/>
              <a:gd name="textAreaTop" fmla="*/ 10080 h 1523880"/>
              <a:gd name="textAreaBottom" fmla="*/ 1207080 h 152388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ffe6c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Загад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ubRRectCallout"/>
          <p:cNvSpPr/>
          <p:nvPr/>
        </p:nvSpPr>
        <p:spPr>
          <a:xfrm>
            <a:off x="5651640" y="1486080"/>
            <a:ext cx="2171520" cy="1523880"/>
          </a:xfrm>
          <a:custGeom>
            <a:avLst/>
            <a:gdLst>
              <a:gd name="textAreaLeft" fmla="*/ 14400 w 2171520"/>
              <a:gd name="textAreaRight" fmla="*/ 2152440 w 2171520"/>
              <a:gd name="textAreaTop" fmla="*/ 10080 h 1523880"/>
              <a:gd name="textAreaBottom" fmla="*/ 1207080 h 152388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ffe6c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Ребу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ubRRectCallout"/>
          <p:cNvSpPr/>
          <p:nvPr/>
        </p:nvSpPr>
        <p:spPr>
          <a:xfrm>
            <a:off x="3564000" y="3683160"/>
            <a:ext cx="2232000" cy="1523880"/>
          </a:xfrm>
          <a:custGeom>
            <a:avLst/>
            <a:gdLst>
              <a:gd name="textAreaLeft" fmla="*/ 14760 w 2232000"/>
              <a:gd name="textAreaRight" fmla="*/ 2212560 w 2232000"/>
              <a:gd name="textAreaTop" fmla="*/ 10080 h 1523880"/>
              <a:gd name="textAreaBottom" fmla="*/ 1207080 h 152388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ffe6c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Шара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755640" y="836640"/>
            <a:ext cx="7561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755640" y="1197000"/>
            <a:ext cx="7632720" cy="47530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5922000" y="575136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гле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55640" y="836640"/>
            <a:ext cx="7561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900000" y="1125360"/>
            <a:ext cx="7488360" cy="4680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6713640" y="5608800"/>
            <a:ext cx="79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з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55640" y="836640"/>
            <a:ext cx="7561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rcRect l="0" t="0" r="230" b="51"/>
          <a:stretch/>
        </p:blipFill>
        <p:spPr>
          <a:xfrm>
            <a:off x="1908000" y="1341360"/>
            <a:ext cx="5185080" cy="43196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7650360" y="5680080"/>
            <a:ext cx="9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755640" y="836640"/>
            <a:ext cx="7561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71640" y="836640"/>
            <a:ext cx="7200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чни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някова Т.М. Внеклассная работа по химии.Москва. Дроф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vsezagadki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2011/04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zagadki-na-temu-ximiya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superhimik.com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/t2472-to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mirhim.ucoz.ru/publ/rebusy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rebusy-zagadki.ru/rebusy-po-ximii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him.1september.ru/2006/10/41-3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openclass.ru/node/999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alhimik.ru/fun/concurs2008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55640" y="1413000"/>
            <a:ext cx="7561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Он и легок и пластич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 блеском серебристы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Но снаружи никогда не бывает чист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Мы найдем его на кухн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И на стройке, и в полё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И если чуть подумае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Его вы назовё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11280" y="4437000"/>
            <a:ext cx="1625400" cy="1828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7545240" y="5272200"/>
            <a:ext cx="912960" cy="912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848560" y="575136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люми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55640" y="1413000"/>
            <a:ext cx="7561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 воздухе он главный газ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Окружает всюду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Угасает жизнь раст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Без него, без удобр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 наших клеточках жив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ажный элемент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11280" y="4437000"/>
            <a:ext cx="1625400" cy="1828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7596360" y="5300640"/>
            <a:ext cx="912600" cy="9129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705640" y="5680080"/>
            <a:ext cx="83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з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55640" y="620640"/>
            <a:ext cx="756144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ей металл давно известный,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Очень даже интересный.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Рентгенолог им доволен,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И тот, кто рыбалкой с детства болен.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У охотника он в почёте.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И для кабеля сгодится в работе.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Несмотря на скромный вид,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Он довольно ядовит.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Может действовать на ген,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Так как он канцероге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7596360" y="5300640"/>
            <a:ext cx="912600" cy="9129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211080" y="6040440"/>
            <a:ext cx="12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ви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55640" y="981000"/>
            <a:ext cx="7777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Отгадаем без проблем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Элемент, известный всем!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ходит он в состав оксидов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И в кислоты разных видов,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И в поваренную соль,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- вот какая это роль.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Газ, - зелёный, ядовитый,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Очень - очень знамениты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11280" y="4292640"/>
            <a:ext cx="1361880" cy="190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216920" y="5537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70000" y="524844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л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55640" y="1268280"/>
            <a:ext cx="770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Удивить готов он нас -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Он и уголь, и алмаз,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Он в карандашах сидит,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отому что он – графит.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Грамотный народ поймет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То, что это …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74720" y="4178160"/>
            <a:ext cx="1625760" cy="1828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787080" y="517536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гле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00200" y="4421160"/>
            <a:ext cx="1827000" cy="1827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84360" y="1916280"/>
            <a:ext cx="6324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Красив в кристаллах и пар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На детей наводит страх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0" y="546408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584360" y="1916280"/>
            <a:ext cx="6324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Какой элемент враща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округ солнца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276720" y="3860640"/>
            <a:ext cx="1825560" cy="18288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451640" y="55166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р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4T14:02:00Z</dcterms:created>
  <dc:creator>Саша</dc:creator>
  <dc:description/>
  <dc:language>en-US</dc:language>
  <cp:lastModifiedBy>Саша</cp:lastModifiedBy>
  <dcterms:modified xsi:type="dcterms:W3CDTF">2011-09-14T14:56:48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6030000000000010250300207f7000400038000</vt:lpwstr>
  </property>
</Properties>
</file>