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34.jpeg" ContentType="image/jpeg"/>
  <Override PartName="/ppt/media/image28.jpeg" ContentType="image/jpeg"/>
  <Override PartName="/ppt/media/image38.jpeg" ContentType="image/jpeg"/>
  <Override PartName="/ppt/media/image7.jpeg" ContentType="image/jpeg"/>
  <Override PartName="/ppt/media/image43.jpeg" ContentType="image/jpeg"/>
  <Override PartName="/ppt/media/image6.jpeg" ContentType="image/jpeg"/>
  <Override PartName="/ppt/media/image11.jpeg" ContentType="image/jpeg"/>
  <Override PartName="/ppt/media/image45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40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81E1-F85C-400D-A84A-8929B88F8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65C7-5161-4DD3-9A98-1365FF0C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AFDD-0AFE-4C84-A365-258C250B0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D74F-206A-45AF-BAFD-B4C046EDE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5B62-A0CC-4656-BFBB-B4CC5CE56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CD72-7C16-4059-97DD-3522F495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88E9-EB9F-47AE-86CD-532E39C2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DA77-E26D-4DDA-A533-3065B2ED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9135-39C6-4F03-B645-BDA0B7E3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8307-85D3-4A9F-9318-A3BB7CBA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FA1C-A0C9-42BE-9841-DD214735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F0A7-1A18-47BE-9846-586AFF6B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C5AE-3240-40DD-B939-D0B9759A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B054-98FC-4849-B7EB-226FBFC8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39A0-DED1-48CC-907B-A08A3B3C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3CAF-0D7C-49CA-B35B-CAE4F25C4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22E9-3F19-4B42-BACE-6A84126BC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D44F-014A-461A-978D-795DC273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DAB9-E9A4-4462-BF4E-E905D67C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1C61-026D-416F-B683-27CBC3E0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B5B0-01C2-4804-BEF8-729B8875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C4BE-193C-4D37-B060-13D8D09A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ECB8-ED50-4130-B499-EDD61C6F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1000-E2C7-4D6A-9B4C-BE134CEA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6a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0640-07E2-492B-AD32-D06ADED343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6a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BFA9-3057-4645-8108-EEA90A87DF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africa.org.ua/about/ta17.htm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africa.org.ua/about/ta18.htm" TargetMode="External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 rot="819000">
            <a:off x="314280" y="4648320"/>
            <a:ext cx="69850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утешествие по Африке</a:t>
            </a:r>
            <a:endParaRPr b="0" i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16720" y="285264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5651640" y="260280"/>
            <a:ext cx="280800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УАРЕГ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6000" y="1484280"/>
            <a:ext cx="266364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очевники-пастух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нимаются охотой, ремеслом, разведением скота. Туареги живут за счет молока и молочных продук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55640" y="1484280"/>
            <a:ext cx="29322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 rot="20945400">
            <a:off x="611280" y="549000"/>
            <a:ext cx="460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стория САВАННЫ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042920" y="333360"/>
            <a:ext cx="3168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Животны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916360" y="2924280"/>
            <a:ext cx="232884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АВАН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63" name="ia" descr="зебры и антилопа гну у водопоя"/>
          <p:cNvPicPr/>
          <p:nvPr/>
        </p:nvPicPr>
        <p:blipFill>
          <a:blip r:embed="rId2"/>
          <a:stretch/>
        </p:blipFill>
        <p:spPr>
          <a:xfrm>
            <a:off x="4427640" y="189000"/>
            <a:ext cx="3240000" cy="21700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395280" y="400536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4788000" y="4149720"/>
            <a:ext cx="338436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419640" y="404640"/>
            <a:ext cx="3600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улусы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2732040" cy="4391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284720" y="1268280"/>
            <a:ext cx="431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улусы — африканский народ численностью около 10 млн человек, обитающий в основном в провинции КваЗулу-Наталь в Южно-Африканской Республике. Небольшие группы зулусов проживают также в Зимбабве, Замбии и Мозамбике. Язык зулу принадлежит к группе нгуни семьи бант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1280" y="4941720"/>
            <a:ext cx="446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ажный аспект зулусской религии — ритуальная чистота. Для разной пищи часто используются разные приборы и посуда, а омовение нужно совершать до трёх раз в ден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5076720" y="4048200"/>
            <a:ext cx="361944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 rot="21159600">
            <a:off x="392040" y="798480"/>
            <a:ext cx="720108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ЭКВАТОРИАЛЬНЫЕ ЛЕ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7020000" y="26028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900000" y="3284640"/>
            <a:ext cx="17719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572000" y="404640"/>
            <a:ext cx="2664000" cy="19972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1835280" y="333360"/>
            <a:ext cx="24001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1868400" cy="28814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2916360" y="260280"/>
            <a:ext cx="316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игмеи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11280" y="112536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3213000"/>
            <a:ext cx="54720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игмеи составляют пигмейскую негроидную расу, отличаются низким ростом (у мужчин - 142-145 см.), желтоватым оттенком кожи, узкими губами, узким и низким переносьем. До расселения пигмеи занимали всю Центральную Африку, затем были вытеснены в область тропических лесов. Занимаются охотой, собирательством и рыболовством. Оружие - лук со стрелами, часто отравленными, с железным наконечником (железо выменивают у соседей), иногда - небольшое копье. Широко используют западни и ловушки. Развито прикладное искусство. Сохраняют многие черты родоплеменной структуры, кочуют группами из 2-4 семей.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7093080" y="476280"/>
            <a:ext cx="1468440" cy="20876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3419640" y="1125360"/>
            <a:ext cx="2381040" cy="17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2087640" cy="14907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556000" y="765000"/>
            <a:ext cx="5976720" cy="40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арк Серенгети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("бесконечные равнины") - самый известный заповедник в Танзании и, вероятно, в мире. Парк занимает почти 15 000 кв. км территории на северо-западе страны. Здесь можно увидеть ту Восточную Африку, которая существовала на планете до появления здесь белого человека. По бесконечным и почти безлесным равнинам Серенгети бродят буквально миллионы копытных животных, находящихся в постоянном движении в поисках корма. Более 35 видов млекопитающих, включая "большую пятерку" (слон, носорог, лев, леопард и буйвол) и около 4,5 млн. копытных, более 500 видов птиц, более 350 видов пресмыкающихся, не говоря уже о насекомых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24000" y="4356000"/>
            <a:ext cx="2376360" cy="1584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132000" y="4149720"/>
            <a:ext cx="554544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рк Крюгера, бесспорно, самое лучшее из мест в Южной Африке, которое желают посетить большинство из приезжающих в страну туристов. Этот заповедник площадью около 20 000 кв. км является одним из десяти крупнейших парков в мире. Он протянулся на расстояние около 414 км узкой полосой вдоль границы ЮАР с Мозамбико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4360" y="260280"/>
            <a:ext cx="5400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Национальные пар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835280" y="476280"/>
            <a:ext cx="5329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изитная карточка</a:t>
            </a:r>
            <a:endParaRPr b="0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"/>
          <p:cNvSpPr/>
          <p:nvPr/>
        </p:nvSpPr>
        <p:spPr>
          <a:xfrm>
            <a:off x="4643280" y="1558080"/>
            <a:ext cx="4140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айние точк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верная – м.Рас -Энгела – 37с.ш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Южная – м. Игольный – 35ю.ш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падная – м. Альмади –17з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точная – м. Рас –Хафун -51в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яж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) с запада на восток: 17+51=6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8х110км.=7480к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) с севера на юг: 37+35=7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2х111км.=7992к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утешественник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227640" y="3789360"/>
            <a:ext cx="1947960" cy="2690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270920" y="333360"/>
            <a:ext cx="1873080" cy="2808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468360" y="1484280"/>
            <a:ext cx="2158920" cy="2158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359240" y="5012640"/>
            <a:ext cx="182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.И.Вавилов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0880" y="3859920"/>
            <a:ext cx="186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аска до Гам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63960" y="220428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авид Ливингсто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mainpic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105080" cy="3076560"/>
          </a:xfrm>
          <a:prstGeom prst="rect">
            <a:avLst/>
          </a:prstGeom>
          <a:ln w="0">
            <a:noFill/>
          </a:ln>
        </p:spPr>
      </p:pic>
      <p:pic>
        <p:nvPicPr>
          <p:cNvPr id="132" name="ia" descr="термитник"/>
          <p:cNvPicPr/>
          <p:nvPr/>
        </p:nvPicPr>
        <p:blipFill>
          <a:blip r:embed="rId2"/>
          <a:stretch/>
        </p:blipFill>
        <p:spPr>
          <a:xfrm>
            <a:off x="4643280" y="1773360"/>
            <a:ext cx="4176720" cy="2798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5076720" y="549360"/>
            <a:ext cx="2951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ПРИРОД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64000" y="5300640"/>
            <a:ext cx="28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ФРИКИ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395280" y="3645000"/>
            <a:ext cx="374328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ia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4902120" cy="31748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68360" y="3606840"/>
            <a:ext cx="453528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Остров Занзиба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"остров-заповедник", известный как "Остров специй". Занзибар - одно из самых красивых мест Индийского океана и один из самых старых торговых центров мира, остров был известен еще во времена шумеров. Практически все побережье острова опоясано рифами, а его берега образуют великолепные пляж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5003640" y="4005360"/>
            <a:ext cx="3876840" cy="2584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5940360" y="765000"/>
            <a:ext cx="220032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24000" y="3716280"/>
            <a:ext cx="4787640" cy="28796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24000" y="260280"/>
            <a:ext cx="360036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Вулкан Килиманджар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что в переводе значит "сверкающая гора", расположен на территории Танзании и является одной из главных достопримечательностей Африки - это самая высока гора Африки (5895 м), единственная снежная вершина континента, самая высокая отдельно стоящая гора планет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140360" y="476280"/>
            <a:ext cx="4681440" cy="2735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084720" y="3500280"/>
            <a:ext cx="251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ирами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исун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5219640" y="4221000"/>
            <a:ext cx="3635280" cy="21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492360" y="549360"/>
            <a:ext cx="38862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ушмены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2952720" cy="2239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780000" y="1413000"/>
            <a:ext cx="44640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нглийское «бушмен» (англ. Bushman) означает «человек (из) кустов» и иногда считается оскорбительным; однако сами бушмены не имеют общего для всех племён самоназвания, а широко распространённое в ЮАР альтернативное название «сан» (San) является готтентотским (на языке нама) и носит в этом языке пейоративный оттенок («аутсайдер», «чужой»).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508720" y="4581360"/>
            <a:ext cx="1952640" cy="14097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95280" y="3789360"/>
            <a:ext cx="4105440" cy="28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нтропологически отличаются от негроидов, поскольку имеют более светлую кожу, тонкие губы; относятся к так называемой капоидной расе. Особенностью языков является наличие щелкающих звуков. Особенность национальной кухни заключается в употреблении в еду «бушменского риса» — личинок муравьев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68360" y="4437000"/>
            <a:ext cx="3456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S</a:t>
            </a:r>
            <a:r>
              <a:rPr b="0" lang="ru-RU" sz="2800" spc="-1" strike="noStrike">
                <a:solidFill>
                  <a:srgbClr val="ff9900"/>
                </a:solidFill>
                <a:latin typeface="Times New Roman"/>
              </a:rPr>
              <a:t>=9065000км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Times New Roman"/>
              </a:rPr>
              <a:t>Возраст =2,5млн.лет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Times New Roman"/>
              </a:rPr>
              <a:t>Наблюдаются миражи -160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187280" y="476280"/>
            <a:ext cx="32004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устыня Саха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195640" y="620640"/>
            <a:ext cx="31683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Животны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724360" y="5373720"/>
            <a:ext cx="23292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устын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516720" y="836640"/>
            <a:ext cx="2146320" cy="1431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0" y="1628640"/>
            <a:ext cx="2343240" cy="31417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Саванны Африки"/>
          <p:cNvPicPr/>
          <p:nvPr/>
        </p:nvPicPr>
        <p:blipFill>
          <a:blip r:embed="rId4"/>
          <a:stretch/>
        </p:blipFill>
        <p:spPr>
          <a:xfrm>
            <a:off x="3203640" y="2276640"/>
            <a:ext cx="42926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14:29:36Z</dcterms:created>
  <dc:creator>пользователь</dc:creator>
  <dc:description/>
  <dc:language>en-US</dc:language>
  <cp:lastModifiedBy>пользователь</cp:lastModifiedBy>
  <dcterms:modified xsi:type="dcterms:W3CDTF">2007-12-19T12:44:03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00f0000000000010243100207f6000400038000</vt:lpwstr>
  </property>
</Properties>
</file>