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11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E17-B75E-4F26-9516-0C393156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F54-4F96-408E-AEF9-70A02D3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3D0-3DDF-45BA-AF4B-808FFBD2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E6D-6918-4E67-9067-5EBEB19F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4047-0749-43C1-BCA5-8645F941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3127-1491-4EE3-AD64-C427E647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9CE6-BBF0-42F3-A168-12856E85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B113-F700-45D6-ADA0-AD79A2F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7F8C-664C-4E32-B801-4E18E79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4369-DC8D-4C34-A3ED-C206D9B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93C8-FCA3-4C8E-8042-E7D2D10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BA5-87EF-4C78-B0E5-9080065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5B75-2404-4507-B198-9AB754B3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110-687E-45DD-B467-D3859C9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FC4-205A-41A5-B916-E23589C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9C3-77B1-4315-B605-54EA6ED3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96FC-1B3E-4CF2-8064-380842FC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7CE-7E94-4A97-9B1D-5A6FA3E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AF1-EC71-4A69-A400-6601177C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EE3-E91A-4F23-B0F4-F9734979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0B1-917A-4741-81AF-6B866EE1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745-9EC5-422B-A2A3-0CD70F1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A34-7105-4FA9-80B5-D6121B7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F6D-FAF6-4F8B-BF89-F0D33EB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5764-3D86-4D3C-BA9A-52F5EAF6C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F690-9860-44DE-A134-04C164934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frica.org.ua/about/ta17.htm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africa.org.ua/about/ta18.htm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 rot="819000">
            <a:off x="314280" y="4648320"/>
            <a:ext cx="6985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Африке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2852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51640" y="260280"/>
            <a:ext cx="2808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АРЕГ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1484280"/>
            <a:ext cx="2663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чевники-паст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нимаются охотой, ремеслом, разведением скота. Туареги живут за счет молока и молочных продук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932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 rot="20945400">
            <a:off x="611280" y="54900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 САВАНН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2920" y="333360"/>
            <a:ext cx="316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о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16360" y="2924280"/>
            <a:ext cx="2328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ВАН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3" name="ia" descr="зебры и антилопа гну у водопоя"/>
          <p:cNvPicPr/>
          <p:nvPr/>
        </p:nvPicPr>
        <p:blipFill>
          <a:blip r:embed="rId2"/>
          <a:stretch/>
        </p:blipFill>
        <p:spPr>
          <a:xfrm>
            <a:off x="4427640" y="189000"/>
            <a:ext cx="3240000" cy="2170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419640" y="404640"/>
            <a:ext cx="36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улус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2040" cy="439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284720" y="126828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улусы — африканский народ численностью около 10 млн человек, обитающий в основном в провинции КваЗулу-Наталь в Южно-Африканской Республике. Небольшие группы зулусов проживают также в Зимбабве, Замбии и Мозамбике. Язык зулу принадлежит к группе нгуни семьи бан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9417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жный аспект зулусской религии — ритуальная чистота. Для разной пищи часто используются разные приборы и посуда, а омовение нужно совершать до трёх раз в д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076720" y="4048200"/>
            <a:ext cx="3619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21159600">
            <a:off x="392040" y="798480"/>
            <a:ext cx="72010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ЭКВАТОРИАЛЬ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835280" y="333360"/>
            <a:ext cx="240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868400" cy="2881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916360" y="260280"/>
            <a:ext cx="316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гме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125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213000"/>
            <a:ext cx="54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игмеи составляют пигмейскую негроидную расу, отличаются низким ростом (у мужчин - 142-145 см.), желтоватым оттенком кожи, узкими губами, узким и низким переносьем. До расселения пигмеи занимали всю Центральную Африку, затем были вытеснены в область тропических лесов. Занимаются охотой, собирательством и рыболовством. Оружие - лук со стрелами, часто отравленными, с железным наконечником (железо выменивают у соседей), иногда - небольшое копье. Широко используют западни и ловушки. Развито прикладное искусство. Сохраняют многие черты родоплеменной структуры, кочуют группами из 2-4 семей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93080" y="476280"/>
            <a:ext cx="1468440" cy="2087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419640" y="1125360"/>
            <a:ext cx="23810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087640" cy="1490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56000" y="765000"/>
            <a:ext cx="597672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рк Серенгет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("бесконечные равнины") - самый известный заповедник в Танзании и, вероятно, в мире. Парк занимает почти 15 000 кв. км территории на северо-западе страны. Здесь можно увидеть ту Восточную Африку, которая существовала на планете до появления здесь белого человека. По бесконечным и почти безлесным равнинам Серенгети бродят буквально миллионы копытных животных, находящихся в постоянном движении в поисках корма. Более 35 видов млекопитающих, включая "большую пятерку" (слон, носорог, лев, леопард и буйвол) и около 4,5 млн. копытных, более 500 видов птиц, более 350 видов пресмыкающихся, не говоря уже о насекомых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435600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32000" y="4149720"/>
            <a:ext cx="5545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к Крюгера, бесспорно, самое лучшее из мест в Южной Африке, которое желают посетить большинство из приезжающих в страну туристов. Этот заповедник площадью около 20 000 кв. км является одним из десяти крупнейших парков в мире. Он протянулся на расстояние около 414 км узкой полосой вдоль границы ЮАР с Мозамби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4360" y="26028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ациональные пар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835280" y="47628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зитная карточка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1558080"/>
            <a:ext cx="41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йние точ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– м.Рас -Энгела – 37с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– м. Игольный – 35ю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– м. Альмади –17з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– м. Рас –Хафун -51в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я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с запада на восток: 17+51=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8х110км.=7480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с севера на юг: 37+35=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2х111км.=7992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енн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1947960" cy="2690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270920" y="333360"/>
            <a:ext cx="18730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59240" y="50126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.И.Вавило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880" y="3859920"/>
            <a:ext cx="18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ска до Га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63960" y="220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вид Ливингсто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ainpic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076560"/>
          </a:xfrm>
          <a:prstGeom prst="rect">
            <a:avLst/>
          </a:prstGeom>
          <a:ln w="0">
            <a:noFill/>
          </a:ln>
        </p:spPr>
      </p:pic>
      <p:pic>
        <p:nvPicPr>
          <p:cNvPr id="132" name="ia" descr="термитник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279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076720" y="54936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64000" y="530064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ФРИ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37432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a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902120" cy="3174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3606840"/>
            <a:ext cx="4535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Остров Занзиба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"остров-заповедник", известный как "Остров специй". Занзибар - одно из самых красивых мест Индийского океана и один из самых старых торговых центров мира, остров был известен еще во времена шумеров. Практически все побережье острова опоясано рифами, а его берега образуют великолепные пляж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3876840" cy="258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940360" y="765000"/>
            <a:ext cx="220032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4787640" cy="287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260280"/>
            <a:ext cx="3600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улкан Килиманджар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что в переводе значит "сверкающая гора", расположен на территории Танзании и является одной из главных достопримечательностей Африки - это самая высока гора Африки (5895 м), единственная снежная вершина континента, самая высокая отдельно стоящая гора план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140360" y="476280"/>
            <a:ext cx="46814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84720" y="3500280"/>
            <a:ext cx="25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ун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6352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492360" y="549360"/>
            <a:ext cx="3886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шмены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952720" cy="2239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780000" y="1413000"/>
            <a:ext cx="446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глийское «бушмен» (англ. Bushman) означает «человек (из) кустов» и иногда считается оскорбительным; однако сами бушмены не имеют общего для всех племён самоназвания, а широко распространённое в ЮАР альтернативное название «сан» (San) является готтентотским (на языке нама) и носит в этом языке пейоративный оттенок («аутсайдер», «чужой»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1952640" cy="1409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3789360"/>
            <a:ext cx="410544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тропологически отличаются от негроидов, поскольку имеют более светлую кожу, тонкие губы; относятся к так называемой капоидной расе. Особенностью языков является наличие щелкающих звуков. Особенность национальной кухни заключается в употреблении в еду «бушменского риса» — личинок муравье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345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=9065000км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Возраст =2,5млн.л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Наблюдаются миражи -16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6280"/>
            <a:ext cx="320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я Сах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95640" y="620640"/>
            <a:ext cx="31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о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24360" y="5373720"/>
            <a:ext cx="2329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516720" y="836640"/>
            <a:ext cx="2146320" cy="143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2343240" cy="3141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Саванны Африки"/>
          <p:cNvPicPr/>
          <p:nvPr/>
        </p:nvPicPr>
        <p:blipFill>
          <a:blip r:embed="rId4"/>
          <a:stretch/>
        </p:blipFill>
        <p:spPr>
          <a:xfrm>
            <a:off x="3203640" y="2276640"/>
            <a:ext cx="4292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4:29:36Z</dcterms:created>
  <dc:creator>пользователь</dc:creator>
  <dc:description/>
  <dc:language>en-US</dc:language>
  <cp:lastModifiedBy>пользователь</cp:lastModifiedBy>
  <dcterms:modified xsi:type="dcterms:W3CDTF">2007-12-19T12:44:0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f0000000000010243100207f6000400038000</vt:lpwstr>
  </property>
</Properties>
</file>