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6.jpeg" ContentType="image/jpeg"/>
  <Override PartName="/ppt/media/image11.jpeg" ContentType="image/jpe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794-CE24-4927-A455-D1B88246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041-D6CB-425B-9F1B-DACF7D36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DA9-490A-4E56-803C-A3E6A5BF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B57-2179-4AD1-9E44-71430D3E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79E3-B9B9-4296-8C43-DAAF16BC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D06D-AC42-4FE6-A228-9FBF39B2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01CC-BD36-48AB-B094-6CAB6B45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ED7B-0CD0-45C8-8C78-721BCE05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C944-D465-465F-9301-0AE3663B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9C99-4A91-4C1D-BD1D-8F42B20D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950C-32DC-47AE-B9FD-1A9FE81D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F96-9FBA-445F-94F6-5F994D15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DC3E-519A-41B6-B158-516CF6E4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4728-9869-42D8-BDD5-2FC8F5A9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CE37-956E-4212-83B7-7A66908C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2E29-F8D6-4BDA-931D-B8B48BFD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E069-A91F-41BC-885C-3BE03F3C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257-0F5D-4C4F-BBB2-750171D2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D37-8D57-4B8D-8AE9-BB248C1F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46D-1F60-4409-98AC-A9B0315D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393-6ADA-48A9-BE5C-4185FA15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CBB-CADE-4043-9570-4FAF9352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2A4-EAB2-4267-83B4-6ADFE8FA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C7E-C307-4044-B350-701868CB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6a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F14-2CC7-46D5-BCC3-34F760B5F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6a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AF05-5B54-421C-9D5A-5D40E9892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africa.org.ua/about/ta17.htm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africa.org.ua/about/ta18.htm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 rot="819000">
            <a:off x="314280" y="4648320"/>
            <a:ext cx="6985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по Африке</a:t>
            </a:r>
            <a:endParaRPr b="0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2852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51640" y="260280"/>
            <a:ext cx="2808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УАРЕГ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1484280"/>
            <a:ext cx="26636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чевники-пасту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нимаются охотой, ремеслом, разведением скота. Туареги живут за счет молока и молочных продук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932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 rot="20945400">
            <a:off x="611280" y="54900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я САВАНН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42920" y="333360"/>
            <a:ext cx="316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от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916360" y="2924280"/>
            <a:ext cx="23288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ВАН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3" name="ia" descr="зебры и антилопа гну у водопоя"/>
          <p:cNvPicPr/>
          <p:nvPr/>
        </p:nvPicPr>
        <p:blipFill>
          <a:blip r:embed="rId2"/>
          <a:stretch/>
        </p:blipFill>
        <p:spPr>
          <a:xfrm>
            <a:off x="4427640" y="189000"/>
            <a:ext cx="3240000" cy="2170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788000" y="414972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419640" y="404640"/>
            <a:ext cx="36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улусы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732040" cy="439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284720" y="1268280"/>
            <a:ext cx="43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улусы — африканский народ численностью около 10 млн человек, обитающий в основном в провинции КваЗулу-Наталь в Южно-Африканской Республике. Небольшие группы зулусов проживают также в Зимбабве, Замбии и Мозамбике. Язык зулу принадлежит к группе нгуни семьи бан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94172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жный аспект зулусской религии — ритуальная чистота. Для разной пищи часто используются разные приборы и посуда, а омовение нужно совершать до трёх раз в д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076720" y="4048200"/>
            <a:ext cx="36194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 rot="21159600">
            <a:off x="392040" y="798480"/>
            <a:ext cx="72010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ЭКВАТОРИАЛЬНЫЕ Л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2664000" cy="199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835280" y="333360"/>
            <a:ext cx="2400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868400" cy="2881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2916360" y="260280"/>
            <a:ext cx="316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игмеи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125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213000"/>
            <a:ext cx="547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игмеи составляют пигмейскую негроидную расу, отличаются низким ростом (у мужчин - 142-145 см.), желтоватым оттенком кожи, узкими губами, узким и низким переносьем. До расселения пигмеи занимали всю Центральную Африку, затем были вытеснены в область тропических лесов. Занимаются охотой, собирательством и рыболовством. Оружие - лук со стрелами, часто отравленными, с железным наконечником (железо выменивают у соседей), иногда - небольшое копье. Широко используют западни и ловушки. Развито прикладное искусство. Сохраняют многие черты родоплеменной структуры, кочуют группами из 2-4 семей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093080" y="476280"/>
            <a:ext cx="1468440" cy="2087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419640" y="1125360"/>
            <a:ext cx="23810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087640" cy="1490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56000" y="765000"/>
            <a:ext cx="597672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рк Серенгет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("бесконечные равнины") - самый известный заповедник в Танзании и, вероятно, в мире. Парк занимает почти 15 000 кв. км территории на северо-западе страны. Здесь можно увидеть ту Восточную Африку, которая существовала на планете до появления здесь белого человека. По бесконечным и почти безлесным равнинам Серенгети бродят буквально миллионы копытных животных, находящихся в постоянном движении в поисках корма. Более 35 видов млекопитающих, включая "большую пятерку" (слон, носорог, лев, леопард и буйвол) и около 4,5 млн. копытных, более 500 видов птиц, более 350 видов пресмыкающихся, не говоря уже о насекомых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4356000"/>
            <a:ext cx="2376360" cy="1584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132000" y="4149720"/>
            <a:ext cx="5545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к Крюгера, бесспорно, самое лучшее из мест в Южной Африке, которое желают посетить большинство из приезжающих в страну туристов. Этот заповедник площадью около 20 000 кв. км является одним из десяти крупнейших парков в мире. Он протянулся на расстояние около 414 км узкой полосой вдоль границы ЮАР с Мозамбик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4360" y="260280"/>
            <a:ext cx="54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Национальные пар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835280" y="476280"/>
            <a:ext cx="53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зитная карточка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1558080"/>
            <a:ext cx="41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йние точ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– м.Рас -Энгела – 37с.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жная – м. Игольный – 35ю.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– м. Альмади –17з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– м. Рас –Хафун -51в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яж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с запада на восток: 17+51=6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8х110км.=7480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с севера на юг: 37+35=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2х111км.=7992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утешественн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1947960" cy="2690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270920" y="333360"/>
            <a:ext cx="187308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68360" y="148428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59240" y="501264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.И.Вавилов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0880" y="3859920"/>
            <a:ext cx="18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ска до Га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63960" y="220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вид Ливингсто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ainpic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3076560"/>
          </a:xfrm>
          <a:prstGeom prst="rect">
            <a:avLst/>
          </a:prstGeom>
          <a:ln w="0">
            <a:noFill/>
          </a:ln>
        </p:spPr>
      </p:pic>
      <p:pic>
        <p:nvPicPr>
          <p:cNvPr id="132" name="ia" descr="термитник"/>
          <p:cNvPicPr/>
          <p:nvPr/>
        </p:nvPicPr>
        <p:blipFill>
          <a:blip r:embed="rId2"/>
          <a:stretch/>
        </p:blipFill>
        <p:spPr>
          <a:xfrm>
            <a:off x="4643280" y="1773360"/>
            <a:ext cx="4176720" cy="2798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5076720" y="549360"/>
            <a:ext cx="29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ПРИРОД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64000" y="530064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ФРИК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95280" y="3645000"/>
            <a:ext cx="37432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a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902120" cy="3174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3606840"/>
            <a:ext cx="45352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Остров Занзиба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"остров-заповедник", известный как "Остров специй". Занзибар - одно из самых красивых мест Индийского океана и один из самых старых торговых центров мира, остров был известен еще во времена шумеров. Практически все побережье острова опоясано рифами, а его берега образуют великолепные пляж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003640" y="4005360"/>
            <a:ext cx="3876840" cy="258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940360" y="765000"/>
            <a:ext cx="220032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4787640" cy="2879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4000" y="260280"/>
            <a:ext cx="360036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Вулкан Килиманджар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что в переводе значит "сверкающая гора", расположен на территории Танзании и является одной из главных достопримечательностей Африки - это самая высока гора Африки (5895 м), единственная снежная вершина континента, самая высокая отдельно стоящая гора плане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140360" y="476280"/>
            <a:ext cx="46814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84720" y="3500280"/>
            <a:ext cx="251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ирам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ун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63528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492360" y="549360"/>
            <a:ext cx="3886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шмены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952720" cy="2239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780000" y="1413000"/>
            <a:ext cx="4464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глийское «бушмен» (англ. Bushman) означает «человек (из) кустов» и иногда считается оскорбительным; однако сами бушмены не имеют общего для всех племён самоназвания, а широко распространённое в ЮАР альтернативное название «сан» (San) является готтентотским (на языке нама) и носит в этом языке пейоративный оттенок («аутсайдер», «чужой»)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08720" y="4581360"/>
            <a:ext cx="1952640" cy="1409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5280" y="3789360"/>
            <a:ext cx="410544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тропологически отличаются от негроидов, поскольку имеют более светлую кожу, тонкие губы; относятся к так называемой капоидной расе. Особенностью языков является наличие щелкающих звуков. Особенность национальной кухни заключается в употреблении в еду «бушменского риса» — личинок муравье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345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=9065000км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Возраст =2,5млн.ле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Наблюдаются миражи -160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7280" y="476280"/>
            <a:ext cx="3200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стыня Сах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195640" y="620640"/>
            <a:ext cx="31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от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24360" y="5373720"/>
            <a:ext cx="2329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сты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516720" y="836640"/>
            <a:ext cx="2146320" cy="1431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2343240" cy="3141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Саванны Африки"/>
          <p:cNvPicPr/>
          <p:nvPr/>
        </p:nvPicPr>
        <p:blipFill>
          <a:blip r:embed="rId4"/>
          <a:stretch/>
        </p:blipFill>
        <p:spPr>
          <a:xfrm>
            <a:off x="3203640" y="2276640"/>
            <a:ext cx="4292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4:29:36Z</dcterms:created>
  <dc:creator>пользователь</dc:creator>
  <dc:description/>
  <dc:language>en-US</dc:language>
  <cp:lastModifiedBy>пользователь</cp:lastModifiedBy>
  <dcterms:modified xsi:type="dcterms:W3CDTF">2007-12-19T12:44:0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f0000000000010243100207f6000400038000</vt:lpwstr>
  </property>
</Properties>
</file>