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38.jpeg" ContentType="image/jpeg"/>
  <Override PartName="/ppt/media/image51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36.jpeg" ContentType="image/jpeg"/>
  <Override PartName="/ppt/media/image10.png" ContentType="image/png"/>
  <Override PartName="/ppt/media/image4.gif" ContentType="image/gif"/>
  <Override PartName="/ppt/media/image33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61.jpeg" ContentType="image/jpeg"/>
  <Override PartName="/ppt/media/image40.png" ContentType="image/png"/>
  <Override PartName="/ppt/media/image50.jpeg" ContentType="image/jpeg"/>
  <Override PartName="/ppt/media/image17.gif" ContentType="image/gif"/>
  <Override PartName="/ppt/media/image27.jpeg" ContentType="image/jpeg"/>
  <Override PartName="/ppt/media/image60.jpeg" ContentType="image/jpeg"/>
  <Override PartName="/ppt/media/image37.jpeg" ContentType="image/jpeg"/>
  <Override PartName="/ppt/media/image24.gif" ContentType="image/gif"/>
  <Override PartName="/ppt/media/image32.jpeg" ContentType="image/jpeg"/>
  <Override PartName="/ppt/media/image5.jpeg" ContentType="image/jpeg"/>
  <Override PartName="/ppt/media/image22.gif" ContentType="image/gif"/>
  <Override PartName="/ppt/media/image18.jpeg" ContentType="image/jpeg"/>
  <Override PartName="/ppt/media/image4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3.gif" ContentType="image/gif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9.jpeg" ContentType="image/jpeg"/>
  <Override PartName="/ppt/media/image16.jpeg" ContentType="image/jpeg"/>
  <Override PartName="/ppt/media/image7.jpeg" ContentType="image/jpeg"/>
  <Override PartName="/ppt/media/image13.gif" ContentType="image/gif"/>
  <Override PartName="/ppt/media/image48.jpeg" ContentType="image/jpeg"/>
  <Override PartName="/ppt/media/image30.gif" ContentType="image/gif"/>
  <Override PartName="/ppt/media/image55.jpeg" ContentType="image/jpeg"/>
  <Override PartName="/ppt/media/image34.jpeg" ContentType="image/jpeg"/>
  <Override PartName="/ppt/media/image44.gif" ContentType="image/gif"/>
  <Override PartName="/ppt/media/image42.gif" ContentType="image/gif"/>
  <Override PartName="/ppt/media/image43.jpeg" ContentType="image/jpeg"/>
  <Override PartName="/ppt/media/image25.gif" ContentType="image/gif"/>
  <Override PartName="/ppt/media/image45.jpeg" ContentType="image/jpeg"/>
  <Override PartName="/ppt/media/image46.jpeg" ContentType="image/jpeg"/>
  <Override PartName="/ppt/media/image26.jpeg" ContentType="image/jpeg"/>
  <Override PartName="/ppt/media/image47.gif" ContentType="image/gif"/>
  <Override PartName="/ppt/media/image53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622-16CA-499E-9F2D-C557192C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EBC-F840-41FD-B938-F03FA9C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984-3F18-4D9C-B12E-31E81C82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545-6D54-4B91-B8DB-47C17FDA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FA2-4754-40BE-A249-B4F9DF8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E02-E60C-41A6-BE7C-9F5E356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D7E-7BF4-4F23-A8DE-90A48EE2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FD3-B6AD-4227-A8F9-EBA78C7E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BC2-124F-4FFC-8464-81688D5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10E-AB64-4EBB-863F-EB574AF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91F-D951-4167-831A-4D5C52F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249-7939-4879-B29D-B66D06B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F4D-C99D-4181-A643-FA2519BAF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20E-02C3-4E13-BA4C-D1A291F84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6.png"/><Relationship Id="rId6" Type="http://schemas.openxmlformats.org/officeDocument/2006/relationships/image" Target="../media/image22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2.gif"/><Relationship Id="rId5" Type="http://schemas.openxmlformats.org/officeDocument/2006/relationships/image" Target="../media/image7.jpeg"/><Relationship Id="rId6" Type="http://schemas.openxmlformats.org/officeDocument/2006/relationships/image" Target="../media/image41.jpeg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6.png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22.gif"/><Relationship Id="rId6" Type="http://schemas.openxmlformats.org/officeDocument/2006/relationships/image" Target="../media/image6.pn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utdoors.ru/general/damp_woods.php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6.pn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gif"/><Relationship Id="rId9" Type="http://schemas.openxmlformats.org/officeDocument/2006/relationships/image" Target="../media/image6.png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нутый угол 8"/>
          <p:cNvGrpSpPr/>
          <p:nvPr/>
        </p:nvGrpSpPr>
        <p:grpSpPr>
          <a:xfrm>
            <a:off x="324000" y="0"/>
            <a:ext cx="8508960" cy="6443640"/>
            <a:chOff x="324000" y="0"/>
            <a:chExt cx="8508960" cy="6443640"/>
          </a:xfrm>
        </p:grpSpPr>
        <p:pic>
          <p:nvPicPr>
            <p:cNvPr id="42" name="Загнутый угол 8" descr=""/>
            <p:cNvPicPr/>
            <p:nvPr/>
          </p:nvPicPr>
          <p:blipFill>
            <a:blip r:embed="rId2"/>
            <a:stretch/>
          </p:blipFill>
          <p:spPr>
            <a:xfrm>
              <a:off x="324000" y="0"/>
              <a:ext cx="850896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27240" y="468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3"/>
          <a:stretch/>
        </p:blipFill>
        <p:spPr>
          <a:xfrm>
            <a:off x="73080" y="5905440"/>
            <a:ext cx="4714920" cy="619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4"/>
          <a:stretch/>
        </p:blipFill>
        <p:spPr>
          <a:xfrm>
            <a:off x="4643280" y="6000840"/>
            <a:ext cx="4500720" cy="61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620640"/>
            <a:ext cx="65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утешествие по Африк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16360" y="3716280"/>
            <a:ext cx="3960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3 д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4000" y="5445000"/>
            <a:ext cx="2067120" cy="482760"/>
          </a:xfrm>
          <a:prstGeom prst="rect">
            <a:avLst/>
          </a:prstGeom>
          <a:solidFill>
            <a:srgbClr val="00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2349360"/>
            <a:ext cx="2930760" cy="2552760"/>
          </a:xfrm>
          <a:prstGeom prst="wedgeRoundRectCallout">
            <a:avLst>
              <a:gd name="adj1" fmla="val 21287"/>
              <a:gd name="adj2" fmla="val 68967"/>
              <a:gd name="adj3" fmla="val 16667"/>
            </a:avLst>
          </a:prstGeom>
          <a:solidFill>
            <a:srgbClr val="66ff33">
              <a:alpha val="68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МОУ СОШ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Свет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рде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50319-1016-44E9-90FF-D01169A67D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68000" y="691920"/>
            <a:ext cx="40327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ухое время года саванны Африки мало, чем отличаются от пусты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ара - до +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, засух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жаркий климат саванн характерен четким чередованием влажного (сезон дождей - лето) и сухого сезонов (сезон засухи - зима), от которых главным образом и зависит ритм природных процессов и проявления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жный сезон от 3 до 8 месяц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2466720" cy="184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31" name="Текст 2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2447640" cy="19144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788000" y="5805360"/>
            <a:ext cx="1009440" cy="84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84720" y="3213000"/>
            <a:ext cx="42876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Текст 2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4038480" cy="2517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8000" y="2637000"/>
            <a:ext cx="403848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лодород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рганические вещества накапливаются в сухой сез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11280" y="69228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64720" y="1989000"/>
            <a:ext cx="1863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Красно-бу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растения развились приспособились к сухому сезону года: жесткие, сильно опушенные листья, толстая к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6920" y="691920"/>
            <a:ext cx="63475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1708200" cy="2114640"/>
          </a:xfrm>
          <a:prstGeom prst="rect">
            <a:avLst/>
          </a:prstGeom>
          <a:ln w="0">
            <a:noFill/>
          </a:ln>
        </p:spPr>
      </p:pic>
      <p:pic>
        <p:nvPicPr>
          <p:cNvPr id="144" name="Текст 2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313440" cy="2187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003640" y="1916280"/>
            <a:ext cx="3319560" cy="2217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6" name=""/>
          <p:cNvSpPr txBox="1"/>
          <p:nvPr/>
        </p:nvSpPr>
        <p:spPr>
          <a:xfrm>
            <a:off x="6588000" y="4365720"/>
            <a:ext cx="1609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обаб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80000" y="1916280"/>
            <a:ext cx="2732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нтичные акаци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Текст 2" descr=""/>
          <p:cNvPicPr/>
          <p:nvPr/>
        </p:nvPicPr>
        <p:blipFill>
          <a:blip r:embed="rId6"/>
          <a:stretch/>
        </p:blipFill>
        <p:spPr>
          <a:xfrm>
            <a:off x="4427640" y="1844640"/>
            <a:ext cx="2466720" cy="184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2" name="Текст 2" descr=""/>
          <p:cNvPicPr/>
          <p:nvPr/>
        </p:nvPicPr>
        <p:blipFill>
          <a:blip r:embed="rId7"/>
          <a:stretch/>
        </p:blipFill>
        <p:spPr>
          <a:xfrm>
            <a:off x="7236000" y="1628640"/>
            <a:ext cx="1511280" cy="21862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3" name="Текст 2" descr=""/>
          <p:cNvPicPr/>
          <p:nvPr/>
        </p:nvPicPr>
        <p:blipFill>
          <a:blip r:embed="rId8"/>
          <a:stretch/>
        </p:blipFill>
        <p:spPr>
          <a:xfrm>
            <a:off x="5867280" y="3933720"/>
            <a:ext cx="2916360" cy="2187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5364000" y="1844640"/>
            <a:ext cx="1552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раф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308720" y="1628640"/>
            <a:ext cx="1449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43640" y="573408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гемот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Текст 2" descr=""/>
          <p:cNvPicPr/>
          <p:nvPr/>
        </p:nvPicPr>
        <p:blipFill>
          <a:blip r:embed="rId9"/>
          <a:stretch/>
        </p:blipFill>
        <p:spPr>
          <a:xfrm>
            <a:off x="2916360" y="4149720"/>
            <a:ext cx="2735280" cy="1527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58" name=""/>
          <p:cNvSpPr txBox="1"/>
          <p:nvPr/>
        </p:nvSpPr>
        <p:spPr>
          <a:xfrm>
            <a:off x="4427640" y="5300640"/>
            <a:ext cx="11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е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2124000" y="1916280"/>
            <a:ext cx="1905120" cy="19047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60" name=""/>
          <p:cNvSpPr txBox="1"/>
          <p:nvPr/>
        </p:nvSpPr>
        <p:spPr>
          <a:xfrm>
            <a:off x="2916360" y="3500280"/>
            <a:ext cx="1171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бр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это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природная зона с очень малым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количеством осадков, редкой растительностью, а местами лишенной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Текст 2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20328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708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44370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92360" y="5229360"/>
            <a:ext cx="18716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35002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789360"/>
            <a:ext cx="2016000" cy="82440"/>
          </a:xfrm>
          <a:custGeom>
            <a:avLst/>
            <a:gdLst/>
            <a:ahLst/>
            <a:rect l="l" t="t" r="r" b="b"/>
            <a:pathLst>
              <a:path w="1270" h="52">
                <a:moveTo>
                  <a:pt x="0" y="45"/>
                </a:moveTo>
                <a:cubicBezTo>
                  <a:pt x="158" y="45"/>
                  <a:pt x="317" y="45"/>
                  <a:pt x="408" y="45"/>
                </a:cubicBezTo>
                <a:cubicBezTo>
                  <a:pt x="499" y="45"/>
                  <a:pt x="423" y="52"/>
                  <a:pt x="544" y="45"/>
                </a:cubicBezTo>
                <a:cubicBezTo>
                  <a:pt x="665" y="38"/>
                  <a:pt x="1013" y="0"/>
                  <a:pt x="1134" y="0"/>
                </a:cubicBezTo>
                <a:cubicBezTo>
                  <a:pt x="1255" y="0"/>
                  <a:pt x="1240" y="38"/>
                  <a:pt x="1270" y="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4869000"/>
            <a:ext cx="455760" cy="863640"/>
          </a:xfrm>
          <a:custGeom>
            <a:avLst/>
            <a:gdLst/>
            <a:ahLst/>
            <a:rect l="l" t="t" r="r" b="b"/>
            <a:pathLst>
              <a:path w="287" h="544">
                <a:moveTo>
                  <a:pt x="0" y="0"/>
                </a:moveTo>
                <a:cubicBezTo>
                  <a:pt x="56" y="49"/>
                  <a:pt x="113" y="98"/>
                  <a:pt x="136" y="136"/>
                </a:cubicBezTo>
                <a:cubicBezTo>
                  <a:pt x="159" y="174"/>
                  <a:pt x="121" y="197"/>
                  <a:pt x="136" y="227"/>
                </a:cubicBezTo>
                <a:cubicBezTo>
                  <a:pt x="151" y="257"/>
                  <a:pt x="204" y="280"/>
                  <a:pt x="227" y="318"/>
                </a:cubicBezTo>
                <a:cubicBezTo>
                  <a:pt x="250" y="356"/>
                  <a:pt x="287" y="416"/>
                  <a:pt x="272" y="454"/>
                </a:cubicBezTo>
                <a:cubicBezTo>
                  <a:pt x="257" y="492"/>
                  <a:pt x="196" y="518"/>
                  <a:pt x="136" y="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321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501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3141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х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Нами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Текст 2" descr=""/>
          <p:cNvPicPr/>
          <p:nvPr/>
        </p:nvPicPr>
        <p:blipFill>
          <a:blip r:embed="rId3"/>
          <a:stretch/>
        </p:blipFill>
        <p:spPr>
          <a:xfrm>
            <a:off x="179280" y="4508640"/>
            <a:ext cx="1650960" cy="2043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484360" y="404640"/>
            <a:ext cx="35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стня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68000" y="691920"/>
            <a:ext cx="40327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 климата - ариадный, сухой. Воздух пустынь, обладая крайне низкой влажностью, практически не защищает поверхность почвы от солнечной ради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ы температуры + 50°С, а максимальная температура зарегистрированная в Сахаре составляет 58° 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чью температура гораздо ниже, так как нагретая почва быстро теряет тепло (погода в пустыне почти всегда ясная, и ночью после жаркого дня возможны иногда даже замороз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4869000"/>
            <a:ext cx="1360440" cy="168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Текст 2" descr=""/>
          <p:cNvPicPr/>
          <p:nvPr/>
        </p:nvPicPr>
        <p:blipFill>
          <a:blip r:embed="rId5"/>
          <a:stretch/>
        </p:blipFill>
        <p:spPr>
          <a:xfrm>
            <a:off x="6156360" y="1844640"/>
            <a:ext cx="2625840" cy="19702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1" name="Текст 2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714320" cy="2187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796000" y="5950080"/>
            <a:ext cx="19144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Текст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2754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ало перегн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ного минеральных солей. Из-за отсутствия дождей соли из почв не вым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При искусственном орошении на таких почвах можно получать хорошие урожа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11280" y="69228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19240" y="177336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Тропические пусты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Текст 2" descr=""/>
          <p:cNvPicPr/>
          <p:nvPr/>
        </p:nvPicPr>
        <p:blipFill>
          <a:blip r:embed="rId4"/>
          <a:stretch/>
        </p:blipFill>
        <p:spPr>
          <a:xfrm>
            <a:off x="3780000" y="4365720"/>
            <a:ext cx="1249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3240000" cy="20908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190" name="Текст 2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3284640" cy="2187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532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субтропических и тропических внутриматериковых пустынях Африки   преобладают ксерофильные кустарники и многолетние травы, но здесь появляются и суккул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всем лише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тительности массив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арханных песков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лощади, покрытые солевой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р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86920" y="691920"/>
            <a:ext cx="6347520" cy="50976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Текст 2" descr=""/>
          <p:cNvPicPr/>
          <p:nvPr/>
        </p:nvPicPr>
        <p:blipFill>
          <a:blip r:embed="rId5"/>
          <a:stretch/>
        </p:blipFill>
        <p:spPr>
          <a:xfrm>
            <a:off x="179280" y="4581360"/>
            <a:ext cx="1708200" cy="211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948360" y="5805360"/>
            <a:ext cx="1609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оэ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796000" y="1773360"/>
            <a:ext cx="2732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ая пальм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851280" y="5516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Текст 2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2190600" cy="20858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8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79280" y="4076640"/>
            <a:ext cx="2000520" cy="2476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203640" y="4076640"/>
            <a:ext cx="11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енёк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Текст 2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3813480" cy="1906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3" name=""/>
          <p:cNvSpPr txBox="1"/>
          <p:nvPr/>
        </p:nvSpPr>
        <p:spPr>
          <a:xfrm>
            <a:off x="2484360" y="3500280"/>
            <a:ext cx="1171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ус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Текст 2" descr=""/>
          <p:cNvPicPr/>
          <p:nvPr/>
        </p:nvPicPr>
        <p:blipFill>
          <a:blip r:embed="rId8"/>
          <a:stretch/>
        </p:blipFill>
        <p:spPr>
          <a:xfrm>
            <a:off x="6516720" y="1844640"/>
            <a:ext cx="1967040" cy="1906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>
            <a:off x="6732720" y="1700280"/>
            <a:ext cx="1449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блюд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Текст 2" descr=""/>
          <p:cNvPicPr/>
          <p:nvPr/>
        </p:nvPicPr>
        <p:blipFill>
          <a:blip r:embed="rId9"/>
          <a:stretch/>
        </p:blipFill>
        <p:spPr>
          <a:xfrm>
            <a:off x="5651640" y="4221000"/>
            <a:ext cx="2904840" cy="15717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7" name=""/>
          <p:cNvSpPr txBox="1"/>
          <p:nvPr/>
        </p:nvSpPr>
        <p:spPr>
          <a:xfrm>
            <a:off x="6372360" y="5516640"/>
            <a:ext cx="1895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ушканчик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36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нём пустыня раскалена,  ночью температура может упасть ниже нуля. Такие огромные колебания в течение суток подвергают животных тяжким испыт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2133720"/>
            <a:ext cx="2016000" cy="5760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ушистый 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2133720"/>
            <a:ext cx="2087280" cy="5760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ячутся в н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916280"/>
            <a:ext cx="309564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хлаждение потением, пыхтением, вибрация горлом, обли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5516640"/>
            <a:ext cx="2160720" cy="934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ольшие уш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ради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хла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3645000"/>
            <a:ext cx="2016000" cy="642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едут ночно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5516640"/>
            <a:ext cx="230508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обегают большие  рас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3500280"/>
            <a:ext cx="180000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бходятся долго бе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5516640"/>
            <a:ext cx="259236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апы имеют перепонки и оп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357720"/>
            <a:ext cx="2519280" cy="131364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Способы приспособления животных к выжи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27640" y="285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4724280"/>
            <a:ext cx="252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63280" y="4724280"/>
            <a:ext cx="215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18920" y="270792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003640" y="2707920"/>
            <a:ext cx="266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2754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м надо успеть посет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Текст 2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811680" cy="21862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54" name="Текст 2" descr=""/>
          <p:cNvPicPr/>
          <p:nvPr/>
        </p:nvPicPr>
        <p:blipFill>
          <a:blip r:embed="rId4"/>
          <a:stretch/>
        </p:blipFill>
        <p:spPr>
          <a:xfrm>
            <a:off x="4716360" y="1916280"/>
            <a:ext cx="3816360" cy="20142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5" name="Текст 2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596960" cy="197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788000" y="1341360"/>
            <a:ext cx="31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опические лес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16360" y="4221000"/>
            <a:ext cx="145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ван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2492280"/>
            <a:ext cx="1419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619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отри и путешеству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8360" y="1916280"/>
            <a:ext cx="7919640" cy="2808000"/>
            <a:chOff x="468360" y="1916280"/>
            <a:chExt cx="7919640" cy="280800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4509360" y="1916280"/>
              <a:ext cx="3878640" cy="2790360"/>
            </a:xfrm>
            <a:prstGeom prst="rect">
              <a:avLst/>
            </a:prstGeom>
            <a:ln w="57240">
              <a:solidFill>
                <a:srgbClr val="ff6600"/>
              </a:solidFill>
              <a:miter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468360" y="1916280"/>
              <a:ext cx="3911760" cy="2808000"/>
            </a:xfrm>
            <a:prstGeom prst="rect">
              <a:avLst/>
            </a:prstGeom>
            <a:ln w="57240">
              <a:solidFill>
                <a:srgbClr val="ff6600"/>
              </a:solidFill>
              <a:miter/>
            </a:ln>
          </p:spPr>
        </p:pic>
      </p:grpSp>
      <p:sp>
        <p:nvSpPr>
          <p:cNvPr id="231" name=""/>
          <p:cNvSpPr/>
          <p:nvPr/>
        </p:nvSpPr>
        <p:spPr>
          <a:xfrm>
            <a:off x="7812000" y="5300640"/>
            <a:ext cx="976320" cy="1224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68360" y="1916280"/>
            <a:ext cx="7854480" cy="2807640"/>
            <a:chOff x="468360" y="1916280"/>
            <a:chExt cx="7854480" cy="2807640"/>
          </a:xfrm>
        </p:grpSpPr>
        <p:pic>
          <p:nvPicPr>
            <p:cNvPr id="233" name="" descr=""/>
            <p:cNvPicPr/>
            <p:nvPr/>
          </p:nvPicPr>
          <p:blipFill>
            <a:blip r:embed="rId6"/>
            <a:stretch/>
          </p:blipFill>
          <p:spPr>
            <a:xfrm>
              <a:off x="468360" y="1916280"/>
              <a:ext cx="3816000" cy="27770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4356000" y="1916280"/>
              <a:ext cx="3966840" cy="28076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250920" y="1989000"/>
            <a:ext cx="8084520" cy="2737080"/>
            <a:chOff x="250920" y="1989000"/>
            <a:chExt cx="8084520" cy="2737080"/>
          </a:xfrm>
        </p:grpSpPr>
        <p:pic>
          <p:nvPicPr>
            <p:cNvPr id="236" name="" descr=""/>
            <p:cNvPicPr/>
            <p:nvPr/>
          </p:nvPicPr>
          <p:blipFill>
            <a:blip r:embed="rId8"/>
            <a:stretch/>
          </p:blipFill>
          <p:spPr>
            <a:xfrm>
              <a:off x="250920" y="2012760"/>
              <a:ext cx="4038120" cy="26924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tretch/>
          </p:blipFill>
          <p:spPr>
            <a:xfrm>
              <a:off x="4365360" y="1989000"/>
              <a:ext cx="3970080" cy="273708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79280" y="1916280"/>
            <a:ext cx="8496360" cy="2807640"/>
            <a:chOff x="179280" y="1916280"/>
            <a:chExt cx="8496360" cy="28076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179280" y="1916280"/>
              <a:ext cx="4038480" cy="2781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  <p:pic>
          <p:nvPicPr>
            <p:cNvPr id="240" name="" descr=""/>
            <p:cNvPicPr/>
            <p:nvPr/>
          </p:nvPicPr>
          <p:blipFill>
            <a:blip r:embed="rId11"/>
            <a:stretch/>
          </p:blipFill>
          <p:spPr>
            <a:xfrm>
              <a:off x="4319640" y="1916280"/>
              <a:ext cx="4356000" cy="280764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250920" y="1916280"/>
            <a:ext cx="8497440" cy="2807640"/>
            <a:chOff x="250920" y="1916280"/>
            <a:chExt cx="8497440" cy="2807640"/>
          </a:xfrm>
        </p:grpSpPr>
        <p:pic>
          <p:nvPicPr>
            <p:cNvPr id="242" name="" descr=""/>
            <p:cNvPicPr/>
            <p:nvPr/>
          </p:nvPicPr>
          <p:blipFill>
            <a:blip r:embed="rId12"/>
            <a:stretch/>
          </p:blipFill>
          <p:spPr>
            <a:xfrm>
              <a:off x="250920" y="1916280"/>
              <a:ext cx="4212000" cy="28022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13"/>
            <a:stretch/>
          </p:blipFill>
          <p:spPr>
            <a:xfrm>
              <a:off x="4681440" y="1916280"/>
              <a:ext cx="4066920" cy="28076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</p:grpSp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179280" y="4076640"/>
            <a:ext cx="2000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фай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outdoors.ru/general/damp_woods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жные тропические ле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outdoors.ru/general/savanna.php - саван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u.wikipedia.org/wiki/%D0%9F%D1%83%D1%81%D1%82%D1%8B%D0%BD%D1%8F –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basik.ru/wallpapers/desert_53/025_wallpaper/ - фотография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urzim.ru/geografiya/prirodnye-zony/6678-pustynya.html - фотография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ethana.com/gallery/details.php?image_id=138&amp;sessionid=df56n3kq11f8eqakoirc0ejol5 – ли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q-wood.ru/catalog/wood/18.html - эбеновое дере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801880" cy="35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это природная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зона, для которой характерна вечнозелёная растительность, расположенная яру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5440" cy="218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4221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501336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41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852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479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37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Влажный экваториальный л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355920"/>
            <a:ext cx="934920" cy="57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549360"/>
            <a:ext cx="70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лажный экваториальный лес 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933720"/>
            <a:ext cx="1452600" cy="417600"/>
          </a:xfrm>
          <a:custGeom>
            <a:avLst/>
            <a:gdLst/>
            <a:ahLst/>
            <a:rect l="l" t="t" r="r" b="b"/>
            <a:pathLst>
              <a:path w="915" h="263">
                <a:moveTo>
                  <a:pt x="0" y="30"/>
                </a:moveTo>
                <a:cubicBezTo>
                  <a:pt x="314" y="15"/>
                  <a:pt x="629" y="0"/>
                  <a:pt x="772" y="30"/>
                </a:cubicBezTo>
                <a:cubicBezTo>
                  <a:pt x="915" y="60"/>
                  <a:pt x="877" y="173"/>
                  <a:pt x="862" y="211"/>
                </a:cubicBezTo>
                <a:cubicBezTo>
                  <a:pt x="847" y="249"/>
                  <a:pt x="764" y="249"/>
                  <a:pt x="681" y="256"/>
                </a:cubicBezTo>
                <a:cubicBezTo>
                  <a:pt x="598" y="263"/>
                  <a:pt x="480" y="259"/>
                  <a:pt x="363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Жаркий, очень влажный климат с почти неизменными в течение года температурами (25 — 27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, что при высокой влажности воспринимается человеком как страшная жа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00360" y="54936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им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19640" y="1989000"/>
            <a:ext cx="3311640" cy="4276800"/>
            <a:chOff x="5219640" y="1989000"/>
            <a:chExt cx="3311640" cy="4276800"/>
          </a:xfrm>
        </p:grpSpPr>
        <p:pic>
          <p:nvPicPr>
            <p:cNvPr id="76" name="Текст 2" descr=""/>
            <p:cNvPicPr/>
            <p:nvPr/>
          </p:nvPicPr>
          <p:blipFill>
            <a:blip r:embed="rId4"/>
            <a:stretch/>
          </p:blipFill>
          <p:spPr>
            <a:xfrm>
              <a:off x="5219640" y="4078080"/>
              <a:ext cx="3303720" cy="218772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  <p:pic>
          <p:nvPicPr>
            <p:cNvPr id="77" name="Текст 2" descr=""/>
            <p:cNvPicPr/>
            <p:nvPr/>
          </p:nvPicPr>
          <p:blipFill>
            <a:blip r:embed="rId5"/>
            <a:stretch/>
          </p:blipFill>
          <p:spPr>
            <a:xfrm>
              <a:off x="5219640" y="1989000"/>
              <a:ext cx="3311640" cy="214956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</p:grp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0" y="4365720"/>
            <a:ext cx="176544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8028000" y="6206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55640" y="2332080"/>
            <a:ext cx="432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Содержат много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рганические вещества разлагаются до конца и  не накапл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билие влаги приводит к непрерывному промыванию на большую глубину поч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Происходит заболач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95640" y="549360"/>
            <a:ext cx="43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Текст 2" descr=""/>
          <p:cNvPicPr/>
          <p:nvPr/>
        </p:nvPicPr>
        <p:blipFill>
          <a:blip r:embed="rId2"/>
          <a:srcRect l="0" t="0" r="31" b="17"/>
          <a:stretch/>
        </p:blipFill>
        <p:spPr>
          <a:xfrm>
            <a:off x="1042920" y="2565360"/>
            <a:ext cx="3241800" cy="2016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4520" y="2060640"/>
            <a:ext cx="37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6600"/>
                </a:solidFill>
                <a:uFillTx/>
                <a:latin typeface="Arial"/>
              </a:rPr>
              <a:t>Красно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-</a:t>
            </a:r>
            <a:r>
              <a:rPr b="1" lang="ru-RU" sz="1800" spc="-1" strike="noStrike" u="sng">
                <a:solidFill>
                  <a:srgbClr val="ff6600"/>
                </a:solidFill>
                <a:uFillTx/>
                <a:latin typeface="Arial"/>
              </a:rPr>
              <a:t>желтые ферралли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1000 видов различных вечнозелёных растений, расположенных яру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В лесу сумрак и сыр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На стволах и ветвях деревьев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селятся растения –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парази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2467080" cy="1847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87" name="Текст 2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633840" cy="2187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2340000" y="692280"/>
            <a:ext cx="431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ость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804000" y="771480"/>
            <a:ext cx="1224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лор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Текст 2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2914560" cy="218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3" name="Текст 2" descr=""/>
          <p:cNvPicPr/>
          <p:nvPr/>
        </p:nvPicPr>
        <p:blipFill>
          <a:blip r:embed="rId5"/>
          <a:stretch/>
        </p:blipFill>
        <p:spPr>
          <a:xfrm>
            <a:off x="5292720" y="1916280"/>
            <a:ext cx="3201840" cy="218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4" name="Текст 2" descr=""/>
          <p:cNvPicPr/>
          <p:nvPr/>
        </p:nvPicPr>
        <p:blipFill>
          <a:blip r:embed="rId6"/>
          <a:stretch/>
        </p:blipFill>
        <p:spPr>
          <a:xfrm>
            <a:off x="5292720" y="4268880"/>
            <a:ext cx="3216240" cy="2144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5" name="Текст 2" descr=""/>
          <p:cNvPicPr/>
          <p:nvPr/>
        </p:nvPicPr>
        <p:blipFill>
          <a:blip r:embed="rId7"/>
          <a:stretch/>
        </p:blipFill>
        <p:spPr>
          <a:xfrm>
            <a:off x="2124000" y="4292640"/>
            <a:ext cx="2951280" cy="21574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08360" y="1989000"/>
            <a:ext cx="1366920" cy="609840"/>
          </a:xfrm>
          <a:prstGeom prst="cloudCallout">
            <a:avLst>
              <a:gd name="adj1" fmla="val -28398"/>
              <a:gd name="adj2" fmla="val 12239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 rot="10800000">
            <a:off x="2916360" y="2565000"/>
            <a:ext cx="1079280" cy="1001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48360" y="1773360"/>
            <a:ext cx="1944720" cy="934920"/>
          </a:xfrm>
          <a:prstGeom prst="cloudCallout">
            <a:avLst>
              <a:gd name="adj1" fmla="val -94652"/>
              <a:gd name="adj2" fmla="val 9702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леб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076640"/>
            <a:ext cx="2160720" cy="792360"/>
          </a:xfrm>
          <a:prstGeom prst="cloudCallout">
            <a:avLst>
              <a:gd name="adj1" fmla="val -91736"/>
              <a:gd name="adj2" fmla="val -129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елез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149720"/>
            <a:ext cx="2066760" cy="825480"/>
          </a:xfrm>
          <a:prstGeom prst="cloudCallout">
            <a:avLst>
              <a:gd name="adj1" fmla="val -12134"/>
              <a:gd name="adj2" fmla="val -156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бенов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Текст 2" descr=""/>
          <p:cNvPicPr/>
          <p:nvPr/>
        </p:nvPicPr>
        <p:blipFill>
          <a:blip r:embed="rId6"/>
          <a:stretch/>
        </p:blipFill>
        <p:spPr>
          <a:xfrm>
            <a:off x="2771640" y="2637000"/>
            <a:ext cx="2341800" cy="3120840"/>
          </a:xfrm>
          <a:prstGeom prst="rect">
            <a:avLst/>
          </a:prstGeom>
          <a:ln w="0">
            <a:noFill/>
          </a:ln>
        </p:spPr>
      </p:pic>
      <p:pic>
        <p:nvPicPr>
          <p:cNvPr id="107" name="Текст 2" descr=""/>
          <p:cNvPicPr/>
          <p:nvPr/>
        </p:nvPicPr>
        <p:blipFill>
          <a:blip r:embed="rId7"/>
          <a:stretch/>
        </p:blipFill>
        <p:spPr>
          <a:xfrm>
            <a:off x="5580000" y="1916280"/>
            <a:ext cx="2292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Текст 2" descr=""/>
          <p:cNvPicPr/>
          <p:nvPr/>
        </p:nvPicPr>
        <p:blipFill>
          <a:blip r:embed="rId8"/>
          <a:stretch/>
        </p:blipFill>
        <p:spPr>
          <a:xfrm>
            <a:off x="5580000" y="4292640"/>
            <a:ext cx="2295720" cy="1990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2916360" y="5373720"/>
            <a:ext cx="1809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езья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580000" y="364500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опард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867280" y="5877000"/>
            <a:ext cx="1729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кап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это природная зона, для которой характерна смена сухого и влажного сезонов года, преобладает травянистый покров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19280" y="2637000"/>
            <a:ext cx="35290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Текст 2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168360" cy="367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1476360" y="4653000"/>
            <a:ext cx="208764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68360" y="3645000"/>
            <a:ext cx="287964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558972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373720"/>
            <a:ext cx="1008000" cy="576360"/>
          </a:xfrm>
          <a:custGeom>
            <a:avLst/>
            <a:gdLst/>
            <a:ahLst/>
            <a:rect l="l" t="t" r="r" b="b"/>
            <a:pathLst>
              <a:path w="635" h="363">
                <a:moveTo>
                  <a:pt x="0" y="0"/>
                </a:moveTo>
                <a:cubicBezTo>
                  <a:pt x="106" y="87"/>
                  <a:pt x="213" y="174"/>
                  <a:pt x="273" y="227"/>
                </a:cubicBezTo>
                <a:cubicBezTo>
                  <a:pt x="333" y="280"/>
                  <a:pt x="303" y="295"/>
                  <a:pt x="363" y="318"/>
                </a:cubicBezTo>
                <a:cubicBezTo>
                  <a:pt x="423" y="341"/>
                  <a:pt x="529" y="352"/>
                  <a:pt x="635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450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5373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4005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в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460760"/>
            <a:ext cx="1560600" cy="408240"/>
          </a:xfrm>
          <a:custGeom>
            <a:avLst/>
            <a:gdLst/>
            <a:ahLst/>
            <a:rect l="l" t="t" r="r" b="b"/>
            <a:pathLst>
              <a:path w="983" h="257">
                <a:moveTo>
                  <a:pt x="0" y="30"/>
                </a:moveTo>
                <a:cubicBezTo>
                  <a:pt x="310" y="15"/>
                  <a:pt x="621" y="0"/>
                  <a:pt x="772" y="30"/>
                </a:cubicBezTo>
                <a:cubicBezTo>
                  <a:pt x="923" y="60"/>
                  <a:pt x="983" y="174"/>
                  <a:pt x="908" y="212"/>
                </a:cubicBezTo>
                <a:cubicBezTo>
                  <a:pt x="833" y="250"/>
                  <a:pt x="416" y="250"/>
                  <a:pt x="318" y="2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5013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в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26920" y="3933360"/>
            <a:ext cx="2305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84360" y="62064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аванн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4:42:16Z</dcterms:created>
  <dc:creator>алексей</dc:creator>
  <dc:description>http://aida.ucoz.ru</dc:description>
  <dc:language>en-US</dc:language>
  <cp:lastModifiedBy>алексей</cp:lastModifiedBy>
  <dcterms:modified xsi:type="dcterms:W3CDTF">2011-05-10T15:12:39Z</dcterms:modified>
  <cp:revision>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240000000000010243100207f6000400038000</vt:lpwstr>
  </property>
</Properties>
</file>