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38.jpeg" ContentType="image/jpeg"/>
  <Override PartName="/ppt/media/image51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36.jpeg" ContentType="image/jpeg"/>
  <Override PartName="/ppt/media/image10.png" ContentType="image/png"/>
  <Override PartName="/ppt/media/image4.gif" ContentType="image/gif"/>
  <Override PartName="/ppt/media/image33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61.jpeg" ContentType="image/jpeg"/>
  <Override PartName="/ppt/media/image40.png" ContentType="image/png"/>
  <Override PartName="/ppt/media/image50.jpeg" ContentType="image/jpeg"/>
  <Override PartName="/ppt/media/image17.gif" ContentType="image/gif"/>
  <Override PartName="/ppt/media/image27.jpeg" ContentType="image/jpeg"/>
  <Override PartName="/ppt/media/image60.jpeg" ContentType="image/jpeg"/>
  <Override PartName="/ppt/media/image37.jpeg" ContentType="image/jpeg"/>
  <Override PartName="/ppt/media/image24.gif" ContentType="image/gif"/>
  <Override PartName="/ppt/media/image32.jpeg" ContentType="image/jpeg"/>
  <Override PartName="/ppt/media/image5.jpeg" ContentType="image/jpeg"/>
  <Override PartName="/ppt/media/image22.gif" ContentType="image/gif"/>
  <Override PartName="/ppt/media/image18.jpeg" ContentType="image/jpeg"/>
  <Override PartName="/ppt/media/image4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3.gif" ContentType="image/gif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31.gif" ContentType="image/gif"/>
  <Override PartName="/ppt/media/image9.jpeg" ContentType="image/jpeg"/>
  <Override PartName="/ppt/media/image16.jpeg" ContentType="image/jpeg"/>
  <Override PartName="/ppt/media/image7.jpeg" ContentType="image/jpeg"/>
  <Override PartName="/ppt/media/image13.gif" ContentType="image/gif"/>
  <Override PartName="/ppt/media/image48.jpeg" ContentType="image/jpeg"/>
  <Override PartName="/ppt/media/image30.gif" ContentType="image/gif"/>
  <Override PartName="/ppt/media/image55.jpeg" ContentType="image/jpeg"/>
  <Override PartName="/ppt/media/image34.jpeg" ContentType="image/jpeg"/>
  <Override PartName="/ppt/media/image44.gif" ContentType="image/gif"/>
  <Override PartName="/ppt/media/image42.gif" ContentType="image/gif"/>
  <Override PartName="/ppt/media/image43.jpeg" ContentType="image/jpeg"/>
  <Override PartName="/ppt/media/image25.gif" ContentType="image/gif"/>
  <Override PartName="/ppt/media/image45.jpeg" ContentType="image/jpeg"/>
  <Override PartName="/ppt/media/image46.jpeg" ContentType="image/jpeg"/>
  <Override PartName="/ppt/media/image26.jpeg" ContentType="image/jpeg"/>
  <Override PartName="/ppt/media/image47.gif" ContentType="image/gif"/>
  <Override PartName="/ppt/media/image53.jpeg" ContentType="image/jpe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1BE-0650-4E94-A166-5A71A37E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7BA-7275-4E0B-9574-E1965D9A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41D-6285-4B2F-A98C-57062126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BEA-4734-48B7-A213-8FF99976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087-ACFA-4E96-92DD-80ABD022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546-4211-4232-A6A1-90058BD4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250-5140-42C5-A8A4-17BBB804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529-4C33-4376-B8DE-83101D2A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F4A-1FD3-479C-931B-16C91620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C37-FC37-480C-BCE0-A3F243F5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DEF-E30B-4B1D-824B-ACB031F2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6C6-D74D-40A5-BFBB-6A3B8A7A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365D-2BDF-4C3D-8AEF-DF72CE1B7B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1F20-7BCA-422F-9ABD-D97B38858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6.png"/><Relationship Id="rId6" Type="http://schemas.openxmlformats.org/officeDocument/2006/relationships/image" Target="../media/image22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2.gif"/><Relationship Id="rId5" Type="http://schemas.openxmlformats.org/officeDocument/2006/relationships/image" Target="../media/image6.pn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2.gif"/><Relationship Id="rId5" Type="http://schemas.openxmlformats.org/officeDocument/2006/relationships/image" Target="../media/image7.jpeg"/><Relationship Id="rId6" Type="http://schemas.openxmlformats.org/officeDocument/2006/relationships/image" Target="../media/image41.jpeg"/><Relationship Id="rId7" Type="http://schemas.openxmlformats.org/officeDocument/2006/relationships/image" Target="../media/image42.gif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6.png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47.gif"/><Relationship Id="rId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22.gif"/><Relationship Id="rId6" Type="http://schemas.openxmlformats.org/officeDocument/2006/relationships/image" Target="../media/image6.pn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9.jpeg"/><Relationship Id="rId12" Type="http://schemas.openxmlformats.org/officeDocument/2006/relationships/image" Target="../media/image60.jpeg"/><Relationship Id="rId13" Type="http://schemas.openxmlformats.org/officeDocument/2006/relationships/image" Target="../media/image61.jpe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utdoors.ru/general/damp_woods.php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6.png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gif"/><Relationship Id="rId9" Type="http://schemas.openxmlformats.org/officeDocument/2006/relationships/image" Target="../media/image6.png"/><Relationship Id="rId10" Type="http://schemas.openxmlformats.org/officeDocument/2006/relationships/image" Target="../media/image23.gif"/><Relationship Id="rId1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2.gif"/><Relationship Id="rId5" Type="http://schemas.openxmlformats.org/officeDocument/2006/relationships/image" Target="../media/image6.png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нутый угол 8"/>
          <p:cNvGrpSpPr/>
          <p:nvPr/>
        </p:nvGrpSpPr>
        <p:grpSpPr>
          <a:xfrm>
            <a:off x="324000" y="0"/>
            <a:ext cx="8508960" cy="6443640"/>
            <a:chOff x="324000" y="0"/>
            <a:chExt cx="8508960" cy="6443640"/>
          </a:xfrm>
        </p:grpSpPr>
        <p:pic>
          <p:nvPicPr>
            <p:cNvPr id="42" name="Загнутый угол 8" descr=""/>
            <p:cNvPicPr/>
            <p:nvPr/>
          </p:nvPicPr>
          <p:blipFill>
            <a:blip r:embed="rId2"/>
            <a:stretch/>
          </p:blipFill>
          <p:spPr>
            <a:xfrm>
              <a:off x="324000" y="0"/>
              <a:ext cx="8508960" cy="64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27240" y="4680"/>
              <a:ext cx="85010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2" descr="H:\Documents and Settings\Aida\Рабочий стол\Материалы для разработок , новые идеи\КАРТИНКИ СБОРНИК_ школьные\78.gif"/>
          <p:cNvPicPr/>
          <p:nvPr/>
        </p:nvPicPr>
        <p:blipFill>
          <a:blip r:embed="rId3"/>
          <a:stretch/>
        </p:blipFill>
        <p:spPr>
          <a:xfrm>
            <a:off x="73080" y="5905440"/>
            <a:ext cx="4714920" cy="619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Documents and Settings\Aida\Рабочий стол\Материалы для разработок , новые идеи\КАРТИНКИ СБОРНИК_ школьные\78.gif"/>
          <p:cNvPicPr/>
          <p:nvPr/>
        </p:nvPicPr>
        <p:blipFill>
          <a:blip r:embed="rId4"/>
          <a:stretch/>
        </p:blipFill>
        <p:spPr>
          <a:xfrm>
            <a:off x="4643280" y="6000840"/>
            <a:ext cx="4500720" cy="61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00000" y="620640"/>
            <a:ext cx="6553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утешествие по Африке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16360" y="3716280"/>
            <a:ext cx="39607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3 д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2205000"/>
            <a:ext cx="307656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04000" y="5445000"/>
            <a:ext cx="2067120" cy="482760"/>
          </a:xfrm>
          <a:prstGeom prst="rect">
            <a:avLst/>
          </a:prstGeom>
          <a:solidFill>
            <a:srgbClr val="00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2349360"/>
            <a:ext cx="2930760" cy="2552760"/>
          </a:xfrm>
          <a:prstGeom prst="wedgeRoundRectCallout">
            <a:avLst>
              <a:gd name="adj1" fmla="val 21287"/>
              <a:gd name="adj2" fmla="val 68967"/>
              <a:gd name="adj3" fmla="val 16667"/>
            </a:avLst>
          </a:prstGeom>
          <a:solidFill>
            <a:srgbClr val="66ff33">
              <a:alpha val="68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математики МОУ СОШ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Свет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орде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043BC-8283-42F7-877E-5DF3D9BB3C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68000" y="691920"/>
            <a:ext cx="4032720" cy="509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ухое время года саванны Африки мало, чем отличаются от пусты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ара - до +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, засух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жаркий климат саванн характерен четким чередованием влажного (сезон дождей - лето) и сухого сезонов (сезон засухи - зима), от которых главным образом и зависит ритм природных процессов и проявления жиз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жный сезон от 3 до 8 месяц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Текст 2" descr=""/>
          <p:cNvPicPr/>
          <p:nvPr/>
        </p:nvPicPr>
        <p:blipFill>
          <a:blip r:embed="rId3"/>
          <a:stretch/>
        </p:blipFill>
        <p:spPr>
          <a:xfrm>
            <a:off x="6012000" y="2060640"/>
            <a:ext cx="2466720" cy="1847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31" name="Текст 2" descr=""/>
          <p:cNvPicPr/>
          <p:nvPr/>
        </p:nvPicPr>
        <p:blipFill>
          <a:blip r:embed="rId4"/>
          <a:stretch/>
        </p:blipFill>
        <p:spPr>
          <a:xfrm>
            <a:off x="6012000" y="4149720"/>
            <a:ext cx="2447640" cy="19144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4788000" y="5805360"/>
            <a:ext cx="1009440" cy="841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084720" y="3213000"/>
            <a:ext cx="42876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Текст 2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4038480" cy="25178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88000" y="2637000"/>
            <a:ext cx="403848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лодород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рганические вещества накапливаются в сухой сез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11280" y="692280"/>
            <a:ext cx="410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чв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Текст 2" descr=""/>
          <p:cNvPicPr/>
          <p:nvPr/>
        </p:nvPicPr>
        <p:blipFill>
          <a:blip r:embed="rId3"/>
          <a:stretch/>
        </p:blipFill>
        <p:spPr>
          <a:xfrm>
            <a:off x="0" y="4365720"/>
            <a:ext cx="1766880" cy="2187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64720" y="1989000"/>
            <a:ext cx="1863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Красно-бу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4038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растения развились приспособились к сухому сезону года: жесткие, сильно опушенные листья, толстая к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6920" y="691920"/>
            <a:ext cx="6347520" cy="509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1708200" cy="2114640"/>
          </a:xfrm>
          <a:prstGeom prst="rect">
            <a:avLst/>
          </a:prstGeom>
          <a:ln w="0">
            <a:noFill/>
          </a:ln>
        </p:spPr>
      </p:pic>
      <p:pic>
        <p:nvPicPr>
          <p:cNvPr id="144" name="Текст 2" descr=""/>
          <p:cNvPicPr/>
          <p:nvPr/>
        </p:nvPicPr>
        <p:blipFill>
          <a:blip r:embed="rId4"/>
          <a:stretch/>
        </p:blipFill>
        <p:spPr>
          <a:xfrm>
            <a:off x="5003640" y="4292640"/>
            <a:ext cx="3313440" cy="2187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003640" y="1916280"/>
            <a:ext cx="3319560" cy="22176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46" name=""/>
          <p:cNvSpPr txBox="1"/>
          <p:nvPr/>
        </p:nvSpPr>
        <p:spPr>
          <a:xfrm>
            <a:off x="6588000" y="4365720"/>
            <a:ext cx="1609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обаб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580000" y="1916280"/>
            <a:ext cx="273204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нтичные акаци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ичные представители фауны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8360" y="2205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pic>
        <p:nvPicPr>
          <p:cNvPr id="151" name="Текст 2" descr=""/>
          <p:cNvPicPr/>
          <p:nvPr/>
        </p:nvPicPr>
        <p:blipFill>
          <a:blip r:embed="rId6"/>
          <a:stretch/>
        </p:blipFill>
        <p:spPr>
          <a:xfrm>
            <a:off x="4427640" y="1844640"/>
            <a:ext cx="2466720" cy="1847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52" name="Текст 2" descr=""/>
          <p:cNvPicPr/>
          <p:nvPr/>
        </p:nvPicPr>
        <p:blipFill>
          <a:blip r:embed="rId7"/>
          <a:stretch/>
        </p:blipFill>
        <p:spPr>
          <a:xfrm>
            <a:off x="7236000" y="1628640"/>
            <a:ext cx="1511280" cy="21862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53" name="Текст 2" descr=""/>
          <p:cNvPicPr/>
          <p:nvPr/>
        </p:nvPicPr>
        <p:blipFill>
          <a:blip r:embed="rId8"/>
          <a:stretch/>
        </p:blipFill>
        <p:spPr>
          <a:xfrm>
            <a:off x="5867280" y="3933720"/>
            <a:ext cx="2916360" cy="2187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54" name=""/>
          <p:cNvSpPr txBox="1"/>
          <p:nvPr/>
        </p:nvSpPr>
        <p:spPr>
          <a:xfrm>
            <a:off x="5364000" y="1844640"/>
            <a:ext cx="15526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раф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308720" y="1628640"/>
            <a:ext cx="144936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н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43640" y="573408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гемот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Текст 2" descr=""/>
          <p:cNvPicPr/>
          <p:nvPr/>
        </p:nvPicPr>
        <p:blipFill>
          <a:blip r:embed="rId9"/>
          <a:stretch/>
        </p:blipFill>
        <p:spPr>
          <a:xfrm>
            <a:off x="2916360" y="4149720"/>
            <a:ext cx="2735280" cy="15271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58" name=""/>
          <p:cNvSpPr txBox="1"/>
          <p:nvPr/>
        </p:nvSpPr>
        <p:spPr>
          <a:xfrm>
            <a:off x="4427640" y="5300640"/>
            <a:ext cx="11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ен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2124000" y="1916280"/>
            <a:ext cx="1905120" cy="19047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60" name=""/>
          <p:cNvSpPr txBox="1"/>
          <p:nvPr/>
        </p:nvSpPr>
        <p:spPr>
          <a:xfrm>
            <a:off x="2916360" y="3500280"/>
            <a:ext cx="11714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бр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это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природная зона с очень малым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количеством осадков, редкой растительностью, а местами лишенной е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Текст 2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3203280" cy="4032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2708280"/>
            <a:ext cx="40384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Расти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443700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692360" y="5229360"/>
            <a:ext cx="187164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350028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3789360"/>
            <a:ext cx="2016000" cy="82440"/>
          </a:xfrm>
          <a:custGeom>
            <a:avLst/>
            <a:gdLst/>
            <a:ahLst/>
            <a:rect l="l" t="t" r="r" b="b"/>
            <a:pathLst>
              <a:path w="1270" h="52">
                <a:moveTo>
                  <a:pt x="0" y="45"/>
                </a:moveTo>
                <a:cubicBezTo>
                  <a:pt x="158" y="45"/>
                  <a:pt x="317" y="45"/>
                  <a:pt x="408" y="45"/>
                </a:cubicBezTo>
                <a:cubicBezTo>
                  <a:pt x="499" y="45"/>
                  <a:pt x="423" y="52"/>
                  <a:pt x="544" y="45"/>
                </a:cubicBezTo>
                <a:cubicBezTo>
                  <a:pt x="665" y="38"/>
                  <a:pt x="1013" y="0"/>
                  <a:pt x="1134" y="0"/>
                </a:cubicBezTo>
                <a:cubicBezTo>
                  <a:pt x="1255" y="0"/>
                  <a:pt x="1240" y="38"/>
                  <a:pt x="1270" y="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4869000"/>
            <a:ext cx="455760" cy="863640"/>
          </a:xfrm>
          <a:custGeom>
            <a:avLst/>
            <a:gdLst/>
            <a:ahLst/>
            <a:rect l="l" t="t" r="r" b="b"/>
            <a:pathLst>
              <a:path w="287" h="544">
                <a:moveTo>
                  <a:pt x="0" y="0"/>
                </a:moveTo>
                <a:cubicBezTo>
                  <a:pt x="56" y="49"/>
                  <a:pt x="113" y="98"/>
                  <a:pt x="136" y="136"/>
                </a:cubicBezTo>
                <a:cubicBezTo>
                  <a:pt x="159" y="174"/>
                  <a:pt x="121" y="197"/>
                  <a:pt x="136" y="227"/>
                </a:cubicBezTo>
                <a:cubicBezTo>
                  <a:pt x="151" y="257"/>
                  <a:pt x="204" y="280"/>
                  <a:pt x="227" y="318"/>
                </a:cubicBezTo>
                <a:cubicBezTo>
                  <a:pt x="250" y="356"/>
                  <a:pt x="287" y="416"/>
                  <a:pt x="272" y="454"/>
                </a:cubicBezTo>
                <a:cubicBezTo>
                  <a:pt x="257" y="492"/>
                  <a:pt x="196" y="518"/>
                  <a:pt x="136" y="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3213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5013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4076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76360" y="314172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ах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5373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Нами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Текст 2" descr=""/>
          <p:cNvPicPr/>
          <p:nvPr/>
        </p:nvPicPr>
        <p:blipFill>
          <a:blip r:embed="rId3"/>
          <a:stretch/>
        </p:blipFill>
        <p:spPr>
          <a:xfrm>
            <a:off x="179280" y="4508640"/>
            <a:ext cx="1650960" cy="2043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2484360" y="404640"/>
            <a:ext cx="352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стня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68000" y="691920"/>
            <a:ext cx="4032720" cy="509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п климата - ариадный, сухой. Воздух пустынь, обладая крайне низкой влажностью, практически не защищает поверхность почвы от солнечной ради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ычны температуры + 50°С, а максимальная температура зарегистрированная в Сахаре составляет 58° 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чью температура гораздо ниже, так как нагретая почва быстро теряет тепло (погода в пустыне почти всегда ясная, и ночью после жаркого дня возможны иногда даже заморозк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9280" y="4869000"/>
            <a:ext cx="1360440" cy="168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80" name="Текст 2" descr=""/>
          <p:cNvPicPr/>
          <p:nvPr/>
        </p:nvPicPr>
        <p:blipFill>
          <a:blip r:embed="rId5"/>
          <a:stretch/>
        </p:blipFill>
        <p:spPr>
          <a:xfrm>
            <a:off x="6156360" y="1844640"/>
            <a:ext cx="2625840" cy="19702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81" name="Текст 2" descr=""/>
          <p:cNvPicPr/>
          <p:nvPr/>
        </p:nvPicPr>
        <p:blipFill>
          <a:blip r:embed="rId6"/>
          <a:stretch/>
        </p:blipFill>
        <p:spPr>
          <a:xfrm>
            <a:off x="6732720" y="4076640"/>
            <a:ext cx="1714320" cy="21877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796000" y="5950080"/>
            <a:ext cx="19144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Текст 2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3671640" cy="27543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Мало перегно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Много минеральных солей. Из-за отсутствия дождей соли из почв не вымыв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При искусственном орошении на таких почвах можно получать хорошие урожа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11280" y="692280"/>
            <a:ext cx="410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чв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6" name="Текст 2" descr=""/>
          <p:cNvPicPr/>
          <p:nvPr/>
        </p:nvPicPr>
        <p:blipFill>
          <a:blip r:embed="rId3"/>
          <a:stretch/>
        </p:blipFill>
        <p:spPr>
          <a:xfrm>
            <a:off x="0" y="4365720"/>
            <a:ext cx="1766880" cy="2187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19240" y="177336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Тропические пусты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Текст 2" descr=""/>
          <p:cNvPicPr/>
          <p:nvPr/>
        </p:nvPicPr>
        <p:blipFill>
          <a:blip r:embed="rId4"/>
          <a:stretch/>
        </p:blipFill>
        <p:spPr>
          <a:xfrm>
            <a:off x="3780000" y="4365720"/>
            <a:ext cx="12492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580000" y="1989000"/>
            <a:ext cx="3240000" cy="209088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pic>
        <p:nvPicPr>
          <p:cNvPr id="190" name="Текст 2" descr=""/>
          <p:cNvPicPr/>
          <p:nvPr/>
        </p:nvPicPr>
        <p:blipFill>
          <a:blip r:embed="rId3"/>
          <a:stretch/>
        </p:blipFill>
        <p:spPr>
          <a:xfrm>
            <a:off x="5580000" y="4292640"/>
            <a:ext cx="3284640" cy="21873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5329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субтропических и тропических внутриматериковых пустынях Африки   преобладают ксерофильные кустарники и многолетние травы, но здесь появляются и суккул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всем лишен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тительности массив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арханных песков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лощади, покрытые солевой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р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186920" y="691920"/>
            <a:ext cx="6347520" cy="50976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Текст 2" descr=""/>
          <p:cNvPicPr/>
          <p:nvPr/>
        </p:nvPicPr>
        <p:blipFill>
          <a:blip r:embed="rId5"/>
          <a:stretch/>
        </p:blipFill>
        <p:spPr>
          <a:xfrm>
            <a:off x="179280" y="4581360"/>
            <a:ext cx="1708200" cy="2114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6948360" y="5805360"/>
            <a:ext cx="16099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оэ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796000" y="1773360"/>
            <a:ext cx="273204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ая пальма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3851280" y="5516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Текст 2" descr=""/>
          <p:cNvPicPr/>
          <p:nvPr/>
        </p:nvPicPr>
        <p:blipFill>
          <a:blip r:embed="rId2"/>
          <a:stretch/>
        </p:blipFill>
        <p:spPr>
          <a:xfrm>
            <a:off x="3203640" y="4149720"/>
            <a:ext cx="2190600" cy="20858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98" name="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ичные представители фауны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68360" y="2205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179280" y="4076640"/>
            <a:ext cx="2000520" cy="2476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203640" y="4076640"/>
            <a:ext cx="11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енёк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2" name="Текст 2" descr=""/>
          <p:cNvPicPr/>
          <p:nvPr/>
        </p:nvPicPr>
        <p:blipFill>
          <a:blip r:embed="rId7"/>
          <a:stretch/>
        </p:blipFill>
        <p:spPr>
          <a:xfrm>
            <a:off x="2411280" y="1989000"/>
            <a:ext cx="3813480" cy="19065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203" name=""/>
          <p:cNvSpPr txBox="1"/>
          <p:nvPr/>
        </p:nvSpPr>
        <p:spPr>
          <a:xfrm>
            <a:off x="2484360" y="3500280"/>
            <a:ext cx="11718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ус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4" name="Текст 2" descr=""/>
          <p:cNvPicPr/>
          <p:nvPr/>
        </p:nvPicPr>
        <p:blipFill>
          <a:blip r:embed="rId8"/>
          <a:stretch/>
        </p:blipFill>
        <p:spPr>
          <a:xfrm>
            <a:off x="6516720" y="1844640"/>
            <a:ext cx="1967040" cy="19065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205" name=""/>
          <p:cNvSpPr txBox="1"/>
          <p:nvPr/>
        </p:nvSpPr>
        <p:spPr>
          <a:xfrm>
            <a:off x="6732720" y="1700280"/>
            <a:ext cx="144936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блюд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6" name="Текст 2" descr=""/>
          <p:cNvPicPr/>
          <p:nvPr/>
        </p:nvPicPr>
        <p:blipFill>
          <a:blip r:embed="rId9"/>
          <a:stretch/>
        </p:blipFill>
        <p:spPr>
          <a:xfrm>
            <a:off x="5651640" y="4221000"/>
            <a:ext cx="2904840" cy="15717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207" name=""/>
          <p:cNvSpPr txBox="1"/>
          <p:nvPr/>
        </p:nvSpPr>
        <p:spPr>
          <a:xfrm>
            <a:off x="6372360" y="5516640"/>
            <a:ext cx="1895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ушканчик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73960" cy="636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Днём пустыня раскалена,  ночью температура может упасть ниже нуля. Такие огромные колебания в течение суток подвергают животных тяжким испытан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2133720"/>
            <a:ext cx="2016000" cy="5760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Пушистый хв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2133720"/>
            <a:ext cx="2087280" cy="5760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Прячутся в но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1916280"/>
            <a:ext cx="3095640" cy="916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Охлаждение потением, пыхтением, вибрация горлом, обли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5516640"/>
            <a:ext cx="2160720" cy="934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Большие уш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ради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охла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59640" y="3645000"/>
            <a:ext cx="2016000" cy="6426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едут ночной образ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5516640"/>
            <a:ext cx="2305080" cy="916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Пробегают большие  рас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3500280"/>
            <a:ext cx="1800000" cy="916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Обходятся долго без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5516640"/>
            <a:ext cx="2592360" cy="916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Лапы имеют перепонки и оп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3357720"/>
            <a:ext cx="2519280" cy="131364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Способы приспособления животных к выжи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4000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10920" y="400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27640" y="2852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19640" y="4724280"/>
            <a:ext cx="252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763280" y="4724280"/>
            <a:ext cx="215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618920" y="2707920"/>
            <a:ext cx="25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003640" y="2707920"/>
            <a:ext cx="266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Текст 2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3671640" cy="27543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м надо успеть посет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Текст 2" descr=""/>
          <p:cNvPicPr/>
          <p:nvPr/>
        </p:nvPicPr>
        <p:blipFill>
          <a:blip r:embed="rId3"/>
          <a:stretch/>
        </p:blipFill>
        <p:spPr>
          <a:xfrm>
            <a:off x="4716360" y="4221000"/>
            <a:ext cx="3811680" cy="21862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54" name="Текст 2" descr=""/>
          <p:cNvPicPr/>
          <p:nvPr/>
        </p:nvPicPr>
        <p:blipFill>
          <a:blip r:embed="rId4"/>
          <a:stretch/>
        </p:blipFill>
        <p:spPr>
          <a:xfrm>
            <a:off x="4716360" y="1916280"/>
            <a:ext cx="3816360" cy="201420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55" name="Текст 2" descr=""/>
          <p:cNvPicPr/>
          <p:nvPr/>
        </p:nvPicPr>
        <p:blipFill>
          <a:blip r:embed="rId5"/>
          <a:stretch/>
        </p:blipFill>
        <p:spPr>
          <a:xfrm>
            <a:off x="250920" y="4437000"/>
            <a:ext cx="1596960" cy="197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788000" y="1341360"/>
            <a:ext cx="3168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опические лес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16360" y="4221000"/>
            <a:ext cx="1457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ван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2492280"/>
            <a:ext cx="1419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стын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619280" y="47628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мотри и путешествуй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68360" y="1916280"/>
            <a:ext cx="7919640" cy="2808000"/>
            <a:chOff x="468360" y="1916280"/>
            <a:chExt cx="7919640" cy="280800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4509360" y="1916280"/>
              <a:ext cx="3878640" cy="2790360"/>
            </a:xfrm>
            <a:prstGeom prst="rect">
              <a:avLst/>
            </a:prstGeom>
            <a:ln w="57240">
              <a:solidFill>
                <a:srgbClr val="ff6600"/>
              </a:solidFill>
              <a:miter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468360" y="1916280"/>
              <a:ext cx="3911760" cy="2808000"/>
            </a:xfrm>
            <a:prstGeom prst="rect">
              <a:avLst/>
            </a:prstGeom>
            <a:ln w="57240">
              <a:solidFill>
                <a:srgbClr val="ff6600"/>
              </a:solidFill>
              <a:miter/>
            </a:ln>
          </p:spPr>
        </p:pic>
      </p:grpSp>
      <p:sp>
        <p:nvSpPr>
          <p:cNvPr id="231" name=""/>
          <p:cNvSpPr/>
          <p:nvPr/>
        </p:nvSpPr>
        <p:spPr>
          <a:xfrm>
            <a:off x="7812000" y="5300640"/>
            <a:ext cx="976320" cy="1224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68360" y="1916280"/>
            <a:ext cx="7854480" cy="2807640"/>
            <a:chOff x="468360" y="1916280"/>
            <a:chExt cx="7854480" cy="2807640"/>
          </a:xfrm>
        </p:grpSpPr>
        <p:pic>
          <p:nvPicPr>
            <p:cNvPr id="233" name="" descr=""/>
            <p:cNvPicPr/>
            <p:nvPr/>
          </p:nvPicPr>
          <p:blipFill>
            <a:blip r:embed="rId6"/>
            <a:stretch/>
          </p:blipFill>
          <p:spPr>
            <a:xfrm>
              <a:off x="468360" y="1916280"/>
              <a:ext cx="3816000" cy="277704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  <p:pic>
          <p:nvPicPr>
            <p:cNvPr id="234" name="" descr=""/>
            <p:cNvPicPr/>
            <p:nvPr/>
          </p:nvPicPr>
          <p:blipFill>
            <a:blip r:embed="rId7"/>
            <a:stretch/>
          </p:blipFill>
          <p:spPr>
            <a:xfrm>
              <a:off x="4356000" y="1916280"/>
              <a:ext cx="3966840" cy="280764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250920" y="1989000"/>
            <a:ext cx="8084520" cy="2737080"/>
            <a:chOff x="250920" y="1989000"/>
            <a:chExt cx="8084520" cy="2737080"/>
          </a:xfrm>
        </p:grpSpPr>
        <p:pic>
          <p:nvPicPr>
            <p:cNvPr id="236" name="" descr=""/>
            <p:cNvPicPr/>
            <p:nvPr/>
          </p:nvPicPr>
          <p:blipFill>
            <a:blip r:embed="rId8"/>
            <a:stretch/>
          </p:blipFill>
          <p:spPr>
            <a:xfrm>
              <a:off x="250920" y="2012760"/>
              <a:ext cx="4038120" cy="269244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  <p:pic>
          <p:nvPicPr>
            <p:cNvPr id="237" name="" descr=""/>
            <p:cNvPicPr/>
            <p:nvPr/>
          </p:nvPicPr>
          <p:blipFill>
            <a:blip r:embed="rId9"/>
            <a:stretch/>
          </p:blipFill>
          <p:spPr>
            <a:xfrm>
              <a:off x="4365360" y="1989000"/>
              <a:ext cx="3970080" cy="273708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179280" y="1916280"/>
            <a:ext cx="8496360" cy="2807640"/>
            <a:chOff x="179280" y="1916280"/>
            <a:chExt cx="8496360" cy="2807640"/>
          </a:xfrm>
        </p:grpSpPr>
        <p:pic>
          <p:nvPicPr>
            <p:cNvPr id="239" name="" descr=""/>
            <p:cNvPicPr/>
            <p:nvPr/>
          </p:nvPicPr>
          <p:blipFill>
            <a:blip r:embed="rId10"/>
            <a:stretch/>
          </p:blipFill>
          <p:spPr>
            <a:xfrm>
              <a:off x="179280" y="1916280"/>
              <a:ext cx="4038480" cy="278172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  <p:pic>
          <p:nvPicPr>
            <p:cNvPr id="240" name="" descr=""/>
            <p:cNvPicPr/>
            <p:nvPr/>
          </p:nvPicPr>
          <p:blipFill>
            <a:blip r:embed="rId11"/>
            <a:stretch/>
          </p:blipFill>
          <p:spPr>
            <a:xfrm>
              <a:off x="4319640" y="1916280"/>
              <a:ext cx="4356000" cy="280764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</p:grpSp>
      <p:grpSp>
        <p:nvGrpSpPr>
          <p:cNvPr id="241" name=""/>
          <p:cNvGrpSpPr/>
          <p:nvPr/>
        </p:nvGrpSpPr>
        <p:grpSpPr>
          <a:xfrm>
            <a:off x="250920" y="1916280"/>
            <a:ext cx="8497440" cy="2807640"/>
            <a:chOff x="250920" y="1916280"/>
            <a:chExt cx="8497440" cy="2807640"/>
          </a:xfrm>
        </p:grpSpPr>
        <p:pic>
          <p:nvPicPr>
            <p:cNvPr id="242" name="" descr=""/>
            <p:cNvPicPr/>
            <p:nvPr/>
          </p:nvPicPr>
          <p:blipFill>
            <a:blip r:embed="rId12"/>
            <a:stretch/>
          </p:blipFill>
          <p:spPr>
            <a:xfrm>
              <a:off x="250920" y="1916280"/>
              <a:ext cx="4212000" cy="280224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  <p:pic>
          <p:nvPicPr>
            <p:cNvPr id="243" name="" descr=""/>
            <p:cNvPicPr/>
            <p:nvPr/>
          </p:nvPicPr>
          <p:blipFill>
            <a:blip r:embed="rId13"/>
            <a:stretch/>
          </p:blipFill>
          <p:spPr>
            <a:xfrm>
              <a:off x="4681440" y="1916280"/>
              <a:ext cx="4066920" cy="280764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</p:grpSp>
      <p:pic>
        <p:nvPicPr>
          <p:cNvPr id="244" name="" descr=""/>
          <p:cNvPicPr/>
          <p:nvPr/>
        </p:nvPicPr>
        <p:blipFill>
          <a:blip r:embed="rId14"/>
          <a:stretch/>
        </p:blipFill>
        <p:spPr>
          <a:xfrm>
            <a:off x="179280" y="4076640"/>
            <a:ext cx="2000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фай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outdoors.ru/general/damp_woods.ph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жные тропические ле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outdoors.ru/general/savanna.php - саван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ru.wikipedia.org/wiki/%D0%9F%D1%83%D1%81%D1%82%D1%8B%D0%BD%D1%8F – пусты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basik.ru/wallpapers/desert_53/025_wallpaper/ - фотография пусты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murzim.ru/geografiya/prirodnye-zony/6678-pustynya.html - фотография пусты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pethana.com/gallery/details.php?image_id=138&amp;sessionid=df56n3kq11f8eqakoirc0ejol5 – лиа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q-wood.ru/catalog/wood/18.html - эбеновое дере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Текст 2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2801880" cy="3527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это природная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зона, для которой характерна вечнозелёная растительность, расположенная ярус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Текст 2" descr=""/>
          <p:cNvPicPr/>
          <p:nvPr/>
        </p:nvPicPr>
        <p:blipFill>
          <a:blip r:embed="rId3"/>
          <a:stretch/>
        </p:blipFill>
        <p:spPr>
          <a:xfrm>
            <a:off x="0" y="4365720"/>
            <a:ext cx="1765440" cy="2185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422100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501336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4172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852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4076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47973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370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Влажный экваториальный л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355920"/>
            <a:ext cx="934920" cy="57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16000" y="549360"/>
            <a:ext cx="703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лажный экваториальный лес 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3933720"/>
            <a:ext cx="1452600" cy="417600"/>
          </a:xfrm>
          <a:custGeom>
            <a:avLst/>
            <a:gdLst/>
            <a:ahLst/>
            <a:rect l="l" t="t" r="r" b="b"/>
            <a:pathLst>
              <a:path w="915" h="263">
                <a:moveTo>
                  <a:pt x="0" y="30"/>
                </a:moveTo>
                <a:cubicBezTo>
                  <a:pt x="314" y="15"/>
                  <a:pt x="629" y="0"/>
                  <a:pt x="772" y="30"/>
                </a:cubicBezTo>
                <a:cubicBezTo>
                  <a:pt x="915" y="60"/>
                  <a:pt x="877" y="173"/>
                  <a:pt x="862" y="211"/>
                </a:cubicBezTo>
                <a:cubicBezTo>
                  <a:pt x="847" y="249"/>
                  <a:pt x="764" y="249"/>
                  <a:pt x="681" y="256"/>
                </a:cubicBezTo>
                <a:cubicBezTo>
                  <a:pt x="598" y="263"/>
                  <a:pt x="480" y="259"/>
                  <a:pt x="363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482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Жаркий, очень влажный климат с почти неизменными в течение года температурами (25 — 27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, что при высокой влажности воспринимается человеком как страшная жар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00360" y="549360"/>
            <a:ext cx="38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има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219640" y="1989000"/>
            <a:ext cx="3311640" cy="4276800"/>
            <a:chOff x="5219640" y="1989000"/>
            <a:chExt cx="3311640" cy="4276800"/>
          </a:xfrm>
        </p:grpSpPr>
        <p:pic>
          <p:nvPicPr>
            <p:cNvPr id="76" name="Текст 2" descr=""/>
            <p:cNvPicPr/>
            <p:nvPr/>
          </p:nvPicPr>
          <p:blipFill>
            <a:blip r:embed="rId4"/>
            <a:stretch/>
          </p:blipFill>
          <p:spPr>
            <a:xfrm>
              <a:off x="5219640" y="4078080"/>
              <a:ext cx="3303720" cy="2187720"/>
            </a:xfrm>
            <a:prstGeom prst="rect">
              <a:avLst/>
            </a:prstGeom>
            <a:ln w="57240">
              <a:solidFill>
                <a:srgbClr val="008000"/>
              </a:solidFill>
              <a:miter/>
            </a:ln>
          </p:spPr>
        </p:pic>
        <p:pic>
          <p:nvPicPr>
            <p:cNvPr id="77" name="Текст 2" descr=""/>
            <p:cNvPicPr/>
            <p:nvPr/>
          </p:nvPicPr>
          <p:blipFill>
            <a:blip r:embed="rId5"/>
            <a:stretch/>
          </p:blipFill>
          <p:spPr>
            <a:xfrm>
              <a:off x="5219640" y="1989000"/>
              <a:ext cx="3311640" cy="2149560"/>
            </a:xfrm>
            <a:prstGeom prst="rect">
              <a:avLst/>
            </a:prstGeom>
            <a:ln w="57240">
              <a:solidFill>
                <a:srgbClr val="008000"/>
              </a:solidFill>
              <a:miter/>
            </a:ln>
          </p:spPr>
        </p:pic>
      </p:grp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0" y="4365720"/>
            <a:ext cx="176544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8028000" y="6206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55640" y="2332080"/>
            <a:ext cx="432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Содержат много жел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Органические вещества разлагаются до конца и  не накапли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Обилие влаги приводит к непрерывному промыванию на большую глубину поч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Происходит заболач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95640" y="549360"/>
            <a:ext cx="432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чв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Текст 2" descr=""/>
          <p:cNvPicPr/>
          <p:nvPr/>
        </p:nvPicPr>
        <p:blipFill>
          <a:blip r:embed="rId2"/>
          <a:srcRect l="0" t="0" r="31" b="17"/>
          <a:stretch/>
        </p:blipFill>
        <p:spPr>
          <a:xfrm>
            <a:off x="1042920" y="2565360"/>
            <a:ext cx="3241800" cy="20160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1766880" cy="218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4520" y="2060640"/>
            <a:ext cx="373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6600"/>
                </a:solidFill>
                <a:uFillTx/>
                <a:latin typeface="Arial"/>
              </a:rPr>
              <a:t>Красно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-</a:t>
            </a:r>
            <a:r>
              <a:rPr b="1" lang="ru-RU" sz="1800" spc="-1" strike="noStrike" u="sng">
                <a:solidFill>
                  <a:srgbClr val="ff6600"/>
                </a:solidFill>
                <a:uFillTx/>
                <a:latin typeface="Arial"/>
              </a:rPr>
              <a:t>желтые ферралли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1000 видов различных вечнозелёных растений, расположенных ярус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В лесу сумрак и сыр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На стволах и ветвях деревьев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селятся растения –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парази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Текст 2" descr=""/>
          <p:cNvPicPr/>
          <p:nvPr/>
        </p:nvPicPr>
        <p:blipFill>
          <a:blip r:embed="rId2"/>
          <a:stretch/>
        </p:blipFill>
        <p:spPr>
          <a:xfrm>
            <a:off x="5940360" y="1916280"/>
            <a:ext cx="2467080" cy="18475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87" name="Текст 2" descr=""/>
          <p:cNvPicPr/>
          <p:nvPr/>
        </p:nvPicPr>
        <p:blipFill>
          <a:blip r:embed="rId3"/>
          <a:stretch/>
        </p:blipFill>
        <p:spPr>
          <a:xfrm>
            <a:off x="5219640" y="4076640"/>
            <a:ext cx="3633840" cy="21877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2340000" y="692280"/>
            <a:ext cx="431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стительность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804000" y="771480"/>
            <a:ext cx="12240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ичные представители флоры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Текст 2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2914560" cy="21859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3" name="Текст 2" descr=""/>
          <p:cNvPicPr/>
          <p:nvPr/>
        </p:nvPicPr>
        <p:blipFill>
          <a:blip r:embed="rId5"/>
          <a:stretch/>
        </p:blipFill>
        <p:spPr>
          <a:xfrm>
            <a:off x="5292720" y="1916280"/>
            <a:ext cx="3201840" cy="21859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4" name="Текст 2" descr=""/>
          <p:cNvPicPr/>
          <p:nvPr/>
        </p:nvPicPr>
        <p:blipFill>
          <a:blip r:embed="rId6"/>
          <a:stretch/>
        </p:blipFill>
        <p:spPr>
          <a:xfrm>
            <a:off x="5292720" y="4268880"/>
            <a:ext cx="3216240" cy="21445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5" name="Текст 2" descr=""/>
          <p:cNvPicPr/>
          <p:nvPr/>
        </p:nvPicPr>
        <p:blipFill>
          <a:blip r:embed="rId7"/>
          <a:stretch/>
        </p:blipFill>
        <p:spPr>
          <a:xfrm>
            <a:off x="2124000" y="4292640"/>
            <a:ext cx="2951280" cy="21574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68360" y="2205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08360" y="1989000"/>
            <a:ext cx="1366920" cy="609840"/>
          </a:xfrm>
          <a:prstGeom prst="cloudCallout">
            <a:avLst>
              <a:gd name="adj1" fmla="val -28398"/>
              <a:gd name="adj2" fmla="val 12239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и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 rot="10800000">
            <a:off x="2916360" y="2565000"/>
            <a:ext cx="1079280" cy="1001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48360" y="1773360"/>
            <a:ext cx="1944720" cy="934920"/>
          </a:xfrm>
          <a:prstGeom prst="cloudCallout">
            <a:avLst>
              <a:gd name="adj1" fmla="val -94652"/>
              <a:gd name="adj2" fmla="val 9702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леб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076640"/>
            <a:ext cx="2160720" cy="792360"/>
          </a:xfrm>
          <a:prstGeom prst="cloudCallout">
            <a:avLst>
              <a:gd name="adj1" fmla="val -91736"/>
              <a:gd name="adj2" fmla="val -12915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елез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4149720"/>
            <a:ext cx="2066760" cy="825480"/>
          </a:xfrm>
          <a:prstGeom prst="cloudCallout">
            <a:avLst>
              <a:gd name="adj1" fmla="val -12134"/>
              <a:gd name="adj2" fmla="val -1567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бенов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ичные представители фауны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8360" y="2205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pic>
        <p:nvPicPr>
          <p:cNvPr id="106" name="Текст 2" descr=""/>
          <p:cNvPicPr/>
          <p:nvPr/>
        </p:nvPicPr>
        <p:blipFill>
          <a:blip r:embed="rId6"/>
          <a:stretch/>
        </p:blipFill>
        <p:spPr>
          <a:xfrm>
            <a:off x="2771640" y="2637000"/>
            <a:ext cx="2341800" cy="3120840"/>
          </a:xfrm>
          <a:prstGeom prst="rect">
            <a:avLst/>
          </a:prstGeom>
          <a:ln w="0">
            <a:noFill/>
          </a:ln>
        </p:spPr>
      </p:pic>
      <p:pic>
        <p:nvPicPr>
          <p:cNvPr id="107" name="Текст 2" descr=""/>
          <p:cNvPicPr/>
          <p:nvPr/>
        </p:nvPicPr>
        <p:blipFill>
          <a:blip r:embed="rId7"/>
          <a:stretch/>
        </p:blipFill>
        <p:spPr>
          <a:xfrm>
            <a:off x="5580000" y="1916280"/>
            <a:ext cx="229248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Текст 2" descr=""/>
          <p:cNvPicPr/>
          <p:nvPr/>
        </p:nvPicPr>
        <p:blipFill>
          <a:blip r:embed="rId8"/>
          <a:stretch/>
        </p:blipFill>
        <p:spPr>
          <a:xfrm>
            <a:off x="5580000" y="4292640"/>
            <a:ext cx="2295720" cy="1990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9" name=""/>
          <p:cNvSpPr txBox="1"/>
          <p:nvPr/>
        </p:nvSpPr>
        <p:spPr>
          <a:xfrm>
            <a:off x="2916360" y="5373720"/>
            <a:ext cx="1809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езьян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580000" y="3645000"/>
            <a:ext cx="230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опард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867280" y="5877000"/>
            <a:ext cx="1729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кап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362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это природная зона, для которой характерна смена сухого и влажного сезонов года, преобладает травянистый покров с отдельными деревьями или группами деревь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19280" y="2637000"/>
            <a:ext cx="35290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Расти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Текст 2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3168360" cy="367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1476360" y="4653000"/>
            <a:ext cx="208764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68360" y="3645000"/>
            <a:ext cx="287964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558972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5373720"/>
            <a:ext cx="1008000" cy="576360"/>
          </a:xfrm>
          <a:custGeom>
            <a:avLst/>
            <a:gdLst/>
            <a:ahLst/>
            <a:rect l="l" t="t" r="r" b="b"/>
            <a:pathLst>
              <a:path w="635" h="363">
                <a:moveTo>
                  <a:pt x="0" y="0"/>
                </a:moveTo>
                <a:cubicBezTo>
                  <a:pt x="106" y="87"/>
                  <a:pt x="213" y="174"/>
                  <a:pt x="273" y="227"/>
                </a:cubicBezTo>
                <a:cubicBezTo>
                  <a:pt x="333" y="280"/>
                  <a:pt x="303" y="295"/>
                  <a:pt x="363" y="318"/>
                </a:cubicBezTo>
                <a:cubicBezTo>
                  <a:pt x="423" y="341"/>
                  <a:pt x="529" y="352"/>
                  <a:pt x="635" y="3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35733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4508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5373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40053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ав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460760"/>
            <a:ext cx="1560600" cy="408240"/>
          </a:xfrm>
          <a:custGeom>
            <a:avLst/>
            <a:gdLst/>
            <a:ahLst/>
            <a:rect l="l" t="t" r="r" b="b"/>
            <a:pathLst>
              <a:path w="983" h="257">
                <a:moveTo>
                  <a:pt x="0" y="30"/>
                </a:moveTo>
                <a:cubicBezTo>
                  <a:pt x="310" y="15"/>
                  <a:pt x="621" y="0"/>
                  <a:pt x="772" y="30"/>
                </a:cubicBezTo>
                <a:cubicBezTo>
                  <a:pt x="923" y="60"/>
                  <a:pt x="983" y="174"/>
                  <a:pt x="908" y="212"/>
                </a:cubicBezTo>
                <a:cubicBezTo>
                  <a:pt x="833" y="250"/>
                  <a:pt x="416" y="250"/>
                  <a:pt x="318" y="2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5013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ав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26920" y="3933360"/>
            <a:ext cx="230508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84360" y="62064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аванн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4:42:16Z</dcterms:created>
  <dc:creator>алексей</dc:creator>
  <dc:description>http://aida.ucoz.ru</dc:description>
  <dc:language>en-US</dc:language>
  <cp:lastModifiedBy>алексей</cp:lastModifiedBy>
  <dcterms:modified xsi:type="dcterms:W3CDTF">2011-05-10T15:12:39Z</dcterms:modified>
  <cp:revision>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240000000000010243100207f6000400038000</vt:lpwstr>
  </property>
</Properties>
</file>