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E5F-0CCF-4FCE-B2CD-4D4970CC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E26-0BAE-4897-B838-7D266EC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349-C405-424E-9540-365786F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2B1-8A8C-4267-AEF5-00B04E65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32CC-319B-4ADF-8181-08F15787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837C-96D5-4687-A793-0CCE54B2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E007-3905-4CD1-A5B6-AAE7DCDE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65C6-72F5-4767-909C-4B806FA4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C43-FFFD-44AB-8C13-4267D89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93B9-D6B8-4C69-BE89-7174116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5AA-3255-4271-B8DD-9D61CED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A39-D8C8-4434-B8D3-E0A2331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3333-0072-4854-BE10-F805B12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FCFE-594A-43E1-A1C9-790AA2A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7936-7F2D-4B9D-8383-A7BCDBD5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C696-7F10-4261-B864-60CDD553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D3E1-E752-4CEB-B13F-78737C1F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013-0AF0-4329-BE39-94009D4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3F0-FA41-4A70-B0BE-505DC3E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F66-AD07-4E9A-84B8-49D15162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61D-9B34-4028-8A25-66D0696B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8AE-27A2-4EF1-B2CB-29772AC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6C8-A0D2-42AC-99EB-121390D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900-39F1-4A84-BAB4-86E2F9C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166-D7CE-44E0-9C32-949960B5ED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D45-A5CF-4E2B-957D-8BF9FF6170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py.yandex.net/?fmod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роверим знания по тем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24000" y="1413000"/>
            <a:ext cx="427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Кремни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рафический диктант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– второй по распространенности эле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сид кремния носит название – кремнез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ом кремния содержит 28 элект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– полупровод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необходим для жизнедеятельности растен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ремний и его соединен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7" idx="0"/>
          </p:cNvCxnSpPr>
          <p:nvPr/>
        </p:nvCxnSpPr>
        <p:spPr>
          <a:xfrm>
            <a:off x="4568400" y="159876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3492360" y="3141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220500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ремний и его соединения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должите ряд веществ, установив закономер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a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Ca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отерялс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одистый оксид, принадлежащий жильцу из 4 подъ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ые приметы: нерастворим в воде, возможно встретить на берегу моря, реки, в ювелирном магазине, в отделе посуды, в отделе укра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шу вернуть за вознагра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580000" y="4869000"/>
            <a:ext cx="3237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Найди реше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и-были брат с сестрой. Сестру звали –Кремниевая кислота, а брата – Оксид кремния. Напекла сестрица пирогов с черникой, да надумала брата в гости позвать. Путь к дому сестры лежал через р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Речку легко перейти. Вспомни два волшебных слова:  Щелочь. Кислота. Тут мост и появится!- напутствовала брата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 химический смысл волшебных сл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ксид  кремния  реагирует с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карбонатом кал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сульфатом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вод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маг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фтороводородной кисло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фосфорной кисло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.С.Габриелян. Химия 9 класс. Москва.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e701"/>
                </a:solidFill>
                <a:uFillTx/>
                <a:latin typeface="Arial"/>
                <a:hlinkClick r:id="rId1"/>
              </a:rPr>
              <a:t>http://copy.yandex.net/?f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47:36Z</dcterms:created>
  <dc:creator>Саша</dc:creator>
  <dc:description/>
  <dc:language>en-US</dc:language>
  <cp:lastModifiedBy>Саша</cp:lastModifiedBy>
  <dcterms:modified xsi:type="dcterms:W3CDTF">2011-09-14T16:27:28Z</dcterms:modified>
  <cp:revision>11</cp:revision>
  <dc:subject/>
  <dc:title>Кремний и его соеди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50300207f7000400038000</vt:lpwstr>
  </property>
</Properties>
</file>