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297C-EE37-4465-B03D-ACD08EB0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21D-A864-4950-9B9F-1C5D96E9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462F-EA94-4F9B-8C01-F4C4ECF1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B6B2-AFDE-41E2-970C-07E03977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F776-3A12-4D44-B0F4-E0ED9D37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35B2-53B9-4998-A9FA-431B9F7C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0C49-F39E-4EEC-987C-3FB8D31E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8B03-22D0-4D15-9613-93F5B357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472B-30F7-4199-82C5-9D8FA00A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904F-04CA-4293-BA44-B2C47364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470E-130C-4197-888D-B3B4FFEA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BFE-6959-42E8-AF7A-8FFB65F4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1D4C-F4D3-4E7A-9D7F-FF7EEC64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5692-F67C-45D1-B9DC-2099328A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B8FE-B1E7-4A99-8693-EC0B7082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F8B7-3A13-4D88-A215-36F8FE90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D4A0-8453-4A9B-800A-1CB32C43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961-B87D-4C88-B6E9-4EB9BACE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F8A7-C449-44CB-B659-CF752C8A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B10-7E52-40D5-BEB4-A3202BDF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EF6-3C89-41EF-8A7E-A783D98E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D2B-A602-4405-865F-E7A2E633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67B-3541-439D-853E-901D784B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14F-63F2-41F2-88B1-DE0A2D7B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E6A2-5467-4CB7-96B1-6CDCCE87F7F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D125-59C4-4674-AE38-99B9F82F59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py.yandex.net/?fmode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Проверим знания по теме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124000" y="1413000"/>
            <a:ext cx="4276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«Кремний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627280" y="3068640"/>
            <a:ext cx="3600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Графический диктант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125000"/>
            <a:ext cx="822636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емний – второй по распространенности элеме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ксид кремния носит название – кремнезё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том кремния содержит 28 электрон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емний – полупровод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емний необходим для жизнедеятельности растени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Кремний и его соединения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03280" y="220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220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0" name=""/>
          <p:cNvCxnSpPr>
            <a:stCxn id="217" idx="0"/>
          </p:cNvCxnSpPr>
          <p:nvPr/>
        </p:nvCxnSpPr>
        <p:spPr>
          <a:xfrm>
            <a:off x="4568400" y="1598760"/>
            <a:ext cx="25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3492360" y="314172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00720" y="2205000"/>
            <a:ext cx="1056960" cy="914400"/>
          </a:xfrm>
          <a:prstGeom prst="triangle">
            <a:avLst>
              <a:gd name="adj" fmla="val 50000"/>
            </a:avLst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220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Кремний и его соединения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должите ряд веществ, установив закономер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aS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CaS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Потерялся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родистый оксид, принадлежащий жильцу из 4 подъез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обые приметы: нерастворим в воде, возможно встретить на берегу моря, реки, в ювелирном магазине, в отделе посуды, в отделе украш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шу вернуть за вознаграж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580000" y="4869000"/>
            <a:ext cx="32371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Найди решение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ли-были брат с сестрой. Сестру звали –Кремниевая кислота, а брата – Оксид кремния. Напекла сестрица пирогов с черникой, да надумала брата в гости позвать. Путь к дому сестры лежал через ре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 Речку легко перейти. Вспомни два волшебных слова:  Щелочь. Кислота. Тут мост и появится!- напутствовала брата сест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ов химический смысл волшебных сл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Оксид  кремния  реагирует с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карбонатом кал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сульфатом ме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вод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) маг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фтороводородной кислот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) фосфорной кислот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.С.Габриелян. Химия 9 класс. Москва.Дроф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e701"/>
                </a:solidFill>
                <a:uFillTx/>
                <a:latin typeface="Arial"/>
                <a:hlinkClick r:id="rId1"/>
              </a:rPr>
              <a:t>http://copy.yandex.net/?f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4:47:36Z</dcterms:created>
  <dc:creator>Саша</dc:creator>
  <dc:description/>
  <dc:language>en-US</dc:language>
  <cp:lastModifiedBy>Саша</cp:lastModifiedBy>
  <dcterms:modified xsi:type="dcterms:W3CDTF">2011-09-14T16:27:28Z</dcterms:modified>
  <cp:revision>11</cp:revision>
  <dc:subject/>
  <dc:title>Кремний и его соедин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10000000000010250300207f7000400038000</vt:lpwstr>
  </property>
</Properties>
</file>