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B38B-4E5A-4997-95FF-56264A05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2B92-193E-463F-9C9D-C8D71ED7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C3E-AEDB-4D6E-A0A5-227B7018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3FD3-3C5F-4C32-B9DC-491F1DAB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4C5B-3FFE-4888-92E0-565BE841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F13A-3F2D-4B55-AA24-A6D6A77D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CF33-4D20-460A-BDE1-991AECA1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C7A0-D58F-4DB4-8656-4C33FDB1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251B-28F7-447E-B169-2A38A2E4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3549-03D8-4DE7-A641-332248BB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BC59-CBED-42DA-B397-3532B1C3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45B3-A47F-40A7-A8E0-3CF5FBD1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CABC-BCBB-4E01-B119-B22F51FC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0FBC-CBD2-40E8-ABA8-5BB55F11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7A73-2BF2-4A0F-95B6-5009C4D2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AD43-F7BA-47B2-943C-5D37D04C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3B9C-48BC-4450-8742-57D0D948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376-366A-4617-89AD-642520AA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195A-E817-4893-974B-6CCB6ACA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624-CB3F-4903-8743-630BE4DC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417-1A17-41B3-AB1D-85E77ED0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AEB8-1F13-4A1B-A195-2881F6B1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8B9-1F7A-46CB-B6FB-23D64471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625-FBDC-4D62-B993-B3A1EAFF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E0B1-112F-4976-9F24-1E8F128602B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666D-42F5-4BFA-A5E8-FBF2BD6EAAE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py.yandex.net/?fmode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Проверим знания по теме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124000" y="1413000"/>
            <a:ext cx="4276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«Кремний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627280" y="3068640"/>
            <a:ext cx="3600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Графический диктант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125000"/>
            <a:ext cx="822636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емний – второй по распространенности элеме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ксид кремния носит название – кремнезё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том кремния содержит 28 электрон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емний – полупровод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емний необходим для жизнедеятельности растени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Кремний и его соединения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03280" y="220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220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0" name=""/>
          <p:cNvCxnSpPr>
            <a:stCxn id="217" idx="0"/>
          </p:cNvCxnSpPr>
          <p:nvPr/>
        </p:nvCxnSpPr>
        <p:spPr>
          <a:xfrm>
            <a:off x="4568400" y="1598760"/>
            <a:ext cx="25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3492360" y="314172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00720" y="2205000"/>
            <a:ext cx="1056960" cy="914400"/>
          </a:xfrm>
          <a:prstGeom prst="triangle">
            <a:avLst>
              <a:gd name="adj" fmla="val 50000"/>
            </a:avLst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220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Кремний и его соединения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должите ряд веществ, установив закономер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aS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CaSi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Потерялся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родистый оксид, принадлежащий жильцу из 4 подъез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обые приметы: нерастворим в воде, возможно встретить на берегу моря, реки, в ювелирном магазине, в отделе посуды, в отделе украш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шу вернуть за вознаграж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580000" y="4869000"/>
            <a:ext cx="32371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Найди решение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ли-были брат с сестрой. Сестру звали –Кремниевая кислота, а брата – Оксид кремния. Напекла сестрица пирогов с черникой, да надумала брата в гости позвать. Путь к дому сестры лежал через ре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 Речку легко перейти. Вспомни два волшебных слова:  Щелочь. Кислота. Тут мост и появится!- напутствовала брата сест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ов химический смысл волшебных сл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Оксид  кремния  реагирует с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карбонатом кал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сульфатом ме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вод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) маг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фтороводородной кислот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) фосфорной кислот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.С.Габриелян. Химия 9 класс. Москва.Дроф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e701"/>
                </a:solidFill>
                <a:uFillTx/>
                <a:latin typeface="Arial"/>
                <a:hlinkClick r:id="rId1"/>
              </a:rPr>
              <a:t>http://copy.yandex.net/?f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4:47:36Z</dcterms:created>
  <dc:creator>Саша</dc:creator>
  <dc:description/>
  <dc:language>en-US</dc:language>
  <cp:lastModifiedBy>Саша</cp:lastModifiedBy>
  <dcterms:modified xsi:type="dcterms:W3CDTF">2011-09-14T16:27:28Z</dcterms:modified>
  <cp:revision>11</cp:revision>
  <dc:subject/>
  <dc:title>Кремний и его соедин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10000000000010250300207f7000400038000</vt:lpwstr>
  </property>
</Properties>
</file>