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FA2C-69C2-4EE8-9BC6-04FB6A79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9987-9E3F-4A54-A1E9-44DA8947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4191-E177-4776-9CA2-941D23ED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F12D-2E74-4F86-9BF0-C3A51CA2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F516-E382-4F6A-9C0F-BEC0CB74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625D-8D18-40A1-8309-22049EF2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3077-1602-464D-8625-24BA6E83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2E56-617D-457F-9468-9B66F859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F58C-A43B-4650-8EB2-34EA09D5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D7B2-BA7D-4740-847A-DEE0D455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6C7E-D6DD-48E5-9FF1-E31C29B5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EC49-666D-4296-802F-303733EE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9E5D-F291-4E1B-8A64-8308AA9CF8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716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5" descr=""/>
          <p:cNvPicPr/>
          <p:nvPr/>
        </p:nvPicPr>
        <p:blipFill>
          <a:blip r:embed="rId2"/>
          <a:stretch/>
        </p:blipFill>
        <p:spPr>
          <a:xfrm>
            <a:off x="-133200" y="1085760"/>
            <a:ext cx="94104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688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став Поволж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772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цените ГП района  по карте рис. 23 стр. 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Картинка 3 из 2637"/>
          <p:cNvPicPr/>
          <p:nvPr/>
        </p:nvPicPr>
        <p:blipFill>
          <a:blip r:embed="rId1"/>
          <a:stretch/>
        </p:blipFill>
        <p:spPr>
          <a:xfrm>
            <a:off x="4857840" y="1152360"/>
            <a:ext cx="4000320" cy="5705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Картинка 7 из 125"/>
          <p:cNvPicPr/>
          <p:nvPr/>
        </p:nvPicPr>
        <p:blipFill>
          <a:blip r:embed="rId2"/>
          <a:stretch/>
        </p:blipFill>
        <p:spPr>
          <a:xfrm>
            <a:off x="1428840" y="3214800"/>
            <a:ext cx="25668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688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крепл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2920" y="1213920"/>
            <a:ext cx="88581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акие субъекты РФ входят в состав Поволж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Найдите лишнее. В Поволжье расположены города: а) Самара; б) Тверь; в) Волгоград; г) Псков; д) Астрах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Выберите верный ответ. Для Поволжья характерно: а) плодородные земли; б) равнинный рельф; в) достаточное увлажнение; г) благоприятный для человека клим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Читать §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твечать на вопросы ст. 1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Приготовить презент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Картинка 7 из 125"/>
          <p:cNvPicPr/>
          <p:nvPr/>
        </p:nvPicPr>
        <p:blipFill>
          <a:blip r:embed="rId1"/>
          <a:stretch/>
        </p:blipFill>
        <p:spPr>
          <a:xfrm>
            <a:off x="6572160" y="3649680"/>
            <a:ext cx="228132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Картинка 1 из 16"/>
          <p:cNvPicPr/>
          <p:nvPr/>
        </p:nvPicPr>
        <p:blipFill>
          <a:blip r:embed="rId1"/>
          <a:stretch/>
        </p:blipFill>
        <p:spPr>
          <a:xfrm>
            <a:off x="0" y="-54000"/>
            <a:ext cx="921528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688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оставить образ Поволж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Картинка 3 из 6786"/>
          <p:cNvPicPr/>
          <p:nvPr/>
        </p:nvPicPr>
        <p:blipFill>
          <a:blip r:embed="rId1"/>
          <a:stretch/>
        </p:blipFill>
        <p:spPr>
          <a:xfrm>
            <a:off x="357120" y="2214720"/>
            <a:ext cx="3162240" cy="4286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Картинка 2 из 6786"/>
          <p:cNvPicPr/>
          <p:nvPr/>
        </p:nvPicPr>
        <p:blipFill>
          <a:blip r:embed="rId2"/>
          <a:stretch/>
        </p:blipFill>
        <p:spPr>
          <a:xfrm>
            <a:off x="3714840" y="3067200"/>
            <a:ext cx="523872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4592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лг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00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Волга – матушка, великая река, «главная улица»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Картинка 48 из 48335"/>
          <p:cNvPicPr/>
          <p:nvPr/>
        </p:nvPicPr>
        <p:blipFill>
          <a:blip r:embed="rId1"/>
          <a:stretch/>
        </p:blipFill>
        <p:spPr>
          <a:xfrm>
            <a:off x="4429080" y="3035160"/>
            <a:ext cx="4619520" cy="3465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Картинка 8 из 48335"/>
          <p:cNvPicPr/>
          <p:nvPr/>
        </p:nvPicPr>
        <p:blipFill>
          <a:blip r:embed="rId2"/>
          <a:stretch/>
        </p:blipFill>
        <p:spPr>
          <a:xfrm>
            <a:off x="285840" y="3786120"/>
            <a:ext cx="3643200" cy="2735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Картинка 32 из 48335"/>
          <p:cNvPicPr/>
          <p:nvPr/>
        </p:nvPicPr>
        <p:blipFill>
          <a:blip r:embed="rId3"/>
          <a:stretch/>
        </p:blipFill>
        <p:spPr>
          <a:xfrm>
            <a:off x="6215040" y="0"/>
            <a:ext cx="231948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688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талингра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1285560"/>
            <a:ext cx="885816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Бывший Царицын, нынешний Волгоград. Город – символ победы над фашизм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http://img-2005-10.photosight.ru/15/1082720.jpg"/>
          <p:cNvPicPr/>
          <p:nvPr/>
        </p:nvPicPr>
        <p:blipFill>
          <a:blip r:embed="rId1"/>
          <a:stretch/>
        </p:blipFill>
        <p:spPr>
          <a:xfrm>
            <a:off x="4357800" y="2428920"/>
            <a:ext cx="4606920" cy="3071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Картинка 8 из 50902"/>
          <p:cNvPicPr/>
          <p:nvPr/>
        </p:nvPicPr>
        <p:blipFill>
          <a:blip r:embed="rId2"/>
          <a:stretch/>
        </p:blipFill>
        <p:spPr>
          <a:xfrm>
            <a:off x="214200" y="4214880"/>
            <a:ext cx="4070520" cy="2557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http://users.posobie.info/album_mod/upload/e9f604e9e19a7bbf1a3c36274e108fae.jpg"/>
          <p:cNvPicPr/>
          <p:nvPr/>
        </p:nvPicPr>
        <p:blipFill>
          <a:blip r:embed="rId3"/>
          <a:stretch/>
        </p:blipFill>
        <p:spPr>
          <a:xfrm>
            <a:off x="785880" y="2357280"/>
            <a:ext cx="26431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3580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4280"/>
            <a:ext cx="825804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аскад волжских ГЭС и водохранили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Картинка 3 из 106"/>
          <p:cNvPicPr/>
          <p:nvPr/>
        </p:nvPicPr>
        <p:blipFill>
          <a:blip r:embed="rId1"/>
          <a:stretch/>
        </p:blipFill>
        <p:spPr>
          <a:xfrm>
            <a:off x="4357800" y="3051000"/>
            <a:ext cx="4690800" cy="3488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Картинка 17 из 1152"/>
          <p:cNvPicPr/>
          <p:nvPr/>
        </p:nvPicPr>
        <p:blipFill>
          <a:blip r:embed="rId2"/>
          <a:stretch/>
        </p:blipFill>
        <p:spPr>
          <a:xfrm>
            <a:off x="142920" y="2571840"/>
            <a:ext cx="39625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688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втоВ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амый большой российский завод по производству легковых автомобилей (в городе Тольят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Картинка 16 из 19487"/>
          <p:cNvPicPr/>
          <p:nvPr/>
        </p:nvPicPr>
        <p:blipFill>
          <a:blip r:embed="rId1"/>
          <a:stretch/>
        </p:blipFill>
        <p:spPr>
          <a:xfrm>
            <a:off x="4532400" y="3944880"/>
            <a:ext cx="4325760" cy="255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Картинка 22 из 19487"/>
          <p:cNvPicPr/>
          <p:nvPr/>
        </p:nvPicPr>
        <p:blipFill>
          <a:blip r:embed="rId2"/>
          <a:stretch/>
        </p:blipFill>
        <p:spPr>
          <a:xfrm>
            <a:off x="5065560" y="1571760"/>
            <a:ext cx="314964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40212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Жигу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2920" y="1213920"/>
            <a:ext cx="39290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Знаменитый и самый живописный кряж на Приволжской возвышенности. Здесь в Самарской Луке, расположены заповедник и национальный пар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Картинка 1 из 1"/>
          <p:cNvPicPr/>
          <p:nvPr/>
        </p:nvPicPr>
        <p:blipFill>
          <a:blip r:embed="rId1"/>
          <a:stretch/>
        </p:blipFill>
        <p:spPr>
          <a:xfrm>
            <a:off x="4214880" y="2892600"/>
            <a:ext cx="4809960" cy="3608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Картинка 13 из 5251"/>
          <p:cNvPicPr/>
          <p:nvPr/>
        </p:nvPicPr>
        <p:blipFill>
          <a:blip r:embed="rId2"/>
          <a:stretch/>
        </p:blipFill>
        <p:spPr>
          <a:xfrm>
            <a:off x="6143760" y="285840"/>
            <a:ext cx="275904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занский крем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42920" y="1142640"/>
            <a:ext cx="564336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ко-архитектурный комплек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Картинка 13 из 22912"/>
          <p:cNvPicPr/>
          <p:nvPr/>
        </p:nvPicPr>
        <p:blipFill>
          <a:blip r:embed="rId1"/>
          <a:stretch/>
        </p:blipFill>
        <p:spPr>
          <a:xfrm>
            <a:off x="0" y="2714760"/>
            <a:ext cx="5668920" cy="3790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Картинка 29 из 22912"/>
          <p:cNvPicPr/>
          <p:nvPr/>
        </p:nvPicPr>
        <p:blipFill>
          <a:blip r:embed="rId2"/>
          <a:stretch/>
        </p:blipFill>
        <p:spPr>
          <a:xfrm>
            <a:off x="5786280" y="1969920"/>
            <a:ext cx="316728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4:23:20Z</dcterms:created>
  <dc:creator>User</dc:creator>
  <dc:description/>
  <dc:language>en-US</dc:language>
  <cp:lastModifiedBy>User</cp:lastModifiedBy>
  <dcterms:modified xsi:type="dcterms:W3CDTF">2011-09-04T08:13:08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c0000000000010243100207f6000400038000</vt:lpwstr>
  </property>
</Properties>
</file>