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93F8-C19E-44EF-B865-E3B96CB71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0154-A6C3-471B-ADDF-333764E19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9D25-FCAD-4CCC-8C61-819173136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FD69-D651-4167-AA7B-85A99BE9B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09F2-5F7A-4972-B93E-98011125C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0D46-9780-49DA-8E04-FD1242932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5713-6417-42DC-9B56-F96C96780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35E2-793A-40DE-AC1A-B377C4CD5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4FF4-F9FD-4277-A5B9-A9102B449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1474-29A3-401E-AE8D-8B67F252C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C96B-FA9A-4E91-99F0-B6E0B0EA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8BE1-C71E-4FEC-A441-2A1B9FC3D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EBEFC-05B8-467C-ABEB-F23F2FBD9E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07160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31417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9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Прямоугольник 5" descr=""/>
          <p:cNvPicPr/>
          <p:nvPr/>
        </p:nvPicPr>
        <p:blipFill>
          <a:blip r:embed="rId2"/>
          <a:stretch/>
        </p:blipFill>
        <p:spPr>
          <a:xfrm>
            <a:off x="-133200" y="1085760"/>
            <a:ext cx="941040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7640" y="274320"/>
            <a:ext cx="568836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остав Поволж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57720" cy="16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Оцените ГП района  по карте рис. 23 стр. 1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Картинка 3 из 2637"/>
          <p:cNvPicPr/>
          <p:nvPr/>
        </p:nvPicPr>
        <p:blipFill>
          <a:blip r:embed="rId1"/>
          <a:stretch/>
        </p:blipFill>
        <p:spPr>
          <a:xfrm>
            <a:off x="4857840" y="1152360"/>
            <a:ext cx="4000320" cy="5705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Картинка 7 из 125"/>
          <p:cNvPicPr/>
          <p:nvPr/>
        </p:nvPicPr>
        <p:blipFill>
          <a:blip r:embed="rId2"/>
          <a:stretch/>
        </p:blipFill>
        <p:spPr>
          <a:xfrm>
            <a:off x="1428840" y="3214800"/>
            <a:ext cx="256680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7640" y="274320"/>
            <a:ext cx="568836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Закрепле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2920" y="1213920"/>
            <a:ext cx="885816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Какие субъекты РФ входят в состав Поволжь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Найдите лишнее. В Поволжье расположены города: а) Самара; б) Тверь; в) Волгоград; г) Псков; д) Астраха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Выберите верный ответ. Для Поволжья характерно: а) плодородные земли; б) равнинный рельф; в) достаточное увлажнение; г) благоприятный для человека клима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Читать §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Отвечать на вопросы ст. 1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Приготовить презентац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Картинка 7 из 125"/>
          <p:cNvPicPr/>
          <p:nvPr/>
        </p:nvPicPr>
        <p:blipFill>
          <a:blip r:embed="rId1"/>
          <a:stretch/>
        </p:blipFill>
        <p:spPr>
          <a:xfrm>
            <a:off x="6572160" y="3649680"/>
            <a:ext cx="2281320" cy="29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Картинка 1 из 16"/>
          <p:cNvPicPr/>
          <p:nvPr/>
        </p:nvPicPr>
        <p:blipFill>
          <a:blip r:embed="rId1"/>
          <a:stretch/>
        </p:blipFill>
        <p:spPr>
          <a:xfrm>
            <a:off x="0" y="-54000"/>
            <a:ext cx="9215280" cy="69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07640" y="274320"/>
            <a:ext cx="568836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Цел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Составить образ Поволж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Картинка 3 из 6786"/>
          <p:cNvPicPr/>
          <p:nvPr/>
        </p:nvPicPr>
        <p:blipFill>
          <a:blip r:embed="rId1"/>
          <a:stretch/>
        </p:blipFill>
        <p:spPr>
          <a:xfrm>
            <a:off x="357120" y="2214720"/>
            <a:ext cx="3162240" cy="4286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Картинка 2 из 6786"/>
          <p:cNvPicPr/>
          <p:nvPr/>
        </p:nvPicPr>
        <p:blipFill>
          <a:blip r:embed="rId2"/>
          <a:stretch/>
        </p:blipFill>
        <p:spPr>
          <a:xfrm>
            <a:off x="3714840" y="3067200"/>
            <a:ext cx="5238720" cy="34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45928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олг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0060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Волга – матушка, великая река, «главная улица»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Картинка 48 из 48335"/>
          <p:cNvPicPr/>
          <p:nvPr/>
        </p:nvPicPr>
        <p:blipFill>
          <a:blip r:embed="rId1"/>
          <a:stretch/>
        </p:blipFill>
        <p:spPr>
          <a:xfrm>
            <a:off x="4429080" y="3035160"/>
            <a:ext cx="4619520" cy="3465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Картинка 8 из 48335"/>
          <p:cNvPicPr/>
          <p:nvPr/>
        </p:nvPicPr>
        <p:blipFill>
          <a:blip r:embed="rId2"/>
          <a:stretch/>
        </p:blipFill>
        <p:spPr>
          <a:xfrm>
            <a:off x="285840" y="3786120"/>
            <a:ext cx="3643200" cy="2735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Картинка 32 из 48335"/>
          <p:cNvPicPr/>
          <p:nvPr/>
        </p:nvPicPr>
        <p:blipFill>
          <a:blip r:embed="rId3"/>
          <a:stretch/>
        </p:blipFill>
        <p:spPr>
          <a:xfrm>
            <a:off x="6215040" y="0"/>
            <a:ext cx="2319480" cy="29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07640" y="274320"/>
            <a:ext cx="568836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талинград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920" y="1285560"/>
            <a:ext cx="885816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Бывший Царицын, нынешний Волгоград. Город – символ победы над фашизм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http://img-2005-10.photosight.ru/15/1082720.jpg"/>
          <p:cNvPicPr/>
          <p:nvPr/>
        </p:nvPicPr>
        <p:blipFill>
          <a:blip r:embed="rId1"/>
          <a:stretch/>
        </p:blipFill>
        <p:spPr>
          <a:xfrm>
            <a:off x="4357800" y="2428920"/>
            <a:ext cx="4606920" cy="3071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Картинка 8 из 50902"/>
          <p:cNvPicPr/>
          <p:nvPr/>
        </p:nvPicPr>
        <p:blipFill>
          <a:blip r:embed="rId2"/>
          <a:stretch/>
        </p:blipFill>
        <p:spPr>
          <a:xfrm>
            <a:off x="214200" y="4214880"/>
            <a:ext cx="4070520" cy="2557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http://users.posobie.info/album_mod/upload/e9f604e9e19a7bbf1a3c36274e108fae.jpg"/>
          <p:cNvPicPr/>
          <p:nvPr/>
        </p:nvPicPr>
        <p:blipFill>
          <a:blip r:embed="rId3"/>
          <a:stretch/>
        </p:blipFill>
        <p:spPr>
          <a:xfrm>
            <a:off x="785880" y="2357280"/>
            <a:ext cx="2643120" cy="19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28440" y="274320"/>
            <a:ext cx="73580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214280"/>
            <a:ext cx="825804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Каскад волжских ГЭС и водохранили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Картинка 3 из 106"/>
          <p:cNvPicPr/>
          <p:nvPr/>
        </p:nvPicPr>
        <p:blipFill>
          <a:blip r:embed="rId1"/>
          <a:stretch/>
        </p:blipFill>
        <p:spPr>
          <a:xfrm>
            <a:off x="4357800" y="3051000"/>
            <a:ext cx="4690800" cy="3488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Картинка 17 из 1152"/>
          <p:cNvPicPr/>
          <p:nvPr/>
        </p:nvPicPr>
        <p:blipFill>
          <a:blip r:embed="rId2"/>
          <a:stretch/>
        </p:blipFill>
        <p:spPr>
          <a:xfrm>
            <a:off x="142920" y="2571840"/>
            <a:ext cx="396252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7640" y="274320"/>
            <a:ext cx="568836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АвтоВА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7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Самый большой российский завод по производству легковых автомобилей (в городе Тольятт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Картинка 16 из 19487"/>
          <p:cNvPicPr/>
          <p:nvPr/>
        </p:nvPicPr>
        <p:blipFill>
          <a:blip r:embed="rId1"/>
          <a:stretch/>
        </p:blipFill>
        <p:spPr>
          <a:xfrm>
            <a:off x="4532400" y="3944880"/>
            <a:ext cx="4325760" cy="2556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Картинка 22 из 19487"/>
          <p:cNvPicPr/>
          <p:nvPr/>
        </p:nvPicPr>
        <p:blipFill>
          <a:blip r:embed="rId2"/>
          <a:stretch/>
        </p:blipFill>
        <p:spPr>
          <a:xfrm>
            <a:off x="5065560" y="1571760"/>
            <a:ext cx="314964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40212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Жигул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2920" y="1213920"/>
            <a:ext cx="39290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Знаменитый и самый живописный кряж на Приволжской возвышенности. Здесь в Самарской Луке, расположены заповедник и национальный пар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Картинка 1 из 1"/>
          <p:cNvPicPr/>
          <p:nvPr/>
        </p:nvPicPr>
        <p:blipFill>
          <a:blip r:embed="rId1"/>
          <a:stretch/>
        </p:blipFill>
        <p:spPr>
          <a:xfrm>
            <a:off x="4214880" y="2892600"/>
            <a:ext cx="4809960" cy="3608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Картинка 13 из 5251"/>
          <p:cNvPicPr/>
          <p:nvPr/>
        </p:nvPicPr>
        <p:blipFill>
          <a:blip r:embed="rId2"/>
          <a:stretch/>
        </p:blipFill>
        <p:spPr>
          <a:xfrm>
            <a:off x="6143760" y="285840"/>
            <a:ext cx="2759040" cy="19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азанский крем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42920" y="1142640"/>
            <a:ext cx="564336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торико-архитектурный комплек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Картинка 13 из 22912"/>
          <p:cNvPicPr/>
          <p:nvPr/>
        </p:nvPicPr>
        <p:blipFill>
          <a:blip r:embed="rId1"/>
          <a:stretch/>
        </p:blipFill>
        <p:spPr>
          <a:xfrm>
            <a:off x="0" y="2714760"/>
            <a:ext cx="5668920" cy="3790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Картинка 29 из 22912"/>
          <p:cNvPicPr/>
          <p:nvPr/>
        </p:nvPicPr>
        <p:blipFill>
          <a:blip r:embed="rId2"/>
          <a:stretch/>
        </p:blipFill>
        <p:spPr>
          <a:xfrm>
            <a:off x="5786280" y="1969920"/>
            <a:ext cx="3167280" cy="45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7T14:23:20Z</dcterms:created>
  <dc:creator>User</dc:creator>
  <dc:description/>
  <dc:language>en-US</dc:language>
  <cp:lastModifiedBy>User</cp:lastModifiedBy>
  <dcterms:modified xsi:type="dcterms:W3CDTF">2011-09-04T08:13:08Z</dcterms:modified>
  <cp:revision>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e0c0000000000010243100207f6000400038000</vt:lpwstr>
  </property>
</Properties>
</file>