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3BB-D57A-42B9-BAC2-4B763BDA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9AE-6728-4359-A5D4-411F372D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6DE-CF4E-43BD-B5F5-A93930A6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4A2B-1278-48E6-9703-F8126AA4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494-9749-40E9-A0CF-CCB901E3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DC6-C12D-46F0-9DB5-BEC3B2DF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244-62D6-4AF7-90D0-BB78AD86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F32-9ED4-42FD-B64B-ABC9F1C8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59F-3D7A-450E-A7A8-132E670B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CB8-60C8-4929-8785-A6FE24E4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2100-6226-46B9-BEFC-C09A2B97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64D-B7C0-426F-9058-319579D4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BB02-0203-40E2-8902-C1CED5CEED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716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-133200" y="1085760"/>
            <a:ext cx="94104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став Поволж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772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цените ГП района  по карте рис. 23 стр.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Картинка 3 из 2637"/>
          <p:cNvPicPr/>
          <p:nvPr/>
        </p:nvPicPr>
        <p:blipFill>
          <a:blip r:embed="rId1"/>
          <a:stretch/>
        </p:blipFill>
        <p:spPr>
          <a:xfrm>
            <a:off x="4857840" y="1152360"/>
            <a:ext cx="4000320" cy="570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Картинка 7 из 125"/>
          <p:cNvPicPr/>
          <p:nvPr/>
        </p:nvPicPr>
        <p:blipFill>
          <a:blip r:embed="rId2"/>
          <a:stretch/>
        </p:blipFill>
        <p:spPr>
          <a:xfrm>
            <a:off x="1428840" y="3214800"/>
            <a:ext cx="25668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крепл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2920" y="1213920"/>
            <a:ext cx="88581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ие субъекты РФ входят в состав Поволж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йдите лишнее. В Поволжье расположены города: а) Самара; б) Тверь; в) Волгоград; г) Псков; д) Астрах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ыберите верный ответ. Для Поволжья характерно: а) плодородные земли; б) равнинный рельф; в) достаточное увлажнение; г) благоприятный для человека клим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итать §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вечать на вопросы ст. 1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риготовить презен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Картинка 7 из 125"/>
          <p:cNvPicPr/>
          <p:nvPr/>
        </p:nvPicPr>
        <p:blipFill>
          <a:blip r:embed="rId1"/>
          <a:stretch/>
        </p:blipFill>
        <p:spPr>
          <a:xfrm>
            <a:off x="6572160" y="3649680"/>
            <a:ext cx="228132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а 1 из 16"/>
          <p:cNvPicPr/>
          <p:nvPr/>
        </p:nvPicPr>
        <p:blipFill>
          <a:blip r:embed="rId1"/>
          <a:stretch/>
        </p:blipFill>
        <p:spPr>
          <a:xfrm>
            <a:off x="0" y="-54000"/>
            <a:ext cx="921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оставить образ Поволж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Картинка 3 из 6786"/>
          <p:cNvPicPr/>
          <p:nvPr/>
        </p:nvPicPr>
        <p:blipFill>
          <a:blip r:embed="rId1"/>
          <a:stretch/>
        </p:blipFill>
        <p:spPr>
          <a:xfrm>
            <a:off x="357120" y="2214720"/>
            <a:ext cx="3162240" cy="428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Картинка 2 из 6786"/>
          <p:cNvPicPr/>
          <p:nvPr/>
        </p:nvPicPr>
        <p:blipFill>
          <a:blip r:embed="rId2"/>
          <a:stretch/>
        </p:blipFill>
        <p:spPr>
          <a:xfrm>
            <a:off x="3714840" y="3067200"/>
            <a:ext cx="523872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4592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лг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00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олга – матушка, великая река, «главная улица»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артинка 48 из 48335"/>
          <p:cNvPicPr/>
          <p:nvPr/>
        </p:nvPicPr>
        <p:blipFill>
          <a:blip r:embed="rId1"/>
          <a:stretch/>
        </p:blipFill>
        <p:spPr>
          <a:xfrm>
            <a:off x="4429080" y="3035160"/>
            <a:ext cx="4619520" cy="346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Картинка 8 из 48335"/>
          <p:cNvPicPr/>
          <p:nvPr/>
        </p:nvPicPr>
        <p:blipFill>
          <a:blip r:embed="rId2"/>
          <a:stretch/>
        </p:blipFill>
        <p:spPr>
          <a:xfrm>
            <a:off x="285840" y="3786120"/>
            <a:ext cx="3643200" cy="2735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Картинка 32 из 48335"/>
          <p:cNvPicPr/>
          <p:nvPr/>
        </p:nvPicPr>
        <p:blipFill>
          <a:blip r:embed="rId3"/>
          <a:stretch/>
        </p:blipFill>
        <p:spPr>
          <a:xfrm>
            <a:off x="6215040" y="0"/>
            <a:ext cx="23194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лингра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1285560"/>
            <a:ext cx="88581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ывший Царицын, нынешний Волгоград. Город – символ победы над фашиз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ttp://img-2005-10.photosight.ru/15/1082720.jpg"/>
          <p:cNvPicPr/>
          <p:nvPr/>
        </p:nvPicPr>
        <p:blipFill>
          <a:blip r:embed="rId1"/>
          <a:stretch/>
        </p:blipFill>
        <p:spPr>
          <a:xfrm>
            <a:off x="4357800" y="2428920"/>
            <a:ext cx="4606920" cy="3071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Картинка 8 из 50902"/>
          <p:cNvPicPr/>
          <p:nvPr/>
        </p:nvPicPr>
        <p:blipFill>
          <a:blip r:embed="rId2"/>
          <a:stretch/>
        </p:blipFill>
        <p:spPr>
          <a:xfrm>
            <a:off x="214200" y="4214880"/>
            <a:ext cx="4070520" cy="2557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://users.posobie.info/album_mod/upload/e9f604e9e19a7bbf1a3c36274e108fae.jpg"/>
          <p:cNvPicPr/>
          <p:nvPr/>
        </p:nvPicPr>
        <p:blipFill>
          <a:blip r:embed="rId3"/>
          <a:stretch/>
        </p:blipFill>
        <p:spPr>
          <a:xfrm>
            <a:off x="785880" y="235728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3580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825804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скад волжских ГЭС и водохранил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Картинка 3 из 106"/>
          <p:cNvPicPr/>
          <p:nvPr/>
        </p:nvPicPr>
        <p:blipFill>
          <a:blip r:embed="rId1"/>
          <a:stretch/>
        </p:blipFill>
        <p:spPr>
          <a:xfrm>
            <a:off x="4357800" y="3051000"/>
            <a:ext cx="4690800" cy="3488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Картинка 17 из 1152"/>
          <p:cNvPicPr/>
          <p:nvPr/>
        </p:nvPicPr>
        <p:blipFill>
          <a:blip r:embed="rId2"/>
          <a:stretch/>
        </p:blipFill>
        <p:spPr>
          <a:xfrm>
            <a:off x="142920" y="2571840"/>
            <a:ext cx="39625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втоВ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амый большой российский завод по производству легковых автомобилей (в городе Тольят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а 16 из 19487"/>
          <p:cNvPicPr/>
          <p:nvPr/>
        </p:nvPicPr>
        <p:blipFill>
          <a:blip r:embed="rId1"/>
          <a:stretch/>
        </p:blipFill>
        <p:spPr>
          <a:xfrm>
            <a:off x="4532400" y="3944880"/>
            <a:ext cx="4325760" cy="255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Картинка 22 из 19487"/>
          <p:cNvPicPr/>
          <p:nvPr/>
        </p:nvPicPr>
        <p:blipFill>
          <a:blip r:embed="rId2"/>
          <a:stretch/>
        </p:blipFill>
        <p:spPr>
          <a:xfrm>
            <a:off x="5065560" y="1571760"/>
            <a:ext cx="31496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40212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Жигу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920" y="1213920"/>
            <a:ext cx="3929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наменитый и самый живописный кряж на Приволжской возвышенности. Здесь в Самарской Луке, расположены заповедник и национальный пар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Картинка 1 из 1"/>
          <p:cNvPicPr/>
          <p:nvPr/>
        </p:nvPicPr>
        <p:blipFill>
          <a:blip r:embed="rId1"/>
          <a:stretch/>
        </p:blipFill>
        <p:spPr>
          <a:xfrm>
            <a:off x="4214880" y="2892600"/>
            <a:ext cx="4809960" cy="360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Картинка 13 из 5251"/>
          <p:cNvPicPr/>
          <p:nvPr/>
        </p:nvPicPr>
        <p:blipFill>
          <a:blip r:embed="rId2"/>
          <a:stretch/>
        </p:blipFill>
        <p:spPr>
          <a:xfrm>
            <a:off x="6143760" y="285840"/>
            <a:ext cx="275904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занский кре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2920" y="1142640"/>
            <a:ext cx="56433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ко-архитектурный компле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Картинка 13 из 22912"/>
          <p:cNvPicPr/>
          <p:nvPr/>
        </p:nvPicPr>
        <p:blipFill>
          <a:blip r:embed="rId1"/>
          <a:stretch/>
        </p:blipFill>
        <p:spPr>
          <a:xfrm>
            <a:off x="0" y="2714760"/>
            <a:ext cx="5668920" cy="3790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Картинка 29 из 22912"/>
          <p:cNvPicPr/>
          <p:nvPr/>
        </p:nvPicPr>
        <p:blipFill>
          <a:blip r:embed="rId2"/>
          <a:stretch/>
        </p:blipFill>
        <p:spPr>
          <a:xfrm>
            <a:off x="5786280" y="1969920"/>
            <a:ext cx="316728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4:23:20Z</dcterms:created>
  <dc:creator>User</dc:creator>
  <dc:description/>
  <dc:language>en-US</dc:language>
  <cp:lastModifiedBy>User</cp:lastModifiedBy>
  <dcterms:modified xsi:type="dcterms:W3CDTF">2011-09-04T08:13:08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c0000000000010243100207f6000400038000</vt:lpwstr>
  </property>
</Properties>
</file>