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8.gif" ContentType="image/gif"/>
  <Override PartName="/ppt/media/image23.png" ContentType="image/png"/>
  <Override PartName="/ppt/media/image19.jpeg" ContentType="image/jpeg"/>
  <Override PartName="/ppt/media/image20.png" ContentType="image/png"/>
  <Override PartName="/ppt/media/image11.jpeg" ContentType="image/jpeg"/>
  <Override PartName="/ppt/media/image27.gif" ContentType="image/gif"/>
  <Override PartName="/ppt/media/image7.png" ContentType="image/png"/>
  <Override PartName="/ppt/media/image9.gif" ContentType="image/gif"/>
  <Override PartName="/ppt/media/image2.png" ContentType="image/png"/>
  <Override PartName="/ppt/media/image4.jpeg" ContentType="image/jpeg"/>
  <Override PartName="/ppt/media/image10.wmf" ContentType="image/x-wmf"/>
  <Override PartName="/ppt/media/image12.jpeg" ContentType="image/jpeg"/>
  <Override PartName="/ppt/media/image32.jpeg" ContentType="image/jpeg"/>
  <Override PartName="/ppt/media/image35.gif" ContentType="image/gif"/>
  <Override PartName="/ppt/media/image5.gif" ContentType="image/gif"/>
  <Override PartName="/ppt/media/image13.wmf" ContentType="image/x-wmf"/>
  <Override PartName="/ppt/media/image33.jpeg" ContentType="image/jpeg"/>
  <Override PartName="/ppt/media/image18.png" ContentType="image/png"/>
  <Override PartName="/ppt/media/image25.gif" ContentType="image/gif"/>
  <Override PartName="/ppt/media/image6.jpeg" ContentType="image/jpeg"/>
  <Override PartName="/ppt/media/image34.wmf" ContentType="image/x-wmf"/>
  <Override PartName="/ppt/media/image8.gif" ContentType="image/gif"/>
  <Override PartName="/ppt/media/image30.png" ContentType="image/png"/>
  <Override PartName="/ppt/media/image3.jpeg" ContentType="image/jpeg"/>
  <Override PartName="/ppt/media/image22.gif" ContentType="image/gif"/>
  <Override PartName="/ppt/media/image15.png" ContentType="image/png"/>
  <Override PartName="/ppt/media/image14.wmf" ContentType="image/x-wmf"/>
  <Override PartName="/ppt/media/image26.gif" ContentType="image/gif"/>
  <Override PartName="/ppt/media/image31.png" ContentType="image/png"/>
  <Override PartName="/ppt/media/image1.png" ContentType="image/png"/>
  <Override PartName="/ppt/media/image29.png" ContentType="image/png"/>
  <Override PartName="/ppt/media/image36.gif" ContentType="image/gif"/>
  <Override PartName="/ppt/media/image16.gif" ContentType="image/gif"/>
  <Override PartName="/ppt/media/image21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8318-F386-4753-BAC0-DA45E22EEA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DDFA-BFCE-4F15-896B-F973184D18EA}" type="slidenum">
              <a:rPr b="0" lang="ru-RU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AC0-C84E-4AE1-92DC-8BDB3A91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C49-ABE6-4ED4-A79D-1F5BC72F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577-FECA-4055-9C4E-34D785B8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93A-77A4-44F4-A2A0-8EE646F1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15DF-34C3-4C9A-9E38-4C05DD81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13FB-4070-48B1-89AF-A404D3DA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285A-78D2-4B08-B61B-A2E44AE9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3F87-8134-4431-8DBC-4A10660E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F5F4-2505-4022-BA5F-A31B4586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EF0A-97B1-489F-A009-F9FB2AB8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97DC-B7FA-47DC-B14D-4D75F424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5AD-89D0-46B3-9DD5-882E3189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9B57-77A8-4673-B602-ECC1F781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4390-B10A-44BE-BF51-A429A28A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ECF0-9259-4A98-8BA4-722287C8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BD16-B355-4C57-8E7D-325F6E0F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90B0-14D7-46B5-8FDE-993E0B10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822-0D2C-429D-B9A1-CC772E4C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778-6E0F-46AD-BAE4-106B6436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A53-D8AD-4278-B446-455755D4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3F4-81EC-4514-BA85-E7DC617E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57B-3298-49BE-87A9-C451FFA8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915-C09D-4864-A4F7-12194CF4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C81-FBF5-4D3A-8145-6CE45C95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12B5-EA4A-4CAF-BBFD-3E3D0B2E78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3556-94F3-4627-A5FF-7B026A5716E5}" type="slidenum">
              <a:rPr b="0" lang="ru-RU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0.png"/><Relationship Id="rId21" Type="http://schemas.openxmlformats.org/officeDocument/2006/relationships/image" Target="../media/image30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250920" y="692280"/>
            <a:ext cx="1884240" cy="14176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90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91" name="Rectangle 3"/>
          <p:cNvSpPr/>
          <p:nvPr/>
        </p:nvSpPr>
        <p:spPr>
          <a:xfrm>
            <a:off x="2627280" y="5383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69228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ff3ff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ff3ff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Страны-лидеры </a:t>
            </a:r>
            <a:br>
              <a:rPr sz="2800"/>
            </a:b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мирового промышленного производства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4200" y="1785960"/>
          <a:ext cx="8643960" cy="4695840"/>
        </p:xfrm>
        <a:graphic>
          <a:graphicData uri="http://schemas.openxmlformats.org/drawingml/2006/table">
            <a:tbl>
              <a:tblPr/>
              <a:tblGrid>
                <a:gridCol w="1500480"/>
                <a:gridCol w="1357200"/>
                <a:gridCol w="1422360"/>
                <a:gridCol w="1506600"/>
                <a:gridCol w="1404720"/>
                <a:gridCol w="1452600"/>
              </a:tblGrid>
              <a:tr h="8942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дукция, млрд. $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% к мировому итогу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дукция, млрд. $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% к мировому итогу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5835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0,8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5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318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111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-ритан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7318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43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0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83560"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740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Сдвиги в структуре промышленности под влиянием НТР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35" name="Схема 4" descr=""/>
          <p:cNvPicPr/>
          <p:nvPr/>
        </p:nvPicPr>
        <p:blipFill>
          <a:blip r:embed="rId1"/>
          <a:stretch/>
        </p:blipFill>
        <p:spPr>
          <a:xfrm>
            <a:off x="414360" y="1822320"/>
            <a:ext cx="8528040" cy="488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КАРТИНКИ\Коллекция картинок1\j0402782.jpg"/>
          <p:cNvPicPr/>
          <p:nvPr/>
        </p:nvPicPr>
        <p:blipFill>
          <a:blip r:embed="rId2"/>
          <a:srcRect l="0" t="0" r="43" b="56"/>
          <a:stretch/>
        </p:blipFill>
        <p:spPr>
          <a:xfrm>
            <a:off x="142920" y="3571920"/>
            <a:ext cx="1571760" cy="1214280"/>
          </a:xfrm>
          <a:prstGeom prst="rect">
            <a:avLst/>
          </a:prstGeom>
          <a:ln w="9360">
            <a:solidFill>
              <a:srgbClr val="4b5321"/>
            </a:solidFill>
            <a:miter/>
          </a:ln>
        </p:spPr>
      </p:pic>
      <p:pic>
        <p:nvPicPr>
          <p:cNvPr id="137" name="Picture 3" descr="D:\КАРТИНКИ\Коллекция картинок1\j0402784.jpg"/>
          <p:cNvPicPr/>
          <p:nvPr/>
        </p:nvPicPr>
        <p:blipFill>
          <a:blip r:embed="rId3"/>
          <a:srcRect l="0" t="0" r="23" b="30"/>
          <a:stretch/>
        </p:blipFill>
        <p:spPr>
          <a:xfrm>
            <a:off x="7572240" y="3857760"/>
            <a:ext cx="1455840" cy="1123920"/>
          </a:xfrm>
          <a:prstGeom prst="rect">
            <a:avLst/>
          </a:prstGeom>
          <a:ln w="9360">
            <a:solidFill>
              <a:srgbClr val="4b5321"/>
            </a:solidFill>
            <a:miter/>
          </a:ln>
        </p:spPr>
      </p:pic>
      <p:pic>
        <p:nvPicPr>
          <p:cNvPr id="138" name="Picture 5" descr="D:\КАРТИНКИ\Коллекция картинок1\j0429729.wmf"/>
          <p:cNvPicPr/>
          <p:nvPr/>
        </p:nvPicPr>
        <p:blipFill>
          <a:blip r:embed="rId4"/>
          <a:stretch/>
        </p:blipFill>
        <p:spPr>
          <a:xfrm>
            <a:off x="3929040" y="3500280"/>
            <a:ext cx="1060560" cy="1624320"/>
          </a:xfrm>
          <a:prstGeom prst="rect">
            <a:avLst/>
          </a:prstGeom>
          <a:ln w="9360">
            <a:solidFill>
              <a:srgbClr val="4b5321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Факторы размещения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5840" y="1785960"/>
          <a:ext cx="8572320" cy="4956120"/>
        </p:xfrm>
        <a:graphic>
          <a:graphicData uri="http://schemas.openxmlformats.org/drawingml/2006/table">
            <a:tbl>
              <a:tblPr/>
              <a:tblGrid>
                <a:gridCol w="2143080"/>
                <a:gridCol w="3813120"/>
                <a:gridCol w="2616120"/>
              </a:tblGrid>
              <a:tr h="18288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иродно-ресурсный, транспортный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Территориальная и производственная концентрация трудовых ресурсов и сложившейся инфраструктур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Экологический, инфраструктура, наличие научной баз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</a:tr>
              <a:tr h="566640">
                <a:tc gridSpan="3"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меры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06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1d2e"/>
                          </a:solidFill>
                          <a:latin typeface="Arial"/>
                        </a:rPr>
                        <a:t>Север и Запад Канады, Аляска, Северное море, Запад Австрали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1d2e"/>
                          </a:solidFill>
                          <a:latin typeface="Arial"/>
                        </a:rPr>
                        <a:t>Рур, Центральная Англия, Эльзас и Лотарингия, Север Франци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1d2e"/>
                          </a:solidFill>
                          <a:latin typeface="Arial"/>
                        </a:rPr>
                        <a:t>Юг Германии (Бавария), Техас, Калифорния (США), Гренобль (Франция), Кюсю (Япония)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Промышленность и окружающая среда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357120" y="1643040"/>
            <a:ext cx="8072640" cy="5031720"/>
          </a:xfrm>
          <a:prstGeom prst="rect">
            <a:avLst/>
          </a:prstGeom>
          <a:solidFill>
            <a:srgbClr val="f1f3e9"/>
          </a:solidFill>
          <a:ln w="15840">
            <a:solidFill>
              <a:srgbClr val="004e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пловая электроэнергети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томная энергети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идротехни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орнодобывающая промышленность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есозаготов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еталлургия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Химическая и нефтехимическая промышленность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рские разработки и транспортировка промышленных грузов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Picture 2" descr="D:\КАРТИНКИ\Коллекция картинок3\j0188344.gif"/>
          <p:cNvPicPr/>
          <p:nvPr/>
        </p:nvPicPr>
        <p:blipFill>
          <a:blip r:embed="rId1"/>
          <a:stretch/>
        </p:blipFill>
        <p:spPr>
          <a:xfrm>
            <a:off x="6429240" y="1928880"/>
            <a:ext cx="2714760" cy="2714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D:\КАРТИНКИ\Коллекция картинок3\j0254488.gif"/>
          <p:cNvPicPr/>
          <p:nvPr/>
        </p:nvPicPr>
        <p:blipFill>
          <a:blip r:embed="rId2"/>
          <a:stretch/>
        </p:blipFill>
        <p:spPr>
          <a:xfrm>
            <a:off x="7885080" y="5357880"/>
            <a:ext cx="11160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2720" y="642960"/>
            <a:ext cx="6629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66"/>
                </a:solidFill>
                <a:latin typeface="Arial Black"/>
              </a:rPr>
              <a:t>Промышленность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285880" y="2857680"/>
            <a:ext cx="354348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едущая отрасль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ериального производства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ff66"/>
                </a:solidFill>
                <a:latin typeface="Arial Black"/>
              </a:rPr>
              <a:t>Место промышленности в экономике мира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857840" y="192852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мировой промышленности занято 350 млн. человек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 последнее столетие промышленное производство возросло более чем в 50 раз, причем ¾ этого прироста приходится на вторую половину ХХ века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Picture 10" descr="dri13"/>
          <p:cNvPicPr/>
          <p:nvPr/>
        </p:nvPicPr>
        <p:blipFill>
          <a:blip r:embed="rId1"/>
          <a:stretch/>
        </p:blipFill>
        <p:spPr>
          <a:xfrm>
            <a:off x="285840" y="2214720"/>
            <a:ext cx="4476600" cy="3643200"/>
          </a:xfrm>
          <a:prstGeom prst="rect">
            <a:avLst/>
          </a:prstGeom>
          <a:ln w="12600">
            <a:solidFill>
              <a:srgbClr val="00206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43160" y="380880"/>
            <a:ext cx="569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Показатели развития мировой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2920" y="1714680"/>
          <a:ext cx="8786880" cy="5005080"/>
        </p:xfrm>
        <a:graphic>
          <a:graphicData uri="http://schemas.openxmlformats.org/drawingml/2006/table">
            <a:tbl>
              <a:tblPr/>
              <a:tblGrid>
                <a:gridCol w="2571840"/>
                <a:gridCol w="857160"/>
                <a:gridCol w="770040"/>
                <a:gridCol w="917280"/>
                <a:gridCol w="917640"/>
                <a:gridCol w="917640"/>
                <a:gridCol w="917640"/>
                <a:gridCol w="917640"/>
              </a:tblGrid>
              <a:tr h="549000"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Годы развития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7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8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9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обыча нефти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2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27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1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f5ffe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обыча природного газа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рд. м³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3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4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обыча угля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8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57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8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7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2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7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4885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ыработка электроэнергии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рд. кВт•ч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2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4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обыча железной руды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8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44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ыплавка стали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1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7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2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ыплавка алюминия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,7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6,1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9,3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4888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оизводство легковых автомобилей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ш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,4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8,4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3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3106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оизводство х/б тканей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рд. м²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44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аловой сбор зерновых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6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8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лов рыбы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9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2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44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лина автодорог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км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7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9,7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2,3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,6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4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4870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еревозки авиапассажиров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человек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4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4870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борот мировой торговли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рд. $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0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93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ff66"/>
                </a:solidFill>
                <a:latin typeface="Arial Black"/>
              </a:rPr>
              <a:t>Межотраслевые комплексы и отрасл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02" name="Схема 2" descr=""/>
          <p:cNvPicPr/>
          <p:nvPr/>
        </p:nvPicPr>
        <p:blipFill>
          <a:blip r:embed="rId1"/>
          <a:stretch/>
        </p:blipFill>
        <p:spPr>
          <a:xfrm>
            <a:off x="189000" y="1633680"/>
            <a:ext cx="8650080" cy="502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КАРТИНКИ\Коллекция картинок2\AG00038_.GIF"/>
          <p:cNvPicPr/>
          <p:nvPr/>
        </p:nvPicPr>
        <p:blipFill>
          <a:blip r:embed="rId2"/>
          <a:stretch/>
        </p:blipFill>
        <p:spPr>
          <a:xfrm>
            <a:off x="5072040" y="1928880"/>
            <a:ext cx="1717560" cy="98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КАРТИНКИ\Коллекция картинок2\AG00165_.GIF"/>
          <p:cNvPicPr/>
          <p:nvPr/>
        </p:nvPicPr>
        <p:blipFill>
          <a:blip r:embed="rId3"/>
          <a:stretch/>
        </p:blipFill>
        <p:spPr>
          <a:xfrm>
            <a:off x="5143680" y="5904000"/>
            <a:ext cx="1571400" cy="81108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5" name="Picture 5" descr="D:\КАРТИНКИ\Коллекция картинок2\J0198372.WMF"/>
          <p:cNvPicPr/>
          <p:nvPr/>
        </p:nvPicPr>
        <p:blipFill>
          <a:blip r:embed="rId4"/>
          <a:stretch/>
        </p:blipFill>
        <p:spPr>
          <a:xfrm>
            <a:off x="6643800" y="5143680"/>
            <a:ext cx="1428480" cy="97452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6" name="Picture 11" descr="Разработка месторождения"/>
          <p:cNvPicPr/>
          <p:nvPr/>
        </p:nvPicPr>
        <p:blipFill>
          <a:blip r:embed="rId5"/>
          <a:stretch/>
        </p:blipFill>
        <p:spPr>
          <a:xfrm>
            <a:off x="6929280" y="2786040"/>
            <a:ext cx="1928880" cy="128592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7" name="Picture 6" descr="D:\КАРТИНКИ\Коллекция картинок2\J0287641.JPG"/>
          <p:cNvPicPr/>
          <p:nvPr/>
        </p:nvPicPr>
        <p:blipFill>
          <a:blip r:embed="rId6"/>
          <a:stretch/>
        </p:blipFill>
        <p:spPr>
          <a:xfrm>
            <a:off x="8001000" y="4000680"/>
            <a:ext cx="1000080" cy="133020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8" name="Picture 7" descr="D:\КАРТИНКИ\Коллекция картинок1\j0238286.wmf"/>
          <p:cNvPicPr/>
          <p:nvPr/>
        </p:nvPicPr>
        <p:blipFill>
          <a:blip r:embed="rId7"/>
          <a:stretch/>
        </p:blipFill>
        <p:spPr>
          <a:xfrm>
            <a:off x="3483000" y="1428840"/>
            <a:ext cx="1423800" cy="106344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9" name="Picture 8" descr="D:\КАРТИНКИ\Коллекция картинок1\j0426412.wmf"/>
          <p:cNvPicPr/>
          <p:nvPr/>
        </p:nvPicPr>
        <p:blipFill>
          <a:blip r:embed="rId8"/>
          <a:srcRect l="0" t="28902" r="27603" b="0"/>
          <a:stretch/>
        </p:blipFill>
        <p:spPr>
          <a:xfrm>
            <a:off x="5143680" y="3214800"/>
            <a:ext cx="1357200" cy="98568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ff66"/>
                </a:solidFill>
                <a:latin typeface="Arial Black"/>
              </a:rPr>
              <a:t>Ведущие отрасли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1" name="Схема 2" descr=""/>
          <p:cNvPicPr/>
          <p:nvPr/>
        </p:nvPicPr>
        <p:blipFill>
          <a:blip r:embed="rId1"/>
          <a:stretch/>
        </p:blipFill>
        <p:spPr>
          <a:xfrm>
            <a:off x="133200" y="1359000"/>
            <a:ext cx="8877600" cy="535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D:\КАРТИНКИ\Коллекция картинок1\j0283871.gif"/>
          <p:cNvPicPr/>
          <p:nvPr/>
        </p:nvPicPr>
        <p:blipFill>
          <a:blip r:embed="rId2"/>
          <a:stretch/>
        </p:blipFill>
        <p:spPr>
          <a:xfrm>
            <a:off x="142920" y="2500200"/>
            <a:ext cx="2415960" cy="250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КАРТИНКИ\Коллекция картинок1\j0397052.wmf"/>
          <p:cNvPicPr/>
          <p:nvPr/>
        </p:nvPicPr>
        <p:blipFill>
          <a:blip r:embed="rId3"/>
          <a:stretch/>
        </p:blipFill>
        <p:spPr>
          <a:xfrm>
            <a:off x="8001000" y="5715000"/>
            <a:ext cx="98424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285840"/>
            <a:ext cx="57243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Отраслевая классификация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4200" y="1714680"/>
          <a:ext cx="8715600" cy="4814640"/>
        </p:xfrm>
        <a:graphic>
          <a:graphicData uri="http://schemas.openxmlformats.org/drawingml/2006/table">
            <a:tbl>
              <a:tblPr/>
              <a:tblGrid>
                <a:gridCol w="2143080"/>
                <a:gridCol w="2214720"/>
                <a:gridCol w="2179800"/>
                <a:gridCol w="2178000"/>
              </a:tblGrid>
              <a:tr h="736560"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f1db"/>
                          </a:solidFill>
                          <a:latin typeface="Times New Roman"/>
                          <a:ea typeface="Times New Roman"/>
                        </a:rPr>
                        <a:t>По видам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f1db"/>
                          </a:solidFill>
                          <a:latin typeface="Times New Roman"/>
                          <a:ea typeface="Times New Roman"/>
                        </a:rPr>
                        <a:t>продукци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f1db"/>
                          </a:solidFill>
                          <a:latin typeface="Times New Roman"/>
                          <a:ea typeface="Times New Roman"/>
                        </a:rPr>
                        <a:t>По степени внедрения достижений НТР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обывающая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↓ 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/10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брабатывающая ↑ (9/10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адиционные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коемкие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↑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77880">
                <a:tc gridSpan="4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По времени возникновения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4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тарые ↓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овые ↑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овейшие ↑ ↑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идеры НТП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20286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ильная, угольная, металлургическая судостроение, машиностроение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ьная, авиационная, алюминиевая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ника, биотехнология, аэрокосмическая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1f31"/>
                          </a:solidFill>
                          <a:latin typeface="Arial"/>
                          <a:ea typeface="Times New Roman"/>
                        </a:rPr>
                        <a:t>США, Япония, Германия, Франция, Швейцария, Великобритания, Италия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Территориальная классификация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7" name="Схема 2" descr=""/>
          <p:cNvPicPr/>
          <p:nvPr/>
        </p:nvPicPr>
        <p:blipFill>
          <a:blip r:embed="rId1"/>
          <a:stretch/>
        </p:blipFill>
        <p:spPr>
          <a:xfrm>
            <a:off x="298440" y="1603440"/>
            <a:ext cx="8620200" cy="51940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3554280" y="5340240"/>
            <a:ext cx="4894560" cy="114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:\КАРТИНКИ\Коллекция картинок1\j0236211.gif"/>
          <p:cNvPicPr/>
          <p:nvPr/>
        </p:nvPicPr>
        <p:blipFill>
          <a:blip r:embed="rId3"/>
          <a:stretch/>
        </p:blipFill>
        <p:spPr>
          <a:xfrm>
            <a:off x="214200" y="2143080"/>
            <a:ext cx="1857600" cy="33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42800" y="357120"/>
            <a:ext cx="6000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Arial Black"/>
              </a:rPr>
              <a:t>Динамичность территориальной структуры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21" name="Схема 2" descr=""/>
          <p:cNvPicPr/>
          <p:nvPr/>
        </p:nvPicPr>
        <p:blipFill>
          <a:blip r:embed="rId1"/>
          <a:stretch/>
        </p:blipFill>
        <p:spPr>
          <a:xfrm>
            <a:off x="79200" y="5553000"/>
            <a:ext cx="8979120" cy="1176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КАРТИНКИ\Коллекция картинок3\j0408466.wmf"/>
          <p:cNvPicPr/>
          <p:nvPr/>
        </p:nvPicPr>
        <p:blipFill>
          <a:blip r:embed="rId2"/>
          <a:stretch/>
        </p:blipFill>
        <p:spPr>
          <a:xfrm>
            <a:off x="1357200" y="1708200"/>
            <a:ext cx="6286680" cy="37544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6"/>
          <p:cNvSpPr/>
          <p:nvPr/>
        </p:nvSpPr>
        <p:spPr>
          <a:xfrm>
            <a:off x="1285920" y="2428920"/>
            <a:ext cx="3124080" cy="1181160"/>
          </a:xfrm>
          <a:prstGeom prst="rightArrow">
            <a:avLst>
              <a:gd name="adj1" fmla="val 50000"/>
              <a:gd name="adj2" fmla="val 57049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ГЕРМАНИЯ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6572160" y="2643120"/>
            <a:ext cx="2571840" cy="1162080"/>
          </a:xfrm>
          <a:prstGeom prst="leftArrow">
            <a:avLst>
              <a:gd name="adj1" fmla="val 50000"/>
              <a:gd name="adj2" fmla="val 47131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ЯПОНИЯ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1785960" y="492912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f31"/>
                </a:solidFill>
                <a:latin typeface="Arial"/>
              </a:rPr>
              <a:t>Максимальная доля наукоемких высокотехнологических отраслей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00040" y="5286240"/>
            <a:ext cx="1357200" cy="500040"/>
          </a:xfrm>
          <a:prstGeom prst="leftArrow">
            <a:avLst>
              <a:gd name="adj1" fmla="val 50000"/>
              <a:gd name="adj2" fmla="val 47134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00"/>
                </a:solidFill>
                <a:latin typeface="Calibri"/>
              </a:rPr>
              <a:t>ЯПОНИЯ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571680" y="4857840"/>
            <a:ext cx="1571400" cy="538200"/>
          </a:xfrm>
          <a:prstGeom prst="rightArrow">
            <a:avLst>
              <a:gd name="adj1" fmla="val 50000"/>
              <a:gd name="adj2" fmla="val 57043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Calibri"/>
              </a:rPr>
              <a:t>ГЕРМАНИЯ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8" name="Picture 8" descr="D:\КАРТИНКИ\Коллекция картинок3\j0163099.gif"/>
          <p:cNvPicPr/>
          <p:nvPr/>
        </p:nvPicPr>
        <p:blipFill>
          <a:blip r:embed="rId3"/>
          <a:stretch/>
        </p:blipFill>
        <p:spPr>
          <a:xfrm>
            <a:off x="0" y="1857240"/>
            <a:ext cx="1371600" cy="1571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D:\КАРТИНКИ\Коллекция картинок1\j0234682.gif"/>
          <p:cNvPicPr/>
          <p:nvPr/>
        </p:nvPicPr>
        <p:blipFill>
          <a:blip r:embed="rId4"/>
          <a:stretch/>
        </p:blipFill>
        <p:spPr>
          <a:xfrm>
            <a:off x="428760" y="3429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D:\КАРТИНКИ\Коллекция картинок1\j0284013.gif"/>
          <p:cNvPicPr/>
          <p:nvPr/>
        </p:nvPicPr>
        <p:blipFill>
          <a:blip r:embed="rId5"/>
          <a:stretch/>
        </p:blipFill>
        <p:spPr>
          <a:xfrm>
            <a:off x="7858080" y="3786120"/>
            <a:ext cx="1000080" cy="1216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D:\КАРТИНКИ\Коллекция картинок1\j0284153.gif"/>
          <p:cNvPicPr/>
          <p:nvPr/>
        </p:nvPicPr>
        <p:blipFill>
          <a:blip r:embed="rId6"/>
          <a:stretch/>
        </p:blipFill>
        <p:spPr>
          <a:xfrm>
            <a:off x="7858080" y="1428840"/>
            <a:ext cx="12859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49:24Z</dcterms:created>
  <dc:creator>starostina</dc:creator>
  <dc:description/>
  <cp:keywords/>
  <dc:language>en-US</dc:language>
  <cp:lastModifiedBy>starostina</cp:lastModifiedBy>
  <dcterms:modified xsi:type="dcterms:W3CDTF">2010-05-06T06:21:09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1e000000000001024140</vt:lpwstr>
  </property>
  <property fmtid="{D5CDD505-2E9C-101B-9397-08002B2CF9AE}" pid="3" name="_TemplateID">
    <vt:lpwstr>TC010721181049</vt:lpwstr>
  </property>
</Properties>
</file>