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gif" ContentType="image/gif"/>
  <Override PartName="/ppt/media/image23.png" ContentType="image/png"/>
  <Override PartName="/ppt/media/image19.jpeg" ContentType="image/jpeg"/>
  <Override PartName="/ppt/media/image20.png" ContentType="image/png"/>
  <Override PartName="/ppt/media/image11.jpeg" ContentType="image/jpeg"/>
  <Override PartName="/ppt/media/image27.gif" ContentType="image/gif"/>
  <Override PartName="/ppt/media/image7.png" ContentType="image/png"/>
  <Override PartName="/ppt/media/image9.gif" ContentType="image/gif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32.jpeg" ContentType="image/jpeg"/>
  <Override PartName="/ppt/media/image35.gif" ContentType="image/gif"/>
  <Override PartName="/ppt/media/image5.gif" ContentType="image/gif"/>
  <Override PartName="/ppt/media/image13.wmf" ContentType="image/x-wmf"/>
  <Override PartName="/ppt/media/image33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34.wmf" ContentType="image/x-wmf"/>
  <Override PartName="/ppt/media/image8.gif" ContentType="image/gif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14.wmf" ContentType="image/x-wmf"/>
  <Override PartName="/ppt/media/image26.gif" ContentType="image/gif"/>
  <Override PartName="/ppt/media/image31.png" ContentType="image/png"/>
  <Override PartName="/ppt/media/image1.png" ContentType="image/png"/>
  <Override PartName="/ppt/media/image29.png" ContentType="image/png"/>
  <Override PartName="/ppt/media/image36.gif" ContentType="image/gif"/>
  <Override PartName="/ppt/media/image16.gif" ContentType="image/gif"/>
  <Override PartName="/ppt/media/image21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9ACE-492E-4194-BE64-DA490439F9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FF4D-0D4E-4983-943C-D25CB9A0AA00}" type="slidenum">
              <a:rPr b="0" lang="ru-RU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9AE-CC24-4490-8C06-D22B1911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2F6-3AE3-42F9-9D63-B1D9A58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E8E-9842-452B-A3F3-C2E675F4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2AE-657E-4F7D-A004-61CC36C9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54DD-87AE-4EC6-9AFA-E34A6571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8727-C7AF-4FEA-8597-1472467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F367-65D7-43D9-9EE2-2BF240B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0E50-C049-4008-A5AA-1343CF8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27A7-8042-41A7-B70C-E43A9F40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B587-F68B-4767-B9E6-36F535E6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91E2-13FC-4FEA-B4CB-D76D08C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2DA-5B76-4B26-88F4-5328A65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129F-3880-4B0D-95EB-62CCCF3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BD51-DF67-4FD3-A13B-6776F20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4648-EE30-48F4-9BA7-3CED2509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D850-D213-48D7-8383-2EBC858F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956-AFD8-4EFD-A5D1-49D2C80E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2E4-0FF0-4C07-81CE-F574EB05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4A2-FC87-423A-A290-5149859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EF0-EDEC-4CA1-BAD4-3E228D2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308-678B-43AA-93DD-78CB78E2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FA6-5CC3-43C4-8CB5-49C1F9E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EC8-3B7E-459F-95C8-07B36019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67C-CC18-4C3A-88CD-22B66A6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47B9-97A6-45A9-A203-26E16485CE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D6E-702C-44E4-ACCA-1BB88DEE1116}" type="slidenum">
              <a:rPr b="0" lang="ru-RU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0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250920" y="692280"/>
            <a:ext cx="1884240" cy="14176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383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69228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3ff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ff3ff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Страны-лидеры </a:t>
            </a:r>
            <a:br>
              <a:rPr sz="2800"/>
            </a:b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мирового промышленного производств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14200" y="1785960"/>
          <a:ext cx="8643960" cy="4695840"/>
        </p:xfrm>
        <a:graphic>
          <a:graphicData uri="http://schemas.openxmlformats.org/drawingml/2006/table">
            <a:tbl>
              <a:tblPr/>
              <a:tblGrid>
                <a:gridCol w="1500480"/>
                <a:gridCol w="1357200"/>
                <a:gridCol w="1422360"/>
                <a:gridCol w="1506600"/>
                <a:gridCol w="1404720"/>
                <a:gridCol w="1452600"/>
              </a:tblGrid>
              <a:tr h="8942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дукция, млрд. $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% к мировому итогу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дукция, млрд. $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% к мировому итогу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5835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,8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5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318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111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-рита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3188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1e3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583560"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ь мир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74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Сдвиги в структуре промышленности под влиянием НТР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35" name="Схема 4" descr=""/>
          <p:cNvPicPr/>
          <p:nvPr/>
        </p:nvPicPr>
        <p:blipFill>
          <a:blip r:embed="rId1"/>
          <a:stretch/>
        </p:blipFill>
        <p:spPr>
          <a:xfrm>
            <a:off x="414360" y="1822320"/>
            <a:ext cx="8528040" cy="488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КАРТИНКИ\Коллекция картинок1\j0402782.jpg"/>
          <p:cNvPicPr/>
          <p:nvPr/>
        </p:nvPicPr>
        <p:blipFill>
          <a:blip r:embed="rId2"/>
          <a:srcRect l="0" t="0" r="43" b="56"/>
          <a:stretch/>
        </p:blipFill>
        <p:spPr>
          <a:xfrm>
            <a:off x="142920" y="3571920"/>
            <a:ext cx="1571760" cy="121428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  <p:pic>
        <p:nvPicPr>
          <p:cNvPr id="137" name="Picture 3" descr="D:\КАРТИНКИ\Коллекция картинок1\j0402784.jpg"/>
          <p:cNvPicPr/>
          <p:nvPr/>
        </p:nvPicPr>
        <p:blipFill>
          <a:blip r:embed="rId3"/>
          <a:srcRect l="0" t="0" r="23" b="30"/>
          <a:stretch/>
        </p:blipFill>
        <p:spPr>
          <a:xfrm>
            <a:off x="7572240" y="3857760"/>
            <a:ext cx="1455840" cy="112392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  <p:pic>
        <p:nvPicPr>
          <p:cNvPr id="138" name="Picture 5" descr="D:\КАРТИНКИ\Коллекция картинок1\j0429729.wmf"/>
          <p:cNvPicPr/>
          <p:nvPr/>
        </p:nvPicPr>
        <p:blipFill>
          <a:blip r:embed="rId4"/>
          <a:stretch/>
        </p:blipFill>
        <p:spPr>
          <a:xfrm>
            <a:off x="3929040" y="3500280"/>
            <a:ext cx="1060560" cy="1624320"/>
          </a:xfrm>
          <a:prstGeom prst="rect">
            <a:avLst/>
          </a:prstGeom>
          <a:ln w="9360">
            <a:solidFill>
              <a:srgbClr val="4b5321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Факторы размещен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5840" y="1785960"/>
          <a:ext cx="8572320" cy="4956120"/>
        </p:xfrm>
        <a:graphic>
          <a:graphicData uri="http://schemas.openxmlformats.org/drawingml/2006/table">
            <a:tbl>
              <a:tblPr/>
              <a:tblGrid>
                <a:gridCol w="2143080"/>
                <a:gridCol w="3813120"/>
                <a:gridCol w="2616120"/>
              </a:tblGrid>
              <a:tr h="18288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иродно-ресурсный, транспортны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Территориальная и производственная концентрация трудовых ресурсов и сложившейся инфраструктур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кологический, инфраструктура, наличие научной баз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</a:tr>
              <a:tr h="566640">
                <a:tc gridSpan="3"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06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Север и Запад Канады, Аляска, Северное море, Запад Австрал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Рур, Центральная Англия, Эльзас и Лотарингия, Север Фран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1d2e"/>
                          </a:solidFill>
                          <a:latin typeface="Arial"/>
                        </a:rPr>
                        <a:t>Юг Германии (Бавария), Техас, Калифорния (США), Гренобль (Франция), Кюсю (Япония)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a6b84a"/>
                      </a:solidFill>
                    </a:lnL>
                    <a:lnR w="5760">
                      <a:solidFill>
                        <a:srgbClr val="a6b84a"/>
                      </a:solidFill>
                    </a:lnR>
                    <a:lnT w="5760">
                      <a:solidFill>
                        <a:srgbClr val="a6b84a"/>
                      </a:solidFill>
                    </a:lnT>
                    <a:lnB w="5760">
                      <a:solidFill>
                        <a:srgbClr val="a6b84a"/>
                      </a:solidFill>
                    </a:lnB>
                    <a:solidFill>
                      <a:srgbClr val="f1f3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Промышленность и окружающая сред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57120" y="1643040"/>
            <a:ext cx="8072640" cy="5031720"/>
          </a:xfrm>
          <a:prstGeom prst="rect">
            <a:avLst/>
          </a:prstGeom>
          <a:solidFill>
            <a:srgbClr val="f1f3e9"/>
          </a:solidFill>
          <a:ln w="15840">
            <a:solidFill>
              <a:srgbClr val="004e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пловая электроэнергет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томная энергет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идротехни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орнодобывающая промышленнос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есозаготовка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аллургия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имическая и нефтехимическая промышленност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рские разработки и транспортировка промышленных грузов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2" descr="D:\КАРТИНКИ\Коллекция картинок3\j0188344.gif"/>
          <p:cNvPicPr/>
          <p:nvPr/>
        </p:nvPicPr>
        <p:blipFill>
          <a:blip r:embed="rId1"/>
          <a:stretch/>
        </p:blipFill>
        <p:spPr>
          <a:xfrm>
            <a:off x="6429240" y="192888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D:\КАРТИНКИ\Коллекция картинок3\j0254488.gif"/>
          <p:cNvPicPr/>
          <p:nvPr/>
        </p:nvPicPr>
        <p:blipFill>
          <a:blip r:embed="rId2"/>
          <a:stretch/>
        </p:blipFill>
        <p:spPr>
          <a:xfrm>
            <a:off x="7885080" y="5357880"/>
            <a:ext cx="1116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720" y="642960"/>
            <a:ext cx="6629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Arial Black"/>
              </a:rPr>
              <a:t>Промышленность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285880" y="2857680"/>
            <a:ext cx="35434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дущая отрасль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ьного производства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Место промышленности в экономике мира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857840" y="192852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мировой промышленности занято 350 млн. человек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 последнее столетие промышленное производство возросло более чем в 50 раз, причем ¾ этого прироста приходится на вторую половину ХХ века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Picture 10" descr="dri13"/>
          <p:cNvPicPr/>
          <p:nvPr/>
        </p:nvPicPr>
        <p:blipFill>
          <a:blip r:embed="rId1"/>
          <a:stretch/>
        </p:blipFill>
        <p:spPr>
          <a:xfrm>
            <a:off x="285840" y="2214720"/>
            <a:ext cx="4476600" cy="3643200"/>
          </a:xfrm>
          <a:prstGeom prst="rect">
            <a:avLst/>
          </a:prstGeom>
          <a:ln w="12600">
            <a:solidFill>
              <a:srgbClr val="00206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43160" y="380880"/>
            <a:ext cx="569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Показатели развития мировой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2920" y="1714680"/>
          <a:ext cx="8786880" cy="5005080"/>
        </p:xfrm>
        <a:graphic>
          <a:graphicData uri="http://schemas.openxmlformats.org/drawingml/2006/table">
            <a:tbl>
              <a:tblPr/>
              <a:tblGrid>
                <a:gridCol w="2571840"/>
                <a:gridCol w="857160"/>
                <a:gridCol w="770040"/>
                <a:gridCol w="917280"/>
                <a:gridCol w="917640"/>
                <a:gridCol w="917640"/>
                <a:gridCol w="917640"/>
                <a:gridCol w="917640"/>
              </a:tblGrid>
              <a:tr h="549000"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оды развития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aeff0d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нефт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2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f5ffe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природного газа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м³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угля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7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7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85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работка электроэнерги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кВт•ч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4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обыча железной руды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8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плавка стал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1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7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2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плавка алюминия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7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,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,3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88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изводство легковых автомобилей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ш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,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,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3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3106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роизводство х/б тканей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м²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аловой сбор зерновых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6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372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лов рыбы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т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2444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лина автодорог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км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7,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,7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,3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,6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,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еревозки авиапассажиров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н. человек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  <a:tr h="48708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борот мировой торговли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лрд. $</a:t>
                      </a:r>
                      <a:endParaRPr b="0" lang="en-US" sz="1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5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06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935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96a642"/>
                      </a:solidFill>
                    </a:lnL>
                    <a:lnR w="5760">
                      <a:solidFill>
                        <a:srgbClr val="96a642"/>
                      </a:solidFill>
                    </a:lnR>
                    <a:lnT w="5760">
                      <a:solidFill>
                        <a:srgbClr val="96a642"/>
                      </a:solidFill>
                    </a:lnT>
                    <a:lnB w="5760">
                      <a:solidFill>
                        <a:srgbClr val="96a642"/>
                      </a:solidFill>
                    </a:lnB>
                    <a:solidFill>
                      <a:srgbClr val="eff1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Межотраслевые комплексы и отрасл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02" name="Схема 2" descr=""/>
          <p:cNvPicPr/>
          <p:nvPr/>
        </p:nvPicPr>
        <p:blipFill>
          <a:blip r:embed="rId1"/>
          <a:stretch/>
        </p:blipFill>
        <p:spPr>
          <a:xfrm>
            <a:off x="189000" y="1633680"/>
            <a:ext cx="8650080" cy="502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КАРТИНКИ\Коллекция картинок2\AG00038_.GIF"/>
          <p:cNvPicPr/>
          <p:nvPr/>
        </p:nvPicPr>
        <p:blipFill>
          <a:blip r:embed="rId2"/>
          <a:stretch/>
        </p:blipFill>
        <p:spPr>
          <a:xfrm>
            <a:off x="5072040" y="1928880"/>
            <a:ext cx="1717560" cy="98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КАРТИНКИ\Коллекция картинок2\AG00165_.GIF"/>
          <p:cNvPicPr/>
          <p:nvPr/>
        </p:nvPicPr>
        <p:blipFill>
          <a:blip r:embed="rId3"/>
          <a:stretch/>
        </p:blipFill>
        <p:spPr>
          <a:xfrm>
            <a:off x="5143680" y="5904000"/>
            <a:ext cx="1571400" cy="81108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5" name="Picture 5" descr="D:\КАРТИНКИ\Коллекция картинок2\J0198372.WMF"/>
          <p:cNvPicPr/>
          <p:nvPr/>
        </p:nvPicPr>
        <p:blipFill>
          <a:blip r:embed="rId4"/>
          <a:stretch/>
        </p:blipFill>
        <p:spPr>
          <a:xfrm>
            <a:off x="6643800" y="5143680"/>
            <a:ext cx="1428480" cy="97452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6" name="Picture 11" descr="Разработка месторождения"/>
          <p:cNvPicPr/>
          <p:nvPr/>
        </p:nvPicPr>
        <p:blipFill>
          <a:blip r:embed="rId5"/>
          <a:stretch/>
        </p:blipFill>
        <p:spPr>
          <a:xfrm>
            <a:off x="6929280" y="2786040"/>
            <a:ext cx="1928880" cy="128592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7" name="Picture 6" descr="D:\КАРТИНКИ\Коллекция картинок2\J0287641.JPG"/>
          <p:cNvPicPr/>
          <p:nvPr/>
        </p:nvPicPr>
        <p:blipFill>
          <a:blip r:embed="rId6"/>
          <a:stretch/>
        </p:blipFill>
        <p:spPr>
          <a:xfrm>
            <a:off x="8001000" y="4000680"/>
            <a:ext cx="1000080" cy="133020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8" name="Picture 7" descr="D:\КАРТИНКИ\Коллекция картинок1\j0238286.wmf"/>
          <p:cNvPicPr/>
          <p:nvPr/>
        </p:nvPicPr>
        <p:blipFill>
          <a:blip r:embed="rId7"/>
          <a:stretch/>
        </p:blipFill>
        <p:spPr>
          <a:xfrm>
            <a:off x="3483000" y="1428840"/>
            <a:ext cx="1423800" cy="106344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  <p:pic>
        <p:nvPicPr>
          <p:cNvPr id="109" name="Picture 8" descr="D:\КАРТИНКИ\Коллекция картинок1\j0426412.wmf"/>
          <p:cNvPicPr/>
          <p:nvPr/>
        </p:nvPicPr>
        <p:blipFill>
          <a:blip r:embed="rId8"/>
          <a:srcRect l="0" t="28902" r="27603" b="0"/>
          <a:stretch/>
        </p:blipFill>
        <p:spPr>
          <a:xfrm>
            <a:off x="5143680" y="3214800"/>
            <a:ext cx="1357200" cy="985680"/>
          </a:xfrm>
          <a:prstGeom prst="rect">
            <a:avLst/>
          </a:prstGeom>
          <a:ln w="9360">
            <a:solidFill>
              <a:srgbClr val="001f31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ff66"/>
                </a:solidFill>
                <a:latin typeface="Arial Black"/>
              </a:rPr>
              <a:t>Ведущие отрасли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1" name="Схема 2" descr=""/>
          <p:cNvPicPr/>
          <p:nvPr/>
        </p:nvPicPr>
        <p:blipFill>
          <a:blip r:embed="rId1"/>
          <a:stretch/>
        </p:blipFill>
        <p:spPr>
          <a:xfrm>
            <a:off x="133200" y="1359000"/>
            <a:ext cx="8877600" cy="535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КАРТИНКИ\Коллекция картинок1\j0283871.gif"/>
          <p:cNvPicPr/>
          <p:nvPr/>
        </p:nvPicPr>
        <p:blipFill>
          <a:blip r:embed="rId2"/>
          <a:stretch/>
        </p:blipFill>
        <p:spPr>
          <a:xfrm>
            <a:off x="142920" y="2500200"/>
            <a:ext cx="2415960" cy="250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КАРТИНКИ\Коллекция картинок1\j0397052.wmf"/>
          <p:cNvPicPr/>
          <p:nvPr/>
        </p:nvPicPr>
        <p:blipFill>
          <a:blip r:embed="rId3"/>
          <a:stretch/>
        </p:blipFill>
        <p:spPr>
          <a:xfrm>
            <a:off x="8001000" y="5715000"/>
            <a:ext cx="98424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285840"/>
            <a:ext cx="57243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Отраслевая классификац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1714680"/>
          <a:ext cx="8715600" cy="4814640"/>
        </p:xfrm>
        <a:graphic>
          <a:graphicData uri="http://schemas.openxmlformats.org/drawingml/2006/table">
            <a:tbl>
              <a:tblPr/>
              <a:tblGrid>
                <a:gridCol w="2143080"/>
                <a:gridCol w="2214720"/>
                <a:gridCol w="2179800"/>
                <a:gridCol w="2178000"/>
              </a:tblGrid>
              <a:tr h="736560"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о видам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родукци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f1db"/>
                          </a:solidFill>
                          <a:latin typeface="Times New Roman"/>
                          <a:ea typeface="Times New Roman"/>
                        </a:rPr>
                        <a:t>По степени внедрения достижений НТР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бывающая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↓ </a:t>
                      </a: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/1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рабатывающая ↑ (9/10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адиционны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↓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коемки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77880">
                <a:tc gridSpan="4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dddddd"/>
                          </a:solidFill>
                          <a:latin typeface="Times New Roman"/>
                          <a:ea typeface="Times New Roman"/>
                        </a:rPr>
                        <a:t>По времени возникновения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рые ↓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вые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вейшие ↑ ↑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деры НТП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2028600"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ильная, угольная, металлургическая судостроение, машиностроение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ная, авиационная, алюминиева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ника, биотехнология, аэрокосмическа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1f31"/>
                          </a:solidFill>
                          <a:latin typeface="Arial"/>
                          <a:ea typeface="Times New Roman"/>
                        </a:rPr>
                        <a:t>США, Япония, Германия, Франция, Швейцария, Великобритания, Италия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66"/>
                </a:solidFill>
                <a:latin typeface="Arial Black"/>
              </a:rPr>
              <a:t>Территориальная классификация промышленности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7" name="Схема 2" descr=""/>
          <p:cNvPicPr/>
          <p:nvPr/>
        </p:nvPicPr>
        <p:blipFill>
          <a:blip r:embed="rId1"/>
          <a:stretch/>
        </p:blipFill>
        <p:spPr>
          <a:xfrm>
            <a:off x="298440" y="1603440"/>
            <a:ext cx="8620200" cy="51940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3554280" y="5340240"/>
            <a:ext cx="4894560" cy="114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КАРТИНКИ\Коллекция картинок1\j0236211.gif"/>
          <p:cNvPicPr/>
          <p:nvPr/>
        </p:nvPicPr>
        <p:blipFill>
          <a:blip r:embed="rId3"/>
          <a:stretch/>
        </p:blipFill>
        <p:spPr>
          <a:xfrm>
            <a:off x="214200" y="2143080"/>
            <a:ext cx="185760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42800" y="357120"/>
            <a:ext cx="600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Arial Black"/>
              </a:rPr>
              <a:t>Динамичность территориальной структуры</a:t>
            </a:r>
            <a:endParaRPr b="0" lang="en-US" sz="28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21" name="Схема 2" descr=""/>
          <p:cNvPicPr/>
          <p:nvPr/>
        </p:nvPicPr>
        <p:blipFill>
          <a:blip r:embed="rId1"/>
          <a:stretch/>
        </p:blipFill>
        <p:spPr>
          <a:xfrm>
            <a:off x="79200" y="5553000"/>
            <a:ext cx="8979120" cy="117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КАРТИНКИ\Коллекция картинок3\j0408466.wmf"/>
          <p:cNvPicPr/>
          <p:nvPr/>
        </p:nvPicPr>
        <p:blipFill>
          <a:blip r:embed="rId2"/>
          <a:stretch/>
        </p:blipFill>
        <p:spPr>
          <a:xfrm>
            <a:off x="1357200" y="1708200"/>
            <a:ext cx="6286680" cy="37544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1285920" y="2428920"/>
            <a:ext cx="3124080" cy="1181160"/>
          </a:xfrm>
          <a:prstGeom prst="rightArrow">
            <a:avLst>
              <a:gd name="adj1" fmla="val 50000"/>
              <a:gd name="adj2" fmla="val 57049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ГЕРМАН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6572160" y="2643120"/>
            <a:ext cx="2571840" cy="1162080"/>
          </a:xfrm>
          <a:prstGeom prst="leftArrow">
            <a:avLst>
              <a:gd name="adj1" fmla="val 50000"/>
              <a:gd name="adj2" fmla="val 47131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ЯПОНИЯ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1785960" y="49291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f31"/>
                </a:solidFill>
                <a:latin typeface="Arial"/>
              </a:rPr>
              <a:t>Максимальная доля наукоемких высокотехнологических отраслей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00040" y="5286240"/>
            <a:ext cx="1357200" cy="500040"/>
          </a:xfrm>
          <a:prstGeom prst="leftArrow">
            <a:avLst>
              <a:gd name="adj1" fmla="val 50000"/>
              <a:gd name="adj2" fmla="val 47134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00"/>
                </a:solidFill>
                <a:latin typeface="Calibri"/>
              </a:rPr>
              <a:t>ЯПОНИЯ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571680" y="4857840"/>
            <a:ext cx="1571400" cy="538200"/>
          </a:xfrm>
          <a:prstGeom prst="rightArrow">
            <a:avLst>
              <a:gd name="adj1" fmla="val 50000"/>
              <a:gd name="adj2" fmla="val 57043"/>
            </a:avLst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Calibri"/>
              </a:rPr>
              <a:t>ГЕРМАНИЯ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Picture 8" descr="D:\КАРТИНКИ\Коллекция картинок3\j0163099.gif"/>
          <p:cNvPicPr/>
          <p:nvPr/>
        </p:nvPicPr>
        <p:blipFill>
          <a:blip r:embed="rId3"/>
          <a:stretch/>
        </p:blipFill>
        <p:spPr>
          <a:xfrm>
            <a:off x="0" y="1857240"/>
            <a:ext cx="1371600" cy="157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D:\КАРТИНКИ\Коллекция картинок1\j0234682.gif"/>
          <p:cNvPicPr/>
          <p:nvPr/>
        </p:nvPicPr>
        <p:blipFill>
          <a:blip r:embed="rId4"/>
          <a:stretch/>
        </p:blipFill>
        <p:spPr>
          <a:xfrm>
            <a:off x="428760" y="3429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D:\КАРТИНКИ\Коллекция картинок1\j0284013.gif"/>
          <p:cNvPicPr/>
          <p:nvPr/>
        </p:nvPicPr>
        <p:blipFill>
          <a:blip r:embed="rId5"/>
          <a:stretch/>
        </p:blipFill>
        <p:spPr>
          <a:xfrm>
            <a:off x="7858080" y="3786120"/>
            <a:ext cx="1000080" cy="1216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D:\КАРТИНКИ\Коллекция картинок1\j0284153.gif"/>
          <p:cNvPicPr/>
          <p:nvPr/>
        </p:nvPicPr>
        <p:blipFill>
          <a:blip r:embed="rId6"/>
          <a:stretch/>
        </p:blipFill>
        <p:spPr>
          <a:xfrm>
            <a:off x="7858080" y="1428840"/>
            <a:ext cx="1285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49:24Z</dcterms:created>
  <dc:creator>starostina</dc:creator>
  <dc:description/>
  <cp:keywords/>
  <dc:language>en-US</dc:language>
  <cp:lastModifiedBy>starostina</cp:lastModifiedBy>
  <dcterms:modified xsi:type="dcterms:W3CDTF">2010-05-06T06:21:09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1e000000000001024140</vt:lpwstr>
  </property>
  <property fmtid="{D5CDD505-2E9C-101B-9397-08002B2CF9AE}" pid="3" name="_TemplateID">
    <vt:lpwstr>TC010721181049</vt:lpwstr>
  </property>
</Properties>
</file>