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0C207-C94E-4EFF-95CF-03F70DA0843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DF01C-AAFC-4696-8C86-F05B3A0B58DD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6658E-E41D-4465-9F49-6F40129D9D2E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07A77-9D07-42AF-A21F-0E0866C2F845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FA7BF-0DDB-4ACE-B9B0-D14DBE6AF595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951C2-C93F-4B93-BAD8-7FB24D709CDE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666F3-3DB9-401D-815A-3EC70519F9E6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1CE1C-8BEC-4984-BD57-80D1A972056E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AF618-A678-44E0-8E7A-C4D1A0DE1612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72561-D4A4-4EBC-8C52-15A1E4C11228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506B-334C-4794-95A8-E9F82D4B1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85FB-10C1-4640-94AF-C963788BD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EDEE-0789-4689-BA35-83EB4BC56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D868-71B5-48AB-99E4-0274A3BAB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7E3E1-B58E-4E94-BEEC-13FCFB1D5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36BDB-03B9-49BC-A278-06681A9E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3B994-414A-4538-B488-966F8DA2E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D5760-4A22-4C16-8B7A-98BD6A226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FF9C2-26D5-43B5-B9E3-7E5A519B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E4156-8AEC-4782-835E-47DA11161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12A2E-11B5-4BE7-8C10-CBB1217D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68E0-D986-40A3-99C1-8C1BF4409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70CEE-168F-4B21-8F24-5EF35A67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1CC9A-180E-449B-9FF4-C04D4FE9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942FD-5E01-4343-8320-68B84F250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1894B-F889-456A-B0DA-37C69839D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6C737-1BC9-412A-B084-2CE15B51F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9E58D-62B9-423D-B77B-09E05039C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84E92-8136-4EF6-AA6D-FAA94E500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7C20E-A10F-43F7-ADEB-0ED7A0EF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BFF0B-0C67-472A-A3E1-A355A8372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F8018-CD40-42B9-A8DF-6B1BAFEF7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A3D7-E622-4A18-B7B1-257CAE1B0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D87C0-C047-4307-ABDC-948367ACD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820EB-0FA1-468E-8152-95FC528C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AAE7D-DD5B-41D5-853D-7ECB52A3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F0263-8705-4E09-9AF7-2FB4107B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00A9F-2751-48A8-BD3E-64A7A0833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61A5E-5E4C-4C15-ACB4-197BD9D98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054F1-61BC-4F91-85FA-85AE0DBE2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3ADF9-91C6-48BF-8638-905792FDD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17009-7075-4693-9690-685989FBC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39616-0DFE-4A0B-8340-CD1644FE2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3B53-8859-40EB-BEA6-0B4CF0F32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1BF7D-4410-4EB9-9E43-1AE284BA1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E504C-8330-4584-B7B7-C33124FBA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82B5C-7FB5-45C4-8157-4B4F507D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4052F-592A-4AED-AF3A-5B6D194C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1F96B-117A-4EA5-98FA-A4B87450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B8359-D527-4F5A-ABCD-B6EE9112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8B0C0-1613-4BED-8AA8-2B82BA043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8E28F-459F-4F9E-8C1D-39D6853BD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BA59F-AECE-4AF9-9D50-FDF3181B2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90704-D06E-4B45-9F24-62CDCB709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D1BE-0ACC-4B23-84E1-9509658AE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C3263-0C06-45C4-82FB-AE0E60624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8DCB3-75B4-46C1-8EF2-427405387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EE064-242B-4A5C-9C07-E626913E0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0276C-7A7C-4556-96C8-4A30B8936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72C62-2879-430D-A83B-6A0AD1D18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30958-45AA-4CA5-9B2B-29754A2C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E707F-681F-49F6-AD86-D7A294CB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97C61-3044-47B5-B566-1D7DF1F4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FB027-8551-47F2-9785-DF5E5CE52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68890-3589-4119-B118-62832B77D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8129-0AD7-4F1A-8287-2173C4879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BB169-AD88-4FE5-A5D0-AD6AC0660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A1DA-D0F5-45D3-B926-DDD76BDE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6879-EA4B-4B5D-847D-9B04EAB9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50B0-9358-411E-969A-7B9AF44C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543EF-E7A7-4FCE-A3BE-416ECAFF6C38}" type="slidenum">
              <a:rPr b="0" lang="en-US" sz="1000" spc="-1" strike="noStrike">
                <a:solidFill>
                  <a:srgbClr val="bcb37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0EF68-CC18-48B7-B41D-C1C8D52584E0}" type="slidenum">
              <a:rPr b="0" lang="en-US" sz="1000" spc="-1" strike="noStrike">
                <a:solidFill>
                  <a:srgbClr val="bcb37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BE1F3-A67F-4185-9F75-CBAF8889DBCE}" type="slidenum">
              <a:rPr b="0" lang="en-US" sz="1000" spc="-1" strike="noStrike">
                <a:solidFill>
                  <a:srgbClr val="bcb37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3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B0FC5-C1AE-44C2-B9AE-82E8E81FA2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9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E97B1-4DC2-4141-B5D0-55353F35CE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vlg.mobi/images/img_originals/naberezhnaya3_20070120_1098236841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55640" y="37893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feec94"/>
                </a:solidFill>
                <a:latin typeface="Times New Roman"/>
              </a:rPr>
              <a:t>Презентация  </a:t>
            </a:r>
            <a:br>
              <a:rPr sz="6100"/>
            </a:br>
            <a:r>
              <a:rPr b="1" lang="en-US" sz="6100" spc="-1" strike="noStrike">
                <a:solidFill>
                  <a:srgbClr val="feec94"/>
                </a:solidFill>
                <a:latin typeface="Times New Roman"/>
              </a:rPr>
              <a:t>на тему:</a:t>
            </a:r>
            <a:br>
              <a:rPr sz="6100"/>
            </a:br>
            <a:r>
              <a:rPr b="1" lang="en-US" sz="6100" spc="-1" strike="noStrike">
                <a:solidFill>
                  <a:srgbClr val="feec94"/>
                </a:solidFill>
                <a:latin typeface="Arial"/>
              </a:rPr>
              <a:t>«Промышленные предприятия г.</a:t>
            </a:r>
            <a:r>
              <a:rPr b="1" lang="en-US" sz="6100" spc="-1" strike="noStrike">
                <a:solidFill>
                  <a:srgbClr val="feec94"/>
                </a:solidFill>
                <a:latin typeface="Times New Roman"/>
              </a:rPr>
              <a:t>Волгограда</a:t>
            </a:r>
            <a:r>
              <a:rPr b="1" lang="en-US" sz="6100" spc="-1" strike="noStrike">
                <a:solidFill>
                  <a:srgbClr val="feec94"/>
                </a:solidFill>
                <a:latin typeface="Arial"/>
              </a:rPr>
              <a:t>»</a:t>
            </a:r>
            <a:endParaRPr b="1" lang="en-US" sz="61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Чёрная металлурги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едущие предприятия: ЗАО "Металлургический завод «Красный Октябрь», ОАО «Волгоградский сталепроволочноканатный завод», ОАО «ВЭСТ-МД» (Волгоградский трубный завод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258920" y="522936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олгоградский трубный завод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5651640" y="3860640"/>
            <a:ext cx="3168360" cy="238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6" dur="20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4" dur="2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8" dur="2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250560" y="4220640"/>
            <a:ext cx="8651880" cy="2251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олгоград – город в Российской Федерации, административный центр Волгоградский области. Город расположен на правом берегу реки Волга и является крупным речным портом. В настоящее время Волгоград – крупный город (здесь насчитывается свыше миллиона жителей) с высоко развитой промышленностью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Picture 4" descr="Фонтан дружбы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9280" y="326880"/>
            <a:ext cx="568944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ромышленность строительных материалов и стройиндустрии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едущие предприятия: ОАО «Волгоградский керамический завод», ОАО «Волгоградский завод ЖБИШ», ОАО «ЖБИ № 6», ЗАО ПО «Завод силикатного кирпича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500720" y="400536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АО «Волгоградский керамический завод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187280" y="3645000"/>
            <a:ext cx="2953080" cy="22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4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4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4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Машиностроение и металлообработка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едущие предприятия: ООО «Волгоградский завод буровой техники (ВЗБТ)», ОАО «Волгограднефтемаш», ОАО «Волгоградский судостроительный завод», ОАО "Тракторная компания «ВгТЗ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900000" y="3933720"/>
            <a:ext cx="3384720" cy="253224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4500720" y="458136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АО «Волгоградский судостроительный завод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9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2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604800"/>
            <a:ext cx="82296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Лесная и деревообрабатывающая промышленность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едущие предприятия: ЗАО НП «Волгоградмебель», ЗАО «ВЭКАФ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2987640" y="2924280"/>
            <a:ext cx="3422520" cy="256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8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85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2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Лёгкая промышленность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едущие предприятия: ЗАО «Аора», ОАО «Виктория», ОАО "Фабрика «Царица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971640" y="3357720"/>
            <a:ext cx="3450960" cy="230004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4716360" y="364500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АО "Фабрика «Царица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1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" dur="2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5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ищевая промышленность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599840"/>
            <a:ext cx="8229600" cy="2908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едущие предприятия: ООО "Табачная фабрика «Реемтсма-Волга», ЗАОр НП "Конфил", ОАО «Волгомясомолторг», ОАО "Молочный завод № 3 «Волгоградский», ОАО «Пивовар — живое пиво», ГУП "Ликёроводочный завод «Волгоградский», ОАО "Волгоградский горчично-маслобойный завод «Сарепта», хлебозаводы город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059280" y="4724280"/>
            <a:ext cx="2952720" cy="15289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187280" y="630864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УП «Ликёроводочный завод «Волгоградский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Химическая и нефтехимическая промышленность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 fontScale="26000"/>
          </a:bodyPr>
          <a:p>
            <a:pPr marL="88920" indent="-889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едущие предприятия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АО «Химпром»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АО «Каустик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00720" y="3716280"/>
            <a:ext cx="3738240" cy="291636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84360" y="2852640"/>
            <a:ext cx="3233520" cy="23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80" dur="1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" dur="15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5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" dur="15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5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1" dur="15000"/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5000"/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Цветная металлурги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68360" y="206028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едущее предприятие — ОАО «Волгоградский алюминий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2268360" y="3141720"/>
            <a:ext cx="5113440" cy="340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8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44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15:49:48Z</dcterms:created>
  <dc:creator/>
  <dc:description/>
  <dc:language>en-US</dc:language>
  <cp:lastModifiedBy>eMachines</cp:lastModifiedBy>
  <dcterms:modified xsi:type="dcterms:W3CDTF">2011-09-18T02:18:43Z</dcterms:modified>
  <cp:revision>7</cp:revision>
  <dc:subject/>
  <dc:title>Волгоград. Город-герой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4070000000000010250300207f7000400038000</vt:lpwstr>
  </property>
</Properties>
</file>