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3FC1-C1AC-4625-BA24-3CC5070462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DD89-BA8E-4D07-AEEA-A38D52901D8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6CD5-36F8-4985-8471-F856F8CBED5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F6A-4D3B-4D29-A90B-4221BB0BC08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0162-9531-40FC-AA36-9813AA63680F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819C-CDA0-4635-B290-0B3D032D819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1188-B6D2-4A27-9239-CB7093047A3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93E6-4137-4CC9-9FC0-6D7E157BCF3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F9DD-DFC4-472E-B67C-56CF5055053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D053-D53C-44A1-8D40-9CC604EA24B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EF1-56E8-4D5E-B582-9CF60B81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266-C235-4990-9E03-75DCA107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4C8-C999-4CB3-83A1-31E36F32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529-FD64-4BBF-B45C-F9771C82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FD2C-952E-470B-A6D8-93C9DD5E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A3F2-9C09-4201-9CBC-38870AF0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E80F-C31D-43FF-85FE-F85F9430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A2C5-B14E-4CC8-897E-E24C6B20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C880-C618-48E2-A054-5310295E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0BB2-D501-49C7-9F1C-5B26B5E1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6174-3586-48F6-8F1B-B0153075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A6C-76E9-49A7-A0D5-B1CC5641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0752-0232-4D52-BB66-3E61CAFF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DDC7-CF55-46F9-8943-10A2C1C6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6C88-C429-499E-BB40-AC294B6C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91B9-BBE1-4A44-978C-7F2BE89D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1157-73DE-4355-826F-53022144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CF2C-F773-4B1A-BC74-0AF710AD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21B4-C1E2-4753-AAF5-FE2DE2BB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2375-F934-4E97-9867-1A49921F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2B2D-83FF-4D4F-82A6-A88E2FD4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267E2-2A9D-457F-AE87-170EFE92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745-90AD-41D4-A99E-8F04F865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73DB-8360-4FF4-97FC-F822E80B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9DF7-9D4B-48BD-A624-2A294A84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FADA-1AF0-4C9B-BDAD-744CC40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53A1-B8CC-46FC-96BA-C865A72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C34A-8AC3-4205-8414-7166089E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F3CC4-F0A9-4390-837E-FDE5B619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658B-10E6-4BAA-86A7-C9FA50FC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58891-1AEC-4EAB-BBF5-E2949328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CD8F-7C67-4880-A7B8-67CD404C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526D9-E333-419F-9449-505EBE52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38C-624A-4760-A7EB-E0DA1DE2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17E0-4930-4551-8EE1-02F0531B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5DE4F-9947-4EBF-8CBF-F341B64A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B368-8A30-4BD8-8F13-A9B6C1A7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1EC24-4562-45C7-9A75-60254EAE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4717-79E6-4C6C-909A-68064CF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1DE6A-EF65-4A3F-AD29-E5D79B73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99671-BFE4-4244-995B-7E5995B7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4FF4-4241-43BB-9A9B-2EEFCC81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3FBD2-4888-42A9-8408-B731F1FB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1EB0A-3EFC-400D-8C0F-FF916670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F8C-F36A-4A4A-86B0-F1904E2B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71EE1-1276-49AA-8392-B8CEE330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0D4D-7257-47B5-97B1-D808ED4D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327D6-4241-46F1-B88B-EBDE16F2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E602-0FE7-4F21-8FF1-C0B308C3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E7160-B24F-4FEF-818B-6A6EBB4E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4874-738C-4587-A2E4-A3E405A7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229A7-1982-4A5F-A5B0-4D8985DF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AEC13-8BD2-4BF2-B858-4D5322F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3C8E9-91B8-4B99-B28D-A0A38F82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496D2-16C2-49FD-8F53-04588F85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79A-763C-4187-87EB-87FB6FD5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34013-F9D3-448D-AF8B-941A63CF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6F5-B434-413B-AC54-152FFF13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64E-8584-42A6-B6CE-6003E12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40F-6922-4B0A-A62D-0E9B04B9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018A-60E5-4F1A-B27F-2A4245446F70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2DE0-879B-426F-82A2-D1D4BE8F5079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D93B-4B11-43B5-9000-4A416D1B8744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BA10-D680-42A9-9284-561A1B418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D80E-4ECD-435D-815B-EF6FF7288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lg.mobi/images/img_originals/naberezhnaya3_20070120_109823684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78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eec94"/>
                </a:solidFill>
                <a:latin typeface="Times New Roman"/>
              </a:rPr>
              <a:t>Презентация  </a:t>
            </a:r>
            <a:br>
              <a:rPr sz="6100"/>
            </a:br>
            <a:r>
              <a:rPr b="1" lang="en-US" sz="6100" spc="-1" strike="noStrike">
                <a:solidFill>
                  <a:srgbClr val="feec94"/>
                </a:solidFill>
                <a:latin typeface="Times New Roman"/>
              </a:rPr>
              <a:t>на тему:</a:t>
            </a:r>
            <a:br>
              <a:rPr sz="6100"/>
            </a:br>
            <a:r>
              <a:rPr b="1" lang="en-US" sz="6100" spc="-1" strike="noStrike">
                <a:solidFill>
                  <a:srgbClr val="feec94"/>
                </a:solidFill>
                <a:latin typeface="Arial"/>
              </a:rPr>
              <a:t>«Промышленные предприятия г.</a:t>
            </a:r>
            <a:r>
              <a:rPr b="1" lang="en-US" sz="6100" spc="-1" strike="noStrike">
                <a:solidFill>
                  <a:srgbClr val="feec94"/>
                </a:solidFill>
                <a:latin typeface="Times New Roman"/>
              </a:rPr>
              <a:t>Волгограда</a:t>
            </a:r>
            <a:r>
              <a:rPr b="1" lang="en-US" sz="6100" spc="-1" strike="noStrike">
                <a:solidFill>
                  <a:srgbClr val="feec94"/>
                </a:solidFill>
                <a:latin typeface="Arial"/>
              </a:rPr>
              <a:t>»</a:t>
            </a:r>
            <a:endParaRPr b="1" lang="en-US" sz="61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Чёрная металлург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ЗАО "Металлургический завод «Красный Октябрь», ОАО «Волгоградский сталепроволочноканатный завод», ОАО «ВЭСТ-МД» (Волгоградский трубный завод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5229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лгоградский трубный зав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3168360" cy="23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50560" y="4220640"/>
            <a:ext cx="8651880" cy="225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лгоград – город в Российской Федерации, административный центр Волгоградский области. Город расположен на правом берегу реки Волга и является крупным речным портом. В настоящее время Волгоград – крупный город (здесь насчитывается свыше миллиона жителей) с высоко развитой промышленнос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4" descr="Фонтан дружб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326880"/>
            <a:ext cx="56894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мышленность строительных материалов и стройиндустр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ОАО «Волгоградский керамический завод», ОАО «Волгоградский завод ЖБИШ», ОАО «ЖБИ № 6», ЗАО ПО «Завод силикатного кирпич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00720" y="400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АО «Волгоградский керамический завод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29530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ашиностроение и металлообработк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ООО «Волгоградский завод буровой техники (ВЗБТ)», ОАО «Волгограднефтемаш», ОАО «Волгоградский судостроительный завод», ОАО "Тракторная компания «ВгТЗ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3384720" cy="2532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00720" y="458136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АО «Волгоградский судостроительный завод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60480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есная и деревообрабатывающая промышленность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ЗАО НП «Волгоградмебель», ЗАО «ВЭКАФ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342252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ёгкая промышленност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ЗАО «Аора», ОАО «Виктория», ОАО "Фабрика «Цариц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3450960" cy="2300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71636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АО "Фабрика «Цариц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ищевая промышленност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дущие предприятия: ООО "Табачная фабрика «Реемтсма-Волга», ЗАОр НП "Конфил", ОАО «Волгомясомолторг», ОАО "Молочный завод № 3 «Волгоградский», ОАО «Пивовар — живое пиво», ГУП "Ликёроводочный завод «Волгоградский», ОАО "Волгоградский горчично-маслобойный завод «Сарепта», хлебозаводы гор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59280" y="4724280"/>
            <a:ext cx="2952720" cy="1528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187280" y="6308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УП «Ликёроводочный завод «Волгоградский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имическая и нефтехимическая промышленност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26000"/>
          </a:bodyPr>
          <a:p>
            <a:pPr marL="88920" indent="-88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АО «Химпром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АО «Каустик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738240" cy="2916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323352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5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5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5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Цветная металлург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360" y="206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едущее предприятие — ОАО «Волгоградский алюминий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5113440" cy="34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49:48Z</dcterms:created>
  <dc:creator/>
  <dc:description/>
  <dc:language>en-US</dc:language>
  <cp:lastModifiedBy>eMachines</cp:lastModifiedBy>
  <dcterms:modified xsi:type="dcterms:W3CDTF">2011-09-18T02:18:43Z</dcterms:modified>
  <cp:revision>7</cp:revision>
  <dc:subject/>
  <dc:title>Волгоград. Город-геро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70000000000010250300207f7000400038000</vt:lpwstr>
  </property>
</Properties>
</file>