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5030-6A6F-410D-BB61-075595114B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A169-2E1C-453B-899D-6661C2F1FBA4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579E-3782-4C7D-B347-6D48A519D305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49E4-2DF7-47E3-8DB5-892C756EA13D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3D53-F62E-4610-A8FC-F26210D354D5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BC46-935B-400D-BD98-CA8829653A7C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0B51-EE5A-4003-8EFD-8AA0A9FBBA6E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7546-8E8D-4B71-89A7-7F90B13C188A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D99C-353C-49E0-9B77-EAA3C3A4AAEC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7851-0146-416B-AFF0-595A0B480DC5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9EA7-ACB7-419A-92D9-906B414B0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F6F1-5EA6-4FFA-853D-409A54EC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E709-9CFB-44E7-B154-B1889174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E6D6-09C7-42F2-8E85-8424DA6E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7F7B-F69D-422D-ABB7-E8A3BEE67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0EB9-FD60-40BC-88AD-86CFCF41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1DB8-0D0E-4CEA-82B0-BE0C0E3A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E330-E4BE-42C3-AD0B-6685C59C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DCBA-9D3D-4B29-8846-9A6AE26C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F80A-E65F-4077-9725-CF056866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04B5-FD70-4F87-855A-749D2B5B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3CA5-A34A-4E4F-B7CB-5257C280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89DA-B83B-4D9D-8DAE-5CAE1D8A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EAFB-C262-4528-8BC2-BFAF558F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F374-31D4-404C-ABBA-5EE82BA6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E82A-0E34-44C0-B695-A30230570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6261-2BAB-4F66-882E-74403DAB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36E29-CB5E-486D-92C1-5F0D745D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04C26-A185-418D-AD51-4C2D85B8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16A53-49DF-4C0E-A3EE-37F751F8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55876-B294-4A58-B52A-91457DC4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3A845-CCEE-42ED-87A4-6B693B94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E6B3-8181-4512-9FFC-904DBA69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80A3C-369A-4648-91E1-E20EF866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531CF-1F62-4DB8-B635-4A950528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09FB2-4983-4403-B363-DA4A2F34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EE569-B651-497A-9536-B4998435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8F13F-C443-49DF-8CCE-3C3C68F8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7593D-8B6B-431F-944C-EBC08824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0DA2D-CC3F-49E9-B85F-FF0FE294A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7ED4A-F884-44B4-AF62-B8EDA411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BAA24-1E12-46D0-BC95-CD40D658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AEB3E-A0CC-47BF-8EBA-E68B4B9E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0C4F-959D-49B6-B228-47354E91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9A538-043B-4272-AC5B-19ABB505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5DC17-8C72-426A-B659-7653C161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E870A-714B-4A87-9521-9BDD9F80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66068-9366-4E44-B7B8-66EB37B0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7B635-F81D-4538-BB8D-73AFCB59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227AB-1A2E-4F14-8B67-82FCB597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706E7-7C84-4688-8A17-045B1985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D7A68-977A-450A-8EC3-C4B3612A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F7858-3825-4116-A0B9-1D71AA71F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ADA84-342E-4B2C-A9CC-7BE1D1FC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C619-4E15-4361-972D-2F7EEA7D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8EC2E-5A4A-42C4-8F24-DC14E63B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5B993-29A7-4B0D-82A9-816269DE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83FDB-2547-44F5-A75F-BD7D4040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C31D9-C52C-407C-A11C-EACD6AA2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A1A1F-EAA6-4384-A5FE-0997561D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43532-3C82-4442-B706-1A94FDD5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667B8-AA37-42E8-AE46-D48B6276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8CF4D-33FD-405F-848B-96C3D1D7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FD7A4-C0AB-4C3C-88E5-2B84150B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EA4F7-59D6-4623-ACF8-6D048225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5BF9-41A9-4129-B564-0FB182D7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CD72C-E903-4514-8005-BDE3ADF30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F12A-7DB6-460D-A250-DE61790A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32A9-2E6C-431E-B253-0458D6F4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F15E-593F-4C8F-A059-838BFD82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44E6-219C-48EC-9F0F-947A0AAC375A}" type="slidenum">
              <a:rPr b="0" lang="en-US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BE16-6AE6-4D0F-9F14-B958CD77B08D}" type="slidenum">
              <a:rPr b="0" lang="en-US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0BD4-829E-44A6-B776-B809678592D9}" type="slidenum">
              <a:rPr b="0" lang="en-US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3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7663-3D70-4AA4-B60C-C1190EB797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9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BDB0-2228-4011-B0FD-A03DBB30C8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vlg.mobi/images/img_originals/naberezhnaya3_20070120_1098236841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78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feec94"/>
                </a:solidFill>
                <a:latin typeface="Times New Roman"/>
              </a:rPr>
              <a:t>Презентация  </a:t>
            </a:r>
            <a:br>
              <a:rPr sz="6100"/>
            </a:br>
            <a:r>
              <a:rPr b="1" lang="en-US" sz="6100" spc="-1" strike="noStrike">
                <a:solidFill>
                  <a:srgbClr val="feec94"/>
                </a:solidFill>
                <a:latin typeface="Times New Roman"/>
              </a:rPr>
              <a:t>на тему:</a:t>
            </a:r>
            <a:br>
              <a:rPr sz="6100"/>
            </a:br>
            <a:r>
              <a:rPr b="1" lang="en-US" sz="6100" spc="-1" strike="noStrike">
                <a:solidFill>
                  <a:srgbClr val="feec94"/>
                </a:solidFill>
                <a:latin typeface="Arial"/>
              </a:rPr>
              <a:t>«Промышленные предприятия г.</a:t>
            </a:r>
            <a:r>
              <a:rPr b="1" lang="en-US" sz="6100" spc="-1" strike="noStrike">
                <a:solidFill>
                  <a:srgbClr val="feec94"/>
                </a:solidFill>
                <a:latin typeface="Times New Roman"/>
              </a:rPr>
              <a:t>Волгограда</a:t>
            </a:r>
            <a:r>
              <a:rPr b="1" lang="en-US" sz="6100" spc="-1" strike="noStrike">
                <a:solidFill>
                  <a:srgbClr val="feec94"/>
                </a:solidFill>
                <a:latin typeface="Arial"/>
              </a:rPr>
              <a:t>»</a:t>
            </a:r>
            <a:endParaRPr b="1" lang="en-US" sz="61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Чёрная металлург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дущие предприятия: ЗАО "Металлургический завод «Красный Октябрь», ОАО «Волгоградский сталепроволочноканатный завод», ОАО «ВЭСТ-МД» (Волгоградский трубный завод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58920" y="522936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лгоградский трубный заво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651640" y="3860640"/>
            <a:ext cx="3168360" cy="238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2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6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250560" y="4220640"/>
            <a:ext cx="8651880" cy="2251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олгоград – город в Российской Федерации, административный центр Волгоградский области. Город расположен на правом берегу реки Волга и является крупным речным портом. В настоящее время Волгоград – крупный город (здесь насчитывается свыше миллиона жителей) с высоко развитой промышленность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4" descr="Фонтан дружб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326880"/>
            <a:ext cx="568944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омышленность строительных материалов и стройиндустрии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едущие предприятия: ОАО «Волгоградский керамический завод», ОАО «Волгоградский завод ЖБИШ», ОАО «ЖБИ № 6», ЗАО ПО «Завод силикатного кирпича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00720" y="4005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АО «Волгоградский керамический завод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87280" y="3645000"/>
            <a:ext cx="2953080" cy="22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Машиностроение и металлообработка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дущие предприятия: ООО «Волгоградский завод буровой техники (ВЗБТ)», ОАО «Волгограднефтемаш», ОАО «Волгоградский судостроительный завод», ОАО "Тракторная компания «ВгТЗ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00000" y="3933720"/>
            <a:ext cx="3384720" cy="25322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500720" y="458136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АО «Волгоградский судостроительный завод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60480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Лесная и деревообрабатывающая промышленность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дущие предприятия: ЗАО НП «Волгоградмебель», ЗАО «ВЭКАФ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987640" y="2924280"/>
            <a:ext cx="3422520" cy="256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8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Лёгкая промышленност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дущие предприятия: ЗАО «Аора», ОАО «Виктория», ОАО "Фабрика «Царица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971640" y="3357720"/>
            <a:ext cx="3450960" cy="23000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4716360" y="36450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АО "Фабрика «Царица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ищевая промышленност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59984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дущие предприятия: ООО "Табачная фабрика «Реемтсма-Волга», ЗАОр НП "Конфил", ОАО «Волгомясомолторг», ОАО "Молочный завод № 3 «Волгоградский», ОАО «Пивовар — живое пиво», ГУП "Ликёроводочный завод «Волгоградский», ОАО "Волгоградский горчично-маслобойный завод «Сарепта», хлебозаводы город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059280" y="4724280"/>
            <a:ext cx="2952720" cy="15289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187280" y="6308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УП «Ликёроводочный завод «Волгоградский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Химическая и нефтехимическая промышленност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26000"/>
          </a:bodyPr>
          <a:p>
            <a:pPr marL="88920" indent="-889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дущие предприятия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АО «Химпром»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АО «Каустик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00720" y="3716280"/>
            <a:ext cx="3738240" cy="29163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84360" y="2852640"/>
            <a:ext cx="3233520" cy="23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2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" dur="15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5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15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5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150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0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Цветная металлург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360" y="20602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едущее предприятие — ОАО «Волгоградский алюминий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268360" y="3141720"/>
            <a:ext cx="5113440" cy="340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23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5:49:48Z</dcterms:created>
  <dc:creator/>
  <dc:description/>
  <dc:language>en-US</dc:language>
  <cp:lastModifiedBy>eMachines</cp:lastModifiedBy>
  <dcterms:modified xsi:type="dcterms:W3CDTF">2011-09-18T02:18:43Z</dcterms:modified>
  <cp:revision>7</cp:revision>
  <dc:subject/>
  <dc:title>Волгоград. Город-герой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4070000000000010250300207f7000400038000</vt:lpwstr>
  </property>
</Properties>
</file>