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923-8401-4791-A302-09699606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223-D792-4E99-8919-ED59320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7ED-91B1-4209-BB99-70C31558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896-9DA0-4043-BA47-8E74BC89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0D8FB-6FBF-4313-BA77-909C8A38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125AB-0453-4482-8B49-39113DB1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DA6E-EDEE-4CB1-B246-6818655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351F2-CE3F-484D-93B2-0C53DDC7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1DBB9-6F3B-4114-B466-14DC3F1C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65A10-4356-432E-AFF3-49F619D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74223-C2CE-4D13-88E3-1F96B0A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4D8-7E35-4647-A436-2B976792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74312-7CCB-469A-A7CC-2641801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8914B-6B89-4F3D-9299-00942C4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384ED-0C50-4757-A8FF-582BB70B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7FB1-AACF-4616-95CD-C01B62EA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73C41-883B-4B16-A75C-D742ECBF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BD2-5EE9-4CAD-BE4B-1477A632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C33-6916-4BE9-9487-61DAC03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C82-4146-4884-8ABB-1A422F6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C73-939B-4C92-B553-DA5C8154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278-E753-4872-878D-AFC8CD5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57D-165C-4E6D-8C10-201677A2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28A-62E4-450F-978F-214B76F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B2B4-E8C8-43B8-91E2-DC2B96A6A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78C0-B266-4FED-BBFA-F739DDAD32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огулка по старому Томску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: Грязнова Екатерина, 6 «б»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ОУ СОШ 28, г.Том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итель: Карташова Га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7. Сядем на пароход, либо лодку, и посмотрим на город с реки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912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8. Вернувшись, прогуляемся по набережной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335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9. Дойдем до Базарной площади (площадь Ленина). Слева виден корпус мучных лавок. На заднем плане - Дом Второва (1000 мелочей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337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0. Посетим Иверскую часовню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1. Поднимемся по Ефремовской улице (Бакунина) до польского костел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1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2. С Воскресенской горы осмотрим окрестности. На этом снимке корпус мучных лавок еще не построен. На месте Театра Драмы торговые ряды городского рынк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201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3. Продолжим путь через  Думский мост. В те далекие времена спроектированный и построенный Батеньковым мост был еще деревянным, и вместо трамваев по нему разъезжали подводы и конные городовые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8277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4. Вот и Дом Второва с магазинами и гостиницей Европа. На этом снимке можно увидеть и Базарный мост. Долгое время единственным мостом через Ушайку оставался Думский мост, что было явно мало для города. Так что, в 1864 году новый мост был введен в строй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6197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5. Сейчас для нас проспект Ленина един, а в те времена Базарный мост соединял улицу Миллионную с Почтамтской. Картина не сильно изменилась, не правда ли?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337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6. Все как и сейчас, разве что асфальта, да каменных лестниц не хватает. Даже главпочтамт за спиной, и тот, на своем законном месте. :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и все! Надеюсь, экскурсия вам понравила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7. Вид на здание Управления Сибирской железной дороги. В последствии зданию нарастят четвертый этаж, достроят в длину, и оно превратися в главный корпус ТУСУР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553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8. Заканчивается наше путешествие в конце улицы Садовой у здания Университетской клиники на улице Евгениевской (нынешняя Савиных)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1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ы дореволюционного Томска публиковались на Городе неоднократно. Если просмотреть эти публикации, то можно заметить, что в основном это были черно-белые фотографии. Цветная же фотография, в том виде, в каком мы ее знаем, в те времена не существовала, была делом крайне редким и сложным, а потому занимались ею считанные единицы. И до небольшого по сути провинциального города Томска эти единицы явно не дошли. По крайне мере, о цветных фотографиях Томска мне, по крайней мере, не известно. Но видеть город в цвете народ желал, так что издатели открыток занялись обычной для той поры деятельностью - раскрашиванием черно-белых фотографий. И издано было таких раскрашенных открыток немалое число. К настоящему времени у меня накопилось некоторое количество цветных изображений Томска, часть из которых, я уверен, многие даже не видели. Так что я предлагаю вам отправится в виртуальную экскурсию по дореволюционному Томску в цв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. Начнем с Белого озера. На заднем плане можно увидеть Дом науки Макушин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35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2. Собственно сам Дом науки на Большой Иркутской улице (ныне Пушкина). В организованном П.И.Макушиным народном университете в настоящее время располагается театр "Скоморох"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697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3. Спустимся до улицы Магистратской (ныне Розы Люксембург), чтобы взглянуть на синагогу (сохранилась до наших дней)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619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4. Прогуляемся до здания городского ломбарда на улице Духовской (ныне Карла Маркса). В настоящее время в здании по адресу К.Маркса, 26 располагается Архивное управление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0323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5. Продолжим наше путешествие по Духовской улице. Проходя мимо Приюто-Духовского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(Совпартшкольного) переулка бросим взгляд в сторону Миллионной улицы (проспект Ленина). Слева мы увидим два корпуса Женской гимназии (в настоящее время школа №3), а справа Духовное училище (ныне Томский сельскохозяйственный институт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6. Выйдем на набережную Томи, где располагались пароходные пристани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38:15Z</dcterms:created>
  <dc:creator>Пользователь</dc:creator>
  <dc:description/>
  <dc:language>en-US</dc:language>
  <cp:lastModifiedBy>Пользователь</cp:lastModifiedBy>
  <dcterms:modified xsi:type="dcterms:W3CDTF">2014-03-25T12:46:36Z</dcterms:modified>
  <cp:revision>3</cp:revision>
  <dc:subject/>
  <dc:title>Прогулка по старому Томску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f0000000000010250300207f7000400038000</vt:lpwstr>
  </property>
</Properties>
</file>