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FD4D-0433-4DAC-927C-E4A707611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6969-392E-4A74-A847-338D6BD5B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A1B4-C1C6-4368-BB42-B6AC4E256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ED60-1BBE-41B2-A6CE-CEF4F9460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01F43C-BEEA-4E59-ACE7-482DE2D5D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A4CC47-9C6E-4DCC-9AB9-6BC7F0F14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6B80FA-226E-497B-B443-0AFC58326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C3A1CF-D8B3-4EE7-B730-EE9F44E8A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FF961A-84D9-4BA7-A80B-5987B0518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8B0341-008C-45DF-825F-BE9F727DA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04AEA2-F86E-4709-A93C-F1D1AF07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988C-0034-466D-9890-09E74DC8F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E6E638-4810-4212-A139-DD2D6A06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B7247B-F5F6-4552-95E1-7287F651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13D539-E2D4-487D-B20C-499975531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75114B-EBC0-494D-B227-AC4D78146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F89A08-A134-490D-8268-7597DF5D6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E0E7-2C3D-46D1-BAE1-DDE35A787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677E-8DE5-4FD4-855F-D0F94FC9C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2A1A-D770-4F7D-AA4D-1D7BB5EFA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2E04-EEA4-48A7-B516-38733378D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892D-0E58-4554-B087-2E9EEA80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6666-03AE-4385-AE74-025EBA37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F9B6-976E-4A03-AA46-6ACEA7C0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B9A42-D64E-4DAD-8BF1-A775BFCAA83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94586-0C70-4A57-85DC-EC62F3B58C4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Прогулка по старому Томску 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ыполнила: Грязнова Екатерина, 6 «б» клас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АОУ СОШ 28, г.Томс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уководитель: Карташова Гали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Юрье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7. Сядем на пароход, либо лодку, и посмотрим на город с реки.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6912000" cy="43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8. Вернувшись, прогуляемся по набережной.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63356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9. Дойдем до Базарной площади (площадь Ленина). Слева виден корпус мучных лавок. На заднем плане - Дом Второва (1000 мелочей)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187280" y="1700280"/>
            <a:ext cx="633744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10. Посетим Иверскую часовню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6553080" cy="42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11. Поднимемся по Ефремовской улице (Бакунина) до польского костела.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619280" y="1773360"/>
            <a:ext cx="61214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12. С Воскресенской горы осмотрим окрестности. На этом снимке корпус мучных лавок еще не построен. На месте Театра Драмы торговые ряды городского рынка.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762012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13. Продолжим путь через  Думский мост. В те далекие времена спроектированный и построенный Батеньковым мост был еще деревянным, и вместо трамваев по нему разъезжали подводы и конные городовые.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6827760" cy="45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14. Вот и Дом Второва с магазинами и гостиницей Европа. На этом снимке можно увидеть и Базарный мост. Долгое время единственным мостом через Ушайку оставался Думский мост, что было явно мало для города. Так что, в 1864 году новый мост был введен в строй.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761976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15. Сейчас для нас проспект Ленина един, а в те времена Базарный мост соединял улицу Миллионную с Почтамтской. Картина не сильно изменилась, не правда ли?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633744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16. Все как и сейчас, разве что асфальта, да каменных лестниц не хватает. Даже главпочтамт за спиной, и тот, на своем законном месте. :)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62658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т и все! Надеюсь, экскурсия вам понравилас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17. Вид на здание Управления Сибирской железной дороги. В последствии зданию нарастят четвертый этаж, достроят в длину, и оно превратися в главный корпус ТУСУРа.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258920" y="1916280"/>
            <a:ext cx="655308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18. Заканчивается наше путешествие в конце улицы Садовой у здания Университетской клиники на улице Евгениевской (нынешняя Савиных).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619280" y="1916280"/>
            <a:ext cx="61214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иды дореволюционного Томска публиковались на Городе неоднократно. Если просмотреть эти публикации, то можно заметить, что в основном это были черно-белые фотографии. Цветная же фотография, в том виде, в каком мы ее знаем, в те времена не существовала, была делом крайне редким и сложным, а потому занимались ею считанные единицы. И до небольшого по сути провинциального города Томска эти единицы явно не дошли. По крайне мере, о цветных фотографиях Томска мне, по крайней мере, не известно. Но видеть город в цвете народ желал, так что издатели открыток занялись обычной для той поры деятельностью - раскрашиванием черно-белых фотографий. И издано было таких раскрашенных открыток немалое число. К настоящему времени у меня накопилось некоторое количество цветных изображений Томска, часть из которых, я уверен, многие даже не видели. Так что я предлагаю вам отправится в виртуальную экскурсию по дореволюционному Томску в цвет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1. Начнем с Белого озера. На заднем плане можно увидеть Дом науки Макушина.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633564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2. Собственно сам Дом науки на Большой Иркутской улице (ныне Пушкина). В организованном П.И.Макушиным народном университете в настоящее время располагается театр "Скоморох".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669780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3. Спустимся до улицы Магистратской (ныне Розы Люксембург), чтобы взглянуть на синагогу (сохранилась до наших дней).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76197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4. Прогуляемся до здания городского ломбарда на улице Духовской (ныне Карла Маркса). В настоящее время в здании по адресу К.Маркса, 26 располагается Архивное управление.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268360" y="1844640"/>
            <a:ext cx="4032360" cy="42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5. Продолжим наше путешествие по Духовской улице. Проходя мимо Приюто-Духовского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(Совпартшкольного) переулка бросим взгляд в сторону Миллионной улицы (проспект Ленина). Слева мы увидим два корпуса Женской гимназии (в настоящее время школа №3), а справа Духовное училище (ныне Томский сельскохозяйственный институт)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619280" y="2205000"/>
            <a:ext cx="57150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6. Выйдем на набережную Томи, где располагались пароходные пристани.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619280" y="1844640"/>
            <a:ext cx="576108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5T11:38:15Z</dcterms:created>
  <dc:creator>Пользователь</dc:creator>
  <dc:description/>
  <dc:language>en-US</dc:language>
  <cp:lastModifiedBy>Пользователь</cp:lastModifiedBy>
  <dcterms:modified xsi:type="dcterms:W3CDTF">2014-03-25T12:46:36Z</dcterms:modified>
  <cp:revision>3</cp:revision>
  <dc:subject/>
  <dc:title>Прогулка по старому Томску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0f0000000000010250300207f7000400038000</vt:lpwstr>
  </property>
</Properties>
</file>