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C06-CF17-4C38-8AF6-278FA6F0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441-3A9C-4746-A5B7-01055069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24C-685B-43D2-9780-AEBBD9CC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FE2-1460-4E3D-BD15-7975C7CF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DE679-50B1-4209-B2FA-C9D2FC7A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8BDA-05A0-452B-A265-9B2DE55F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ABF09-3BC0-4F98-986D-0DC9EA33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3070A-5EBA-44C5-A682-47CC81A0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8C335-52A8-4DE7-8F63-EDC1C2E4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9D456-9940-4CD6-A754-5F344682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65E79-AD20-441A-A0DF-88859438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10E-FA2F-4FE1-94B7-77230285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32A27-2264-497E-91D5-70E6E34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78902-80DB-4354-8780-98F153A9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66D1C-DC74-4C1B-BBA7-34A5FEFF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1D691-5265-46D2-9E8E-8A327C95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4D465-99D7-4E8F-B12D-D1BA4A69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2A4-5466-4E62-81F5-0F95C163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885-71D7-4EC6-AF41-5A6CA424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5DD-169E-4247-B345-D74D4C00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35C-54C7-4B63-A9C7-95A99E17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008-13B1-4715-9924-7BBBE21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C43-142E-4998-A0C9-73D0938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25E-E999-49F0-B9F2-D31FD96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C4F4-6AD4-44C5-B25B-FD09CE5FAE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0E78-B7F4-4F41-85F4-6843454287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огулка по старому Томску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а: Грязнова Екатерина, 6 «б»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ОУ СОШ 28, г.Том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ководитель: Карташова Га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Ю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7. Сядем на пароход, либо лодку, и посмотрим на город с реки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9120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8. Вернувшись, прогуляемся по набережной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335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9. Дойдем до Базарной площади (площадь Ленина). Слева виден корпус мучных лавок. На заднем плане - Дом Второва (1000 мелочей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3374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0. Посетим Иверскую часовню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1. Поднимемся по Ефремовской улице (Бакунина) до польского костел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1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2. С Воскресенской горы осмотрим окрестности. На этом снимке корпус мучных лавок еще не построен. На месте Театра Драмы торговые ряды городского рынк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201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3. Продолжим путь через  Думский мост. В те далекие времена спроектированный и построенный Батеньковым мост был еще деревянным, и вместо трамваев по нему разъезжали подводы и конные городовые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8277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4. Вот и Дом Второва с магазинами и гостиницей Европа. На этом снимке можно увидеть и Базарный мост. Долгое время единственным мостом через Ушайку оставался Думский мост, что было явно мало для города. Так что, в 1864 году новый мост был введен в строй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6197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5. Сейчас для нас проспект Ленина един, а в те времена Базарный мост соединял улицу Миллионную с Почтамтской. Картина не сильно изменилась, не правда ли?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337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6. Все как и сейчас, разве что асфальта, да каменных лестниц не хватает. Даже главпочтамт за спиной, и тот, на своем законном месте. :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и все! Надеюсь, экскурсия вам понравила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7. Вид на здание Управления Сибирской железной дороги. В последствии зданию нарастят четвертый этаж, достроят в длину, и оно превратися в главный корпус ТУСУР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553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18. Заканчивается наше путешествие в конце улицы Садовой у здания Университетской клиники на улице Евгениевской (нынешняя Савиных)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1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ы дореволюционного Томска публиковались на Городе неоднократно. Если просмотреть эти публикации, то можно заметить, что в основном это были черно-белые фотографии. Цветная же фотография, в том виде, в каком мы ее знаем, в те времена не существовала, была делом крайне редким и сложным, а потому занимались ею считанные единицы. И до небольшого по сути провинциального города Томска эти единицы явно не дошли. По крайне мере, о цветных фотографиях Томска мне, по крайней мере, не известно. Но видеть город в цвете народ желал, так что издатели открыток занялись обычной для той поры деятельностью - раскрашиванием черно-белых фотографий. И издано было таких раскрашенных открыток немалое число. К настоящему времени у меня накопилось некоторое количество цветных изображений Томска, часть из которых, я уверен, многие даже не видели. Так что я предлагаю вам отправится в виртуальную экскурсию по дореволюционному Томску в цв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1. Начнем с Белого озера. На заднем плане можно увидеть Дом науки Макушина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335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2. Собственно сам Дом науки на Большой Иркутской улице (ныне Пушкина). В организованном П.И.Макушиным народном университете в настоящее время располагается театр "Скоморох"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697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3. Спустимся до улицы Магистратской (ныне Розы Люксембург), чтобы взглянуть на синагогу (сохранилась до наших дней)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619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4. Прогуляемся до здания городского ломбарда на улице Духовской (ныне Карла Маркса). В настоящее время в здании по адресу К.Маркса, 26 располагается Архивное управление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0323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5. Продолжим наше путешествие по Духовской улице. Проходя мимо Приюто-Духовского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(Совпартшкольного) переулка бросим взгляд в сторону Миллионной улицы (проспект Ленина). Слева мы увидим два корпуса Женской гимназии (в настоящее время школа №3), а справа Духовное училище (ныне Томский сельскохозяйственный институт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6. Выйдем на набережную Томи, где располагались пароходные пристани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1:38:15Z</dcterms:created>
  <dc:creator>Пользователь</dc:creator>
  <dc:description/>
  <dc:language>en-US</dc:language>
  <cp:lastModifiedBy>Пользователь</cp:lastModifiedBy>
  <dcterms:modified xsi:type="dcterms:W3CDTF">2014-03-25T12:46:36Z</dcterms:modified>
  <cp:revision>3</cp:revision>
  <dc:subject/>
  <dc:title>Прогулка по старому Томску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f0000000000010250300207f7000400038000</vt:lpwstr>
  </property>
</Properties>
</file>