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866-C644-4A03-96EB-996D054E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46A-68F4-4A08-A223-88DF6C1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484-B94F-49F5-8080-EA4AED66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D68-F620-4E96-96E5-03DBA9B8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34BDE-1971-4A4D-A1EB-AC544573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6D7AC-2E28-4701-91F8-7118CE5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4FD2-E9ED-467B-B51D-F8D684E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407A5-3378-4945-9ADC-B7A5A89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2F72-6BA0-4130-8F83-53EA12F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71982-2DFC-4213-AEC9-2A66BD4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CD64C-5E78-4D44-AE6F-169B7A9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A19-58D7-4113-8F68-364F2C0F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3FE7-22CA-4D8C-B072-9A5DABBD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8C7FC-63B8-49B4-80E2-98B5AB5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7873-C420-4ACF-8C13-27150EF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7282-B7A2-4F18-B4DB-1730A6E7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0005-CC77-40C8-97F6-BB489C8E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58F-4F24-4406-A00B-C1C19049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2A-B907-491C-824C-F8321D7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637-FB17-4B12-97B2-4CCEF64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107-021A-4D42-90C0-09F10FE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2C5-0651-4D34-8AAC-A8EF10C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B5C-2DEB-4845-8AA1-066796E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6B5-98D4-445C-8654-BDDEC28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F00A-700E-4B96-8947-1651BF60A4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24F-1B91-4D3A-A9B4-9F9117D085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ы озера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793880"/>
            <a:ext cx="8353440" cy="50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рирода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своеобразен и интересен органический мир Байкала. Здесь встречается около 1500 видов животных и свыше 1000 видов растений, большую часть которых составляют разнообразные водоросли. Байкал – единственная в своём роде природная лаборатория, создавшая столь значительную коллекцию небывалы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54364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70% обитателей Байкала не встречаются в других водоёмах планеты. К числу таких видов относи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оломянка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розовато-белая, полупрозрачная, не имеющая чешуи рыбка с воздушными, точно сотканными из паутины длинными нежными плавни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оломянка - живородящая рыба, она мечет не икру, а живых детёнышей, которые погибают при температуре выше + 10 С. В голомянке так много жира, что мёртвая она не тонет, а плавает на поверхности. В прошлом жители побережья Байкала собирали мёртвую голомянку и вытапливали из неё жир, который использовали для освещения и как лечебное сред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разнообразн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ычки-подкаменщи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Есть среди них неуклюжие, большеголовые, серо-зелёные, очень похожие на жаб. Есть проворные, яркоокрашенные, с огромными плавниками, похожими на крылья тропических пт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527280" cy="174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280" y="1905120"/>
            <a:ext cx="3888000" cy="224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250920"/>
            <a:ext cx="4537080" cy="38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92360" cy="4465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е великолепно освоилось типично морское животное – тюлень, ил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йкальская нер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которая имеет ценный ме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63960" y="476280"/>
            <a:ext cx="3937320" cy="44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мысловое значение имеют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хариус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си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налим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знаменитый байкальски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муль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небольшая рыбка длиной 30-40 с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968720" cy="47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1687680"/>
            <a:ext cx="3635280" cy="253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73440" cy="22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только рыбные ресурсы Байкала, но и пушные богатства Прибайкалья и Забайкалья издавна привлекали сюда переселен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Шкурк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ргузинского соболя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самый ценный мех в Сибири. Он заслуженно пользуется мировой сла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1382760"/>
            <a:ext cx="6985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ычны в тайг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ышнохвостые белки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ещё один объект пушного промы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303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ьшую хозяйственную ценность имеют древесные ресурсы тайги прибайкальских хребтов, состоящей из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сн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листвен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– это не только прочная и лёгкая древесина, но и богатые маслом кедровые орехи. Их едят многие таёжные звери и птицы – от крошечно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емлерой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и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до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едвед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лухар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6080"/>
            <a:ext cx="3960720" cy="316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1455840"/>
            <a:ext cx="4321080" cy="32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широкой полосе байкальского побережья на грани двух стихий – земли и воды находят приют обитатели, жизнь которых теснейшим образом связана как с водой, так и с суш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рлан-белохвост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ко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ёрный коршун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несколько видов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ае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гнездящихся на островах, - основные виды пернатых, без которых берега Байкала трудно себе представ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5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475128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5076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горах Южной Сибири довольно много озёр, но самым замечательным озером, «чудом природы во всех отношениях», как писал Л.С. Берг, является Байкал. Нет в мире озера , которое пользовалось бы такой громкой славой, как великое сибирское озеро Байкал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63960" y="333360"/>
            <a:ext cx="402912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мляет редкостная зимовка водоплавающих птиц в истоке Ангары. Среди морозов, снегов и льда, в дымящихся клубах тумана на незамерзающих водах истоков Ангары всю зиму живут тысяч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уто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249120"/>
            <a:ext cx="6985080" cy="476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тайге прибайкальских хребтов, как и в Забайкалье, ведутся лесозаготовки, объём которых увеличился в связи со строительством на Байкале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целлюлозо-бумажных комбинатов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своение природных ресурсов бассейна Байкала привело к ухудшению качества воды этого уникального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648000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В последние десятилетия, когда проблема дефицита чистой пресной воды в мире волнует всё человечество, водная масса озера привлекает особое внимание. В Байкале сосредоточено более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доступных для использования пресных вод России и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- миров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есьма заманчивым представляется использование байкальских вод для развития тех отраслей, которые требуют для технологических нужд большого количества воды (например,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целлюлозно-бумажной промышленности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Но это ведёт к загрязнению 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зникла проблема сохранения чистоты вод и всего природного комплекса этого уникального озера мира при одновременном использовании его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Чтобы сохранить чистоту байкальской воды и, используя богатства озера, не навредить природе, необходимо создать единую систему разумного использования всего бассейна Байкала. Охранять природу Байкала – значит охранять и его берега, природу всего водосборного бассе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27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да собирается с территории, во много раз превосходящей площадь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половины поступающих в Байкал вод даёт Селенга, от чистоты которой в большой степени зависит чистота озёрной воды. В бассейне Селенги установлен особый режим хозяйств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835280" y="1003320"/>
            <a:ext cx="554508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риродоохранная деятельность челове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 последние годы принят ряд постановлений правительства по рациональному использованию природных ресурсов и охране природы в бассейне Байкала – о регулировании использования лесных ресурсов его бассейна, об очистке промышленных и коммунальных стоков, поступающих в Байкал, об организации национальных парков на берегах и склонах окружающих Байкал молодых хреб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кращён молевый сплав древесины по ре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кращены площади лесов, в которых разрешается промышленная руб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прещена заготовка древесины на склонах хребтов, обращённых к Байка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Изменены методы рубки лесов и перевозки древес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остроены и строятся очистные сооружения на заводах и фабриках, в населённых пунк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Но остроту проблемы пока снять не удало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 соседние с ним хребты всё шире используются для отдыха населения. По берегам озера создают туристические базы и дома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11280" y="4038480"/>
            <a:ext cx="388944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788000" y="40384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дальнейшем использование этих районов в рекреационных целях возрастёт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79640" y="1092240"/>
            <a:ext cx="5329080" cy="3706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наиболее живописных местах планируется создать природные п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бассейне Байкала расположены заповедник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ргузин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йкаль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ромадная глубина, удивительная чистота и прозрачность воды, суровая сказочная красота берегов производят неизгладимое впечатление на каждого, кто хотя бы раз побывал на Байкале. Высокие волны с шумом и грохотом разбиваются о скалы, далеко разносится звук мощного прибоя. Особенно красив Байкал в солнечную по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05080" cy="28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cc"/>
                </a:solidFill>
                <a:latin typeface="Monotype Corsiva"/>
              </a:rPr>
              <a:t>Автор:</a:t>
            </a:r>
            <a:r>
              <a:rPr b="0" lang="ru-RU" sz="6000" spc="-1" strike="noStrike">
                <a:solidFill>
                  <a:srgbClr val="ff0066"/>
                </a:solidFill>
                <a:latin typeface="Monotype Corsiva"/>
              </a:rPr>
              <a:t> Гусева Наталия Анатольевн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Arial Black"/>
              </a:rPr>
              <a:t>МОУ Свободно-Дубравская общеобразовательная шк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Monotype Corsiva"/>
              </a:rPr>
              <a:t>2010 г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720" y="549360"/>
            <a:ext cx="4680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 – глубочайшее озеро мира. Оно расположено в глубокой тектонической впадине – грабене. Максимальная глубина озера – 1637 м., а средняя – 730 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4105080" cy="570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стные жители называют озеро морем. В его котловине заключён такой же объём воды, как в Балтийском море, но вод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сной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Чтобы заполнить котловину Байкала водой, всем рекам земного шара пришлось бы «работать» почти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29040" y="557280"/>
            <a:ext cx="4064040" cy="582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 впадает около 550 рек и речек, а вытекает одна Ангара – приток Енисея. Большинство рек, несущих свою воду в Байкал, стекают со склонов хребтов, обрамляющих котловину, и имеют совсем небольшую длину. Самая крупная река – Селенга, большая часть бассейна которой расположена в пределах Монгол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2165400" cy="30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95640" y="18900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Климат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громная масса воды Байкала оказывает влияние на климат прибрежных районов, приближая его к морскому. Температуры января на побережье составляют все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14… -17 С, а средние температуры июля +15… +18 С. Годовая амплитуда среднеме-сячных температур здесь (31-31 С) – мини-мальная в Сибири. А в пунктах, лежащих в 150-180 км. к востоку от озера, она превышает 45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Ветры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зкие различия в температурах и давлении воздуха над Байкалом и прилежащими к нему хребтами вызывают возникновение ветров исключительной силы. В разных районах озера эти местные ветры имеют разное направление и называются по-разному: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верхови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баргузи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култу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сарма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ac1a9e"/>
                </a:solidFill>
                <a:latin typeface="Tahoma"/>
              </a:rPr>
              <a:t>Сарма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– это ураганный ветер, дотигающий скорости более 40 м/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7854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ясные солнечные дни, которых зимой здесь много, Байкал особенно красив. Солнце скрывается за горизонтом, розово-фиолетовое сияние заливает безбрежную ледяную гладь. Вдали на вершинах блестят снега и розовеют покрытые тайгой подножия и склоны хребтов. Необычную тишину таких вечеров время от времени разрывают грозный гул и грохот. Они сопровождают образование трещин во льдах, сковавших Байк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0320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1:00:12Z</dcterms:created>
  <dc:creator>Наташа</dc:creator>
  <dc:description/>
  <dc:language>en-US</dc:language>
  <cp:lastModifiedBy>Oleg</cp:lastModifiedBy>
  <dcterms:modified xsi:type="dcterms:W3CDTF">2010-11-26T05:56:30Z</dcterms:modified>
  <cp:revision>5</cp:revision>
  <dc:subject/>
  <dc:title>«Славное море – священный Байкал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  <property fmtid="{D5CDD505-2E9C-101B-9397-08002B2CF9AE}" pid="3" name="Version">
    <vt:r8>6</vt:r8>
  </property>
</Properties>
</file>