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77D-37A5-4409-BC37-834CF4C6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ADB-3EF8-484A-9007-7BDAD4C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4ED-B582-4ADC-B7B1-4691EF0D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BC1-7386-44C1-B5BE-1E1AD7C7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3B618-F6FB-4709-B647-68265A7D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E8231-5B2C-4B5E-AAAF-20728A5F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98AF-7700-45FC-B9A8-2F810B22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C023B-305A-4CB7-B882-2136CE34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748A4-BA40-46BF-A7E9-D13BF7FB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58B6-1F83-4DCA-90BB-EC6FAB2F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082BD-B99F-45AC-8986-A09DC8FD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A1C-48FC-4CDB-B8AE-86F99F9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EBDFC-078B-4247-A73C-C80A86A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AB600-42D3-467F-8DF7-10C0DF9F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D46B3-1367-4838-9303-060FA05C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1108C-07CB-4BA4-AE16-8B26FC76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CB7AD-32AD-43B2-A60F-1F2753DE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AE2-D463-4427-9BA0-E23F3BB8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75E-EA88-4F56-BD71-91224567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C72-B1E1-4451-919E-7F53A6DE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C01-DF48-48F8-B8A1-89A23089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059-8636-4923-ABF6-D57638A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ED9-9ADE-4667-AA2A-01F4B9C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E4A-9E76-4D84-9C3C-E8D6DA04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BDB5-E17A-4A98-A339-D3F0403DF0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CF9-03EF-48B5-8EB4-FF6604997F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ы озера Байк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1793880"/>
            <a:ext cx="8353440" cy="50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Природа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403236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836640"/>
            <a:ext cx="3889440" cy="2592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8785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чень своеобразен и интересен органический мир Байкала. Здесь встречается около 1500 видов животных и свыше 1000 видов растений, большую часть которых составляют разнообразные водоросли. Байкал – единственная в своём роде природная лаборатория, создавшая столь значительную коллекцию небывалых растений и живот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54364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ее 70% обитателей Байкала не встречаются в других водоёмах планеты. К числу таких видов относится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голомянка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розовато-белая, полупрозрачная, не имеющая чешуи рыбка с воздушными, точно сотканными из паутины длинными нежными плавни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оломянка - живородящая рыба, она мечет не икру, а живых детёнышей, которые погибают при температуре выше + 10 С. В голомянке так много жира, что мёртвая она не тонет, а плавает на поверхности. В прошлом жители побережья Байкала собирали мёртвую голомянку и вытапливали из неё жир, который использовали для освещения и как лечебное сред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4149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чень разнообразны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ычки-подкаменщик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Есть среди них неуклюжие, большеголовые, серо-зелёные, очень похожие на жаб. Есть проворные, яркоокрашенные, с огромными плавниками, похожими на крылья тропических пти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527280" cy="174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9280" y="1905120"/>
            <a:ext cx="3888000" cy="224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11640" y="250920"/>
            <a:ext cx="4537080" cy="389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392360" cy="4465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Байкале великолепно освоилось типично морское животное – тюлень, ил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айкальская нерп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которая имеет ценный ме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63960" y="476280"/>
            <a:ext cx="3937320" cy="44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мысловое значение имеют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хариус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сиг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налим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знаменитый байкальский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муль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небольшая рыбка длиной 30-40 с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968720" cy="47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7800" y="1687680"/>
            <a:ext cx="3635280" cy="253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673440" cy="22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 только рыбные ресурсы Байкала, но и пушные богатства Прибайкалья и Забайкалья издавна привлекали сюда переселен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Шкурк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аргузинского соболя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самый ценный мех в Сибири. Он заслуженно пользуется мировой сла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42920" y="1382760"/>
            <a:ext cx="6985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ычны в тайг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ышнохвостые белки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ещё один объект пушного промы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42920" y="3031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ьшую хозяйственную ценность имеют древесные ресурсы тайги прибайкальских хребтов, состоящей из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кедр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осн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лиственниц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Кед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– это не только прочная и лёгкая древесина, но и богатые маслом кедровые орехи. Их едят многие таёжные звери и птицы – от крошечной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емлеройк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иниц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до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медвед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глухар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486080"/>
            <a:ext cx="3960720" cy="316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27640" y="1455840"/>
            <a:ext cx="4321080" cy="32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широкой полосе байкальского побережья на грани двух стихий – земли и воды находят приют обитатели, жизнь которых теснейшим образом связана как с водой, так и с суш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рлан-белохвост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коп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чёрный коршун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несколько видов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чаек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гнездящихся на островах, - основные виды пернатых, без которых берега Байкала трудно себе представ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5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24360" y="1700280"/>
            <a:ext cx="475128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5076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горах Южной Сибири довольно много озёр, но самым замечательным озером, «чудом природы во всех отношениях», как писал Л.С. Берг, является Байкал. Нет в мире озера , которое пользовалось бы такой громкой славой, как великое сибирское озеро Байкал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63960" y="333360"/>
            <a:ext cx="402912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мляет редкостная зимовка водоплавающих птиц в истоке Ангары. Среди морозов, снегов и льда, в дымящихся клубах тумана на незамерзающих водах истоков Ангары всю зиму живут тысяч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уток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42920" y="249120"/>
            <a:ext cx="6985080" cy="476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тайге прибайкальских хребтов, как и в Забайкалье, ведутся лесозаготовки, объём которых увеличился в связи со строительством на Байкале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целлюлозо-бумажных комбинатов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своение природных ресурсов бассейна Байкала привело к ухудшению качества воды этого уникального оз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648000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В последние десятилетия, когда проблема дефицита чистой пресной воды в мире волнует всё человечество, водная масса озера привлекает особое внимание. В Байкале сосредоточено более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доступных для использования пресных вод России и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0%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- миров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есьма заманчивым представляется использование байкальских вод для развития тех отраслей, которые требуют для технологических нужд большого количества воды (например,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целлюлозно-бумажной промышленности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ahoma"/>
              </a:rPr>
              <a:t>Но это ведёт к загрязнению во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озникла проблема сохранения чистоты вод и всего природного комплекса этого уникального озера мира при одновременном использовании его ресур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Чтобы сохранить чистоту байкальской воды и, используя богатства озера, не навредить природе, необходимо создать единую систему разумного использования всего бассейна Байкала. Охранять природу Байкала – значит охранять и его берега, природу всего водосборного бассей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273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да собирается с территории, во много раз превосходящей площадь оз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ее половины поступающих в Байкал вод даёт Селенга, от чистоты которой в большой степени зависит чистота озёрной воды. В бассейне Селенги установлен особый режим хозяйств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835280" y="1003320"/>
            <a:ext cx="5545080" cy="38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Природоохранная деятельность челове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а последние годы принят ряд постановлений правительства по рациональному использованию природных ресурсов и охране природы в бассейне Байкала – о регулировании использования лесных ресурсов его бассейна, об очистке промышленных и коммунальных стоков, поступающих в Байкал, об организации национальных парков на берегах и склонах окружающих Байкал молодых хреб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рекращён молевый сплав древесины по ре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окращены площади лесов, в которых разрешается промышленная руб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.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апрещена заготовка древесины на склонах хребтов, обращённых к Байка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Изменены методы рубки лесов и перевозки древес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остроены и строятся очистные сооружения на заводах и фабриках, в населённых пунк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Но остроту проблемы пока снять не удало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айка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 соседние с ним хребты всё шире используются для отдыха населения. По берегам озера создают туристические базы и дома отды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889440" cy="2664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88000" y="1341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11280" y="4038480"/>
            <a:ext cx="3889440" cy="270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788000" y="40384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дальнейшем использование этих районов в рекреационных целях возрастёт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79640" y="1092240"/>
            <a:ext cx="5329080" cy="3706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наиболее живописных местах планируется создать природные па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бассейне Байкала расположены заповедники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ahoma"/>
              </a:rPr>
              <a:t>Баргузинский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ahoma"/>
              </a:rPr>
              <a:t>Байкальский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Громадная глубина, удивительная чистота и прозрачность воды, суровая сказочная красота берегов производят неизгладимое впечатление на каждого, кто хотя бы раз побывал на Байкале. Высокие волны с шумом и грохотом разбиваются о скалы, далеко разносится звук мощного прибоя. Особенно красив Байкал в солнечную по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105080" cy="28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cc"/>
                </a:solidFill>
                <a:latin typeface="Monotype Corsiva"/>
              </a:rPr>
              <a:t>Автор:</a:t>
            </a:r>
            <a:r>
              <a:rPr b="0" lang="ru-RU" sz="6000" spc="-1" strike="noStrike">
                <a:solidFill>
                  <a:srgbClr val="ff0066"/>
                </a:solidFill>
                <a:latin typeface="Monotype Corsiva"/>
              </a:rPr>
              <a:t> Гусева Наталия Анатольевн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Arial Black"/>
              </a:rPr>
              <a:t>МОУ Свободно-Дубравская общеобразовательная шк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Monotype Corsiva"/>
              </a:rPr>
              <a:t>2010 г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720" y="549360"/>
            <a:ext cx="4680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айкал – глубочайшее озеро мира. Оно расположено в глубокой тектонической впадине – грабене. Максимальная глубина озера – 1637 м., а средняя – 730 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600120"/>
            <a:ext cx="4105080" cy="570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естные жители называют озеро морем. В его котловине заключён такой же объём воды, как в Балтийском море, но воды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ресной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Чтобы заполнить котловину Байкала водой, всем рекам земного шара пришлось бы «работать» почти го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29040" y="557280"/>
            <a:ext cx="4064040" cy="582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Байкал впадает около 550 рек и речек, а вытекает одна Ангара – приток Енисея. Большинство рек, несущих свою воду в Байкал, стекают со склонов хребтов, обрамляющих котловину, и имеют совсем небольшую длину. Самая крупная река – Селенга, большая часть бассейна которой расположена в пределах Монгол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2165400" cy="30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95640" y="18900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Климат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громная масса воды Байкала оказывает влияние на климат прибрежных районов, приближая его к морскому. Температуры января на побережье составляют все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14… -17 С, а средние температуры июля +15… +18 С. Годовая амплитуда среднеме-сячных температур здесь (31-31 С) – мини-мальная в Сибири. А в пунктах, лежащих в 150-180 км. к востоку от озера, она превышает 45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Ветры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зкие различия в температурах и давлении воздуха над Байкалом и прилежащими к нему хребтами вызывают возникновение ветров исключительной силы. В разных районах озера эти местные ветры имеют разное направление и называются по-разному: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верховик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баргузин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култук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сарма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ac1a9e"/>
                </a:solidFill>
                <a:latin typeface="Tahoma"/>
              </a:rPr>
              <a:t>Сарма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– это ураганный ветер, дотигающий скорости более 40 м/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78544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ясные солнечные дни, которых зимой здесь много, Байкал особенно красив. Солнце скрывается за горизонтом, розово-фиолетовое сияние заливает безбрежную ледяную гладь. Вдали на вершинах блестят снега и розовеют покрытые тайгой подножия и склоны хребтов. Необычную тишину таких вечеров время от времени разрывают грозный гул и грохот. Они сопровождают образование трещин во льдах, сковавших Байк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352728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403200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1:00:12Z</dcterms:created>
  <dc:creator>Наташа</dc:creator>
  <dc:description/>
  <dc:language>en-US</dc:language>
  <cp:lastModifiedBy>Oleg</cp:lastModifiedBy>
  <dcterms:modified xsi:type="dcterms:W3CDTF">2010-11-26T05:56:30Z</dcterms:modified>
  <cp:revision>5</cp:revision>
  <dc:subject/>
  <dc:title>«Славное море – священный Байкал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  <property fmtid="{D5CDD505-2E9C-101B-9397-08002B2CF9AE}" pid="3" name="Version">
    <vt:r8>6</vt:r8>
  </property>
</Properties>
</file>