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12E-F99A-4C44-B7C6-63DDA85F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CD3-748C-4CA2-AD0C-CE60CA2B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7E4-215E-4D20-B103-38B5B757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835-1D4D-42A6-9E25-66AD8246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9FB2-A24B-48FE-9D05-0653B085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42C3-3BF2-452F-BF90-13C39260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534D-CF1D-4381-B9C7-34844A2C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1236-DFC0-478E-AC46-F68C2972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1FBC-8C1B-4DAD-808D-C6A344E3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A2BF-B522-412B-8F10-21D6B017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3F66-E70D-446E-B324-8D2695A7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EC6-F783-4CE6-8DB5-CC6D8C09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E117-F6A1-4A17-8D13-D2A60B78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685C-8AEF-4B53-A1DF-4CFDE931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772B-B0F7-4E93-9FE7-85823110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1A22-8019-429A-B29C-52CD7D0F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96D3-CBEC-4FE1-8D61-4DF91DD5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4D9-1A08-4CAC-BF7C-5D5C2788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ACB-1D92-4709-AA06-EA6945C3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05C-C050-4D48-8B4F-BB275D6A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5822-B59D-43BE-B538-13B61ABF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729-A969-414C-902B-C7B7C2A2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20D-F884-4FEC-B2EC-744253E1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6E6-1A26-4D32-AA44-D25C3D62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B83D-E76F-4958-A368-28A7A6F1A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6496-B118-4972-91D5-429F8CFAD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4839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Monotype Corsiva"/>
              </a:rPr>
              <a:t>Проблемы </a:t>
            </a:r>
            <a:br>
              <a:rPr sz="6000"/>
            </a:br>
            <a:r>
              <a:rPr b="1" lang="en-US" sz="6000" spc="-1" strike="noStrike">
                <a:solidFill>
                  <a:srgbClr val="ff9900"/>
                </a:solidFill>
                <a:latin typeface="Monotype Corsiva"/>
              </a:rPr>
              <a:t>лесопользования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: учитель географ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КОУ ООШ п.Пуш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осиновского р-на, Кировской об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зьмина Н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j0298897"/>
          <p:cNvPicPr/>
          <p:nvPr/>
        </p:nvPicPr>
        <p:blipFill>
          <a:blip r:embed="rId1"/>
          <a:stretch/>
        </p:blipFill>
        <p:spPr>
          <a:xfrm>
            <a:off x="1065240" y="3884760"/>
            <a:ext cx="18064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ыхание лесов, т.е. заболевание лесов в следствие действия промышленного загрязнения окружающей ср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j0285360"/>
          <p:cNvPicPr/>
          <p:nvPr/>
        </p:nvPicPr>
        <p:blipFill>
          <a:blip r:embed="rId1"/>
          <a:stretch/>
        </p:blipFill>
        <p:spPr>
          <a:xfrm>
            <a:off x="3492360" y="2852640"/>
            <a:ext cx="25210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Пути решения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экологической катастроф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ое направление – устойчивое лесопользов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истощительное использование древесн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ение основных средообразующих функций ле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потребностей населения в основных благах и и функциях ле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ение биологического разнообразия ви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Для этого необходимо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 процесса лесопользования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есовосстановле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есовыращива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Уход за лес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8"/>
          <p:cNvPicPr/>
          <p:nvPr/>
        </p:nvPicPr>
        <p:blipFill>
          <a:blip r:embed="rId1"/>
          <a:stretch/>
        </p:blipFill>
        <p:spPr>
          <a:xfrm>
            <a:off x="5508720" y="4005360"/>
            <a:ext cx="2879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Monotype Corsiva"/>
              </a:rPr>
              <a:t>«</a:t>
            </a:r>
            <a:r>
              <a:rPr b="1" lang="en-US" sz="4000" spc="-1" strike="noStrike">
                <a:solidFill>
                  <a:srgbClr val="ff9900"/>
                </a:solidFill>
                <a:latin typeface="Monotype Corsiva"/>
              </a:rPr>
              <a:t>Каждое поколение россиян является по существу не полновластным хозяином, а лишь временным пользователем лесных ресурсов, обязанным передать их следующему поколению не в худшем виде, по сравнению с полученными от предыдущего поколения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за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Monotype Corsiva"/>
              </a:rPr>
              <a:t>Лес – особенное богатство любой страны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родный комплекс на котором держится вся экосистем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тавщик древесины для производства бесчисленного количества разнообразной продукции и рабочих мес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тавщик других ресурсов: ягод, грибов, меда, лекарственных раст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сто отдыха, туриз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Monotype Corsiva"/>
              </a:rPr>
              <a:t>Лесопользование</a:t>
            </a:r>
            <a:r>
              <a:rPr b="1" lang="en-US" sz="6000" spc="-1" strike="noStrike">
                <a:solidFill>
                  <a:srgbClr val="ffffb7"/>
                </a:solidFill>
                <a:latin typeface="Monotype Corsiva"/>
              </a:rPr>
              <a:t> – это использование всех ресурсов леса, всех </a:t>
            </a: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Monotype Corsiva"/>
              </a:rPr>
              <a:t>видов лесных </a:t>
            </a: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Monotype Corsiva"/>
              </a:rPr>
              <a:t>богатств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4" descr="10"/>
          <p:cNvPicPr/>
          <p:nvPr/>
        </p:nvPicPr>
        <p:blipFill>
          <a:blip r:embed="rId1"/>
          <a:stretch/>
        </p:blipFill>
        <p:spPr>
          <a:xfrm>
            <a:off x="5796000" y="3213000"/>
            <a:ext cx="28083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Виды лесопользо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800748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готовка древесины и вторичных лесн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бочное лесопользование – сенокошение, заготовка ягод, сбор мха и др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ьзование участками лесного фонда для нужд охотничьего хозяй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ьзование участками лесного фонда для научно-исследовательских ц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ьзование участками лесного фонда для культурно-оздоровительных, спортивных меропри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Основные проблемы лесопользова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412640"/>
            <a:ext cx="80074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строе уничтожение массивов леса в результате выруб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Переруб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мент,</a:t>
            </a: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вырубается больше деревьев, чем произрастает за г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Недоруб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од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старению лес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нижению 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дуктивн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болевания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рых деревь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3"/>
          <p:cNvPicPr/>
          <p:nvPr/>
        </p:nvPicPr>
        <p:blipFill>
          <a:blip r:embed="rId1"/>
          <a:stretch/>
        </p:blipFill>
        <p:spPr>
          <a:xfrm>
            <a:off x="5364000" y="3645000"/>
            <a:ext cx="3456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сутствие эффективной лесной охраны и как следствие огромное количество пожаров, уничтожающих значительные площа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2010 год – 10 -12 млн.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Эрозия и заболачивание вырубок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tretch/>
        </p:blipFill>
        <p:spPr>
          <a:xfrm>
            <a:off x="3059280" y="3933720"/>
            <a:ext cx="3384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сорение рек, использовавшихся для сплава древесин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розия склонов речных долин, изменение водного режима рек и озер из-за уничтожения лесов вдоль бере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4"/>
          <p:cNvPicPr/>
          <p:nvPr/>
        </p:nvPicPr>
        <p:blipFill>
          <a:blip r:embed="rId1"/>
          <a:stretch/>
        </p:blipFill>
        <p:spPr>
          <a:xfrm>
            <a:off x="3492360" y="3933720"/>
            <a:ext cx="3240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зкое сокращение биологического разнообразия таежных территорий, сокращение численности многих видов растений и живот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j0332364"/>
          <p:cNvPicPr/>
          <p:nvPr/>
        </p:nvPicPr>
        <p:blipFill>
          <a:blip r:embed="rId1"/>
          <a:stretch/>
        </p:blipFill>
        <p:spPr>
          <a:xfrm>
            <a:off x="3276720" y="4005360"/>
            <a:ext cx="2881080" cy="2625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Чистотел большой, желтая трава, золотая трава, чистящая трава, ласточкина трава, чертово молоко, ведьмина трава, бородавкина трава. трава чистотела - Chelidonii herba (ранее: Heiba Chelidonii), корень чистотела - Chelidonii radix (ранее: Radix Chelidonii).   - Энциклопедия лекарственных растений - на сайте Ки айкидо Москва - тренировки, занятия Ки Классе в Москве"/>
          <p:cNvPicPr/>
          <p:nvPr/>
        </p:nvPicPr>
        <p:blipFill>
          <a:blip r:embed="rId2"/>
          <a:stretch/>
        </p:blipFill>
        <p:spPr>
          <a:xfrm>
            <a:off x="1403280" y="2637000"/>
            <a:ext cx="2090880" cy="257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73-1"/>
          <p:cNvPicPr/>
          <p:nvPr/>
        </p:nvPicPr>
        <p:blipFill>
          <a:blip r:embed="rId3"/>
          <a:stretch/>
        </p:blipFill>
        <p:spPr>
          <a:xfrm>
            <a:off x="5796000" y="2349360"/>
            <a:ext cx="24001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рагментация крупных массивов  на множество мелких частей дорогами, населенными пунктами, коммуникация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грязнение больших территорий свалками промышленных отходов, токсическими и радиоактивными отход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11"/>
          <p:cNvPicPr/>
          <p:nvPr/>
        </p:nvPicPr>
        <p:blipFill>
          <a:blip r:embed="rId1"/>
          <a:stretch/>
        </p:blipFill>
        <p:spPr>
          <a:xfrm>
            <a:off x="4643280" y="4221000"/>
            <a:ext cx="331344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4:35:54Z</dcterms:created>
  <dc:creator>Галина</dc:creator>
  <dc:description/>
  <dc:language>en-US</dc:language>
  <cp:lastModifiedBy>WIN7XP</cp:lastModifiedBy>
  <dcterms:modified xsi:type="dcterms:W3CDTF">2015-02-26T17:04:19Z</dcterms:modified>
  <cp:revision>6</cp:revision>
  <dc:subject/>
  <dc:title>Проблемы  лесопользования</dc:title>
</cp:coreProperties>
</file>