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F5C-8AF0-42BF-AD60-B9554C3A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FF85-42B3-4A0D-9F48-A70BDB95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EA3D-4382-4AB5-994A-41F860E0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9461-6391-44DD-9046-BBD0525F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5EBB-977B-411D-A11A-10C12CE8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0C23-EED8-4FC5-8C82-AC552672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DA13-10F8-4CC8-A6DB-BA3C9F5A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60C2-DBF2-4C66-88E3-B632DBEC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545D-46C1-4DE3-B6AD-E0C78971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0433-2FEE-417D-92F8-4E07AF8A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6182-24DC-4A23-8FC9-3ABCD0C9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AB5E-E7CC-488B-ADA0-37373F01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FA85-6008-4EF8-9881-0737BFB9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2A3C-BD4D-45E2-B95C-5FBC1A87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E73E-C8F4-4818-8108-A0849DF8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44B4-4BAD-450F-8290-5D707BBC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ADCE-E154-4FDE-9C31-7731D889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6ED9-B635-43ED-8541-74DF2078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B265-FE80-4B15-BE3B-E606DF59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EE60-6AA2-4D29-BE16-EF163BD6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70F6-5C97-4D2C-87F3-C8EE7EB5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0ED-10D7-4BF2-90C1-D706DC39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72EC-68BD-4420-8E8A-10DBB63F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7D3-A7F1-4CCD-9ED6-C621B004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E44D-07D6-4613-AD3C-BB4F8BF35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3A05-D905-4B45-BBEE-5E87E9392D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4839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Monotype Corsiva"/>
              </a:rPr>
              <a:t>Проблемы </a:t>
            </a:r>
            <a:br>
              <a:rPr sz="6000"/>
            </a:br>
            <a:r>
              <a:rPr b="1" lang="en-US" sz="6000" spc="-1" strike="noStrike">
                <a:solidFill>
                  <a:srgbClr val="ff9900"/>
                </a:solidFill>
                <a:latin typeface="Monotype Corsiva"/>
              </a:rPr>
              <a:t>лесопользования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а: учитель географ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КОУ ООШ п.Пуш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осиновского р-на, Кировской об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зьмина Н.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j0298897"/>
          <p:cNvPicPr/>
          <p:nvPr/>
        </p:nvPicPr>
        <p:blipFill>
          <a:blip r:embed="rId1"/>
          <a:stretch/>
        </p:blipFill>
        <p:spPr>
          <a:xfrm>
            <a:off x="1065240" y="3884760"/>
            <a:ext cx="18064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ыхание лесов, т.е. заболевание лесов в следствие действия промышленного загрязнения окружающей сре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5" descr="j0285360"/>
          <p:cNvPicPr/>
          <p:nvPr/>
        </p:nvPicPr>
        <p:blipFill>
          <a:blip r:embed="rId1"/>
          <a:stretch/>
        </p:blipFill>
        <p:spPr>
          <a:xfrm>
            <a:off x="3492360" y="2852640"/>
            <a:ext cx="25210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Monotype Corsiva"/>
              </a:rPr>
              <a:t>Пути решения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Monotype Corsiva"/>
              </a:rPr>
              <a:t>экологической катастроф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ое направление – устойчивое лесопользова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истощительное использование древесных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хранение основных средообразующих функций ле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потребностей населения в основных благах и и функциях ле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хранение биологического разнообразия ви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Для этого необходимо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Государственное регулирование процесса лесопользования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есовосстановле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есовыращива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Уход за лес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8"/>
          <p:cNvPicPr/>
          <p:nvPr/>
        </p:nvPicPr>
        <p:blipFill>
          <a:blip r:embed="rId1"/>
          <a:stretch/>
        </p:blipFill>
        <p:spPr>
          <a:xfrm>
            <a:off x="5508720" y="4005360"/>
            <a:ext cx="2879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Monotype Corsiva"/>
              </a:rPr>
              <a:t>«</a:t>
            </a:r>
            <a:r>
              <a:rPr b="1" lang="en-US" sz="4000" spc="-1" strike="noStrike">
                <a:solidFill>
                  <a:srgbClr val="ff9900"/>
                </a:solidFill>
                <a:latin typeface="Monotype Corsiva"/>
              </a:rPr>
              <a:t>Каждое поколение россиян является по существу не полновластным хозяином, а лишь временным пользователем лесных ресурсов, обязанным передать их следующему поколению не в худшем виде, по сравнению с полученными от предыдущего поколения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за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вниман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Monotype Corsiva"/>
              </a:rPr>
              <a:t>Лес – особенное богатство любой страны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родный комплекс на котором держится вся экосистем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ставщик древесины для производства бесчисленного количества разнообразной продукции и рабочих мес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ставщик других ресурсов: ягод, грибов, меда, лекарственных раст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есто отдыха, туриз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Monotype Corsiva"/>
              </a:rPr>
              <a:t>Лесопользование</a:t>
            </a:r>
            <a:r>
              <a:rPr b="1" lang="en-US" sz="6000" spc="-1" strike="noStrike">
                <a:solidFill>
                  <a:srgbClr val="ffffb7"/>
                </a:solidFill>
                <a:latin typeface="Monotype Corsiva"/>
              </a:rPr>
              <a:t> – это использование всех ресурсов леса, всех </a:t>
            </a:r>
            <a:br>
              <a:rPr sz="6000"/>
            </a:br>
            <a:r>
              <a:rPr b="1" lang="en-US" sz="6000" spc="-1" strike="noStrike">
                <a:solidFill>
                  <a:srgbClr val="ffffb7"/>
                </a:solidFill>
                <a:latin typeface="Monotype Corsiva"/>
              </a:rPr>
              <a:t>видов лесных </a:t>
            </a:r>
            <a:br>
              <a:rPr sz="6000"/>
            </a:br>
            <a:r>
              <a:rPr b="1" lang="en-US" sz="6000" spc="-1" strike="noStrike">
                <a:solidFill>
                  <a:srgbClr val="ffffb7"/>
                </a:solidFill>
                <a:latin typeface="Monotype Corsiva"/>
              </a:rPr>
              <a:t>богатств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4" descr="10"/>
          <p:cNvPicPr/>
          <p:nvPr/>
        </p:nvPicPr>
        <p:blipFill>
          <a:blip r:embed="rId1"/>
          <a:stretch/>
        </p:blipFill>
        <p:spPr>
          <a:xfrm>
            <a:off x="5796000" y="3213000"/>
            <a:ext cx="280836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Monotype Corsiva"/>
              </a:rPr>
              <a:t>Виды лесопользов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800748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готовка древесины и вторичных лесных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бочное лесопользование – сенокошение, заготовка ягод, сбор мха и др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ьзование участками лесного фонда для нужд охотничьего хозяй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ьзование участками лесного фонда для научно-исследовательских ц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ьзование участками лесного фонда для культурно-оздоровительных, спортивных мероприят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Monotype Corsiva"/>
              </a:rPr>
              <a:t>Основные проблемы лесопользован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412640"/>
            <a:ext cx="80074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строе уничтожение массивов леса в результате выруб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Переруб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мент,</a:t>
            </a: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да вырубается больше деревьев, чем произрастает за го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Недоруб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води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старению лес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нижению е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дуктивно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болевания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рых деревь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3"/>
          <p:cNvPicPr/>
          <p:nvPr/>
        </p:nvPicPr>
        <p:blipFill>
          <a:blip r:embed="rId1"/>
          <a:stretch/>
        </p:blipFill>
        <p:spPr>
          <a:xfrm>
            <a:off x="5364000" y="3645000"/>
            <a:ext cx="3456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сутствие эффективной лесной охраны и как следствие огромное количество пожаров, уничтожающих значительные площа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Monotype Corsiva"/>
              </a:rPr>
              <a:t>2010 год – 10 -12 млн.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Эрозия и заболачивание вырубок;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7"/>
          <p:cNvPicPr/>
          <p:nvPr/>
        </p:nvPicPr>
        <p:blipFill>
          <a:blip r:embed="rId1"/>
          <a:stretch/>
        </p:blipFill>
        <p:spPr>
          <a:xfrm>
            <a:off x="3059280" y="3933720"/>
            <a:ext cx="3384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сорение рек, использовавшихся для сплава древесин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розия склонов речных долин, изменение водного режима рек и озер из-за уничтожения лесов вдоль берег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4"/>
          <p:cNvPicPr/>
          <p:nvPr/>
        </p:nvPicPr>
        <p:blipFill>
          <a:blip r:embed="rId1"/>
          <a:stretch/>
        </p:blipFill>
        <p:spPr>
          <a:xfrm>
            <a:off x="3492360" y="3933720"/>
            <a:ext cx="3240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зкое сокращение биологического разнообразия таежных территорий, сокращение численности многих видов растений и живот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j0332364"/>
          <p:cNvPicPr/>
          <p:nvPr/>
        </p:nvPicPr>
        <p:blipFill>
          <a:blip r:embed="rId1"/>
          <a:stretch/>
        </p:blipFill>
        <p:spPr>
          <a:xfrm>
            <a:off x="3276720" y="4005360"/>
            <a:ext cx="2881080" cy="2625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Чистотел большой, желтая трава, золотая трава, чистящая трава, ласточкина трава, чертово молоко, ведьмина трава, бородавкина трава. трава чистотела - Chelidonii herba (ранее: Heiba Chelidonii), корень чистотела - Chelidonii radix (ранее: Radix Chelidonii).   - Энциклопедия лекарственных растений - на сайте Ки айкидо Москва - тренировки, занятия Ки Классе в Москве"/>
          <p:cNvPicPr/>
          <p:nvPr/>
        </p:nvPicPr>
        <p:blipFill>
          <a:blip r:embed="rId2"/>
          <a:stretch/>
        </p:blipFill>
        <p:spPr>
          <a:xfrm>
            <a:off x="1403280" y="2637000"/>
            <a:ext cx="2090880" cy="2571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173-1"/>
          <p:cNvPicPr/>
          <p:nvPr/>
        </p:nvPicPr>
        <p:blipFill>
          <a:blip r:embed="rId3"/>
          <a:stretch/>
        </p:blipFill>
        <p:spPr>
          <a:xfrm>
            <a:off x="5796000" y="2349360"/>
            <a:ext cx="240012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рагментация крупных массивов  на множество мелких частей дорогами, населенными пунктами, коммуникация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грязнение больших территорий свалками промышленных отходов, токсическими и радиоактивными отхода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11"/>
          <p:cNvPicPr/>
          <p:nvPr/>
        </p:nvPicPr>
        <p:blipFill>
          <a:blip r:embed="rId1"/>
          <a:stretch/>
        </p:blipFill>
        <p:spPr>
          <a:xfrm>
            <a:off x="4643280" y="4221000"/>
            <a:ext cx="331344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4:35:54Z</dcterms:created>
  <dc:creator>Галина</dc:creator>
  <dc:description/>
  <dc:language>en-US</dc:language>
  <cp:lastModifiedBy>WIN7XP</cp:lastModifiedBy>
  <dcterms:modified xsi:type="dcterms:W3CDTF">2015-02-26T17:04:19Z</dcterms:modified>
  <cp:revision>6</cp:revision>
  <dc:subject/>
  <dc:title>Проблемы  лесопользования</dc:title>
</cp:coreProperties>
</file>