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6AC-F734-4718-9AE7-4CDFD45A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41F-3C1A-4267-88A3-53B93ECA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275-4D9F-4D3F-8D5E-BFDB099B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8AF0-7DBC-4D3B-BFB1-A46CB514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01D0-4BFE-4E26-906E-497C667B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6C1D-AAAA-433D-8FA4-F49EFE39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917F-3197-41E9-AE9E-3C4C89FC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029E-532D-4F12-B0AE-FA7CECA5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65D3-C138-4CB8-8CBB-F4F8AACA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20B3-90DE-4371-A598-9CA41BD3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E31A-B83B-428A-9FD3-DF498D48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919-A29D-4D5B-86D5-8525B3A1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6E28-11EF-40FC-9DC4-5B143470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3A88-DDDE-4326-ADE3-D932E6EC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650C-7020-4A39-A58C-EF67BDBA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93EA-AAE0-4A75-90C4-5AE220DD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2C9D-0A9C-402F-8D61-CC89BF20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3B6-9D99-4AA9-A8BF-F8A1EA2A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E5C-5606-455E-BF34-3A651ED1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02E-917E-43C0-9A20-6EF19AAB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A49-27AA-46FE-86D3-9C18E3FF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B28-4081-4873-94AE-EF3246AA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6E97-162E-48E9-95B7-D6E445E2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6B8-F976-4356-83F5-1ABC4F09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D5AE-8B45-443E-81C8-BC3349C8F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D184-33FA-4975-96D3-50AE2EC04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4839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Monotype Corsiva"/>
              </a:rPr>
              <a:t>Проблемы </a:t>
            </a:r>
            <a:br>
              <a:rPr sz="6000"/>
            </a:br>
            <a:r>
              <a:rPr b="1" lang="en-US" sz="6000" spc="-1" strike="noStrike">
                <a:solidFill>
                  <a:srgbClr val="ff9900"/>
                </a:solidFill>
                <a:latin typeface="Monotype Corsiva"/>
              </a:rPr>
              <a:t>лесопользования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: учитель географ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КОУ ООШ п.Пуш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осиновского р-на, Кировской об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зьмина Н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j0298897"/>
          <p:cNvPicPr/>
          <p:nvPr/>
        </p:nvPicPr>
        <p:blipFill>
          <a:blip r:embed="rId1"/>
          <a:stretch/>
        </p:blipFill>
        <p:spPr>
          <a:xfrm>
            <a:off x="1065240" y="3884760"/>
            <a:ext cx="18064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ыхание лесов, т.е. заболевание лесов в следствие действия промышленного загрязнения окружающей ср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j0285360"/>
          <p:cNvPicPr/>
          <p:nvPr/>
        </p:nvPicPr>
        <p:blipFill>
          <a:blip r:embed="rId1"/>
          <a:stretch/>
        </p:blipFill>
        <p:spPr>
          <a:xfrm>
            <a:off x="3492360" y="2852640"/>
            <a:ext cx="25210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Monotype Corsiva"/>
              </a:rPr>
              <a:t>Пути решения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Monotype Corsiva"/>
              </a:rPr>
              <a:t>экологической катастроф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ое направление – устойчивое лесопользов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истощительное использование древесн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хранение основных средообразующих функций ле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потребностей населения в основных благах и и функциях ле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хранение биологического разнообразия ви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Для этого необходимо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 процесса лесопользования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есовосстановле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есовыращива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Уход за лес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8"/>
          <p:cNvPicPr/>
          <p:nvPr/>
        </p:nvPicPr>
        <p:blipFill>
          <a:blip r:embed="rId1"/>
          <a:stretch/>
        </p:blipFill>
        <p:spPr>
          <a:xfrm>
            <a:off x="5508720" y="4005360"/>
            <a:ext cx="2879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Monotype Corsiva"/>
              </a:rPr>
              <a:t>«</a:t>
            </a:r>
            <a:r>
              <a:rPr b="1" lang="en-US" sz="4000" spc="-1" strike="noStrike">
                <a:solidFill>
                  <a:srgbClr val="ff9900"/>
                </a:solidFill>
                <a:latin typeface="Monotype Corsiva"/>
              </a:rPr>
              <a:t>Каждое поколение россиян является по существу не полновластным хозяином, а лишь временным пользователем лесных ресурсов, обязанным передать их следующему поколению не в худшем виде, по сравнению с полученными от предыдущего поколения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за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Monotype Corsiva"/>
              </a:rPr>
              <a:t>Лес – особенное богатство любой страны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родный комплекс на котором держится вся экосистем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тавщик древесины для производства бесчисленного количества разнообразной продукции и рабочих мес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тавщик других ресурсов: ягод, грибов, меда, лекарственных раст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сто отдыха, туриз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Monotype Corsiva"/>
              </a:rPr>
              <a:t>Лесопользование</a:t>
            </a:r>
            <a:r>
              <a:rPr b="1" lang="en-US" sz="6000" spc="-1" strike="noStrike">
                <a:solidFill>
                  <a:srgbClr val="ffffb7"/>
                </a:solidFill>
                <a:latin typeface="Monotype Corsiva"/>
              </a:rPr>
              <a:t> – это использование всех ресурсов леса, всех </a:t>
            </a: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Monotype Corsiva"/>
              </a:rPr>
              <a:t>видов лесных </a:t>
            </a: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Monotype Corsiva"/>
              </a:rPr>
              <a:t>богатств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4" descr="10"/>
          <p:cNvPicPr/>
          <p:nvPr/>
        </p:nvPicPr>
        <p:blipFill>
          <a:blip r:embed="rId1"/>
          <a:stretch/>
        </p:blipFill>
        <p:spPr>
          <a:xfrm>
            <a:off x="5796000" y="3213000"/>
            <a:ext cx="280836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Monotype Corsiva"/>
              </a:rPr>
              <a:t>Виды лесопользо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800748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готовка древесины и вторичных лесн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бочное лесопользование – сенокошение, заготовка ягод, сбор мха и др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ьзование участками лесного фонда для нужд охотничьего хозяй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ьзование участками лесного фонда для научно-исследовательских ц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ьзование участками лесного фонда для культурно-оздоровительных, спортивных мероприя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Monotype Corsiva"/>
              </a:rPr>
              <a:t>Основные проблемы лесопользован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412640"/>
            <a:ext cx="80074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строе уничтожение массивов леса в результате выруб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Переруб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мент,</a:t>
            </a: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вырубается больше деревьев, чем произрастает за го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Недоруб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оди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старению лес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нижению е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дуктивно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болевания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рых деревь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3"/>
          <p:cNvPicPr/>
          <p:nvPr/>
        </p:nvPicPr>
        <p:blipFill>
          <a:blip r:embed="rId1"/>
          <a:stretch/>
        </p:blipFill>
        <p:spPr>
          <a:xfrm>
            <a:off x="5364000" y="3645000"/>
            <a:ext cx="3456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сутствие эффективной лесной охраны и как следствие огромное количество пожаров, уничтожающих значительные площа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Monotype Corsiva"/>
              </a:rPr>
              <a:t>2010 год – 10 -12 млн.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Эрозия и заболачивание вырубок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1"/>
          <a:stretch/>
        </p:blipFill>
        <p:spPr>
          <a:xfrm>
            <a:off x="3059280" y="3933720"/>
            <a:ext cx="3384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сорение рек, использовавшихся для сплава древесин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розия склонов речных долин, изменение водного режима рек и озер из-за уничтожения лесов вдоль бере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4"/>
          <p:cNvPicPr/>
          <p:nvPr/>
        </p:nvPicPr>
        <p:blipFill>
          <a:blip r:embed="rId1"/>
          <a:stretch/>
        </p:blipFill>
        <p:spPr>
          <a:xfrm>
            <a:off x="3492360" y="3933720"/>
            <a:ext cx="3240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зкое сокращение биологического разнообразия таежных территорий, сокращение численности многих видов растений и живот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j0332364"/>
          <p:cNvPicPr/>
          <p:nvPr/>
        </p:nvPicPr>
        <p:blipFill>
          <a:blip r:embed="rId1"/>
          <a:stretch/>
        </p:blipFill>
        <p:spPr>
          <a:xfrm>
            <a:off x="3276720" y="4005360"/>
            <a:ext cx="2881080" cy="2625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Чистотел большой, желтая трава, золотая трава, чистящая трава, ласточкина трава, чертово молоко, ведьмина трава, бородавкина трава. трава чистотела - Chelidonii herba (ранее: Heiba Chelidonii), корень чистотела - Chelidonii radix (ранее: Radix Chelidonii).   - Энциклопедия лекарственных растений - на сайте Ки айкидо Москва - тренировки, занятия Ки Классе в Москве"/>
          <p:cNvPicPr/>
          <p:nvPr/>
        </p:nvPicPr>
        <p:blipFill>
          <a:blip r:embed="rId2"/>
          <a:stretch/>
        </p:blipFill>
        <p:spPr>
          <a:xfrm>
            <a:off x="1403280" y="2637000"/>
            <a:ext cx="2090880" cy="257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173-1"/>
          <p:cNvPicPr/>
          <p:nvPr/>
        </p:nvPicPr>
        <p:blipFill>
          <a:blip r:embed="rId3"/>
          <a:stretch/>
        </p:blipFill>
        <p:spPr>
          <a:xfrm>
            <a:off x="5796000" y="2349360"/>
            <a:ext cx="240012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рагментация крупных массивов  на множество мелких частей дорогами, населенными пунктами, коммуникация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грязнение больших территорий свалками промышленных отходов, токсическими и радиоактивными отхода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11"/>
          <p:cNvPicPr/>
          <p:nvPr/>
        </p:nvPicPr>
        <p:blipFill>
          <a:blip r:embed="rId1"/>
          <a:stretch/>
        </p:blipFill>
        <p:spPr>
          <a:xfrm>
            <a:off x="4643280" y="4221000"/>
            <a:ext cx="331344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4:35:54Z</dcterms:created>
  <dc:creator>Галина</dc:creator>
  <dc:description/>
  <dc:language>en-US</dc:language>
  <cp:lastModifiedBy>WIN7XP</cp:lastModifiedBy>
  <dcterms:modified xsi:type="dcterms:W3CDTF">2015-02-26T17:04:19Z</dcterms:modified>
  <cp:revision>6</cp:revision>
  <dc:subject/>
  <dc:title>Проблемы  лесопользования</dc:title>
</cp:coreProperties>
</file>