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420-FF26-4C42-B429-ECDD14D0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971-15CD-475A-AD33-691875D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85D-DCE8-47AE-8E69-3AD0FC17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B1A-DCF6-42E0-979E-BFFAB7E1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7BBE-90DA-4362-AD93-1863859F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F2BA-F196-4A2A-9C86-995B7C70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AA29-80EA-43B9-B9C8-B9D69D0C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CD58-AD9D-4DE1-90E7-A8D1068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2B97-F346-4E11-A9A0-4E4E15A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300-620F-4E70-8B8C-3F14CF58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D61C-BCA0-47F3-8B4A-83DD46F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299-C04D-41C4-A554-EE0F0ED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A2B6-1985-48A0-B8FA-BCBF904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039-C8A1-4F93-80BC-A9D804B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F491-BC6E-43CE-9120-1A1DB806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4B59-0335-41A8-A1E7-E8986304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2137-5EE7-4E3F-93F0-6E078A96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AB0-3069-4A0E-9126-2006CF68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863-5BD3-4567-B576-24C1A7F0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111-0EE5-4108-98DF-3AD9A8C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4AC-8C18-492B-880D-CC54AD8B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8FE-14ED-46F7-ABC7-EF6D506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1F5-422B-4D86-AA87-43908E9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CD4-4920-4890-8D86-D092F429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DDBC-F042-4894-A10A-0850ACAA8A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0210-BF3B-4B90-B613-5401CC1192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j0288851"/>
          <p:cNvPicPr/>
          <p:nvPr/>
        </p:nvPicPr>
        <p:blipFill>
          <a:blip r:embed="rId1"/>
          <a:stretch/>
        </p:blipFill>
        <p:spPr>
          <a:xfrm>
            <a:off x="147636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Природно- </a:t>
            </a:r>
            <a:br>
              <a:rPr sz="4800"/>
            </a:b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территориальные комплексы.</a:t>
            </a: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ПТК Росси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менцева Еле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БОУ СОШ №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Новочеркас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j0336889"/>
          <p:cNvPicPr/>
          <p:nvPr/>
        </p:nvPicPr>
        <p:blipFill>
          <a:blip r:embed="rId2"/>
          <a:stretch/>
        </p:blipFill>
        <p:spPr>
          <a:xfrm>
            <a:off x="250920" y="5373720"/>
            <a:ext cx="7509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ТК Росс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2411280" y="620640"/>
            <a:ext cx="6337440" cy="77004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2411280" y="1484280"/>
            <a:ext cx="6337440" cy="7700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3635280" y="2349360"/>
            <a:ext cx="5040360" cy="77004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411280" y="3213000"/>
            <a:ext cx="633744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411280" y="4149720"/>
            <a:ext cx="6337440" cy="770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2411280" y="5013360"/>
            <a:ext cx="6337440" cy="770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2411280" y="5950080"/>
            <a:ext cx="6337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15" descr="j0286674"/>
          <p:cNvPicPr/>
          <p:nvPr/>
        </p:nvPicPr>
        <p:blipFill>
          <a:blip r:embed="rId1"/>
          <a:stretch/>
        </p:blipFill>
        <p:spPr>
          <a:xfrm>
            <a:off x="250920" y="189000"/>
            <a:ext cx="6411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ТК Росс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2556000" y="836640"/>
            <a:ext cx="6192720" cy="7192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альские, Кавказские, Алтай, Саяны, Верхоя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ебет, Становой хребет, хребет Черс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2627280" y="1628640"/>
            <a:ext cx="6121440" cy="69876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чно-Европейская, Западно-Сибирска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есибирское плоскогорь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708360" y="2421000"/>
            <a:ext cx="5435640" cy="8427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ктические пустыни, тундра, лесотунд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йга, смешанные и широколи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са лесостепи, степи, п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ыни, пусты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2627280" y="3357720"/>
            <a:ext cx="6121440" cy="934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ое, Баренцево, Карское, Лаптевых, Чукотско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точно-Сибирское, Черное, Азовское, Охотско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спийское, Берингово, Охотское, Япон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627280" y="4365720"/>
            <a:ext cx="6121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ганрогский, Енисейский, Анадырский, Онеж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уба, Обская губа, Двинская губа, залив Шели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2627280" y="5157720"/>
            <a:ext cx="612144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тарский, Югорский Шар, Карские Ворота, Лонг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никова, Дмитрия Лаптева, Маточкин Ш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2627280" y="5950080"/>
            <a:ext cx="6048360" cy="6984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н, Волга, Обь, Иртыш, Лена, Онега, Север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ина, Печора, Индигирка, Анадырь, Колы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1" descr="j0286674"/>
          <p:cNvPicPr/>
          <p:nvPr/>
        </p:nvPicPr>
        <p:blipFill>
          <a:blip r:embed="rId1"/>
          <a:stretch/>
        </p:blipFill>
        <p:spPr>
          <a:xfrm>
            <a:off x="684360" y="189000"/>
            <a:ext cx="7128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ТК – природные территориальные комплекс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говорят «комплексы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природные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территориаль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11280" y="1916280"/>
            <a:ext cx="75596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3789360"/>
            <a:ext cx="7632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11280" y="5734080"/>
            <a:ext cx="756108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j0336901"/>
          <p:cNvPicPr/>
          <p:nvPr/>
        </p:nvPicPr>
        <p:blipFill>
          <a:blip r:embed="rId1"/>
          <a:stretch/>
        </p:blipFill>
        <p:spPr>
          <a:xfrm>
            <a:off x="8389800" y="2060640"/>
            <a:ext cx="75420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j0336889"/>
          <p:cNvPicPr/>
          <p:nvPr/>
        </p:nvPicPr>
        <p:blipFill>
          <a:blip r:embed="rId2"/>
          <a:stretch/>
        </p:blipFill>
        <p:spPr>
          <a:xfrm>
            <a:off x="8317080" y="3789360"/>
            <a:ext cx="606240" cy="701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j0336581"/>
          <p:cNvPicPr/>
          <p:nvPr/>
        </p:nvPicPr>
        <p:blipFill>
          <a:blip r:embed="rId3"/>
          <a:stretch/>
        </p:blipFill>
        <p:spPr>
          <a:xfrm>
            <a:off x="8124840" y="5516640"/>
            <a:ext cx="1019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ПТК – природные территориальные комплекс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говорят «комплексы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природ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, почему комплексы называются «территориальные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68360" y="1628640"/>
            <a:ext cx="8353440" cy="865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латинского «комплекс» - «сочетание», «сплетение», т.е. сочетание ча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единое цел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39640" y="3645000"/>
            <a:ext cx="83534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сочетающиеся части являются природ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9640" y="5589720"/>
            <a:ext cx="82821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лексы формируются и существуют на определенных территор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j0336889"/>
          <p:cNvPicPr/>
          <p:nvPr/>
        </p:nvPicPr>
        <p:blipFill>
          <a:blip r:embed="rId1"/>
          <a:stretch/>
        </p:blipFill>
        <p:spPr>
          <a:xfrm>
            <a:off x="7885080" y="3860640"/>
            <a:ext cx="606600" cy="70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j0336901"/>
          <p:cNvPicPr/>
          <p:nvPr/>
        </p:nvPicPr>
        <p:blipFill>
          <a:blip r:embed="rId2"/>
          <a:stretch/>
        </p:blipFill>
        <p:spPr>
          <a:xfrm>
            <a:off x="8389800" y="1125360"/>
            <a:ext cx="754200" cy="721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j0336581"/>
          <p:cNvPicPr/>
          <p:nvPr/>
        </p:nvPicPr>
        <p:blipFill>
          <a:blip r:embed="rId3"/>
          <a:stretch/>
        </p:blipFill>
        <p:spPr>
          <a:xfrm>
            <a:off x="8317080" y="5772240"/>
            <a:ext cx="1019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3924360" y="3284640"/>
            <a:ext cx="1295280" cy="11300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050920" y="2421000"/>
            <a:ext cx="14209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6"/>
          <p:cNvSpPr/>
          <p:nvPr/>
        </p:nvSpPr>
        <p:spPr>
          <a:xfrm>
            <a:off x="3851280" y="1844640"/>
            <a:ext cx="15127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5796000" y="2276640"/>
            <a:ext cx="14400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835280" y="3573360"/>
            <a:ext cx="151272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6084720" y="3429000"/>
            <a:ext cx="144000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24360" y="4869000"/>
            <a:ext cx="151128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1979640" y="4724280"/>
            <a:ext cx="156384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5724360" y="4581360"/>
            <a:ext cx="1511640" cy="9144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3" descr="j0303326"/>
          <p:cNvPicPr/>
          <p:nvPr/>
        </p:nvPicPr>
        <p:blipFill>
          <a:blip r:embed="rId1"/>
          <a:stretch/>
        </p:blipFill>
        <p:spPr>
          <a:xfrm>
            <a:off x="7596360" y="907920"/>
            <a:ext cx="1296720" cy="1141560"/>
          </a:xfrm>
          <a:prstGeom prst="rect">
            <a:avLst/>
          </a:prstGeom>
          <a:ln w="0">
            <a:noFill/>
          </a:ln>
        </p:spPr>
      </p:pic>
      <p:sp>
        <p:nvSpPr>
          <p:cNvPr id="243" name="Line 14"/>
          <p:cNvSpPr/>
          <p:nvPr/>
        </p:nvSpPr>
        <p:spPr>
          <a:xfrm>
            <a:off x="457200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4572000" y="4437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H="1">
            <a:off x="3059280" y="2637000"/>
            <a:ext cx="100800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292720" y="29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0"/>
          <p:cNvSpPr/>
          <p:nvPr/>
        </p:nvSpPr>
        <p:spPr>
          <a:xfrm>
            <a:off x="5003640" y="2708280"/>
            <a:ext cx="115272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 flipH="1">
            <a:off x="5076720" y="3068640"/>
            <a:ext cx="100800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3564000" y="522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4"/>
          <p:cNvSpPr/>
          <p:nvPr/>
        </p:nvSpPr>
        <p:spPr>
          <a:xfrm flipV="1">
            <a:off x="5435640" y="522936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 flipH="1">
            <a:off x="6516720" y="4292640"/>
            <a:ext cx="71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6588000" y="3213000"/>
            <a:ext cx="71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>
            <a:off x="5292720" y="2492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3492360" y="2492280"/>
            <a:ext cx="43200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2556000" y="45086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0"/>
          <p:cNvSpPr/>
          <p:nvPr/>
        </p:nvSpPr>
        <p:spPr>
          <a:xfrm flipH="1">
            <a:off x="2626920" y="3284640"/>
            <a:ext cx="730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1"/>
          <p:cNvSpPr/>
          <p:nvPr/>
        </p:nvSpPr>
        <p:spPr>
          <a:xfrm>
            <a:off x="3276720" y="4221000"/>
            <a:ext cx="86364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2"/>
          <p:cNvSpPr/>
          <p:nvPr/>
        </p:nvSpPr>
        <p:spPr>
          <a:xfrm>
            <a:off x="4859280" y="2708280"/>
            <a:ext cx="115272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3"/>
          <p:cNvSpPr/>
          <p:nvPr/>
        </p:nvSpPr>
        <p:spPr>
          <a:xfrm>
            <a:off x="3203640" y="3213000"/>
            <a:ext cx="108108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34"/>
          <p:cNvSpPr/>
          <p:nvPr/>
        </p:nvSpPr>
        <p:spPr>
          <a:xfrm>
            <a:off x="3348000" y="39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5"/>
          <p:cNvSpPr/>
          <p:nvPr/>
        </p:nvSpPr>
        <p:spPr>
          <a:xfrm>
            <a:off x="5219640" y="393372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6"/>
          <p:cNvSpPr/>
          <p:nvPr/>
        </p:nvSpPr>
        <p:spPr>
          <a:xfrm flipV="1">
            <a:off x="3348000" y="4076280"/>
            <a:ext cx="280836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7"/>
          <p:cNvSpPr/>
          <p:nvPr/>
        </p:nvSpPr>
        <p:spPr>
          <a:xfrm flipH="1">
            <a:off x="5219640" y="4149720"/>
            <a:ext cx="1008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3276720" y="3141720"/>
            <a:ext cx="7189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 flipH="1">
            <a:off x="3203640" y="2708280"/>
            <a:ext cx="100800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1"/>
          <p:cNvSpPr/>
          <p:nvPr/>
        </p:nvSpPr>
        <p:spPr>
          <a:xfrm>
            <a:off x="3276720" y="4149720"/>
            <a:ext cx="244764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5003640" y="3429000"/>
            <a:ext cx="1152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 flipH="1" flipV="1">
            <a:off x="3419280" y="2997360"/>
            <a:ext cx="108108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 flipV="1">
            <a:off x="3492360" y="2852280"/>
            <a:ext cx="2303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3780000" y="3141720"/>
            <a:ext cx="1201680" cy="10587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3564000" y="1628640"/>
            <a:ext cx="1439640" cy="936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5435640" y="1700280"/>
            <a:ext cx="1441440" cy="9856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5940360" y="3068640"/>
            <a:ext cx="1511280" cy="987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ч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5435640" y="4508640"/>
            <a:ext cx="1873080" cy="105876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ик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рганиз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3564000" y="4797360"/>
            <a:ext cx="1655640" cy="1079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1476360" y="4581360"/>
            <a:ext cx="1800360" cy="1079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1187280" y="2924280"/>
            <a:ext cx="1656000" cy="12254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1835280" y="1773360"/>
            <a:ext cx="1419120" cy="9856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V="1">
            <a:off x="3132000" y="3789360"/>
            <a:ext cx="2880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3203640" y="5445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V="1">
            <a:off x="5219640" y="5300280"/>
            <a:ext cx="2890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 flipV="1">
            <a:off x="6588000" y="407664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2050920" y="4149720"/>
            <a:ext cx="2174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2050920" y="2708280"/>
            <a:ext cx="21744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3276720" y="2205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5003640" y="2133720"/>
            <a:ext cx="432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6372360" y="263700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5867280" y="2708280"/>
            <a:ext cx="7164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4716000" y="2492280"/>
            <a:ext cx="86364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2627280" y="4005360"/>
            <a:ext cx="11527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2916360" y="2708280"/>
            <a:ext cx="100800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2700000" y="2421000"/>
            <a:ext cx="93492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9"/>
          <p:cNvSpPr/>
          <p:nvPr/>
        </p:nvSpPr>
        <p:spPr>
          <a:xfrm>
            <a:off x="4716360" y="2421000"/>
            <a:ext cx="129708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 flipH="1">
            <a:off x="5003640" y="3860640"/>
            <a:ext cx="115272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 flipH="1">
            <a:off x="2771280" y="2492280"/>
            <a:ext cx="107964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>
            <a:off x="4427640" y="2565360"/>
            <a:ext cx="1224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>
            <a:off x="421164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 flipV="1">
            <a:off x="428472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36"/>
          <p:cNvSpPr/>
          <p:nvPr/>
        </p:nvSpPr>
        <p:spPr>
          <a:xfrm flipV="1">
            <a:off x="2843280" y="2349000"/>
            <a:ext cx="26654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37"/>
          <p:cNvSpPr/>
          <p:nvPr/>
        </p:nvSpPr>
        <p:spPr>
          <a:xfrm>
            <a:off x="3132000" y="2565360"/>
            <a:ext cx="280836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38"/>
          <p:cNvSpPr/>
          <p:nvPr/>
        </p:nvSpPr>
        <p:spPr>
          <a:xfrm>
            <a:off x="2843280" y="36450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 flipV="1">
            <a:off x="4932360" y="3573000"/>
            <a:ext cx="1008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40"/>
          <p:cNvSpPr/>
          <p:nvPr/>
        </p:nvSpPr>
        <p:spPr>
          <a:xfrm>
            <a:off x="3059280" y="2637000"/>
            <a:ext cx="936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1"/>
          <p:cNvSpPr/>
          <p:nvPr/>
        </p:nvSpPr>
        <p:spPr>
          <a:xfrm>
            <a:off x="4932360" y="3933720"/>
            <a:ext cx="7192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42"/>
          <p:cNvSpPr/>
          <p:nvPr/>
        </p:nvSpPr>
        <p:spPr>
          <a:xfrm flipV="1">
            <a:off x="2987640" y="3933720"/>
            <a:ext cx="93672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43"/>
          <p:cNvSpPr/>
          <p:nvPr/>
        </p:nvSpPr>
        <p:spPr>
          <a:xfrm flipV="1">
            <a:off x="4788000" y="2491920"/>
            <a:ext cx="79200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4" descr="j0303326"/>
          <p:cNvPicPr/>
          <p:nvPr/>
        </p:nvPicPr>
        <p:blipFill>
          <a:blip r:embed="rId1"/>
          <a:stretch/>
        </p:blipFill>
        <p:spPr>
          <a:xfrm>
            <a:off x="7667640" y="765000"/>
            <a:ext cx="12970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тановите соответств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j0285261"/>
          <p:cNvPicPr/>
          <p:nvPr/>
        </p:nvPicPr>
        <p:blipFill>
          <a:blip r:embed="rId1"/>
          <a:stretch/>
        </p:blipFill>
        <p:spPr>
          <a:xfrm>
            <a:off x="0" y="765000"/>
            <a:ext cx="933480" cy="12099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684360" y="3357720"/>
            <a:ext cx="2087280" cy="9856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84360" y="4797360"/>
            <a:ext cx="2158920" cy="10587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тм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684360" y="1989000"/>
            <a:ext cx="2087280" cy="9860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924360" y="191628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яемость во времени тех 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ых явлений, зависящая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упления солнечного теп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3924360" y="328464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ство ПТК, обусловленное т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связью слагающих 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он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3924360" y="4869000"/>
            <a:ext cx="4680000" cy="10792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йство ПТК, которое позволяет 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ивостоять воздействию различ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шних сил, включая 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113280" y="2146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205440" y="337644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205440" y="48690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тановите соответств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4360" y="1989000"/>
            <a:ext cx="2016000" cy="1008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ос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84360" y="3357720"/>
            <a:ext cx="201600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ойчив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684360" y="4869000"/>
            <a:ext cx="2016000" cy="9871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тм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419640" y="1989000"/>
            <a:ext cx="5040000" cy="10796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торяемость во времени тех или и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ений, зависящая от поступ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ого теп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3419640" y="3357720"/>
            <a:ext cx="5040000" cy="9856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динство ПТК, обусловленное тес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аимосвязью слагающих его компон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3419640" y="4941720"/>
            <a:ext cx="50400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йство ПТК, которое позволяет 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стоять воздействию различ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шних сил, включая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V="1">
            <a:off x="2700360" y="2708280"/>
            <a:ext cx="7192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2700360" y="3716280"/>
            <a:ext cx="647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2700360" y="2492280"/>
            <a:ext cx="7192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3" descr="j0285261"/>
          <p:cNvPicPr/>
          <p:nvPr/>
        </p:nvPicPr>
        <p:blipFill>
          <a:blip r:embed="rId1"/>
          <a:stretch/>
        </p:blipFill>
        <p:spPr>
          <a:xfrm>
            <a:off x="0" y="765000"/>
            <a:ext cx="9334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3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3203640" y="1197000"/>
            <a:ext cx="266364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258920" y="2492280"/>
            <a:ext cx="252108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5435640" y="2492280"/>
            <a:ext cx="2521080" cy="6494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9"/>
          <p:cNvSpPr/>
          <p:nvPr/>
        </p:nvSpPr>
        <p:spPr>
          <a:xfrm>
            <a:off x="5219640" y="2133720"/>
            <a:ext cx="158436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 flipH="1">
            <a:off x="2410920" y="2133720"/>
            <a:ext cx="172908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1258920" y="3716280"/>
            <a:ext cx="259236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5435640" y="3716280"/>
            <a:ext cx="2521080" cy="71928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АСТИ ОКЕ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611280" y="5013360"/>
            <a:ext cx="108108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1979640" y="5013360"/>
            <a:ext cx="107964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348000" y="5013360"/>
            <a:ext cx="105876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4859280" y="5013360"/>
            <a:ext cx="120348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6227640" y="5013360"/>
            <a:ext cx="122400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7596360" y="5013360"/>
            <a:ext cx="1008000" cy="107964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9"/>
          <p:cNvSpPr/>
          <p:nvPr/>
        </p:nvSpPr>
        <p:spPr>
          <a:xfrm>
            <a:off x="2484360" y="3141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6732720" y="3141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21"/>
          <p:cNvSpPr/>
          <p:nvPr/>
        </p:nvSpPr>
        <p:spPr>
          <a:xfrm flipH="1">
            <a:off x="1331640" y="4437000"/>
            <a:ext cx="215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22"/>
          <p:cNvSpPr/>
          <p:nvPr/>
        </p:nvSpPr>
        <p:spPr>
          <a:xfrm>
            <a:off x="255600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23"/>
          <p:cNvSpPr/>
          <p:nvPr/>
        </p:nvSpPr>
        <p:spPr>
          <a:xfrm>
            <a:off x="3348000" y="443700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26"/>
          <p:cNvSpPr/>
          <p:nvPr/>
        </p:nvSpPr>
        <p:spPr>
          <a:xfrm flipH="1">
            <a:off x="5435640" y="443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27"/>
          <p:cNvSpPr/>
          <p:nvPr/>
        </p:nvSpPr>
        <p:spPr>
          <a:xfrm>
            <a:off x="6732720" y="4437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28"/>
          <p:cNvSpPr/>
          <p:nvPr/>
        </p:nvSpPr>
        <p:spPr>
          <a:xfrm>
            <a:off x="7596360" y="4437000"/>
            <a:ext cx="36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31" descr="j0282747"/>
          <p:cNvPicPr/>
          <p:nvPr/>
        </p:nvPicPr>
        <p:blipFill>
          <a:blip r:embed="rId1"/>
          <a:stretch/>
        </p:blipFill>
        <p:spPr>
          <a:xfrm>
            <a:off x="3962520" y="325296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69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Заполните схем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916360" y="1052640"/>
            <a:ext cx="331128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Г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971640" y="2276640"/>
            <a:ext cx="2520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тер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5364000" y="2276640"/>
            <a:ext cx="280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кеа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971640" y="3573360"/>
            <a:ext cx="252072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те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5364000" y="3573360"/>
            <a:ext cx="2880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и океа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79280" y="4941720"/>
            <a:ext cx="1224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619280" y="4941720"/>
            <a:ext cx="13701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203640" y="4941720"/>
            <a:ext cx="1152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716360" y="4941720"/>
            <a:ext cx="122400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156360" y="4941720"/>
            <a:ext cx="136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7775640" y="4941720"/>
            <a:ext cx="1368360" cy="914400"/>
          </a:xfrm>
          <a:prstGeom prst="rect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 flipH="1">
            <a:off x="2195280" y="1989000"/>
            <a:ext cx="1081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5435640" y="1989000"/>
            <a:ext cx="1152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212400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>
            <a:off x="6732720" y="321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0"/>
          <p:cNvSpPr/>
          <p:nvPr/>
        </p:nvSpPr>
        <p:spPr>
          <a:xfrm flipH="1">
            <a:off x="684000" y="4508640"/>
            <a:ext cx="50292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2124000" y="45086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3276720" y="4508640"/>
            <a:ext cx="43164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 flipH="1">
            <a:off x="5292360" y="4508640"/>
            <a:ext cx="43164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6732720" y="45086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>
            <a:off x="7812000" y="4508640"/>
            <a:ext cx="43200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27" descr="j0282747"/>
          <p:cNvPicPr/>
          <p:nvPr/>
        </p:nvPicPr>
        <p:blipFill>
          <a:blip r:embed="rId1"/>
          <a:stretch/>
        </p:blipFill>
        <p:spPr>
          <a:xfrm>
            <a:off x="3780000" y="2852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57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24:57Z</dcterms:created>
  <dc:creator>Students3-5</dc:creator>
  <dc:description/>
  <dc:language>en-US</dc:language>
  <cp:lastModifiedBy>PAPA</cp:lastModifiedBy>
  <dcterms:modified xsi:type="dcterms:W3CDTF">2014-05-13T14:23:57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50300207f7000400038000</vt:lpwstr>
  </property>
</Properties>
</file>