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30B-0989-40C8-860C-51957E75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F29-C3DA-42C4-83BB-9E2D9DB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4AF-2A4E-42EB-B54A-F3DA1D40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470-85EC-44E0-8C54-549E4E3B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D2A9-96B9-45B7-A1C4-7D0AD46C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BDD0-6781-4A78-9F47-77549E9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A324-3251-4212-8481-1C5BF0A2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96C-E789-4C76-9ACE-B68BC03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C844-EF57-4CF6-B0B0-27732D54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B92D-9BB5-487B-8D1E-6E4AD3F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5024-08CB-47B0-860C-ED8F356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DCD-B054-41D7-B04E-4ECC32C2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2EB-780D-405A-AA36-C87D26D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EBFA-90C6-4652-B65E-6F5C58A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94A2-42E5-40A1-9300-625D2540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1508-1C54-450C-A896-FA7691A9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FB53-BA16-4C7E-8FF1-C4FBDBAF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740-9F09-4A67-81E8-840BB81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F18-80B3-4BD2-BFF0-A18E361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8EE-D8D6-4A99-B613-24036858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86A-4355-4703-B978-ED675A05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C9E-6541-43D4-9262-1BE85A8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D6F-6FF1-42DB-9B19-5DB21B6C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98A-E0CA-4C32-AA87-2791DE64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6215-4134-42A9-A543-E05A4B4DD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0EF-A6B6-4D5B-B735-9CEA546355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j0288851"/>
          <p:cNvPicPr/>
          <p:nvPr/>
        </p:nvPicPr>
        <p:blipFill>
          <a:blip r:embed="rId1"/>
          <a:stretch/>
        </p:blipFill>
        <p:spPr>
          <a:xfrm>
            <a:off x="147636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Природно- </a:t>
            </a:r>
            <a:br>
              <a:rPr sz="4800"/>
            </a:b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территориальные комплексы.</a:t>
            </a: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ПТК Росси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менце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БОУ СОШ №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Новочеркас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j0336889"/>
          <p:cNvPicPr/>
          <p:nvPr/>
        </p:nvPicPr>
        <p:blipFill>
          <a:blip r:embed="rId2"/>
          <a:stretch/>
        </p:blipFill>
        <p:spPr>
          <a:xfrm>
            <a:off x="250920" y="5373720"/>
            <a:ext cx="7509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ТК Росс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411280" y="620640"/>
            <a:ext cx="6337440" cy="77004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411280" y="1484280"/>
            <a:ext cx="633744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3635280" y="2349360"/>
            <a:ext cx="5040360" cy="7700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411280" y="3213000"/>
            <a:ext cx="633744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411280" y="4149720"/>
            <a:ext cx="6337440" cy="77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2411280" y="5013360"/>
            <a:ext cx="6337440" cy="77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2411280" y="5950080"/>
            <a:ext cx="6337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15" descr="j0286674"/>
          <p:cNvPicPr/>
          <p:nvPr/>
        </p:nvPicPr>
        <p:blipFill>
          <a:blip r:embed="rId1"/>
          <a:stretch/>
        </p:blipFill>
        <p:spPr>
          <a:xfrm>
            <a:off x="250920" y="189000"/>
            <a:ext cx="6411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ТК Росс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556000" y="836640"/>
            <a:ext cx="619272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альские, Кавказские, Алтай, Саяны, Верхоя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ебет, Становой хребет, хребет Черс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2627280" y="1628640"/>
            <a:ext cx="6121440" cy="69876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чно-Европейская, Западно-Сибирска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есибирское плоскогор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708360" y="2421000"/>
            <a:ext cx="5435640" cy="8427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ктические пустыни, тундра, лесотунд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йга, смешанные и широколи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са лесостепи, степи, 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ыни, пусты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2627280" y="3357720"/>
            <a:ext cx="6121440" cy="934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ое, Баренцево, Карское, Лаптевых, Чукотско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чно-Сибирское, Черное, Азовское, Охотско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пийское, Берингово, Охотское, Япон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627280" y="4365720"/>
            <a:ext cx="6121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ганрогский, Енисейский, Анадырский, Онеж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уба, Обская губа, Двинская губа, залив Шели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2627280" y="5157720"/>
            <a:ext cx="6121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тарский, Югорский Шар, Карские Ворота, Лон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никова, Дмитрия Лаптева, Маточкин Ш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2627280" y="5950080"/>
            <a:ext cx="604836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н, Волга, Обь, Иртыш, Лена, Онега, Север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на, Печора, Индигирка, Анадырь, Колы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1" descr="j0286674"/>
          <p:cNvPicPr/>
          <p:nvPr/>
        </p:nvPicPr>
        <p:blipFill>
          <a:blip r:embed="rId1"/>
          <a:stretch/>
        </p:blipFill>
        <p:spPr>
          <a:xfrm>
            <a:off x="684360" y="189000"/>
            <a:ext cx="7128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ТК – природные территориальные комплекс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говорят «комплексы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природные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территориаль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11280" y="1916280"/>
            <a:ext cx="75596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3789360"/>
            <a:ext cx="7632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11280" y="5734080"/>
            <a:ext cx="756108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j0336901"/>
          <p:cNvPicPr/>
          <p:nvPr/>
        </p:nvPicPr>
        <p:blipFill>
          <a:blip r:embed="rId1"/>
          <a:stretch/>
        </p:blipFill>
        <p:spPr>
          <a:xfrm>
            <a:off x="8389800" y="2060640"/>
            <a:ext cx="75420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j0336889"/>
          <p:cNvPicPr/>
          <p:nvPr/>
        </p:nvPicPr>
        <p:blipFill>
          <a:blip r:embed="rId2"/>
          <a:stretch/>
        </p:blipFill>
        <p:spPr>
          <a:xfrm>
            <a:off x="8317080" y="3789360"/>
            <a:ext cx="606240" cy="70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j0336581"/>
          <p:cNvPicPr/>
          <p:nvPr/>
        </p:nvPicPr>
        <p:blipFill>
          <a:blip r:embed="rId3"/>
          <a:stretch/>
        </p:blipFill>
        <p:spPr>
          <a:xfrm>
            <a:off x="8124840" y="5516640"/>
            <a:ext cx="1019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ТК – природные территориальные комплекс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говорят «комплексы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природ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территориаль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68360" y="1628640"/>
            <a:ext cx="8353440" cy="865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латинского «комплекс» - «сочетание», «сплетение», т.е. сочетание ча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единое цел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39640" y="3645000"/>
            <a:ext cx="83534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сочетающиеся части являются природ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9640" y="5589720"/>
            <a:ext cx="82821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лексы формируются и существуют на определенных территор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j0336889"/>
          <p:cNvPicPr/>
          <p:nvPr/>
        </p:nvPicPr>
        <p:blipFill>
          <a:blip r:embed="rId1"/>
          <a:stretch/>
        </p:blipFill>
        <p:spPr>
          <a:xfrm>
            <a:off x="7885080" y="3860640"/>
            <a:ext cx="606600" cy="70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j0336901"/>
          <p:cNvPicPr/>
          <p:nvPr/>
        </p:nvPicPr>
        <p:blipFill>
          <a:blip r:embed="rId2"/>
          <a:stretch/>
        </p:blipFill>
        <p:spPr>
          <a:xfrm>
            <a:off x="8389800" y="1125360"/>
            <a:ext cx="754200" cy="721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j0336581"/>
          <p:cNvPicPr/>
          <p:nvPr/>
        </p:nvPicPr>
        <p:blipFill>
          <a:blip r:embed="rId3"/>
          <a:stretch/>
        </p:blipFill>
        <p:spPr>
          <a:xfrm>
            <a:off x="8317080" y="5772240"/>
            <a:ext cx="1019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3924360" y="3284640"/>
            <a:ext cx="1295280" cy="11300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050920" y="2421000"/>
            <a:ext cx="14209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6"/>
          <p:cNvSpPr/>
          <p:nvPr/>
        </p:nvSpPr>
        <p:spPr>
          <a:xfrm>
            <a:off x="3851280" y="1844640"/>
            <a:ext cx="15127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5796000" y="2276640"/>
            <a:ext cx="14400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835280" y="3573360"/>
            <a:ext cx="15127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6084720" y="3429000"/>
            <a:ext cx="14400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24360" y="4869000"/>
            <a:ext cx="151128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1979640" y="4724280"/>
            <a:ext cx="156384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5724360" y="4581360"/>
            <a:ext cx="151164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3" descr="j0303326"/>
          <p:cNvPicPr/>
          <p:nvPr/>
        </p:nvPicPr>
        <p:blipFill>
          <a:blip r:embed="rId1"/>
          <a:stretch/>
        </p:blipFill>
        <p:spPr>
          <a:xfrm>
            <a:off x="7596360" y="907920"/>
            <a:ext cx="1296720" cy="1141560"/>
          </a:xfrm>
          <a:prstGeom prst="rect">
            <a:avLst/>
          </a:prstGeom>
          <a:ln w="0">
            <a:noFill/>
          </a:ln>
        </p:spPr>
      </p:pic>
      <p:sp>
        <p:nvSpPr>
          <p:cNvPr id="243" name="Line 14"/>
          <p:cNvSpPr/>
          <p:nvPr/>
        </p:nvSpPr>
        <p:spPr>
          <a:xfrm>
            <a:off x="457200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4572000" y="4437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3059280" y="2637000"/>
            <a:ext cx="100800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292720" y="29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5003640" y="2708280"/>
            <a:ext cx="115272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 flipH="1">
            <a:off x="5076720" y="3068640"/>
            <a:ext cx="100800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3564000" y="522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4"/>
          <p:cNvSpPr/>
          <p:nvPr/>
        </p:nvSpPr>
        <p:spPr>
          <a:xfrm flipV="1">
            <a:off x="5435640" y="522936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 flipH="1">
            <a:off x="6516720" y="429264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6588000" y="3213000"/>
            <a:ext cx="7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>
            <a:off x="5292720" y="2492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3492360" y="2492280"/>
            <a:ext cx="432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2556000" y="4508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0"/>
          <p:cNvSpPr/>
          <p:nvPr/>
        </p:nvSpPr>
        <p:spPr>
          <a:xfrm flipH="1">
            <a:off x="2626920" y="3284640"/>
            <a:ext cx="730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1"/>
          <p:cNvSpPr/>
          <p:nvPr/>
        </p:nvSpPr>
        <p:spPr>
          <a:xfrm>
            <a:off x="3276720" y="4221000"/>
            <a:ext cx="86364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2"/>
          <p:cNvSpPr/>
          <p:nvPr/>
        </p:nvSpPr>
        <p:spPr>
          <a:xfrm>
            <a:off x="4859280" y="2708280"/>
            <a:ext cx="115272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3203640" y="3213000"/>
            <a:ext cx="108108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4"/>
          <p:cNvSpPr/>
          <p:nvPr/>
        </p:nvSpPr>
        <p:spPr>
          <a:xfrm>
            <a:off x="3348000" y="39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5"/>
          <p:cNvSpPr/>
          <p:nvPr/>
        </p:nvSpPr>
        <p:spPr>
          <a:xfrm>
            <a:off x="5219640" y="3933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6"/>
          <p:cNvSpPr/>
          <p:nvPr/>
        </p:nvSpPr>
        <p:spPr>
          <a:xfrm flipV="1">
            <a:off x="3348000" y="4076280"/>
            <a:ext cx="280836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7"/>
          <p:cNvSpPr/>
          <p:nvPr/>
        </p:nvSpPr>
        <p:spPr>
          <a:xfrm flipH="1">
            <a:off x="5219640" y="414972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3276720" y="3141720"/>
            <a:ext cx="7189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 flipH="1">
            <a:off x="3203640" y="2708280"/>
            <a:ext cx="100800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>
            <a:off x="3276720" y="4149720"/>
            <a:ext cx="244764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5003640" y="3429000"/>
            <a:ext cx="1152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 flipH="1" flipV="1">
            <a:off x="3419280" y="2997360"/>
            <a:ext cx="1081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 flipV="1">
            <a:off x="3492360" y="2852280"/>
            <a:ext cx="2303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3780000" y="3141720"/>
            <a:ext cx="1201680" cy="10587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3564000" y="1628640"/>
            <a:ext cx="1439640" cy="936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5435640" y="1700280"/>
            <a:ext cx="1441440" cy="9856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5940360" y="3068640"/>
            <a:ext cx="1511280" cy="987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ч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5435640" y="4508640"/>
            <a:ext cx="1873080" cy="10587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ик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рган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3564000" y="4797360"/>
            <a:ext cx="1655640" cy="1079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1476360" y="4581360"/>
            <a:ext cx="1800360" cy="1079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1187280" y="2924280"/>
            <a:ext cx="1656000" cy="12254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1835280" y="1773360"/>
            <a:ext cx="1419120" cy="9856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V="1">
            <a:off x="3132000" y="3789360"/>
            <a:ext cx="288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3203640" y="5445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V="1">
            <a:off x="5219640" y="5300280"/>
            <a:ext cx="289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V="1">
            <a:off x="6588000" y="407664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050920" y="4149720"/>
            <a:ext cx="2174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2050920" y="2708280"/>
            <a:ext cx="2174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3276720" y="2205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5003640" y="2133720"/>
            <a:ext cx="432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6372360" y="2637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5867280" y="2708280"/>
            <a:ext cx="7164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4716000" y="2492280"/>
            <a:ext cx="86364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2627280" y="4005360"/>
            <a:ext cx="11527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2916360" y="2708280"/>
            <a:ext cx="100800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2700000" y="2421000"/>
            <a:ext cx="93492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9"/>
          <p:cNvSpPr/>
          <p:nvPr/>
        </p:nvSpPr>
        <p:spPr>
          <a:xfrm>
            <a:off x="4716360" y="2421000"/>
            <a:ext cx="1297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 flipH="1">
            <a:off x="5003640" y="3860640"/>
            <a:ext cx="115272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 flipH="1">
            <a:off x="2771280" y="2492280"/>
            <a:ext cx="107964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4427640" y="2565360"/>
            <a:ext cx="1224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>
            <a:off x="421164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 flipV="1">
            <a:off x="428472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36"/>
          <p:cNvSpPr/>
          <p:nvPr/>
        </p:nvSpPr>
        <p:spPr>
          <a:xfrm flipV="1">
            <a:off x="2843280" y="2349000"/>
            <a:ext cx="2665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37"/>
          <p:cNvSpPr/>
          <p:nvPr/>
        </p:nvSpPr>
        <p:spPr>
          <a:xfrm>
            <a:off x="3132000" y="2565360"/>
            <a:ext cx="2808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38"/>
          <p:cNvSpPr/>
          <p:nvPr/>
        </p:nvSpPr>
        <p:spPr>
          <a:xfrm>
            <a:off x="2843280" y="3645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 flipV="1">
            <a:off x="4932360" y="3573000"/>
            <a:ext cx="1008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40"/>
          <p:cNvSpPr/>
          <p:nvPr/>
        </p:nvSpPr>
        <p:spPr>
          <a:xfrm>
            <a:off x="3059280" y="2637000"/>
            <a:ext cx="936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1"/>
          <p:cNvSpPr/>
          <p:nvPr/>
        </p:nvSpPr>
        <p:spPr>
          <a:xfrm>
            <a:off x="4932360" y="3933720"/>
            <a:ext cx="7192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42"/>
          <p:cNvSpPr/>
          <p:nvPr/>
        </p:nvSpPr>
        <p:spPr>
          <a:xfrm flipV="1">
            <a:off x="2987640" y="3933720"/>
            <a:ext cx="93672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43"/>
          <p:cNvSpPr/>
          <p:nvPr/>
        </p:nvSpPr>
        <p:spPr>
          <a:xfrm flipV="1">
            <a:off x="4788000" y="2491920"/>
            <a:ext cx="79200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4" descr="j0303326"/>
          <p:cNvPicPr/>
          <p:nvPr/>
        </p:nvPicPr>
        <p:blipFill>
          <a:blip r:embed="rId1"/>
          <a:stretch/>
        </p:blipFill>
        <p:spPr>
          <a:xfrm>
            <a:off x="7667640" y="765000"/>
            <a:ext cx="12970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j0285261"/>
          <p:cNvPicPr/>
          <p:nvPr/>
        </p:nvPicPr>
        <p:blipFill>
          <a:blip r:embed="rId1"/>
          <a:stretch/>
        </p:blipFill>
        <p:spPr>
          <a:xfrm>
            <a:off x="0" y="765000"/>
            <a:ext cx="933480" cy="12099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684360" y="3357720"/>
            <a:ext cx="2087280" cy="9856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84360" y="4797360"/>
            <a:ext cx="2158920" cy="10587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тм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84360" y="1989000"/>
            <a:ext cx="2087280" cy="9860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924360" y="191628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яемость во времени тех 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ых явлений, зависящая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упления солнечного теп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924360" y="328464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ство ПТК, обусловленное т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связью слагающих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он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3924360" y="486900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йство ПТК, которое позволяет 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стоять воздействию различ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шних сил, включ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113280" y="2146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205440" y="33764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205440" y="4869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4360" y="1989000"/>
            <a:ext cx="201600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84360" y="3357720"/>
            <a:ext cx="20160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84360" y="4869000"/>
            <a:ext cx="2016000" cy="9871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тм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419640" y="1989000"/>
            <a:ext cx="5040000" cy="10796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торяемость во времени тех или и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ений, зависящая от поступ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ого теп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3419640" y="3357720"/>
            <a:ext cx="5040000" cy="9856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ство ПТК, обусловленное тес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освязью слагающих его компон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3419640" y="4941720"/>
            <a:ext cx="50400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йство ПТК, которое позволяет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стоять воздействию различ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х сил, включая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V="1">
            <a:off x="2700360" y="2708280"/>
            <a:ext cx="7192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2700360" y="3716280"/>
            <a:ext cx="647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2700360" y="2492280"/>
            <a:ext cx="7192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3" descr="j0285261"/>
          <p:cNvPicPr/>
          <p:nvPr/>
        </p:nvPicPr>
        <p:blipFill>
          <a:blip r:embed="rId1"/>
          <a:stretch/>
        </p:blipFill>
        <p:spPr>
          <a:xfrm>
            <a:off x="0" y="765000"/>
            <a:ext cx="933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3203640" y="1197000"/>
            <a:ext cx="26636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258920" y="2492280"/>
            <a:ext cx="252108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435640" y="2492280"/>
            <a:ext cx="252108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5219640" y="2133720"/>
            <a:ext cx="1584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 flipH="1">
            <a:off x="2410920" y="2133720"/>
            <a:ext cx="172908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258920" y="3716280"/>
            <a:ext cx="259236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5435640" y="3716280"/>
            <a:ext cx="252108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АСТИ ОКЕ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11280" y="5013360"/>
            <a:ext cx="108108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1979640" y="5013360"/>
            <a:ext cx="107964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348000" y="5013360"/>
            <a:ext cx="105876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4859280" y="5013360"/>
            <a:ext cx="120348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6227640" y="5013360"/>
            <a:ext cx="122400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7596360" y="5013360"/>
            <a:ext cx="100800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9"/>
          <p:cNvSpPr/>
          <p:nvPr/>
        </p:nvSpPr>
        <p:spPr>
          <a:xfrm>
            <a:off x="2484360" y="3141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6732720" y="3141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21"/>
          <p:cNvSpPr/>
          <p:nvPr/>
        </p:nvSpPr>
        <p:spPr>
          <a:xfrm flipH="1">
            <a:off x="1331640" y="4437000"/>
            <a:ext cx="215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22"/>
          <p:cNvSpPr/>
          <p:nvPr/>
        </p:nvSpPr>
        <p:spPr>
          <a:xfrm>
            <a:off x="255600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23"/>
          <p:cNvSpPr/>
          <p:nvPr/>
        </p:nvSpPr>
        <p:spPr>
          <a:xfrm>
            <a:off x="3348000" y="443700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5435640" y="443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673272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>
            <a:off x="7596360" y="443700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31" descr="j0282747"/>
          <p:cNvPicPr/>
          <p:nvPr/>
        </p:nvPicPr>
        <p:blipFill>
          <a:blip r:embed="rId1"/>
          <a:stretch/>
        </p:blipFill>
        <p:spPr>
          <a:xfrm>
            <a:off x="3962520" y="32529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68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916360" y="1052640"/>
            <a:ext cx="331128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971640" y="2276640"/>
            <a:ext cx="2520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5364000" y="2276640"/>
            <a:ext cx="280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кеа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971640" y="3573360"/>
            <a:ext cx="2520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те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5364000" y="3573360"/>
            <a:ext cx="2880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и оке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79280" y="4941720"/>
            <a:ext cx="1224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619280" y="4941720"/>
            <a:ext cx="13701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203640" y="4941720"/>
            <a:ext cx="1152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716360" y="4941720"/>
            <a:ext cx="1224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156360" y="4941720"/>
            <a:ext cx="136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7775640" y="4941720"/>
            <a:ext cx="136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 flipH="1">
            <a:off x="2195280" y="1989000"/>
            <a:ext cx="1081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5435640" y="1989000"/>
            <a:ext cx="1152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212400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>
            <a:off x="673272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 flipH="1">
            <a:off x="684000" y="4508640"/>
            <a:ext cx="50292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2124000" y="45086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3276720" y="450864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 flipH="1">
            <a:off x="5292360" y="450864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6732720" y="45086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7812000" y="4508640"/>
            <a:ext cx="43200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27" descr="j0282747"/>
          <p:cNvPicPr/>
          <p:nvPr/>
        </p:nvPicPr>
        <p:blipFill>
          <a:blip r:embed="rId1"/>
          <a:stretch/>
        </p:blipFill>
        <p:spPr>
          <a:xfrm>
            <a:off x="3780000" y="2852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56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24:57Z</dcterms:created>
  <dc:creator>Students3-5</dc:creator>
  <dc:description/>
  <dc:language>en-US</dc:language>
  <cp:lastModifiedBy>PAPA</cp:lastModifiedBy>
  <dcterms:modified xsi:type="dcterms:W3CDTF">2014-05-13T14:23:57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50300207f7000400038000</vt:lpwstr>
  </property>
</Properties>
</file>