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12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1.jpeg" ContentType="image/jpeg"/>
  <Override PartName="/ppt/media/image2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43.gif" ContentType="image/gif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42.jpeg" ContentType="image/jpeg"/>
  <Override PartName="/ppt/media/image5.png" ContentType="image/png"/>
  <Override PartName="/ppt/media/image3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442-EB2C-4B34-992C-30772085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249-5CEE-4F1B-83E7-2BF40A9C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03C-30FA-41F2-90DF-3D83B974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D3F-638C-4E51-BA37-46D54EB7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5404-1A4C-4322-9F6B-FFCEB54F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0E82-8CAA-46CE-A9DF-5E6D90DE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3082-AA39-41F4-AC4F-ABCD92CE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7B64-D520-4E6A-A0DF-B9EB73F8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61AE-27BE-4A6D-B39C-3A77535B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EEEF-0B20-40CF-95F0-62B0D554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69F0-3158-4D10-B26F-DB29825D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146-DEDF-4DBA-A663-CDB18ABC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7662-6694-4DE3-9EF3-1BA6A46D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E733-BEFF-42AB-91EB-A6677C0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94EF-C76B-497F-9D0D-F41C4457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5857-1EE1-482C-B15D-50107D03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91F9-083D-4D42-975E-A4C65BD9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E6A8B-C632-49DB-8C91-155CD67B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9FE8-BFEC-4D1B-A263-C70FEF55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5C9D-C14A-4E1A-98CC-787CDE35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F80E-1E59-44D6-AF4D-A5A1A911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99CCA-EE7A-4848-8631-9E99C784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B0F-342E-4731-826C-61A8228A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A01B-46C5-4B18-B3DB-E2882C2F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5EF1-CC94-4CBD-AA2F-502FCE24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E8D6-2D07-4C90-94BC-CC0C12A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0E63-FF15-4B64-9ECF-8156CFD7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11AB-04B6-4CD3-9D64-5BEAB6F9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61C0B-3ABA-4866-945F-B1E1ADEA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B918D-A349-4AFC-B375-91960865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AAF30-E2DC-4036-B27D-AF9866FF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F9CCF-F70E-407C-9642-10081523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B188-7AC4-459E-8FA1-4AFD0052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0CE-66CE-4F72-95C4-34972A08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E8262-93C5-44D1-A2C2-A6B8156B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2185-0C43-417F-B75C-7D064490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80C0-74AA-48B5-AF50-24C3B654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A275-A24E-4FAD-B3C7-4752DB8B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F106-D9EC-456F-A251-A3F6F9E3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C9152-3DE3-4904-863C-9157433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53DE5-96A9-43DF-9718-164FFDE5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E364E-E49A-4B0E-8A4B-C30980EF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40CB6-CF14-4884-B63A-6104AA2F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4FABF-14B1-4E3A-BA56-AC6E1724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B80-A2FA-4027-A69D-0AE38DBE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49091-4DE1-4CD5-8C28-00389366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31DC3-AD7C-444E-A4A6-AD7C0D94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9B3A-AE2D-459A-8AFA-948505D5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840A5-6FBC-4528-950C-AA846792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C5C97-17CA-4CB3-ADCB-62D1E7E7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B4B2D-AA58-467A-825A-66C3355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164B-1A36-47EE-B98F-3DC839F4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291B9-5119-45E0-8A46-E293E1D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C27A5-22EB-4A92-8510-A7EF8CD2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BCDF-7703-41E0-A2BF-3DA167F1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9AD-D56D-4715-B21C-49AA1076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B6C34-0088-40C9-B01D-0799E8AC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4B353-29CC-41EE-AAA7-7977D016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D5774-3424-4C85-B994-248DFFF3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FDAE0-E6E3-4D11-BE4C-1C3BCB55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A162B-F96C-459A-B077-BE7CBBBF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4AD33-FE8B-471C-A686-4AAAA4DD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A8148-C60D-40AD-B676-E1C3C119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198D2-31F0-46FE-9A11-57A1367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8FC6F-4266-4FB1-A480-84F1F525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EC718-C028-4A84-AEEC-90746EB4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23A-9636-4E05-8A5C-7B93F74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E4CDD-3672-4379-8497-0BE9182A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90548-31A3-4879-9E85-329605D4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4BA0B-340A-41D0-B3FA-17CE7C16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5C46A-2B07-42E9-99F6-99C79871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5DA71-27E3-4063-BEE8-D98C7F03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E293B-02BC-4735-BFF6-72AC201E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8417F-9B42-4B89-A0AB-7055DE38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444FE-A455-4B6D-8CF8-00377EEE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99CD2-1FD7-47FD-94BB-1802FEEE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D2956-BFA9-4111-9C6F-612F5A5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23E-E074-4D54-ADDB-CC35FDCF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DCD81-7389-4848-8662-D7517234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C5619-3C4A-4B27-8E9D-40A9B799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DA041-C65E-4858-BED8-261D71A4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50517-300E-4654-985C-CB7FF7E6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359F4-8FAE-43DC-B217-D37A4B34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F709D-438C-4C12-97B2-E553BDFC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75248-D2B1-4284-A893-21FB47D4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511E8-2292-4119-BB63-74838059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32942-6D33-4B77-BE88-DD239BF3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8C231-501B-4065-B2A2-DFDBB312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342-AB23-4C79-A655-E5E2C5C9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FDBEC-E951-4834-ACDC-4CE486F1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9D7C5-1035-41FF-9909-4C0B210F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A9D0A-8F15-43DF-9809-F3A099C2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0BB01-30A5-4E37-B958-6E220B60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25828-68DC-4FB5-84EC-AD426ACB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0B9BF-3312-47F3-BFA8-E669E04D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4FA8D-CCFC-482D-B0BD-DEA4CC2F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5"/>
          <p:cNvGrpSpPr/>
          <p:nvPr/>
        </p:nvGrpSpPr>
        <p:grpSpPr>
          <a:xfrm>
            <a:off x="214200" y="1643040"/>
            <a:ext cx="714600" cy="5072040"/>
            <a:chOff x="214200" y="1643040"/>
            <a:chExt cx="714600" cy="5072040"/>
          </a:xfrm>
        </p:grpSpPr>
        <p:pic>
          <p:nvPicPr>
            <p:cNvPr id="1" name="Нашивка 8" descr=""/>
            <p:cNvPicPr/>
            <p:nvPr/>
          </p:nvPicPr>
          <p:blipFill>
            <a:blip r:embed="rId3"/>
            <a:stretch/>
          </p:blipFill>
          <p:spPr>
            <a:xfrm>
              <a:off x="214200" y="3061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Нашивка 9" descr=""/>
            <p:cNvPicPr/>
            <p:nvPr/>
          </p:nvPicPr>
          <p:blipFill>
            <a:blip r:embed="rId4"/>
            <a:stretch/>
          </p:blipFill>
          <p:spPr>
            <a:xfrm>
              <a:off x="214200" y="37699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214200" y="44791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Нашивка 11" descr=""/>
            <p:cNvPicPr/>
            <p:nvPr/>
          </p:nvPicPr>
          <p:blipFill>
            <a:blip r:embed="rId6"/>
            <a:stretch/>
          </p:blipFill>
          <p:spPr>
            <a:xfrm>
              <a:off x="214200" y="51879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Нашивка 12" descr=""/>
            <p:cNvPicPr/>
            <p:nvPr/>
          </p:nvPicPr>
          <p:blipFill>
            <a:blip r:embed="rId7"/>
            <a:stretch/>
          </p:blipFill>
          <p:spPr>
            <a:xfrm>
              <a:off x="214200" y="59032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Нашивка 13" descr=""/>
            <p:cNvPicPr/>
            <p:nvPr/>
          </p:nvPicPr>
          <p:blipFill>
            <a:blip r:embed="rId8"/>
            <a:stretch/>
          </p:blipFill>
          <p:spPr>
            <a:xfrm>
              <a:off x="214200" y="23518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Нашивка 14" descr=""/>
            <p:cNvPicPr/>
            <p:nvPr/>
          </p:nvPicPr>
          <p:blipFill>
            <a:blip r:embed="rId9"/>
            <a:stretch/>
          </p:blipFill>
          <p:spPr>
            <a:xfrm>
              <a:off x="214200" y="1643040"/>
              <a:ext cx="7146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Стрелка вправо с вырезом 6" descr=""/>
          <p:cNvPicPr/>
          <p:nvPr/>
        </p:nvPicPr>
        <p:blipFill>
          <a:blip r:embed="rId10"/>
          <a:stretch/>
        </p:blipFill>
        <p:spPr>
          <a:xfrm>
            <a:off x="341280" y="122400"/>
            <a:ext cx="8674200" cy="1603080"/>
          </a:xfrm>
          <a:prstGeom prst="rect">
            <a:avLst/>
          </a:prstGeom>
          <a:ln w="0">
            <a:noFill/>
          </a:ln>
        </p:spPr>
      </p:pic>
      <p:pic>
        <p:nvPicPr>
          <p:cNvPr id="9" name="Содержимое 3" descr="01605cc23a86.png"/>
          <p:cNvPicPr/>
          <p:nvPr/>
        </p:nvPicPr>
        <p:blipFill>
          <a:blip r:embed="rId11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4C55-46B2-48F5-8D72-FAED1280DA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6" descr="logotip[1].png"/>
          <p:cNvPicPr/>
          <p:nvPr/>
        </p:nvPicPr>
        <p:blipFill>
          <a:blip r:embed="rId3"/>
          <a:stretch/>
        </p:blipFill>
        <p:spPr>
          <a:xfrm>
            <a:off x="281160" y="5711760"/>
            <a:ext cx="1419120" cy="938160"/>
          </a:xfrm>
          <a:prstGeom prst="rect">
            <a:avLst/>
          </a:prstGeom>
          <a:ln w="0">
            <a:noFill/>
          </a:ln>
        </p:spPr>
      </p:pic>
      <p:grpSp>
        <p:nvGrpSpPr>
          <p:cNvPr id="52" name="Штриховая стрелка вправо 17"/>
          <p:cNvGrpSpPr/>
          <p:nvPr/>
        </p:nvGrpSpPr>
        <p:grpSpPr>
          <a:xfrm>
            <a:off x="512640" y="1962000"/>
            <a:ext cx="8472600" cy="1981440"/>
            <a:chOff x="512640" y="1962000"/>
            <a:chExt cx="8472600" cy="1981440"/>
          </a:xfrm>
        </p:grpSpPr>
        <p:pic>
          <p:nvPicPr>
            <p:cNvPr id="53" name="Штриховая стрелка вправо 17" descr=""/>
            <p:cNvPicPr/>
            <p:nvPr/>
          </p:nvPicPr>
          <p:blipFill>
            <a:blip r:embed="rId4"/>
            <a:stretch/>
          </p:blipFill>
          <p:spPr>
            <a:xfrm>
              <a:off x="512640" y="1962000"/>
              <a:ext cx="84726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61840" y="2359080"/>
              <a:ext cx="704376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Рисунок 17" descr="52b98b7f5e35.png"/>
          <p:cNvPicPr/>
          <p:nvPr/>
        </p:nvPicPr>
        <p:blipFill>
          <a:blip r:embed="rId5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9421-5B0B-4ED0-BEE5-995D9B828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Группа 15"/>
          <p:cNvGrpSpPr/>
          <p:nvPr/>
        </p:nvGrpSpPr>
        <p:grpSpPr>
          <a:xfrm>
            <a:off x="214200" y="1643040"/>
            <a:ext cx="714600" cy="5072040"/>
            <a:chOff x="214200" y="1643040"/>
            <a:chExt cx="714600" cy="5072040"/>
          </a:xfrm>
        </p:grpSpPr>
        <p:pic>
          <p:nvPicPr>
            <p:cNvPr id="98" name="Нашивка 8" descr=""/>
            <p:cNvPicPr/>
            <p:nvPr/>
          </p:nvPicPr>
          <p:blipFill>
            <a:blip r:embed="rId3"/>
            <a:stretch/>
          </p:blipFill>
          <p:spPr>
            <a:xfrm>
              <a:off x="214200" y="3061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Нашивка 9" descr=""/>
            <p:cNvPicPr/>
            <p:nvPr/>
          </p:nvPicPr>
          <p:blipFill>
            <a:blip r:embed="rId4"/>
            <a:stretch/>
          </p:blipFill>
          <p:spPr>
            <a:xfrm>
              <a:off x="214200" y="37699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214200" y="44791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Нашивка 11" descr=""/>
            <p:cNvPicPr/>
            <p:nvPr/>
          </p:nvPicPr>
          <p:blipFill>
            <a:blip r:embed="rId6"/>
            <a:stretch/>
          </p:blipFill>
          <p:spPr>
            <a:xfrm>
              <a:off x="214200" y="51879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Нашивка 12" descr=""/>
            <p:cNvPicPr/>
            <p:nvPr/>
          </p:nvPicPr>
          <p:blipFill>
            <a:blip r:embed="rId7"/>
            <a:stretch/>
          </p:blipFill>
          <p:spPr>
            <a:xfrm>
              <a:off x="214200" y="59032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Нашивка 13" descr=""/>
            <p:cNvPicPr/>
            <p:nvPr/>
          </p:nvPicPr>
          <p:blipFill>
            <a:blip r:embed="rId8"/>
            <a:stretch/>
          </p:blipFill>
          <p:spPr>
            <a:xfrm>
              <a:off x="214200" y="23518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Нашивка 14" descr=""/>
            <p:cNvPicPr/>
            <p:nvPr/>
          </p:nvPicPr>
          <p:blipFill>
            <a:blip r:embed="rId9"/>
            <a:stretch/>
          </p:blipFill>
          <p:spPr>
            <a:xfrm>
              <a:off x="214200" y="1643040"/>
              <a:ext cx="7146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Стрелка вправо с вырезом 6" descr=""/>
          <p:cNvPicPr/>
          <p:nvPr/>
        </p:nvPicPr>
        <p:blipFill>
          <a:blip r:embed="rId10"/>
          <a:stretch/>
        </p:blipFill>
        <p:spPr>
          <a:xfrm>
            <a:off x="341280" y="122400"/>
            <a:ext cx="8674200" cy="160308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3" descr="01605cc23a86.png"/>
          <p:cNvPicPr/>
          <p:nvPr/>
        </p:nvPicPr>
        <p:blipFill>
          <a:blip r:embed="rId11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6" descr="logotip[1].png"/>
          <p:cNvPicPr/>
          <p:nvPr/>
        </p:nvPicPr>
        <p:blipFill>
          <a:blip r:embed="rId12"/>
          <a:stretch/>
        </p:blipFill>
        <p:spPr>
          <a:xfrm>
            <a:off x="633240" y="781200"/>
            <a:ext cx="798840" cy="529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A0A3-B5CD-4042-B841-7E008BE5F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Штриховая стрелка вправо 16"/>
          <p:cNvGrpSpPr/>
          <p:nvPr/>
        </p:nvGrpSpPr>
        <p:grpSpPr>
          <a:xfrm>
            <a:off x="298440" y="3895560"/>
            <a:ext cx="8686800" cy="2187720"/>
            <a:chOff x="298440" y="3895560"/>
            <a:chExt cx="8686800" cy="2187720"/>
          </a:xfrm>
        </p:grpSpPr>
        <p:pic>
          <p:nvPicPr>
            <p:cNvPr id="150" name="Штриховая стрелка вправо 16" descr=""/>
            <p:cNvPicPr/>
            <p:nvPr/>
          </p:nvPicPr>
          <p:blipFill>
            <a:blip r:embed="rId3"/>
            <a:stretch/>
          </p:blipFill>
          <p:spPr>
            <a:xfrm>
              <a:off x="298440" y="3895560"/>
              <a:ext cx="86868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81120" y="4330800"/>
              <a:ext cx="710568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Рисунок 17" descr="52b98b7f5e35.png"/>
          <p:cNvPicPr/>
          <p:nvPr/>
        </p:nvPicPr>
        <p:blipFill>
          <a:blip r:embed="rId4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EBBE-A8FD-4D7F-AF58-0DE0227AC4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6" descr="logotip[1].png"/>
          <p:cNvPicPr/>
          <p:nvPr/>
        </p:nvPicPr>
        <p:blipFill>
          <a:blip r:embed="rId3"/>
          <a:stretch/>
        </p:blipFill>
        <p:spPr>
          <a:xfrm>
            <a:off x="633240" y="781200"/>
            <a:ext cx="731880" cy="480960"/>
          </a:xfrm>
          <a:prstGeom prst="rect">
            <a:avLst/>
          </a:prstGeom>
          <a:ln w="0">
            <a:noFill/>
          </a:ln>
        </p:spPr>
      </p:pic>
      <p:pic>
        <p:nvPicPr>
          <p:cNvPr id="195" name="Содержимое 3" descr="01605cc23a86.png"/>
          <p:cNvPicPr/>
          <p:nvPr/>
        </p:nvPicPr>
        <p:blipFill>
          <a:blip r:embed="rId4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8EFF-36B8-40F0-83C4-7DF0BAFC25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95120" y="341280"/>
            <a:ext cx="3462480" cy="1316160"/>
          </a:xfrm>
          <a:prstGeom prst="rect">
            <a:avLst/>
          </a:prstGeom>
          <a:ln w="0">
            <a:noFill/>
          </a:ln>
        </p:spPr>
      </p:pic>
      <p:grpSp>
        <p:nvGrpSpPr>
          <p:cNvPr id="238" name="Группа 17"/>
          <p:cNvGrpSpPr/>
          <p:nvPr/>
        </p:nvGrpSpPr>
        <p:grpSpPr>
          <a:xfrm>
            <a:off x="285840" y="3714840"/>
            <a:ext cx="428400" cy="2857320"/>
            <a:chOff x="285840" y="3714840"/>
            <a:chExt cx="428400" cy="2857320"/>
          </a:xfrm>
        </p:grpSpPr>
        <p:pic>
          <p:nvPicPr>
            <p:cNvPr id="239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85840" y="45104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85840" y="49082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85840" y="53064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85840" y="57042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85840" y="6108120"/>
              <a:ext cx="428400" cy="4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85840" y="41126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85840" y="3714840"/>
              <a:ext cx="4284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59FE-D5F5-47D9-AE45-CDBA3284E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407960" y="4627440"/>
            <a:ext cx="6461280" cy="955800"/>
          </a:xfrm>
          <a:prstGeom prst="rect">
            <a:avLst/>
          </a:prstGeom>
          <a:ln w="0">
            <a:noFill/>
          </a:ln>
        </p:spPr>
      </p:pic>
      <p:grpSp>
        <p:nvGrpSpPr>
          <p:cNvPr id="288" name="Группа 17"/>
          <p:cNvGrpSpPr/>
          <p:nvPr/>
        </p:nvGrpSpPr>
        <p:grpSpPr>
          <a:xfrm>
            <a:off x="214200" y="857160"/>
            <a:ext cx="714600" cy="5072040"/>
            <a:chOff x="214200" y="857160"/>
            <a:chExt cx="714600" cy="5072040"/>
          </a:xfrm>
        </p:grpSpPr>
        <p:pic>
          <p:nvPicPr>
            <p:cNvPr id="289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14200" y="22752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14200" y="29840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14200" y="36932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14200" y="4408200"/>
              <a:ext cx="7146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14200" y="51174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14200" y="15660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14200" y="857160"/>
              <a:ext cx="714600" cy="81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1313-CCF4-4531-9232-24ABE5114D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6413400" y="195120"/>
            <a:ext cx="2529000" cy="64612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ABCE-6843-40D1-8696-D6F2A8986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Times New Roman"/>
              </a:rPr>
              <a:t>Природно-хозяйственные зоны России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entury Schoolbook"/>
              </a:rPr>
              <a:t>География. Россия. 8 класс УМК «Полярная звезда»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entury Schoolbook"/>
              </a:rPr>
              <a:t>Люди в сельских населенных пунктах имеют большую, чем городские жители, связь с природой</a:t>
            </a:r>
            <a:endParaRPr b="0" lang="en-US" sz="32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1785960" y="1857240"/>
            <a:ext cx="612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entury Schoolbook"/>
              </a:rPr>
              <a:t>Их жизнь определена природными особенностями местности</a:t>
            </a:r>
            <a:endParaRPr b="0" lang="en-US" sz="32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13" name="Хозяйство Тундры.mpg" descr=""/>
          <p:cNvPicPr/>
          <p:nvPr/>
        </p:nvPicPr>
        <p:blipFill>
          <a:blip r:embed="rId1"/>
          <a:stretch/>
        </p:blipFill>
        <p:spPr>
          <a:xfrm>
            <a:off x="1522440" y="1714680"/>
            <a:ext cx="64515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137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Природные богатства, которые можно использовать для развития хозяйства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15" name="Picture 2" descr="E:\RES\Class8\Объекты промысла.jpg"/>
          <p:cNvPicPr/>
          <p:nvPr/>
        </p:nvPicPr>
        <p:blipFill>
          <a:blip r:embed="rId1"/>
          <a:stretch/>
        </p:blipFill>
        <p:spPr>
          <a:xfrm>
            <a:off x="1143000" y="2360520"/>
            <a:ext cx="74674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Природно-хозяйственная зона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т.е. природная зона, в которой население занимается хозяйственной деятельностью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По карте (рис 77 стр. 211 учебника) установите какие ПХЗ особенно сильно освоены человеком. Почему вы так считаете?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«Шаг за шагом» (с.212)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57160" y="1599840"/>
            <a:ext cx="64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Сравнить природные зоны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3929040" cy="2349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929120" y="2143080"/>
            <a:ext cx="3965760" cy="2371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E:\RES\Class8\Смешанные леса.jpg"/>
          <p:cNvPicPr/>
          <p:nvPr/>
        </p:nvPicPr>
        <p:blipFill>
          <a:blip r:embed="rId3"/>
          <a:stretch/>
        </p:blipFill>
        <p:spPr>
          <a:xfrm>
            <a:off x="1000080" y="4586400"/>
            <a:ext cx="3857760" cy="2271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Картинка 11 из 907"/>
          <p:cNvPicPr/>
          <p:nvPr/>
        </p:nvPicPr>
        <p:blipFill>
          <a:blip r:embed="rId4"/>
          <a:stretch/>
        </p:blipFill>
        <p:spPr>
          <a:xfrm>
            <a:off x="5429160" y="4500720"/>
            <a:ext cx="30006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Установите соответствие: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1e1c1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entury Schoolbook"/>
              </a:rPr>
              <a:t>Тундра</a:t>
            </a:r>
            <a:endParaRPr b="0" lang="en-US" sz="36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901"/>
              </a:spcBef>
              <a:buClr>
                <a:srgbClr val="1e1c1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entury Schoolbook"/>
              </a:rPr>
              <a:t>Степь</a:t>
            </a:r>
            <a:endParaRPr b="0" lang="en-US" sz="36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901"/>
              </a:spcBef>
              <a:buClr>
                <a:srgbClr val="1e1c1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entury Schoolbook"/>
              </a:rPr>
              <a:t>Тайга </a:t>
            </a:r>
            <a:endParaRPr b="0" lang="en-US" sz="36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e1c11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Сплошное земледельческое освоение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799"/>
              </a:spcBef>
              <a:buClr>
                <a:srgbClr val="1e1c11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Очаговое расселение населения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514440" indent="-514440">
              <a:spcBef>
                <a:spcPts val="799"/>
              </a:spcBef>
              <a:buClr>
                <a:srgbClr val="1e1c11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Редкоочаговое расселение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427" name="Рисунок 4" descr="5+.gif"/>
          <p:cNvPicPr/>
          <p:nvPr/>
        </p:nvPicPr>
        <p:blipFill>
          <a:blip r:embed="rId1"/>
          <a:stretch/>
        </p:blipFill>
        <p:spPr>
          <a:xfrm>
            <a:off x="2714760" y="4786200"/>
            <a:ext cx="4572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9" descr=""/>
          <p:cNvPicPr/>
          <p:nvPr/>
        </p:nvPicPr>
        <p:blipFill>
          <a:blip r:embed="rId1"/>
          <a:stretch/>
        </p:blipFill>
        <p:spPr>
          <a:xfrm>
            <a:off x="2000160" y="1214280"/>
            <a:ext cx="69534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Домашнее задание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28440" y="1600200"/>
            <a:ext cx="45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Читать §45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entury Schoolbook"/>
              </a:rPr>
              <a:t>Ответить на вопросы и выполнить задания 2-8, 10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431" name="Рисунок 3" descr="01_1.jpg"/>
          <p:cNvPicPr/>
          <p:nvPr/>
        </p:nvPicPr>
        <p:blipFill>
          <a:blip r:embed="rId1"/>
          <a:stretch/>
        </p:blipFill>
        <p:spPr>
          <a:xfrm>
            <a:off x="5786280" y="2143080"/>
            <a:ext cx="30765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Century Schoolbook"/>
              </a:rPr>
              <a:t>Цель урока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Сформировать понятие «природная зона», «природно-хозяйственная зона»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Выявить особенности расположения природно-хозяйственных зон России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Раскрыть связь между природной зоной и хозяйвенной деятельностью людей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8760" y="1571400"/>
            <a:ext cx="5572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Впервые закономерность зональности выявил Александр Гумбольд – великий немецкий естествоиспытатель. 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Он установил закономерности в изменении климата и растительности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385" name="Picture 2" descr="Картинка 2 из 14"/>
          <p:cNvPicPr/>
          <p:nvPr/>
        </p:nvPicPr>
        <p:blipFill>
          <a:blip r:embed="rId1"/>
          <a:stretch/>
        </p:blipFill>
        <p:spPr>
          <a:xfrm>
            <a:off x="6072120" y="1857240"/>
            <a:ext cx="28576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28800" y="1599840"/>
            <a:ext cx="50004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Большой вклад в изучении зонольности внес Василий Васильевич Докучаев – русский ученый почвовед, открывший закон широтной зональности как общий закон природы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388" name="Picture 2" descr="Картинка 3 из 64"/>
          <p:cNvPicPr/>
          <p:nvPr/>
        </p:nvPicPr>
        <p:blipFill>
          <a:blip r:embed="rId1"/>
          <a:stretch/>
        </p:blipFill>
        <p:spPr>
          <a:xfrm>
            <a:off x="6000840" y="1714680"/>
            <a:ext cx="2724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28800" y="1600200"/>
            <a:ext cx="528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Л.С.Берг изучал особенности природных зон (ландшафтов)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Каждая территория имеет свой неповторимый облик (ландшафт)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pic>
        <p:nvPicPr>
          <p:cNvPr id="391" name="Picture 2" descr="Картинка 1 из 466"/>
          <p:cNvPicPr/>
          <p:nvPr/>
        </p:nvPicPr>
        <p:blipFill>
          <a:blip r:embed="rId1"/>
          <a:stretch/>
        </p:blipFill>
        <p:spPr>
          <a:xfrm>
            <a:off x="6357960" y="2143080"/>
            <a:ext cx="2143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43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452a"/>
                </a:solidFill>
                <a:latin typeface="Century Schoolbook"/>
              </a:rPr>
              <a:t>Какие факторы являются главными в формировании ПЗ?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2428920"/>
            <a:ext cx="77580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ПЗ как значительная территория суши имеет сходные природные компоненты (почвы, растительность, животный мир), которые формируются в зависимости от сочетани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тепла</a:t>
            </a: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 и </a:t>
            </a:r>
            <a:r>
              <a:rPr b="0" lang="ru-RU" sz="3200" spc="-1" strike="noStrike" u="sng">
                <a:solidFill>
                  <a:srgbClr val="00b0f0"/>
                </a:solidFill>
                <a:uFillTx/>
                <a:latin typeface="Century Schoolbook"/>
              </a:rPr>
              <a:t>влаги</a:t>
            </a:r>
            <a:r>
              <a:rPr b="0" lang="ru-RU" sz="3200" spc="-1" strike="noStrike">
                <a:solidFill>
                  <a:srgbClr val="1e1c11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entury Schoolbook"/>
              </a:rPr>
              <a:t>Определяющим фактором при формировании ПЗ является климат. От него зависят другие компоненты</a:t>
            </a:r>
            <a:r>
              <a:rPr b="0" lang="ru-RU" sz="2800" spc="-1" strike="noStrike">
                <a:solidFill>
                  <a:srgbClr val="4a452a"/>
                </a:solidFill>
                <a:latin typeface="Century Schoolbook"/>
              </a:rPr>
              <a:t>. </a:t>
            </a:r>
            <a:r>
              <a:rPr b="1" lang="ru-RU" sz="2800" spc="-1" strike="noStrike">
                <a:solidFill>
                  <a:srgbClr val="4a452a"/>
                </a:solidFill>
                <a:latin typeface="Century Schoolbook"/>
              </a:rPr>
              <a:t>Изменение климата приводит к изменению других компонентов ПЗ</a:t>
            </a:r>
            <a:endParaRPr b="0" lang="en-US" sz="28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95" name="Прямоугольник 2"/>
          <p:cNvSpPr/>
          <p:nvPr/>
        </p:nvSpPr>
        <p:spPr>
          <a:xfrm>
            <a:off x="2428920" y="2928960"/>
            <a:ext cx="42861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ли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3"/>
          <p:cNvSpPr/>
          <p:nvPr/>
        </p:nvSpPr>
        <p:spPr>
          <a:xfrm>
            <a:off x="1000080" y="4857840"/>
            <a:ext cx="1428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4"/>
          <p:cNvSpPr/>
          <p:nvPr/>
        </p:nvSpPr>
        <p:spPr>
          <a:xfrm>
            <a:off x="3000240" y="4857840"/>
            <a:ext cx="31435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раст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6572160" y="4857840"/>
            <a:ext cx="2571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трелка вниз 10"/>
          <p:cNvSpPr/>
          <p:nvPr/>
        </p:nvSpPr>
        <p:spPr>
          <a:xfrm>
            <a:off x="4429080" y="3857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трелка вправо 11"/>
          <p:cNvSpPr/>
          <p:nvPr/>
        </p:nvSpPr>
        <p:spPr>
          <a:xfrm>
            <a:off x="6143760" y="5143680"/>
            <a:ext cx="428400" cy="4838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трелка вправо 12"/>
          <p:cNvSpPr/>
          <p:nvPr/>
        </p:nvSpPr>
        <p:spPr>
          <a:xfrm rot="10800000">
            <a:off x="2430000" y="5071680"/>
            <a:ext cx="559080" cy="493560"/>
          </a:xfrm>
          <a:prstGeom prst="rightArrow">
            <a:avLst>
              <a:gd name="adj1" fmla="val 50000"/>
              <a:gd name="adj2" fmla="val 5004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трелка вниз 15"/>
          <p:cNvSpPr/>
          <p:nvPr/>
        </p:nvSpPr>
        <p:spPr>
          <a:xfrm rot="19791600">
            <a:off x="6713280" y="3769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8006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трелка вниз 16"/>
          <p:cNvSpPr/>
          <p:nvPr/>
        </p:nvSpPr>
        <p:spPr>
          <a:xfrm rot="1981200">
            <a:off x="2012760" y="3838320"/>
            <a:ext cx="485640" cy="979560"/>
          </a:xfrm>
          <a:prstGeom prst="downArrow">
            <a:avLst>
              <a:gd name="adj1" fmla="val 50000"/>
              <a:gd name="adj2" fmla="val 50015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422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a452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685800" y="1714680"/>
            <a:ext cx="77724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entury Schoolbook"/>
              </a:rPr>
              <a:t>Закономерная смена природных зон и природных условий в горах</a:t>
            </a:r>
            <a:endParaRPr b="0" lang="en-US" sz="4000" spc="-1" strike="noStrike">
              <a:solidFill>
                <a:srgbClr val="4a452a"/>
              </a:solidFill>
              <a:latin typeface="Century Schoolbook"/>
            </a:endParaRPr>
          </a:p>
        </p:txBody>
      </p:sp>
      <p:pic>
        <p:nvPicPr>
          <p:cNvPr id="407" name="Изменение высоты места.mpg" descr=""/>
          <p:cNvPicPr/>
          <p:nvPr/>
        </p:nvPicPr>
        <p:blipFill>
          <a:blip r:embed="rId1"/>
          <a:stretch/>
        </p:blipFill>
        <p:spPr>
          <a:xfrm>
            <a:off x="0" y="1382760"/>
            <a:ext cx="9144000" cy="5475240"/>
          </a:xfrm>
          <a:prstGeom prst="rect">
            <a:avLst/>
          </a:prstGeom>
          <a:ln w="0">
            <a:noFill/>
          </a:ln>
        </p:spPr>
      </p:pic>
      <p:pic>
        <p:nvPicPr>
          <p:cNvPr id="408" name="Изменение высоты места.mpg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40320"/>
          </a:xfrm>
          <a:prstGeom prst="rect">
            <a:avLst/>
          </a:prstGeom>
          <a:ln w="0">
            <a:noFill/>
          </a:ln>
        </p:spPr>
      </p:pic>
      <p:pic>
        <p:nvPicPr>
          <p:cNvPr id="409" name="Изменение высоты места.mpg" descr=""/>
          <p:cNvPicPr/>
          <p:nvPr/>
        </p:nvPicPr>
        <p:blipFill>
          <a:blip r:embed="rId3"/>
          <a:stretch/>
        </p:blipFill>
        <p:spPr>
          <a:xfrm>
            <a:off x="0" y="1366920"/>
            <a:ext cx="91440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58436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17:33Z</dcterms:created>
  <dc:creator>татьяна</dc:creator>
  <dc:description/>
  <dc:language>en-US</dc:language>
  <cp:lastModifiedBy>User</cp:lastModifiedBy>
  <dcterms:modified xsi:type="dcterms:W3CDTF">2011-09-04T07:49:57Z</dcterms:modified>
  <cp:revision>11</cp:revision>
  <dc:subject/>
  <dc:title>Природно-хозяйственные зоны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350000000000010243100207f6000400038000</vt:lpwstr>
  </property>
</Properties>
</file>