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A7E2-1CDD-4715-9858-C60482AE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6D24-7C08-4F3F-BD2E-B57BBD8B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4D19-8ED6-4ED0-AFA4-D0078F07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5204-C09E-4E42-ACA5-66E60512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6CA3-2A7C-46C5-BDC3-D49CE635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8C1E-6BCF-4DCC-A0C8-FABD90A5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EB66-8CBB-475D-B172-4D1C5271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C2F4-507D-45CD-931D-E9000493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1F73-BC33-45F6-8E88-6C12FE47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B81A-53BC-4D44-8DB7-5FA71A87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022E-FECC-4922-9C68-FC3E1097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AED2-2E50-4508-A5F6-A5C58E1A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1912-1D55-494B-9FDC-B96588D7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8BDF-353F-44FF-A0CD-1B04070F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B2B8-3322-47AD-9E53-1F65A987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F5DF-C62F-4F32-AF12-31D9AF0E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4392-30BA-43D5-BC43-EB2DD1A8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F0F-7EC6-4DF7-9100-C45E3933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0F89-B26A-4CA5-95AC-FE6D3EC1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69D-1206-4C69-9A79-FC7BB6D4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E317-A7DD-460F-AF6D-5EF29E46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75B5-236C-4DA2-A2A9-932ACAEE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630D-7F4B-49FA-9D3B-74A9F1FD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23C-BEEF-4DD3-844A-9A2F9317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58BA-1262-44C4-B47E-98B6B363126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DA34-7DB4-4420-80B3-D6D481E04B2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rcRect l="0" t="0" r="127" b="0"/>
          <a:stretch/>
        </p:blipFill>
        <p:spPr>
          <a:xfrm>
            <a:off x="179280" y="189000"/>
            <a:ext cx="3889440" cy="5184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rcRect l="0" t="0" r="-43" b="-8"/>
          <a:stretch/>
        </p:blipFill>
        <p:spPr>
          <a:xfrm>
            <a:off x="4284720" y="2367000"/>
            <a:ext cx="468144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095480" y="372960"/>
            <a:ext cx="71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Уровни природных комплек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611280" y="1700280"/>
            <a:ext cx="22320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окальны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419640" y="1700280"/>
            <a:ext cx="237636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гиональны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372360" y="1700280"/>
            <a:ext cx="216036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лобальны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82760" y="3357720"/>
            <a:ext cx="804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а основе работы с текстом учебника (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§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 31, стр. 147- 148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), приведите примеры природных комплексов разного уров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9"/>
          <p:cNvSpPr/>
          <p:nvPr/>
        </p:nvSpPr>
        <p:spPr>
          <a:xfrm rot="5400000">
            <a:off x="4146840" y="1261080"/>
            <a:ext cx="976320" cy="269640"/>
          </a:xfrm>
          <a:prstGeom prst="rightArrow">
            <a:avLst>
              <a:gd name="adj1" fmla="val 50000"/>
              <a:gd name="adj2" fmla="val 9052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10"/>
          <p:cNvSpPr/>
          <p:nvPr/>
        </p:nvSpPr>
        <p:spPr>
          <a:xfrm rot="9310200">
            <a:off x="2410920" y="1267920"/>
            <a:ext cx="2086200" cy="287640"/>
          </a:xfrm>
          <a:prstGeom prst="rightArrow">
            <a:avLst>
              <a:gd name="adj1" fmla="val 50000"/>
              <a:gd name="adj2" fmla="val 18132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11"/>
          <p:cNvSpPr/>
          <p:nvPr/>
        </p:nvSpPr>
        <p:spPr>
          <a:xfrm rot="1566000">
            <a:off x="4788000" y="1341360"/>
            <a:ext cx="2160360" cy="263520"/>
          </a:xfrm>
          <a:prstGeom prst="rightArrow">
            <a:avLst>
              <a:gd name="adj1" fmla="val 50000"/>
              <a:gd name="adj2" fmla="val 20495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808200" y="333360"/>
            <a:ext cx="736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Физико-географическое районировани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справка 008"/>
          <p:cNvPicPr/>
          <p:nvPr/>
        </p:nvPicPr>
        <p:blipFill>
          <a:blip r:embed="rId1"/>
          <a:srcRect l="0" t="0" r="8" b="92"/>
          <a:stretch/>
        </p:blipFill>
        <p:spPr>
          <a:xfrm>
            <a:off x="179280" y="1557360"/>
            <a:ext cx="4319640" cy="36543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4716360" y="1720800"/>
            <a:ext cx="4476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чему территория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оссии поделена на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изико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географически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айон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азовите крупные ПТК на территории Росс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250920" y="404640"/>
            <a:ext cx="939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оря как крупные природные комплекс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76200" y="1287360"/>
            <a:ext cx="84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На основе работы с текстом учебника 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§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31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стр. 150 – 151 охарактеризуйте природны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комплекс Азовского мор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                 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Информацию сверните в схе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492360" y="4365720"/>
            <a:ext cx="216072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зовско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1187280" y="3645000"/>
            <a:ext cx="180036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урс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6084720" y="3500280"/>
            <a:ext cx="19432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3348000" y="5661000"/>
            <a:ext cx="223200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971640" y="5084640"/>
            <a:ext cx="201600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6012000" y="5084640"/>
            <a:ext cx="2089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ческ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Oval 13"/>
          <p:cNvSpPr/>
          <p:nvPr/>
        </p:nvSpPr>
        <p:spPr>
          <a:xfrm>
            <a:off x="3492360" y="3213000"/>
            <a:ext cx="201636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ческ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468360" y="6397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ТК природные и антропогенны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24000" y="1700280"/>
            <a:ext cx="8723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ем отличаются природные ПТК о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антропогенных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иведите примеры природных ПТК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 антропогенны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оанализируйте рис. 56 учебника на стр. 15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ставьте схему:  «Виды антропог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ТК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ыпишите понятие «антропог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андшафты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808200" y="765000"/>
            <a:ext cx="77500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ктическая работа:  составьте характеристику одного из природных комплексов по плану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) особенности географического полож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Б) типичны внешний обли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) особенности сочетания компонентов прир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 данной ПТ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Г) причины выявленных особенн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) оценка природных условий и природ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есурсов для жизни и хозяйственно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ятельности челове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) экологические проблемы ПТ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3132000" y="51912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Оценит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свою работу на урок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55640" y="1844640"/>
            <a:ext cx="80643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егодня на уроке мне было 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нания, полученные на уроке,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не пригодятся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егодня я…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не было легко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не было сложно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О том, что я узнал (а), я расскажу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6" descr="AG00020_"/>
          <p:cNvPicPr/>
          <p:nvPr/>
        </p:nvPicPr>
        <p:blipFill>
          <a:blip r:embed="rId1"/>
          <a:stretch/>
        </p:blipFill>
        <p:spPr>
          <a:xfrm>
            <a:off x="755640" y="260280"/>
            <a:ext cx="18003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1908000" y="1628640"/>
            <a:ext cx="6735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омашнее задание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  <a:ea typeface="Arial"/>
              </a:rPr>
              <a:t>«стандарт»-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  <a:ea typeface="Arial"/>
              </a:rPr>
              <a:t> 31, ответить 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  <a:ea typeface="Arial"/>
              </a:rPr>
              <a:t>вопросы 1-3, 5,6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  <a:ea typeface="Arial"/>
              </a:rPr>
              <a:t>«Хорошо»- выполнить задания в тетради-тренажере стр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rcRect l="0" t="0" r="-21" b="65"/>
          <a:stretch/>
        </p:blipFill>
        <p:spPr>
          <a:xfrm>
            <a:off x="179280" y="115920"/>
            <a:ext cx="5040360" cy="496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rcRect l="0" t="0" r="28" b="85"/>
          <a:stretch/>
        </p:blipFill>
        <p:spPr>
          <a:xfrm>
            <a:off x="3851280" y="2924280"/>
            <a:ext cx="5113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rcRect l="0" t="0" r="-108" b="85"/>
          <a:stretch/>
        </p:blipFill>
        <p:spPr>
          <a:xfrm>
            <a:off x="179280" y="189000"/>
            <a:ext cx="4464000" cy="4263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rcRect l="0" t="0" r="29" b="-23"/>
          <a:stretch/>
        </p:blipFill>
        <p:spPr>
          <a:xfrm>
            <a:off x="4284720" y="2287440"/>
            <a:ext cx="468000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611280" y="1268280"/>
            <a:ext cx="81374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родно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йонирова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rcRect l="0" t="0" r="45" b="-39"/>
          <a:stretch/>
        </p:blipFill>
        <p:spPr>
          <a:xfrm>
            <a:off x="250920" y="189000"/>
            <a:ext cx="5256000" cy="342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rcRect l="0" t="0" r="-47" b="84"/>
          <a:stretch/>
        </p:blipFill>
        <p:spPr>
          <a:xfrm>
            <a:off x="3924360" y="3429000"/>
            <a:ext cx="5040360" cy="3219480"/>
          </a:xfrm>
          <a:prstGeom prst="rect">
            <a:avLst/>
          </a:prstGeom>
          <a:ln w="0">
            <a:noFill/>
          </a:ln>
        </p:spPr>
      </p:pic>
      <p:sp>
        <p:nvSpPr>
          <p:cNvPr id="94" name="WordArt 6"/>
          <p:cNvSpPr txBox="1"/>
          <p:nvPr/>
        </p:nvSpPr>
        <p:spPr>
          <a:xfrm>
            <a:off x="1116000" y="1844640"/>
            <a:ext cx="7128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нообраз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родны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мплексов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4213800" y="1795320"/>
            <a:ext cx="5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63480" y="2124000"/>
            <a:ext cx="3548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Зна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Понятие ПТ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2. Уровни природных комплексов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3. Физико-географическое районирован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4. Разнообразие ПТ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5. Отличие ПК морей от ПК суш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227640" y="2060640"/>
            <a:ext cx="24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Умею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BD00146_"/>
          <p:cNvPicPr/>
          <p:nvPr/>
        </p:nvPicPr>
        <p:blipFill>
          <a:blip r:embed="rId1"/>
          <a:stretch/>
        </p:blipFill>
        <p:spPr>
          <a:xfrm>
            <a:off x="3708360" y="189000"/>
            <a:ext cx="1584360" cy="156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4840200" y="2655720"/>
            <a:ext cx="412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Работать с текст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учебни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2. С картами атла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3. Делать вывод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4. Устанавливат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причинно-следствен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связи;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5. Приводить примеры различных видов ПТ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0" name="Прямая со стрелкой 11"/>
          <p:cNvCxnSpPr/>
          <p:nvPr/>
        </p:nvCxnSpPr>
        <p:spPr>
          <a:xfrm flipH="1">
            <a:off x="2785680" y="2143080"/>
            <a:ext cx="1357920" cy="28656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01" name="Прямая со стрелкой 12"/>
          <p:cNvCxnSpPr/>
          <p:nvPr/>
        </p:nvCxnSpPr>
        <p:spPr>
          <a:xfrm>
            <a:off x="4714920" y="2143080"/>
            <a:ext cx="1286640" cy="28656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735120" y="496800"/>
            <a:ext cx="772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знообразие ПТК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3708360" y="3068640"/>
            <a:ext cx="1584360" cy="1440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5580000" y="2421000"/>
            <a:ext cx="2305080" cy="914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5003640" y="5157720"/>
            <a:ext cx="2232360" cy="936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2268360" y="5157720"/>
            <a:ext cx="2281320" cy="9874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1187280" y="3933720"/>
            <a:ext cx="2067120" cy="9144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3564000" y="1268280"/>
            <a:ext cx="2160360" cy="863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6012000" y="3933720"/>
            <a:ext cx="2158920" cy="93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в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1403280" y="2421000"/>
            <a:ext cx="223200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22"/>
          <p:cNvSpPr/>
          <p:nvPr/>
        </p:nvSpPr>
        <p:spPr>
          <a:xfrm flipH="1">
            <a:off x="3779640" y="2133720"/>
            <a:ext cx="93636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4716360" y="2133720"/>
            <a:ext cx="107964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3635280" y="2852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25"/>
          <p:cNvSpPr/>
          <p:nvPr/>
        </p:nvSpPr>
        <p:spPr>
          <a:xfrm flipH="1">
            <a:off x="3132000" y="2997360"/>
            <a:ext cx="2448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3635280" y="2852640"/>
            <a:ext cx="244944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27"/>
          <p:cNvSpPr/>
          <p:nvPr/>
        </p:nvSpPr>
        <p:spPr>
          <a:xfrm flipH="1">
            <a:off x="4067280" y="2997360"/>
            <a:ext cx="1512720" cy="23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28"/>
          <p:cNvSpPr/>
          <p:nvPr/>
        </p:nvSpPr>
        <p:spPr>
          <a:xfrm>
            <a:off x="5580000" y="2997360"/>
            <a:ext cx="21600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29"/>
          <p:cNvSpPr/>
          <p:nvPr/>
        </p:nvSpPr>
        <p:spPr>
          <a:xfrm flipH="1" flipV="1">
            <a:off x="5003280" y="1988640"/>
            <a:ext cx="576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30"/>
          <p:cNvSpPr/>
          <p:nvPr/>
        </p:nvSpPr>
        <p:spPr>
          <a:xfrm flipH="1" flipV="1">
            <a:off x="3419280" y="2852640"/>
            <a:ext cx="21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31"/>
          <p:cNvSpPr/>
          <p:nvPr/>
        </p:nvSpPr>
        <p:spPr>
          <a:xfrm flipV="1">
            <a:off x="3132000" y="1988640"/>
            <a:ext cx="144000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32"/>
          <p:cNvSpPr/>
          <p:nvPr/>
        </p:nvSpPr>
        <p:spPr>
          <a:xfrm>
            <a:off x="3059280" y="4149720"/>
            <a:ext cx="3241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33"/>
          <p:cNvSpPr/>
          <p:nvPr/>
        </p:nvSpPr>
        <p:spPr>
          <a:xfrm>
            <a:off x="3059280" y="4149720"/>
            <a:ext cx="2376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34"/>
          <p:cNvSpPr/>
          <p:nvPr/>
        </p:nvSpPr>
        <p:spPr>
          <a:xfrm flipH="1" flipV="1">
            <a:off x="4859280" y="2060640"/>
            <a:ext cx="122544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35"/>
          <p:cNvSpPr/>
          <p:nvPr/>
        </p:nvSpPr>
        <p:spPr>
          <a:xfrm flipH="1">
            <a:off x="4067280" y="4437000"/>
            <a:ext cx="20174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36"/>
          <p:cNvSpPr/>
          <p:nvPr/>
        </p:nvSpPr>
        <p:spPr>
          <a:xfrm flipH="1" flipV="1">
            <a:off x="3276720" y="2997000"/>
            <a:ext cx="273528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37"/>
          <p:cNvSpPr/>
          <p:nvPr/>
        </p:nvSpPr>
        <p:spPr>
          <a:xfrm flipH="1">
            <a:off x="2987280" y="443700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38"/>
          <p:cNvSpPr/>
          <p:nvPr/>
        </p:nvSpPr>
        <p:spPr>
          <a:xfrm flipV="1">
            <a:off x="3492360" y="1988640"/>
            <a:ext cx="719280" cy="324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39"/>
          <p:cNvSpPr/>
          <p:nvPr/>
        </p:nvSpPr>
        <p:spPr>
          <a:xfrm flipH="1" flipV="1">
            <a:off x="2842920" y="3141360"/>
            <a:ext cx="64908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40"/>
          <p:cNvSpPr/>
          <p:nvPr/>
        </p:nvSpPr>
        <p:spPr>
          <a:xfrm flipV="1">
            <a:off x="3492360" y="3141360"/>
            <a:ext cx="259236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41"/>
          <p:cNvSpPr/>
          <p:nvPr/>
        </p:nvSpPr>
        <p:spPr>
          <a:xfrm flipV="1">
            <a:off x="3492360" y="4653000"/>
            <a:ext cx="3024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9"/>
          <p:cNvSpPr/>
          <p:nvPr/>
        </p:nvSpPr>
        <p:spPr>
          <a:xfrm>
            <a:off x="324000" y="2060640"/>
            <a:ext cx="57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50"/>
          <p:cNvSpPr/>
          <p:nvPr/>
        </p:nvSpPr>
        <p:spPr>
          <a:xfrm>
            <a:off x="8440560" y="2133720"/>
            <a:ext cx="37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52" descr="AG00090_"/>
          <p:cNvPicPr/>
          <p:nvPr/>
        </p:nvPicPr>
        <p:blipFill>
          <a:blip r:embed="rId1"/>
          <a:stretch/>
        </p:blipFill>
        <p:spPr>
          <a:xfrm rot="19078200">
            <a:off x="6154560" y="1800360"/>
            <a:ext cx="333720" cy="55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3" descr="AG00090_"/>
          <p:cNvPicPr/>
          <p:nvPr/>
        </p:nvPicPr>
        <p:blipFill>
          <a:blip r:embed="rId2"/>
          <a:stretch/>
        </p:blipFill>
        <p:spPr>
          <a:xfrm rot="8304600">
            <a:off x="5657400" y="1886040"/>
            <a:ext cx="333360" cy="57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4" descr="AG00090_"/>
          <p:cNvPicPr/>
          <p:nvPr/>
        </p:nvPicPr>
        <p:blipFill>
          <a:blip r:embed="rId3"/>
          <a:stretch/>
        </p:blipFill>
        <p:spPr>
          <a:xfrm rot="12493200">
            <a:off x="6835320" y="4786200"/>
            <a:ext cx="333360" cy="509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5" descr="AG00090_"/>
          <p:cNvPicPr/>
          <p:nvPr/>
        </p:nvPicPr>
        <p:blipFill>
          <a:blip r:embed="rId4"/>
          <a:stretch/>
        </p:blipFill>
        <p:spPr>
          <a:xfrm rot="2179800">
            <a:off x="6372000" y="4723920"/>
            <a:ext cx="333360" cy="487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6" descr="AG00090_"/>
          <p:cNvPicPr/>
          <p:nvPr/>
        </p:nvPicPr>
        <p:blipFill>
          <a:blip r:embed="rId5"/>
          <a:stretch/>
        </p:blipFill>
        <p:spPr>
          <a:xfrm rot="10800000">
            <a:off x="7020000" y="3357360"/>
            <a:ext cx="333360" cy="502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7" descr="AG00090_"/>
          <p:cNvPicPr/>
          <p:nvPr/>
        </p:nvPicPr>
        <p:blipFill>
          <a:blip r:embed="rId6"/>
          <a:stretch/>
        </p:blipFill>
        <p:spPr>
          <a:xfrm>
            <a:off x="6588000" y="3429000"/>
            <a:ext cx="333360" cy="487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8" descr="AG00090_"/>
          <p:cNvPicPr/>
          <p:nvPr/>
        </p:nvPicPr>
        <p:blipFill>
          <a:blip r:embed="rId7"/>
          <a:stretch/>
        </p:blipFill>
        <p:spPr>
          <a:xfrm rot="16200000">
            <a:off x="4693320" y="5612400"/>
            <a:ext cx="333360" cy="57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9" descr="AG00090_"/>
          <p:cNvPicPr/>
          <p:nvPr/>
        </p:nvPicPr>
        <p:blipFill>
          <a:blip r:embed="rId8"/>
          <a:stretch/>
        </p:blipFill>
        <p:spPr>
          <a:xfrm rot="5400000">
            <a:off x="4548960" y="5257080"/>
            <a:ext cx="333360" cy="576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0" descr="AG00090_"/>
          <p:cNvPicPr/>
          <p:nvPr/>
        </p:nvPicPr>
        <p:blipFill>
          <a:blip r:embed="rId9"/>
          <a:stretch/>
        </p:blipFill>
        <p:spPr>
          <a:xfrm rot="9283200">
            <a:off x="2569680" y="4721040"/>
            <a:ext cx="333360" cy="43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1" descr="AG00090_"/>
          <p:cNvPicPr/>
          <p:nvPr/>
        </p:nvPicPr>
        <p:blipFill>
          <a:blip r:embed="rId10"/>
          <a:stretch/>
        </p:blipFill>
        <p:spPr>
          <a:xfrm rot="19991400">
            <a:off x="2235240" y="4944960"/>
            <a:ext cx="33336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2" descr="AG00090_"/>
          <p:cNvPicPr/>
          <p:nvPr/>
        </p:nvPicPr>
        <p:blipFill>
          <a:blip r:embed="rId11"/>
          <a:stretch/>
        </p:blipFill>
        <p:spPr>
          <a:xfrm rot="1135800">
            <a:off x="2195640" y="3357360"/>
            <a:ext cx="333360" cy="631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3" descr="AG00090_"/>
          <p:cNvPicPr/>
          <p:nvPr/>
        </p:nvPicPr>
        <p:blipFill>
          <a:blip r:embed="rId12"/>
          <a:stretch/>
        </p:blipFill>
        <p:spPr>
          <a:xfrm rot="11905800">
            <a:off x="1763280" y="3212280"/>
            <a:ext cx="333360" cy="701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4" descr="AG00090_"/>
          <p:cNvPicPr/>
          <p:nvPr/>
        </p:nvPicPr>
        <p:blipFill>
          <a:blip r:embed="rId13"/>
          <a:stretch/>
        </p:blipFill>
        <p:spPr>
          <a:xfrm rot="3060000">
            <a:off x="2801160" y="1731240"/>
            <a:ext cx="333360" cy="649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5" descr="AG00090_"/>
          <p:cNvPicPr/>
          <p:nvPr/>
        </p:nvPicPr>
        <p:blipFill>
          <a:blip r:embed="rId14"/>
          <a:stretch/>
        </p:blipFill>
        <p:spPr>
          <a:xfrm rot="13702800">
            <a:off x="3294360" y="1897920"/>
            <a:ext cx="33336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rcRect l="0" t="0" r="-47" b="84"/>
          <a:stretch/>
        </p:blipFill>
        <p:spPr>
          <a:xfrm>
            <a:off x="2050920" y="476280"/>
            <a:ext cx="5040360" cy="32194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324000" y="3900600"/>
            <a:ext cx="1302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ТК (природный территориальный комплекс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       –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это закономерное сочетани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взаимосвязанных компонентов прир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на определенной территор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0" y="115920"/>
            <a:ext cx="4681440" cy="35114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4336200" y="755640"/>
            <a:ext cx="42652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начен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ельское хозяйст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Лесовод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лиор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екреационного де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троительство доро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троительство город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троительств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омышлен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едприят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24000" y="3429000"/>
            <a:ext cx="4572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.В.Докучае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оздател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чения о ландшафт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6:41:13Z</dcterms:created>
  <dc:creator>user</dc:creator>
  <dc:description/>
  <dc:language>en-US</dc:language>
  <cp:lastModifiedBy>User</cp:lastModifiedBy>
  <dcterms:modified xsi:type="dcterms:W3CDTF">2011-09-21T18:45:29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d0000000000010250300207f7000400038000</vt:lpwstr>
  </property>
</Properties>
</file>