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FA7-6BED-4D79-9402-1472D25B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608-9163-48AD-85B8-8822CD6F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652-E6EC-4523-9E43-BD4DBCB7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B03F-5254-46C6-962F-A401E065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FBBE-D6EC-4580-8005-11B523C0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A8FE-F8A4-4DA6-AAB3-D37FA812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C4A1-8E79-4CC0-AD87-1A7CE44B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85FE-7CA6-40FC-AD53-4861770F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1410-AA9B-4D6A-9E71-7F1642F9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06F3-3097-490F-A168-BD90D451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A431-3305-4E47-ADB2-EB523C55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300-64B0-449B-8F09-650C2F38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C8F8-60D2-401D-A512-AD45BC79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1510-053E-4683-BEE0-3A0AE73A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6F4A-A9E3-44DF-90FD-6B898F93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F809-525F-4CB2-9504-A4EAD8F7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8689-577D-4A36-A3E0-D7681DA1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527-822B-4610-A549-6FCFA5E7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E25-02DA-4211-9286-D22C07B0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D94-A439-444C-8E8D-F3BEB136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3A8-DAB7-43A2-8852-E27072AC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0A03-E100-480E-93EC-C6FDB4B8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DD0-A4B8-4986-995A-8B847FE1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C2B-B62D-4753-82B8-1E9F8553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2CB1-3409-421E-B7F2-7E75151A5BA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BE8C-A488-4234-A38F-1518D5A1B2A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rcRect l="0" t="0" r="127" b="0"/>
          <a:stretch/>
        </p:blipFill>
        <p:spPr>
          <a:xfrm>
            <a:off x="179280" y="189000"/>
            <a:ext cx="3889440" cy="518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rcRect l="0" t="0" r="-43" b="-8"/>
          <a:stretch/>
        </p:blipFill>
        <p:spPr>
          <a:xfrm>
            <a:off x="4284720" y="2367000"/>
            <a:ext cx="46814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095480" y="37296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ровни природных комплек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11280" y="1700280"/>
            <a:ext cx="22320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окальны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419640" y="1700280"/>
            <a:ext cx="237636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гиональны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372360" y="1700280"/>
            <a:ext cx="216036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лобальны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82760" y="3357720"/>
            <a:ext cx="804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а основе работы с текстом учебника (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 31, стр. 147- 148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), приведите примеры природных комплексов разного уров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9"/>
          <p:cNvSpPr/>
          <p:nvPr/>
        </p:nvSpPr>
        <p:spPr>
          <a:xfrm rot="5400000">
            <a:off x="4146840" y="1261080"/>
            <a:ext cx="976320" cy="269640"/>
          </a:xfrm>
          <a:prstGeom prst="rightArrow">
            <a:avLst>
              <a:gd name="adj1" fmla="val 50000"/>
              <a:gd name="adj2" fmla="val 9052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10"/>
          <p:cNvSpPr/>
          <p:nvPr/>
        </p:nvSpPr>
        <p:spPr>
          <a:xfrm rot="9310200">
            <a:off x="2410920" y="1267920"/>
            <a:ext cx="2086200" cy="287640"/>
          </a:xfrm>
          <a:prstGeom prst="rightArrow">
            <a:avLst>
              <a:gd name="adj1" fmla="val 50000"/>
              <a:gd name="adj2" fmla="val 18132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11"/>
          <p:cNvSpPr/>
          <p:nvPr/>
        </p:nvSpPr>
        <p:spPr>
          <a:xfrm rot="1566000">
            <a:off x="4788000" y="1341360"/>
            <a:ext cx="2160360" cy="263520"/>
          </a:xfrm>
          <a:prstGeom prst="rightArrow">
            <a:avLst>
              <a:gd name="adj1" fmla="val 50000"/>
              <a:gd name="adj2" fmla="val 20495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808200" y="333360"/>
            <a:ext cx="736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Физико-географическое районирован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справка 008"/>
          <p:cNvPicPr/>
          <p:nvPr/>
        </p:nvPicPr>
        <p:blipFill>
          <a:blip r:embed="rId1"/>
          <a:srcRect l="0" t="0" r="8" b="92"/>
          <a:stretch/>
        </p:blipFill>
        <p:spPr>
          <a:xfrm>
            <a:off x="179280" y="1557360"/>
            <a:ext cx="4319640" cy="36543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4716360" y="1720800"/>
            <a:ext cx="4476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чему территория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оссии поделена на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изико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географическ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айон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азовите крупные ПТК на территории Росс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50920" y="404640"/>
            <a:ext cx="93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оря как крупные природные комплекс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76200" y="1287360"/>
            <a:ext cx="84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На основе работы с текстом учебника 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§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31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стр. 150 – 151 охарактеризуйте природ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комплекс Азовского мор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Информацию сверните в схе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492360" y="4365720"/>
            <a:ext cx="216072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зовско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1187280" y="3645000"/>
            <a:ext cx="180036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урс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6084720" y="3500280"/>
            <a:ext cx="19432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3348000" y="5661000"/>
            <a:ext cx="223200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971640" y="5084640"/>
            <a:ext cx="201600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6012000" y="5084640"/>
            <a:ext cx="2089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ческ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3492360" y="3213000"/>
            <a:ext cx="201636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ческ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468360" y="6397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ТК природные и антропогенны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24000" y="1700280"/>
            <a:ext cx="8723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м отличаются природные ПТК о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антропогенных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иведите примеры природных ПТК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 антропогенны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оанализируйте рис. 56 учебника на стр. 15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ставьте схему:  «Виды антропог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ТК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ыпишите понятие «антропог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андшафты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808200" y="765000"/>
            <a:ext cx="77500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ктическая работа:  составьте характеристику одного из природных комплексов по плану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) особенности географического полож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Б) типичны внешний обли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) особенности сочетания компонентов прир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данной ПТ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) причины выявленных особен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) оценка природных условий и природ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есурсов для жизни и хозяйственно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ятельности челове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) экологические проблемы ПТ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3132000" y="51912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Оценит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свою работу на урок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55640" y="1844640"/>
            <a:ext cx="80643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егодня на уроке мне было 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нания, полученные на уроке,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е пригодятся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егодня я…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е было легко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е было сложно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 том, что я узнал (а), я расскажу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6" descr="AG00020_"/>
          <p:cNvPicPr/>
          <p:nvPr/>
        </p:nvPicPr>
        <p:blipFill>
          <a:blip r:embed="rId1"/>
          <a:stretch/>
        </p:blipFill>
        <p:spPr>
          <a:xfrm>
            <a:off x="755640" y="260280"/>
            <a:ext cx="18003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908000" y="1628640"/>
            <a:ext cx="6735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«стандарт»-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 31, ответить 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вопросы 1-3, 5,6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«Хорошо»- выполнить задания в тетради-тренажере стр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rcRect l="0" t="0" r="-21" b="65"/>
          <a:stretch/>
        </p:blipFill>
        <p:spPr>
          <a:xfrm>
            <a:off x="179280" y="115920"/>
            <a:ext cx="5040360" cy="496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rcRect l="0" t="0" r="28" b="85"/>
          <a:stretch/>
        </p:blipFill>
        <p:spPr>
          <a:xfrm>
            <a:off x="3851280" y="2924280"/>
            <a:ext cx="5113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rcRect l="0" t="0" r="-108" b="85"/>
          <a:stretch/>
        </p:blipFill>
        <p:spPr>
          <a:xfrm>
            <a:off x="179280" y="189000"/>
            <a:ext cx="4464000" cy="4263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rcRect l="0" t="0" r="29" b="-23"/>
          <a:stretch/>
        </p:blipFill>
        <p:spPr>
          <a:xfrm>
            <a:off x="4284720" y="2287440"/>
            <a:ext cx="46800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611280" y="1268280"/>
            <a:ext cx="81374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родн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йонирова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rcRect l="0" t="0" r="45" b="-39"/>
          <a:stretch/>
        </p:blipFill>
        <p:spPr>
          <a:xfrm>
            <a:off x="250920" y="189000"/>
            <a:ext cx="5256000" cy="342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rcRect l="0" t="0" r="-47" b="84"/>
          <a:stretch/>
        </p:blipFill>
        <p:spPr>
          <a:xfrm>
            <a:off x="3924360" y="3429000"/>
            <a:ext cx="5040360" cy="3219480"/>
          </a:xfrm>
          <a:prstGeom prst="rect">
            <a:avLst/>
          </a:prstGeom>
          <a:ln w="0">
            <a:noFill/>
          </a:ln>
        </p:spPr>
      </p:pic>
      <p:sp>
        <p:nvSpPr>
          <p:cNvPr id="94" name="WordArt 6"/>
          <p:cNvSpPr txBox="1"/>
          <p:nvPr/>
        </p:nvSpPr>
        <p:spPr>
          <a:xfrm>
            <a:off x="1116000" y="1844640"/>
            <a:ext cx="7128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нообраз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родны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плексов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4213800" y="1795320"/>
            <a:ext cx="5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63480" y="2124000"/>
            <a:ext cx="3548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Зна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Понятие ПТ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2. Уровни природных комплексов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3. Физико-географическое районирова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4. Разнообразие ПТ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5. Отличие ПК морей от ПК суш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227640" y="2060640"/>
            <a:ext cx="24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Умею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BD00146_"/>
          <p:cNvPicPr/>
          <p:nvPr/>
        </p:nvPicPr>
        <p:blipFill>
          <a:blip r:embed="rId1"/>
          <a:stretch/>
        </p:blipFill>
        <p:spPr>
          <a:xfrm>
            <a:off x="3708360" y="189000"/>
            <a:ext cx="1584360" cy="156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4840200" y="2655720"/>
            <a:ext cx="412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Работать с текст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учеб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2. С картами атла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3. Делать вывод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4. Устанавлива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причинно-следстве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связи;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5. Приводить примеры различных видов ПТ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0" name="Прямая со стрелкой 11"/>
          <p:cNvCxnSpPr/>
          <p:nvPr/>
        </p:nvCxnSpPr>
        <p:spPr>
          <a:xfrm flipH="1">
            <a:off x="2785680" y="2143080"/>
            <a:ext cx="1357920" cy="2865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01" name="Прямая со стрелкой 12"/>
          <p:cNvCxnSpPr/>
          <p:nvPr/>
        </p:nvCxnSpPr>
        <p:spPr>
          <a:xfrm>
            <a:off x="4714920" y="2143080"/>
            <a:ext cx="1286640" cy="2865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35120" y="496800"/>
            <a:ext cx="772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знообразие ПТ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3708360" y="3068640"/>
            <a:ext cx="1584360" cy="1440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5580000" y="2421000"/>
            <a:ext cx="230508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5003640" y="5157720"/>
            <a:ext cx="223236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268360" y="5157720"/>
            <a:ext cx="2281320" cy="987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1187280" y="3933720"/>
            <a:ext cx="2067120" cy="9144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3564000" y="1268280"/>
            <a:ext cx="2160360" cy="863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6012000" y="3933720"/>
            <a:ext cx="2158920" cy="93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в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1403280" y="2421000"/>
            <a:ext cx="223200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22"/>
          <p:cNvSpPr/>
          <p:nvPr/>
        </p:nvSpPr>
        <p:spPr>
          <a:xfrm flipH="1">
            <a:off x="3779640" y="2133720"/>
            <a:ext cx="93636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4716360" y="2133720"/>
            <a:ext cx="1079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3635280" y="2852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25"/>
          <p:cNvSpPr/>
          <p:nvPr/>
        </p:nvSpPr>
        <p:spPr>
          <a:xfrm flipH="1">
            <a:off x="3132000" y="2997360"/>
            <a:ext cx="244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3635280" y="2852640"/>
            <a:ext cx="244944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27"/>
          <p:cNvSpPr/>
          <p:nvPr/>
        </p:nvSpPr>
        <p:spPr>
          <a:xfrm flipH="1">
            <a:off x="4067280" y="2997360"/>
            <a:ext cx="151272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5580000" y="2997360"/>
            <a:ext cx="21600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29"/>
          <p:cNvSpPr/>
          <p:nvPr/>
        </p:nvSpPr>
        <p:spPr>
          <a:xfrm flipH="1" flipV="1">
            <a:off x="5003280" y="1988640"/>
            <a:ext cx="576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30"/>
          <p:cNvSpPr/>
          <p:nvPr/>
        </p:nvSpPr>
        <p:spPr>
          <a:xfrm flipH="1" flipV="1">
            <a:off x="3419280" y="2852640"/>
            <a:ext cx="21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31"/>
          <p:cNvSpPr/>
          <p:nvPr/>
        </p:nvSpPr>
        <p:spPr>
          <a:xfrm flipV="1">
            <a:off x="3132000" y="1988640"/>
            <a:ext cx="144000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2"/>
          <p:cNvSpPr/>
          <p:nvPr/>
        </p:nvSpPr>
        <p:spPr>
          <a:xfrm>
            <a:off x="3059280" y="4149720"/>
            <a:ext cx="324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33"/>
          <p:cNvSpPr/>
          <p:nvPr/>
        </p:nvSpPr>
        <p:spPr>
          <a:xfrm>
            <a:off x="3059280" y="4149720"/>
            <a:ext cx="2376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34"/>
          <p:cNvSpPr/>
          <p:nvPr/>
        </p:nvSpPr>
        <p:spPr>
          <a:xfrm flipH="1" flipV="1">
            <a:off x="4859280" y="2060640"/>
            <a:ext cx="12254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35"/>
          <p:cNvSpPr/>
          <p:nvPr/>
        </p:nvSpPr>
        <p:spPr>
          <a:xfrm flipH="1">
            <a:off x="4067280" y="4437000"/>
            <a:ext cx="2017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36"/>
          <p:cNvSpPr/>
          <p:nvPr/>
        </p:nvSpPr>
        <p:spPr>
          <a:xfrm flipH="1" flipV="1">
            <a:off x="3276720" y="2997000"/>
            <a:ext cx="27352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37"/>
          <p:cNvSpPr/>
          <p:nvPr/>
        </p:nvSpPr>
        <p:spPr>
          <a:xfrm flipH="1">
            <a:off x="2987280" y="443700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38"/>
          <p:cNvSpPr/>
          <p:nvPr/>
        </p:nvSpPr>
        <p:spPr>
          <a:xfrm flipV="1">
            <a:off x="3492360" y="1988640"/>
            <a:ext cx="719280" cy="32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39"/>
          <p:cNvSpPr/>
          <p:nvPr/>
        </p:nvSpPr>
        <p:spPr>
          <a:xfrm flipH="1" flipV="1">
            <a:off x="2842920" y="3141360"/>
            <a:ext cx="64908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40"/>
          <p:cNvSpPr/>
          <p:nvPr/>
        </p:nvSpPr>
        <p:spPr>
          <a:xfrm flipV="1">
            <a:off x="3492360" y="3141360"/>
            <a:ext cx="259236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41"/>
          <p:cNvSpPr/>
          <p:nvPr/>
        </p:nvSpPr>
        <p:spPr>
          <a:xfrm flipV="1">
            <a:off x="3492360" y="4653000"/>
            <a:ext cx="3024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9"/>
          <p:cNvSpPr/>
          <p:nvPr/>
        </p:nvSpPr>
        <p:spPr>
          <a:xfrm>
            <a:off x="324000" y="2060640"/>
            <a:ext cx="57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8440560" y="2133720"/>
            <a:ext cx="37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52" descr="AG00090_"/>
          <p:cNvPicPr/>
          <p:nvPr/>
        </p:nvPicPr>
        <p:blipFill>
          <a:blip r:embed="rId1"/>
          <a:stretch/>
        </p:blipFill>
        <p:spPr>
          <a:xfrm rot="19078200">
            <a:off x="6154560" y="1800360"/>
            <a:ext cx="333720" cy="55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3" descr="AG00090_"/>
          <p:cNvPicPr/>
          <p:nvPr/>
        </p:nvPicPr>
        <p:blipFill>
          <a:blip r:embed="rId2"/>
          <a:stretch/>
        </p:blipFill>
        <p:spPr>
          <a:xfrm rot="8304600">
            <a:off x="5657400" y="1886040"/>
            <a:ext cx="333360" cy="57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4" descr="AG00090_"/>
          <p:cNvPicPr/>
          <p:nvPr/>
        </p:nvPicPr>
        <p:blipFill>
          <a:blip r:embed="rId3"/>
          <a:stretch/>
        </p:blipFill>
        <p:spPr>
          <a:xfrm rot="12493200">
            <a:off x="6835320" y="4786200"/>
            <a:ext cx="333360" cy="509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5" descr="AG00090_"/>
          <p:cNvPicPr/>
          <p:nvPr/>
        </p:nvPicPr>
        <p:blipFill>
          <a:blip r:embed="rId4"/>
          <a:stretch/>
        </p:blipFill>
        <p:spPr>
          <a:xfrm rot="2179800">
            <a:off x="6372000" y="4723920"/>
            <a:ext cx="333360" cy="48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6" descr="AG00090_"/>
          <p:cNvPicPr/>
          <p:nvPr/>
        </p:nvPicPr>
        <p:blipFill>
          <a:blip r:embed="rId5"/>
          <a:stretch/>
        </p:blipFill>
        <p:spPr>
          <a:xfrm rot="10800000">
            <a:off x="7020000" y="3357360"/>
            <a:ext cx="333360" cy="50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7" descr="AG00090_"/>
          <p:cNvPicPr/>
          <p:nvPr/>
        </p:nvPicPr>
        <p:blipFill>
          <a:blip r:embed="rId6"/>
          <a:stretch/>
        </p:blipFill>
        <p:spPr>
          <a:xfrm>
            <a:off x="6588000" y="3429000"/>
            <a:ext cx="333360" cy="487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8" descr="AG00090_"/>
          <p:cNvPicPr/>
          <p:nvPr/>
        </p:nvPicPr>
        <p:blipFill>
          <a:blip r:embed="rId7"/>
          <a:stretch/>
        </p:blipFill>
        <p:spPr>
          <a:xfrm rot="16200000">
            <a:off x="4693320" y="5612400"/>
            <a:ext cx="33336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9" descr="AG00090_"/>
          <p:cNvPicPr/>
          <p:nvPr/>
        </p:nvPicPr>
        <p:blipFill>
          <a:blip r:embed="rId8"/>
          <a:stretch/>
        </p:blipFill>
        <p:spPr>
          <a:xfrm rot="5400000">
            <a:off x="4548960" y="5257080"/>
            <a:ext cx="333360" cy="57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0" descr="AG00090_"/>
          <p:cNvPicPr/>
          <p:nvPr/>
        </p:nvPicPr>
        <p:blipFill>
          <a:blip r:embed="rId9"/>
          <a:stretch/>
        </p:blipFill>
        <p:spPr>
          <a:xfrm rot="9283200">
            <a:off x="2569680" y="4721040"/>
            <a:ext cx="333360" cy="43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1" descr="AG00090_"/>
          <p:cNvPicPr/>
          <p:nvPr/>
        </p:nvPicPr>
        <p:blipFill>
          <a:blip r:embed="rId10"/>
          <a:stretch/>
        </p:blipFill>
        <p:spPr>
          <a:xfrm rot="19991400">
            <a:off x="2235240" y="4944960"/>
            <a:ext cx="3333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2" descr="AG00090_"/>
          <p:cNvPicPr/>
          <p:nvPr/>
        </p:nvPicPr>
        <p:blipFill>
          <a:blip r:embed="rId11"/>
          <a:stretch/>
        </p:blipFill>
        <p:spPr>
          <a:xfrm rot="1135800">
            <a:off x="2195640" y="3357360"/>
            <a:ext cx="333360" cy="631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3" descr="AG00090_"/>
          <p:cNvPicPr/>
          <p:nvPr/>
        </p:nvPicPr>
        <p:blipFill>
          <a:blip r:embed="rId12"/>
          <a:stretch/>
        </p:blipFill>
        <p:spPr>
          <a:xfrm rot="11905800">
            <a:off x="1763280" y="3212280"/>
            <a:ext cx="333360" cy="701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4" descr="AG00090_"/>
          <p:cNvPicPr/>
          <p:nvPr/>
        </p:nvPicPr>
        <p:blipFill>
          <a:blip r:embed="rId13"/>
          <a:stretch/>
        </p:blipFill>
        <p:spPr>
          <a:xfrm rot="3060000">
            <a:off x="2801160" y="1731240"/>
            <a:ext cx="333360" cy="649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5" descr="AG00090_"/>
          <p:cNvPicPr/>
          <p:nvPr/>
        </p:nvPicPr>
        <p:blipFill>
          <a:blip r:embed="rId14"/>
          <a:stretch/>
        </p:blipFill>
        <p:spPr>
          <a:xfrm rot="13702800">
            <a:off x="3294360" y="1897920"/>
            <a:ext cx="3333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rcRect l="0" t="0" r="-47" b="84"/>
          <a:stretch/>
        </p:blipFill>
        <p:spPr>
          <a:xfrm>
            <a:off x="2050920" y="476280"/>
            <a:ext cx="5040360" cy="3219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24000" y="3900600"/>
            <a:ext cx="1302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ТК (природный территориальный комплекс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   –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это закономерное сочетан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заимосвязанных компонентов прир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на определенной территор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4681440" cy="3511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4336200" y="755640"/>
            <a:ext cx="4265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наче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ельское хозяй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Лесовод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лиор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екреационного де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троительство доро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троительство город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троительств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омышлен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едприят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24000" y="3429000"/>
            <a:ext cx="4572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.В.Докучае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оздател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чения о ландшафт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6:41:13Z</dcterms:created>
  <dc:creator>user</dc:creator>
  <dc:description/>
  <dc:language>en-US</dc:language>
  <cp:lastModifiedBy>User</cp:lastModifiedBy>
  <dcterms:modified xsi:type="dcterms:W3CDTF">2011-09-21T18:45:29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50300207f7000400038000</vt:lpwstr>
  </property>
</Properties>
</file>