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414-2BC3-4B5D-8250-9814C908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3E7-5C7E-4186-9534-DFF347E2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430-E95C-42D3-99AD-329E6B6A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550-7DF1-4D0C-B3AE-8632708E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0FB2-57F6-4E35-8C3E-53A6E053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B62D-741A-4E57-8E35-CC9B595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FBA-42D1-47CA-9907-152DEDB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061-7DD3-4A5F-8574-5AD9313B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08D0-BBB2-44F9-9D41-796DCA3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4977-D259-481F-9472-21083360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452-6A64-4C2B-8B68-15409DD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949-452C-4F9B-A79F-0670A385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334A-F7A9-4636-845F-05D341B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7A3D-701D-4D93-96C8-3EF4B8B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6CC-F054-4F0F-80F8-1848B4E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9CF-0A78-4633-B4ED-AB1823B6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C1D6-A691-409C-A59C-14A45970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238-25A1-4E25-9AB5-F0387D5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B94-6496-401E-8BD3-522481A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F5B-9ED6-4443-8959-DC6A0E1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F40-4269-48FB-9AAB-6A1CB17F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751-EF6B-46DB-A0C0-FC0FC2A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8D8-FF7B-4AAA-B247-D0D9760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2AF-9E2E-4806-8C68-1FC87A8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448-A45A-4E25-835F-02CCE91233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0A9C-8ABB-4FD9-936C-5F19CE2942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0" t="0" r="127" b="0"/>
          <a:stretch/>
        </p:blipFill>
        <p:spPr>
          <a:xfrm>
            <a:off x="179280" y="189000"/>
            <a:ext cx="388944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rcRect l="0" t="0" r="-43" b="-8"/>
          <a:stretch/>
        </p:blipFill>
        <p:spPr>
          <a:xfrm>
            <a:off x="4284720" y="2367000"/>
            <a:ext cx="4681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095480" y="37296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вни природных комплек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11280" y="1700280"/>
            <a:ext cx="22320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к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19640" y="1700280"/>
            <a:ext cx="2376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гион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372360" y="1700280"/>
            <a:ext cx="2160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об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2760" y="3357720"/>
            <a:ext cx="80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31, стр. 147- 148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, приведите примеры природных комплексов разного уров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9"/>
          <p:cNvSpPr/>
          <p:nvPr/>
        </p:nvSpPr>
        <p:spPr>
          <a:xfrm rot="5400000">
            <a:off x="4146840" y="126108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 rot="9310200">
            <a:off x="2410920" y="1267920"/>
            <a:ext cx="2086200" cy="287640"/>
          </a:xfrm>
          <a:prstGeom prst="rightArrow">
            <a:avLst>
              <a:gd name="adj1" fmla="val 50000"/>
              <a:gd name="adj2" fmla="val 18132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1"/>
          <p:cNvSpPr/>
          <p:nvPr/>
        </p:nvSpPr>
        <p:spPr>
          <a:xfrm rot="1566000">
            <a:off x="4788000" y="1341360"/>
            <a:ext cx="2160360" cy="263520"/>
          </a:xfrm>
          <a:prstGeom prst="rightArrow">
            <a:avLst>
              <a:gd name="adj1" fmla="val 50000"/>
              <a:gd name="adj2" fmla="val 20495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808200" y="33336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Физико-географическое райониров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справка 008"/>
          <p:cNvPicPr/>
          <p:nvPr/>
        </p:nvPicPr>
        <p:blipFill>
          <a:blip r:embed="rId1"/>
          <a:srcRect l="0" t="0" r="8" b="92"/>
          <a:stretch/>
        </p:blipFill>
        <p:spPr>
          <a:xfrm>
            <a:off x="179280" y="1557360"/>
            <a:ext cx="4319640" cy="3654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716360" y="1720800"/>
            <a:ext cx="44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территория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оссии поделена н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изико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еографическ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йо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зовите крупные ПТК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0920" y="404640"/>
            <a:ext cx="93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оря как крупные природные комплек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76200" y="1287360"/>
            <a:ext cx="84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31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тр. 150 – 151 охарактеризуйте природ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комплекс Азовского мор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492360" y="4365720"/>
            <a:ext cx="216072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ов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1187280" y="3645000"/>
            <a:ext cx="1800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084720" y="3500280"/>
            <a:ext cx="19432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348000" y="5661000"/>
            <a:ext cx="2232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971640" y="5084640"/>
            <a:ext cx="2016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6012000" y="5084640"/>
            <a:ext cx="2089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492360" y="3213000"/>
            <a:ext cx="2016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68360" y="63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ТК природные и антропогенны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700280"/>
            <a:ext cx="872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м отличаются природные ПТК о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тропоген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едите примеры природных ПТ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 антропоге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оанализируйте рис. 56 учебника на стр. 15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ставьте схему:  «Виды антропог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ТК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ишите понятие «антропог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шафты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808200" y="765000"/>
            <a:ext cx="7750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ктическая работа:  составьте характеристику одного из природных комплексов по план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) особенности географического полож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) типичны внешний обли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) особенности сочетания компонентов при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анной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) причины выявлен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) оценка природных условий и природ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сурсов для жизни и хозяй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) экологические проблемы ПТ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1844640"/>
            <a:ext cx="8064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ния, полученные на уроке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пригодятся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6" descr="AG00020_"/>
          <p:cNvPicPr/>
          <p:nvPr/>
        </p:nvPicPr>
        <p:blipFill>
          <a:blip r:embed="rId1"/>
          <a:stretch/>
        </p:blipFill>
        <p:spPr>
          <a:xfrm>
            <a:off x="755640" y="26028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908000" y="1628640"/>
            <a:ext cx="6735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стандарт»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31, ответить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вопросы 1-3, 5,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Хорошо»- выполнить задания в тетради-тренажере стр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0" t="0" r="-21" b="65"/>
          <a:stretch/>
        </p:blipFill>
        <p:spPr>
          <a:xfrm>
            <a:off x="179280" y="115920"/>
            <a:ext cx="5040360" cy="49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rcRect l="0" t="0" r="28" b="85"/>
          <a:stretch/>
        </p:blipFill>
        <p:spPr>
          <a:xfrm>
            <a:off x="3851280" y="292428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0" t="0" r="-108" b="85"/>
          <a:stretch/>
        </p:blipFill>
        <p:spPr>
          <a:xfrm>
            <a:off x="179280" y="189000"/>
            <a:ext cx="4464000" cy="426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0" t="0" r="29" b="-23"/>
          <a:stretch/>
        </p:blipFill>
        <p:spPr>
          <a:xfrm>
            <a:off x="4284720" y="2287440"/>
            <a:ext cx="4680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11280" y="1268280"/>
            <a:ext cx="8137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йониров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rcRect l="0" t="0" r="45" b="-39"/>
          <a:stretch/>
        </p:blipFill>
        <p:spPr>
          <a:xfrm>
            <a:off x="250920" y="189000"/>
            <a:ext cx="5256000" cy="342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-47" b="84"/>
          <a:stretch/>
        </p:blipFill>
        <p:spPr>
          <a:xfrm>
            <a:off x="3924360" y="342900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1116000" y="1844640"/>
            <a:ext cx="712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лексов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213800" y="17953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3480" y="2124000"/>
            <a:ext cx="3548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онят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Уровни природных комплексов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Физико-географическое районирова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Разнообраз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Отличие ПК морей от ПК суш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227640" y="206064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Уме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BD00146_"/>
          <p:cNvPicPr/>
          <p:nvPr/>
        </p:nvPicPr>
        <p:blipFill>
          <a:blip r:embed="rId1"/>
          <a:stretch/>
        </p:blipFill>
        <p:spPr>
          <a:xfrm>
            <a:off x="3708360" y="189000"/>
            <a:ext cx="1584360" cy="156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840200" y="2655720"/>
            <a:ext cx="412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С картами атла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Дел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Устанавлив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ричинно-след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вязи;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Приводить примеры различных видов ПТ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" name="Прямая со стрелкой 11"/>
          <p:cNvCxnSpPr/>
          <p:nvPr/>
        </p:nvCxnSpPr>
        <p:spPr>
          <a:xfrm flipH="1">
            <a:off x="2785680" y="2143080"/>
            <a:ext cx="135792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/>
          <p:nvPr/>
        </p:nvCxnSpPr>
        <p:spPr>
          <a:xfrm>
            <a:off x="4714920" y="2143080"/>
            <a:ext cx="128664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35120" y="4968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нообразие ПТ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708360" y="3068640"/>
            <a:ext cx="1584360" cy="1440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580000" y="2421000"/>
            <a:ext cx="230508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003640" y="5157720"/>
            <a:ext cx="223236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268360" y="5157720"/>
            <a:ext cx="2281320" cy="987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1187280" y="3933720"/>
            <a:ext cx="206712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3564000" y="1268280"/>
            <a:ext cx="2160360" cy="863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012000" y="3933720"/>
            <a:ext cx="215892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1403280" y="2421000"/>
            <a:ext cx="223200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3779640" y="2133720"/>
            <a:ext cx="93636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716360" y="2133720"/>
            <a:ext cx="107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3635280" y="2852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3132000" y="2997360"/>
            <a:ext cx="24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3635280" y="2852640"/>
            <a:ext cx="24494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4067280" y="2997360"/>
            <a:ext cx="151272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5580000" y="2997360"/>
            <a:ext cx="21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29"/>
          <p:cNvSpPr/>
          <p:nvPr/>
        </p:nvSpPr>
        <p:spPr>
          <a:xfrm flipH="1" flipV="1">
            <a:off x="5003280" y="198864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0"/>
          <p:cNvSpPr/>
          <p:nvPr/>
        </p:nvSpPr>
        <p:spPr>
          <a:xfrm flipH="1" flipV="1">
            <a:off x="3419280" y="2852640"/>
            <a:ext cx="21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31"/>
          <p:cNvSpPr/>
          <p:nvPr/>
        </p:nvSpPr>
        <p:spPr>
          <a:xfrm flipV="1">
            <a:off x="3132000" y="1988640"/>
            <a:ext cx="1440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3059280" y="4149720"/>
            <a:ext cx="32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3059280" y="4149720"/>
            <a:ext cx="2376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4"/>
          <p:cNvSpPr/>
          <p:nvPr/>
        </p:nvSpPr>
        <p:spPr>
          <a:xfrm flipH="1" flipV="1">
            <a:off x="4859280" y="2060640"/>
            <a:ext cx="1225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4067280" y="4437000"/>
            <a:ext cx="20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6"/>
          <p:cNvSpPr/>
          <p:nvPr/>
        </p:nvSpPr>
        <p:spPr>
          <a:xfrm flipH="1" flipV="1">
            <a:off x="3276720" y="2997000"/>
            <a:ext cx="2735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7"/>
          <p:cNvSpPr/>
          <p:nvPr/>
        </p:nvSpPr>
        <p:spPr>
          <a:xfrm flipH="1">
            <a:off x="2987280" y="4437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38"/>
          <p:cNvSpPr/>
          <p:nvPr/>
        </p:nvSpPr>
        <p:spPr>
          <a:xfrm flipV="1">
            <a:off x="3492360" y="1988640"/>
            <a:ext cx="71928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39"/>
          <p:cNvSpPr/>
          <p:nvPr/>
        </p:nvSpPr>
        <p:spPr>
          <a:xfrm flipH="1" flipV="1">
            <a:off x="2842920" y="3141360"/>
            <a:ext cx="64908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0"/>
          <p:cNvSpPr/>
          <p:nvPr/>
        </p:nvSpPr>
        <p:spPr>
          <a:xfrm flipV="1">
            <a:off x="3492360" y="3141360"/>
            <a:ext cx="2592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3492360" y="4653000"/>
            <a:ext cx="302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324000" y="2060640"/>
            <a:ext cx="57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8440560" y="2133720"/>
            <a:ext cx="37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2" descr="AG00090_"/>
          <p:cNvPicPr/>
          <p:nvPr/>
        </p:nvPicPr>
        <p:blipFill>
          <a:blip r:embed="rId1"/>
          <a:stretch/>
        </p:blipFill>
        <p:spPr>
          <a:xfrm rot="19078200">
            <a:off x="6154560" y="1800360"/>
            <a:ext cx="333720" cy="55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AG00090_"/>
          <p:cNvPicPr/>
          <p:nvPr/>
        </p:nvPicPr>
        <p:blipFill>
          <a:blip r:embed="rId2"/>
          <a:stretch/>
        </p:blipFill>
        <p:spPr>
          <a:xfrm rot="8304600">
            <a:off x="5657400" y="188604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4" descr="AG00090_"/>
          <p:cNvPicPr/>
          <p:nvPr/>
        </p:nvPicPr>
        <p:blipFill>
          <a:blip r:embed="rId3"/>
          <a:stretch/>
        </p:blipFill>
        <p:spPr>
          <a:xfrm rot="12493200">
            <a:off x="6835320" y="4786200"/>
            <a:ext cx="3333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5" descr="AG00090_"/>
          <p:cNvPicPr/>
          <p:nvPr/>
        </p:nvPicPr>
        <p:blipFill>
          <a:blip r:embed="rId4"/>
          <a:stretch/>
        </p:blipFill>
        <p:spPr>
          <a:xfrm rot="2179800">
            <a:off x="6372000" y="472392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6" descr="AG00090_"/>
          <p:cNvPicPr/>
          <p:nvPr/>
        </p:nvPicPr>
        <p:blipFill>
          <a:blip r:embed="rId5"/>
          <a:stretch/>
        </p:blipFill>
        <p:spPr>
          <a:xfrm rot="10800000">
            <a:off x="7020000" y="3357360"/>
            <a:ext cx="333360" cy="50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7" descr="AG00090_"/>
          <p:cNvPicPr/>
          <p:nvPr/>
        </p:nvPicPr>
        <p:blipFill>
          <a:blip r:embed="rId6"/>
          <a:stretch/>
        </p:blipFill>
        <p:spPr>
          <a:xfrm>
            <a:off x="6588000" y="342900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8" descr="AG00090_"/>
          <p:cNvPicPr/>
          <p:nvPr/>
        </p:nvPicPr>
        <p:blipFill>
          <a:blip r:embed="rId7"/>
          <a:stretch/>
        </p:blipFill>
        <p:spPr>
          <a:xfrm rot="16200000">
            <a:off x="4693320" y="5612400"/>
            <a:ext cx="33336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9" descr="AG00090_"/>
          <p:cNvPicPr/>
          <p:nvPr/>
        </p:nvPicPr>
        <p:blipFill>
          <a:blip r:embed="rId8"/>
          <a:stretch/>
        </p:blipFill>
        <p:spPr>
          <a:xfrm rot="5400000">
            <a:off x="4548960" y="525708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AG00090_"/>
          <p:cNvPicPr/>
          <p:nvPr/>
        </p:nvPicPr>
        <p:blipFill>
          <a:blip r:embed="rId9"/>
          <a:stretch/>
        </p:blipFill>
        <p:spPr>
          <a:xfrm rot="9283200">
            <a:off x="2569680" y="4721040"/>
            <a:ext cx="333360" cy="43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1" descr="AG00090_"/>
          <p:cNvPicPr/>
          <p:nvPr/>
        </p:nvPicPr>
        <p:blipFill>
          <a:blip r:embed="rId10"/>
          <a:stretch/>
        </p:blipFill>
        <p:spPr>
          <a:xfrm rot="19991400">
            <a:off x="2235240" y="4944960"/>
            <a:ext cx="3333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2" descr="AG00090_"/>
          <p:cNvPicPr/>
          <p:nvPr/>
        </p:nvPicPr>
        <p:blipFill>
          <a:blip r:embed="rId11"/>
          <a:stretch/>
        </p:blipFill>
        <p:spPr>
          <a:xfrm rot="1135800">
            <a:off x="2195640" y="3357360"/>
            <a:ext cx="333360" cy="63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3" descr="AG00090_"/>
          <p:cNvPicPr/>
          <p:nvPr/>
        </p:nvPicPr>
        <p:blipFill>
          <a:blip r:embed="rId12"/>
          <a:stretch/>
        </p:blipFill>
        <p:spPr>
          <a:xfrm rot="11905800">
            <a:off x="1763280" y="3212280"/>
            <a:ext cx="333360" cy="7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4" descr="AG00090_"/>
          <p:cNvPicPr/>
          <p:nvPr/>
        </p:nvPicPr>
        <p:blipFill>
          <a:blip r:embed="rId13"/>
          <a:stretch/>
        </p:blipFill>
        <p:spPr>
          <a:xfrm rot="3060000">
            <a:off x="2801160" y="1731240"/>
            <a:ext cx="333360" cy="64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5" descr="AG00090_"/>
          <p:cNvPicPr/>
          <p:nvPr/>
        </p:nvPicPr>
        <p:blipFill>
          <a:blip r:embed="rId14"/>
          <a:stretch/>
        </p:blipFill>
        <p:spPr>
          <a:xfrm rot="13702800">
            <a:off x="3294360" y="1897920"/>
            <a:ext cx="333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rcRect l="0" t="0" r="-47" b="84"/>
          <a:stretch/>
        </p:blipFill>
        <p:spPr>
          <a:xfrm>
            <a:off x="2050920" y="47628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24000" y="3900600"/>
            <a:ext cx="1302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ТК (природный территориальный комплекс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–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это закономерное сочета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заимосвязанных компонентов прир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а определенной территор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4681440" cy="3511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336200" y="755640"/>
            <a:ext cx="4265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ч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льское хозяй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совод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лио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реационного д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доро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гор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мышлен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прия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4000" y="3429000"/>
            <a:ext cx="4572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В.Докуча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зда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ния о ландшаф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41:13Z</dcterms:created>
  <dc:creator>user</dc:creator>
  <dc:description/>
  <dc:language>en-US</dc:language>
  <cp:lastModifiedBy>User</cp:lastModifiedBy>
  <dcterms:modified xsi:type="dcterms:W3CDTF">2011-09-21T18:45:2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50300207f7000400038000</vt:lpwstr>
  </property>
</Properties>
</file>