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977-119B-42DA-B346-3E47D0BD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51C-0511-4040-AE5B-580D3582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A70-6A2C-47E1-A732-9E7B0EF6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DA4-6D58-4942-9E4C-FA047689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343-7A24-4AF1-A75A-19598B44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92E-5F22-46B9-A936-D4A84452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772-C9D3-40EF-8DFD-011F384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2C5-E116-4957-8C9A-8F308149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258-8269-4A01-B3EE-5CC30344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BBE-FC80-46F2-9253-1594D39A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2BC-D1BA-4ECD-B846-13F306B6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C20-58AC-47B6-B898-FED362C3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B957-4F07-45D9-90A5-1F4C94006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seum.ru/imgB.asp?14620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b/2/23/531/23531572_shokshinskie_kvarcituy.jpg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lub.imaton.ru/content/Image/atlanti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img/502/1049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859280" y="692280"/>
            <a:ext cx="428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иродный каме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в убранств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анкт-Петербур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аппова Ю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рарский мра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ый, равнозернистый, полупрозрачный. Ит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609300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ульптуры Летнего с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Картинка 5 из 1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734544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скеальский  мра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ветлом фоне зеленоватые разводы. Сорта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64911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личники Мраморного дво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184464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ены Станций метро Ладожская и Примо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Картинка 3 из 98"/>
          <p:cNvPicPr/>
          <p:nvPr/>
        </p:nvPicPr>
        <p:blipFill>
          <a:blip r:embed="rId2"/>
          <a:stretch/>
        </p:blipFill>
        <p:spPr>
          <a:xfrm>
            <a:off x="0" y="134136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1 из 1"/>
          <p:cNvPicPr/>
          <p:nvPr/>
        </p:nvPicPr>
        <p:blipFill>
          <a:blip r:embed="rId3"/>
          <a:stretch/>
        </p:blipFill>
        <p:spPr>
          <a:xfrm>
            <a:off x="250920" y="4653000"/>
            <a:ext cx="1782720" cy="2205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Картинка 12 из 30"/>
          <p:cNvPicPr/>
          <p:nvPr/>
        </p:nvPicPr>
        <p:blipFill>
          <a:blip r:embed="rId4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67280" y="450864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мент скульптуры Зевса в Эрмит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окшинский кварц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но-малиновый. Петрозавод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551664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а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ника Николаю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Картинка 5 из 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413000"/>
            <a:ext cx="5616360" cy="369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227640" y="1341360"/>
            <a:ext cx="2606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4804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0" y="476280"/>
            <a:ext cx="41036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р Спаса-на-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сте убийства Алексан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эмаль, белый эстонский мрамор, красный и серый гра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- экле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464000" cy="3341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859280" y="1125360"/>
            <a:ext cx="3976920" cy="2980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5640" y="26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лахит. Эрмита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835280" y="4437000"/>
            <a:ext cx="2968560" cy="2222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93236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ша из лазур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258920" y="1550880"/>
            <a:ext cx="6626160" cy="4967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26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митаж. Чаша из яш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640720" cy="6797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8000" y="5665680"/>
            <a:ext cx="676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мент – гранит рапак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ом-камень (расколот молнией) . Найден в Лах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1600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утиловская п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664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як серый, с зеленым или желтым оттенком. Имеет плитчатое строение. Добывается у села Путилово (Тос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448000" cy="163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3500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шиков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59280" y="1700280"/>
            <a:ext cx="2269800" cy="1695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59280" y="3429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ичков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50920" y="4437000"/>
            <a:ext cx="2520720" cy="168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30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н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59640" y="1844640"/>
            <a:ext cx="2041560" cy="304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26436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ропавлов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ание 12 колле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132000" y="40766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дожский кам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0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ковый туф или травертин. Пористый, серовато-желтый. Легко пилится в карьере, затем затвердевает как мрамор. Этот материал добывался в каменоломнях под Санкт-Петербургом, недалеко от Гатчины, в местечке Большая Пуд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500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хайлов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3573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занский собор (Вороних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30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льптуры Адмиралт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50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льптуры у Горного  инстит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64911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льптуры Ростральных кол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1854000" cy="1384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1717920" cy="230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300720" y="1916280"/>
            <a:ext cx="2197080" cy="304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327800" y="5460840"/>
            <a:ext cx="1816200" cy="1397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987640" y="170028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556000" y="4365720"/>
            <a:ext cx="1076040" cy="142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780000" y="4221000"/>
            <a:ext cx="1665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200400" cy="424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360" y="476280"/>
            <a:ext cx="54356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тральные колон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мент – серый финский гра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ьптуры – пудожский камень – олицетворение российских рек (Днепр, Волхов, Нева и Волга). Но это современное мнение.  Сам Тома де Томон писал, что "база каждой колонны украшена огромными фигурами, которые символизируют божества моря и коммерции". Атрибуты скульптур достаточно скупы, и ни один из них не может подтвердить или полностью опровергнуть версию о том, что перед нами аллегории конкретных четырех р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51181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тербурге Ростральные колонны были сооружены в 1810 году по проекту французского архитектора Жана Франсуа Тома де Томона. Было время, когда колонны служили маяками приходящим в порт кораблям. Высота каждой колонны 32 метра. На верхние площадки, где находятся треножники для сигнальных огней, ведут расположенные внутри винтовые лест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НИТ РАПАКИ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93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итная карточка Петербурга.  Розовый, с овоидными включениями. Добывают у Выборга, в Финлян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350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ександровская кол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3789360"/>
            <a:ext cx="2951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нны Исаакиевского собора. Арх. Монферран. Масса колонн – 114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собора – 10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2000" y="3716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ережные Не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3011760" cy="193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1527120" cy="2349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867280" y="4437000"/>
            <a:ext cx="3048120" cy="1920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659640" y="6491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н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6237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мент памятника Пушк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341360"/>
            <a:ext cx="1411560" cy="215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340000" y="1484280"/>
            <a:ext cx="28796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2635200" cy="403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92360" y="620640"/>
            <a:ext cx="48960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онна монолитная (самый большой в мире моноли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а 25,5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са 650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ит без кре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вигнута в 1832 г в честь победы над Наполе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олит привезен из Финля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РДОБОЛЬСКИЙ ГРА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4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ый, мелкозернистый. Месторождения – Сортавала, побережье и острова Лад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45086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ланты Эрмита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льптор И.Тереб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Картинка 2 из 18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42000" y="692280"/>
            <a:ext cx="4030560" cy="5970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609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ьедестал – розовый гра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вдийский и Белогорский мра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новатая, розовая окраска. Добывается в Каре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165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раморный д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а 3 из 1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1457280"/>
            <a:ext cx="6300720" cy="4727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11280" y="1628640"/>
            <a:ext cx="332244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10:51Z</dcterms:created>
  <dc:creator>Aleksey</dc:creator>
  <dc:description/>
  <dc:language>en-US</dc:language>
  <cp:lastModifiedBy>Aleksey</cp:lastModifiedBy>
  <dcterms:modified xsi:type="dcterms:W3CDTF">2009-02-18T13:51:2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c0000000000010250300207f7000400038000</vt:lpwstr>
  </property>
</Properties>
</file>