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77A82-8E16-4A0C-8511-09C8416DD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44E5E-10FD-4F7C-A697-7AB3A8017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2BC0E-BD93-46A7-803A-427D2011F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8795B-46B6-4E72-9BD7-B7A6982CE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12EE6-CDCA-4316-97A1-2D739FCA7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59CDE-80DA-4038-B727-1940CA626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00204-FCF5-4E9A-9786-3BFACE652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D38AA-0DE1-494D-A284-69A12846B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80172-7FCD-4279-A2DA-6F2529641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68D11-41E6-4B44-8E94-8110D513C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96604-A9D3-49CC-B134-2BF5247A1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36BC0-CC34-4848-8BF0-965450279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35555-0D16-4C11-8036-5BDC6C38F4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museum.ru/imgB.asp?14620" TargetMode="External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g0.liveinternet.ru/images/attach/b/2/23/531/23531572_shokshinskie_kvarcituy.jpg" TargetMode="External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image" Target="../media/image14.jpeg"/><Relationship Id="rId8" Type="http://schemas.openxmlformats.org/officeDocument/2006/relationships/image" Target="../media/image15.jpe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club.imaton.ru/content/Image/atlanti.jpg" TargetMode="External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spb-guide.ru/img/502/1049.jpg" TargetMode="External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71946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4859280" y="692280"/>
            <a:ext cx="4284720" cy="20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Природный камень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latin typeface="Arial"/>
              </a:rPr>
              <a:t>в убранстве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Санкт-Петербург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8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796000" y="189000"/>
            <a:ext cx="23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Лаппова Ю.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аррарский мрамо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836640"/>
            <a:ext cx="88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елый, равнозернистый, полупрозрачный. Итал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908000" y="6093000"/>
            <a:ext cx="44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кульптуры Летнего са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Картинка 5 из 18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39640" y="1413000"/>
            <a:ext cx="734544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Рускеальский  мрамо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836640"/>
            <a:ext cx="88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 светлом фоне зеленоватые разводы. Сортава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979640" y="6491160"/>
            <a:ext cx="44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личники Мраморного двор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427640" y="1844640"/>
            <a:ext cx="446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тены Станций метро Ладожская и Приморск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Картинка 3 из 98"/>
          <p:cNvPicPr/>
          <p:nvPr/>
        </p:nvPicPr>
        <p:blipFill>
          <a:blip r:embed="rId2"/>
          <a:stretch/>
        </p:blipFill>
        <p:spPr>
          <a:xfrm>
            <a:off x="0" y="1341360"/>
            <a:ext cx="3635280" cy="27273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Картинка 1 из 1"/>
          <p:cNvPicPr/>
          <p:nvPr/>
        </p:nvPicPr>
        <p:blipFill>
          <a:blip r:embed="rId3"/>
          <a:stretch/>
        </p:blipFill>
        <p:spPr>
          <a:xfrm>
            <a:off x="250920" y="4653000"/>
            <a:ext cx="1782720" cy="22050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Картинка 12 из 30"/>
          <p:cNvPicPr/>
          <p:nvPr/>
        </p:nvPicPr>
        <p:blipFill>
          <a:blip r:embed="rId4"/>
          <a:stretch/>
        </p:blipFill>
        <p:spPr>
          <a:xfrm>
            <a:off x="6286680" y="3048120"/>
            <a:ext cx="2857320" cy="380988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4067280" y="4508640"/>
            <a:ext cx="2158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стамент скульптуры Зевса в Эрмитаж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Шокшинский кварци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836640"/>
            <a:ext cx="88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емно-малиновый. Петрозаводс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219640" y="5516640"/>
            <a:ext cx="3745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стамен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амятника Николаю 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Картинка 5 из 162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24000" y="1413000"/>
            <a:ext cx="5616360" cy="36972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6227640" y="1341360"/>
            <a:ext cx="260676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395280" y="404640"/>
            <a:ext cx="3848040" cy="583272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4572000" y="476280"/>
            <a:ext cx="4103640" cy="22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бор Спаса-на-кров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месте убийства Александр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пользованы эмаль, белый эстонский мрамор, красный и серый грани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иль - эклект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250920" y="981000"/>
            <a:ext cx="4464000" cy="33418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4859280" y="1125360"/>
            <a:ext cx="3976920" cy="298008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755640" y="260280"/>
            <a:ext cx="756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Малахит. Эрмитаж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4"/>
          <a:stretch/>
        </p:blipFill>
        <p:spPr>
          <a:xfrm>
            <a:off x="1835280" y="4437000"/>
            <a:ext cx="2968560" cy="222264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4932360" y="5950080"/>
            <a:ext cx="38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Чаша из лазури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1258920" y="1550880"/>
            <a:ext cx="6626160" cy="496728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755640" y="260280"/>
            <a:ext cx="756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Эрмитаж. Чаша из яшм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179280" y="0"/>
            <a:ext cx="8640720" cy="67975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908000" y="5665680"/>
            <a:ext cx="67694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стамент – гранит рапакив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ром-камень (расколот молнией) . Найден в Лах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асса 1600 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50920" y="0"/>
            <a:ext cx="820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утиловская пли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36640"/>
            <a:ext cx="882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вестняк серый, с зеленым или желтым оттенком. Имеет плитчатое строение. Добывается у села Путилово (Тосно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250920" y="1700280"/>
            <a:ext cx="2448000" cy="16365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79280" y="3500280"/>
            <a:ext cx="26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ншиковский дворе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3059280" y="1700280"/>
            <a:ext cx="2269800" cy="16952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059280" y="3429000"/>
            <a:ext cx="26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ничков дворе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250920" y="4437000"/>
            <a:ext cx="2520720" cy="16858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95280" y="6308640"/>
            <a:ext cx="26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Летний дворе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5"/>
          <a:stretch/>
        </p:blipFill>
        <p:spPr>
          <a:xfrm>
            <a:off x="6659640" y="1844640"/>
            <a:ext cx="2041560" cy="30481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6264360" y="5013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етропавловский соб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348000" y="6308640"/>
            <a:ext cx="33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дание 12 коллег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6"/>
          <a:stretch/>
        </p:blipFill>
        <p:spPr>
          <a:xfrm>
            <a:off x="3132000" y="4076640"/>
            <a:ext cx="295272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50920" y="0"/>
            <a:ext cx="820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удожский камен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0" y="620640"/>
            <a:ext cx="882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вестковый туф или травертин. Пористый, серовато-желтый. Легко пилится в карьере, затем затвердевает как мрамор. Этот материал добывался в каменоломнях под Санкт-Петербургом, недалеко от Гатчины, в местечке Большая Пудость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9280" y="3500280"/>
            <a:ext cx="26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ихайловский дворе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771640" y="3573360"/>
            <a:ext cx="33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азанский собор (Воронихин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6308640"/>
            <a:ext cx="26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кульптуры Адмиралтей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2000" y="5084640"/>
            <a:ext cx="28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кульптуры у Горного  институ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484360" y="6491160"/>
            <a:ext cx="410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кульптуры Ростральных колон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468360" y="2060640"/>
            <a:ext cx="1854000" cy="13842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539640" y="4005360"/>
            <a:ext cx="1717920" cy="230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6300720" y="1916280"/>
            <a:ext cx="2197080" cy="30430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5"/>
          <a:stretch/>
        </p:blipFill>
        <p:spPr>
          <a:xfrm>
            <a:off x="7327800" y="5460840"/>
            <a:ext cx="1816200" cy="13971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6"/>
          <a:stretch/>
        </p:blipFill>
        <p:spPr>
          <a:xfrm>
            <a:off x="2987640" y="1700280"/>
            <a:ext cx="2417760" cy="18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7"/>
          <a:stretch/>
        </p:blipFill>
        <p:spPr>
          <a:xfrm>
            <a:off x="2556000" y="4365720"/>
            <a:ext cx="1076040" cy="14284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8"/>
          <a:stretch/>
        </p:blipFill>
        <p:spPr>
          <a:xfrm>
            <a:off x="3780000" y="4221000"/>
            <a:ext cx="1665000" cy="22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324000" y="404640"/>
            <a:ext cx="3200400" cy="42483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3708360" y="476280"/>
            <a:ext cx="5435640" cy="388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остральные колонн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стамент – серый финский грани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кульптуры – пудожский камень – олицетворение российских рек (Днепр, Волхов, Нева и Волга). Но это современное мнение.  Сам Тома де Томон писал, что "база каждой колонны украшена огромными фигурами, которые символизируют божества моря и коммерции". Атрибуты скульптур достаточно скупы, и ни один из них не может подтвердить или полностью опровергнуть версию о том, что перед нами аллегории конкретных четырех рек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11280" y="5118120"/>
            <a:ext cx="7488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Петербурге Ростральные колонны были сооружены в 1810 году по проекту французского архитектора Жана Франсуа Тома де Томона. Было время, когда колонны служили маяками приходящим в порт кораблям. Высота каждой колонны 32 метра. На верхние площадки, где находятся треножники для сигнальных огней, ведут расположенные внутри винтовые лестниц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250920" y="0"/>
            <a:ext cx="820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ГРАНИТ РАПАКИВ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0" y="549360"/>
            <a:ext cx="882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изитная карточка Петербурга.  Розовый, с овоидными включениями. Добывают у Выборга, в Финлянд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79280" y="3500280"/>
            <a:ext cx="26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лександровская колон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484360" y="3789360"/>
            <a:ext cx="295128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лонны Исаакиевского собора. Арх. Монферран. Масса колонн – 114 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сота собора – 101 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012000" y="371628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бережные Нев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5867280" y="1628640"/>
            <a:ext cx="3011760" cy="19321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324000" y="4149720"/>
            <a:ext cx="1527120" cy="234936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5867280" y="4437000"/>
            <a:ext cx="3048120" cy="192096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6659640" y="649116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Летний с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979640" y="623736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стамент памятника Пушкин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5"/>
          <a:stretch/>
        </p:blipFill>
        <p:spPr>
          <a:xfrm>
            <a:off x="179280" y="1341360"/>
            <a:ext cx="1411560" cy="21589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6"/>
          <a:stretch/>
        </p:blipFill>
        <p:spPr>
          <a:xfrm>
            <a:off x="2340000" y="1484280"/>
            <a:ext cx="2879640" cy="23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468360" y="549360"/>
            <a:ext cx="2635200" cy="40320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3492360" y="620640"/>
            <a:ext cx="4896000" cy="30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лонна монолитная (самый большой в мире монолит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ысота 25,58 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асса 650 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тоит без креп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оздвигнута в 1832 г в честь победы над Наполеон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онолит привезен из Финлянд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250920" y="0"/>
            <a:ext cx="820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СЕРДОБОЛЬСКИЙ ГРАНИ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836640"/>
            <a:ext cx="4427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ерый, мелкозернистый. Месторождения – Сортавала, побережье и острова Ладог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95280" y="4508640"/>
            <a:ext cx="4176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тланты Эрмитаж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кульптор И.Теребене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Картинка 2 из 180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842000" y="692280"/>
            <a:ext cx="4030560" cy="59706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324000" y="609300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ьедестал – розовый грани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Тивдийский и Белогорский мрамо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0" y="836640"/>
            <a:ext cx="88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расноватая, розовая окраска. Добывается в Карел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6165720"/>
            <a:ext cx="33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раморный дворе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Картинка 3 из 124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843280" y="1457280"/>
            <a:ext cx="6300720" cy="47275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>
            <a:off x="611280" y="1628640"/>
            <a:ext cx="3322440" cy="24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3T19:10:51Z</dcterms:created>
  <dc:creator>Aleksey</dc:creator>
  <dc:description/>
  <dc:language>en-US</dc:language>
  <cp:lastModifiedBy>Aleksey</cp:lastModifiedBy>
  <dcterms:modified xsi:type="dcterms:W3CDTF">2009-02-18T13:51:22Z</dcterms:modified>
  <cp:revision>7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4c0c0000000000010250300207f7000400038000</vt:lpwstr>
  </property>
</Properties>
</file>