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436C-4F6D-417E-8BAE-9CD18351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C7B6-DEC9-45BC-B5C1-C675CB5C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B0E-D57D-4983-A3F5-497F0EF1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A65-970C-4787-9620-1CD9D0F3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959C-F0C3-41D3-8926-44A8F54E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AF9-3A91-45E7-BAEE-F1CE6A0A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E7C-C7C0-4C3A-A63B-3DEC5530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B01-D6CF-4BB5-9C3F-690CEAA2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750-92D9-4C12-88C9-FEC2C006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3901-86E0-43EF-B6F5-A321EC3A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692-33BF-4592-9CB7-9B7557D1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767-280D-497C-BB89-D8D78D0E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B0C8-39AF-4FA5-B1BB-EF8BD08F1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useum.ru/imgB.asp?14620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0.liveinternet.ru/images/attach/b/2/23/531/23531572_shokshinskie_kvarcituy.jpg" TargetMode="External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lub.imaton.ru/content/Image/atlanti.jpg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b-guide.ru/img/502/1049.jpg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859280" y="692280"/>
            <a:ext cx="4284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риродный каме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в убранств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Санкт-Петербур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96000" y="1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аппова Ю.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рарский мрам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83664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ый, равнозернистый, полупрозрачный. Ит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609300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ульптуры Летнего с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Картинка 5 из 18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413000"/>
            <a:ext cx="734544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скеальский  мрам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3664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ветлом фоне зеленоватые разводы. Сортав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64911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личники Мраморного дво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27640" y="184464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ены Станций метро Ладожская и Примор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Картинка 3 из 98"/>
          <p:cNvPicPr/>
          <p:nvPr/>
        </p:nvPicPr>
        <p:blipFill>
          <a:blip r:embed="rId2"/>
          <a:stretch/>
        </p:blipFill>
        <p:spPr>
          <a:xfrm>
            <a:off x="0" y="134136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Картинка 1 из 1"/>
          <p:cNvPicPr/>
          <p:nvPr/>
        </p:nvPicPr>
        <p:blipFill>
          <a:blip r:embed="rId3"/>
          <a:stretch/>
        </p:blipFill>
        <p:spPr>
          <a:xfrm>
            <a:off x="250920" y="4653000"/>
            <a:ext cx="1782720" cy="2205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Картинка 12 из 30"/>
          <p:cNvPicPr/>
          <p:nvPr/>
        </p:nvPicPr>
        <p:blipFill>
          <a:blip r:embed="rId4"/>
          <a:stretch/>
        </p:blipFill>
        <p:spPr>
          <a:xfrm>
            <a:off x="6286680" y="304812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67280" y="450864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амент скульптуры Зевса в Эрмита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окшинский кварц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3664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мно-малиновый. Петрозавод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5516640"/>
            <a:ext cx="374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та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мятника Николаю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Картинка 5 из 1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413000"/>
            <a:ext cx="5616360" cy="3697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227640" y="1341360"/>
            <a:ext cx="2606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848040" cy="5832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0" y="476280"/>
            <a:ext cx="410364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ор Спаса-на-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есте убийства Алексан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ы эмаль, белый эстонский мрамор, красный и серый гран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ль - эклек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4464000" cy="3341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859280" y="1125360"/>
            <a:ext cx="3976920" cy="2980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55640" y="260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лахит. Эрмитаж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835280" y="4437000"/>
            <a:ext cx="2968560" cy="2222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932360" y="59500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ша из лазур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258920" y="1550880"/>
            <a:ext cx="6626160" cy="4967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260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рмитаж. Чаша из яш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640720" cy="6797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8000" y="5665680"/>
            <a:ext cx="676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мент – гранит рапак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ом-камень (расколот молнией) . Найден в Лах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1600 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утиловская пл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3664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як серый, с зеленым или желтым оттенком. Имеет плитчатое строение. Добывается у села Путилово (Тос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2448000" cy="163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3500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шиковский д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059280" y="1700280"/>
            <a:ext cx="2269800" cy="1695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59280" y="3429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ичков д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50920" y="4437000"/>
            <a:ext cx="2520720" cy="1685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6308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тний д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659640" y="1844640"/>
            <a:ext cx="2041560" cy="3048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264360" y="501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ропавлов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8000" y="6308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ание 12 колле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132000" y="4076640"/>
            <a:ext cx="2952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дожский кам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20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ковый туф или травертин. Пористый, серовато-желтый. Легко пилится в карьере, затем затвердевает как мрамор. Этот материал добывался в каменоломнях под Санкт-Петербургом, недалеко от Гатчины, в местечке Большая Пуд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3500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хайловский д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3573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занский собор (Вороних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308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ульптуры Адмиралт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508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ульптуры у Горного  инстит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64911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ульптуры Ростральных коло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1854000" cy="1384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1717920" cy="230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300720" y="1916280"/>
            <a:ext cx="2197080" cy="3043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327800" y="5460840"/>
            <a:ext cx="1816200" cy="1397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987640" y="1700280"/>
            <a:ext cx="2417760" cy="18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556000" y="4365720"/>
            <a:ext cx="1076040" cy="1428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3780000" y="4221000"/>
            <a:ext cx="166500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200400" cy="424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08360" y="476280"/>
            <a:ext cx="54356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тральные колон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мент – серый финский гран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ьптуры – пудожский камень – олицетворение российских рек (Днепр, Волхов, Нева и Волга). Но это современное мнение.  Сам Тома де Томон писал, что "база каждой колонны украшена огромными фигурами, которые символизируют божества моря и коммерции". Атрибуты скульптур достаточно скупы, и ни один из них не может подтвердить или полностью опровергнуть версию о том, что перед нами аллегории конкретных четырех р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511812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тербурге Ростральные колонны были сооружены в 1810 году по проекту французского архитектора Жана Франсуа Тома де Томона. Было время, когда колонны служили маяками приходящим в порт кораблям. Высота каждой колонны 32 метра. На верхние площадки, где находятся треножники для сигнальных огней, ведут расположенные внутри винтовые лестн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АНИТ РАПАКИ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4936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зитная карточка Петербурга.  Розовый, с овоидными включениями. Добывают у Выборга, в Финлянд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3500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ександровская коло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3789360"/>
            <a:ext cx="2951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нны Исаакиевского собора. Арх. Монферран. Масса колонн – 114 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а собора – 101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2000" y="3716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бережные Не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867280" y="1628640"/>
            <a:ext cx="3011760" cy="193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1527120" cy="2349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867280" y="4437000"/>
            <a:ext cx="3048120" cy="1920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659640" y="6491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тн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6237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амент памятника Пушк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79280" y="1341360"/>
            <a:ext cx="1411560" cy="2158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340000" y="1484280"/>
            <a:ext cx="287964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2635200" cy="4032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92360" y="620640"/>
            <a:ext cx="48960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онна монолитная (самый большой в мире моноли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та 25,5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сса 650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ит без кре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двигнута в 1832 г в честь победы над Наполео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нолит привезен из Финля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РДОБОЛЬСКИЙ ГРАН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6640"/>
            <a:ext cx="44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ый, мелкозернистый. Месторождения – Сортавала, побережье и острова Лад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4508640"/>
            <a:ext cx="41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ланты Эрмита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ульптор И.Тереб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Картинка 2 из 18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42000" y="692280"/>
            <a:ext cx="4030560" cy="5970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6093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ьедестал – розовый гра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ивдийский и Белогорский мрам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83664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сноватая, розовая окраска. Добывается в Каре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165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раморный дво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Картинка 3 из 1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1457280"/>
            <a:ext cx="6300720" cy="4727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11280" y="1628640"/>
            <a:ext cx="332244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9:10:51Z</dcterms:created>
  <dc:creator>Aleksey</dc:creator>
  <dc:description/>
  <dc:language>en-US</dc:language>
  <cp:lastModifiedBy>Aleksey</cp:lastModifiedBy>
  <dcterms:modified xsi:type="dcterms:W3CDTF">2009-02-18T13:51:22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0c0000000000010250300207f7000400038000</vt:lpwstr>
  </property>
</Properties>
</file>