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9C1E-EB7C-413F-96E0-B24B3FEA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EDB-790D-4CBF-93DB-EA1CDE48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7D37-4E37-495B-A7A0-1A6C90CD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BDA-38C8-4F0D-AC45-BD92B56C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4E13-ACEF-4D7F-B5C5-A89E1A13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6EEE-372B-4EB4-BBAB-B51FE4DF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6D2D-7533-4839-87FA-4593810D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5C2D-4232-4DDA-B817-F7B2CC84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E894-269D-4243-8EDE-E1B36324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D30E-4135-47C7-9D9A-DEED5648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CDFE-DE3C-4F2B-8A35-A25308C9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6A5-82C9-49D6-A7ED-23F55A96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2661-FC15-46B8-A801-E8C4822D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E434-0373-4E2C-A9DC-9FD7329F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40CD-7241-46F1-988E-039AABE8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F933-7D30-4704-808D-10F5EE9D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CF55-A07D-47F3-9B88-0E538791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17F-2FA1-41D1-975D-96B9B290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173-F70D-4273-B3DE-8774654A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AE9-26A3-4C29-8632-BA83DC0F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630-5577-4675-A3D2-DF085DB5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C9E4-EBBC-4A05-9751-31024E49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056-1DA9-4CC7-B666-C7A36D8B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CC2-A6D4-4AEF-BF47-C71F5EE4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130F-1F14-46F2-A168-B4069609A7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D912-D0BD-457B-AE01-A6FE82961D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Природные зоны России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Вайс В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66"/>
                </a:solidFill>
                <a:latin typeface="Times New Roman"/>
              </a:rPr>
              <a:t>Почему растения тундры низкорослые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Picture 3" descr="EriophorumRusseolum"/>
          <p:cNvPicPr/>
          <p:nvPr/>
        </p:nvPicPr>
        <p:blipFill>
          <a:blip r:embed="rId1"/>
          <a:stretch/>
        </p:blipFill>
        <p:spPr>
          <a:xfrm>
            <a:off x="826920" y="1557360"/>
            <a:ext cx="3254400" cy="2185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Растения тундры имеют высоту 15-20 см, у большинства стебель стелющи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Короткое, прохладное лето замедляет рост растений. Зимой сильные ветры срезают надземные ч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edicularisCapitata"/>
          <p:cNvPicPr/>
          <p:nvPr/>
        </p:nvPicPr>
        <p:blipFill>
          <a:blip r:embed="rId2"/>
          <a:stretch/>
        </p:blipFill>
        <p:spPr>
          <a:xfrm>
            <a:off x="826920" y="4005360"/>
            <a:ext cx="3257640" cy="218736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>
            <a:hlinkClick r:id="rId3" action="ppaction://hlinksldjump"/>
          </p:cNvPr>
          <p:cNvSpPr/>
          <p:nvPr/>
        </p:nvSpPr>
        <p:spPr>
          <a:xfrm>
            <a:off x="860436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10800" y="5163"/>
                </a:moveTo>
                <a:lnTo>
                  <a:pt x="13376" y="7774"/>
                </a:lnTo>
                <a:lnTo>
                  <a:pt x="13376" y="6033"/>
                </a:lnTo>
                <a:lnTo>
                  <a:pt x="15152" y="6033"/>
                </a:lnTo>
                <a:lnTo>
                  <a:pt x="15152" y="9549"/>
                </a:lnTo>
                <a:lnTo>
                  <a:pt x="17763" y="12126"/>
                </a:lnTo>
                <a:lnTo>
                  <a:pt x="16109" y="12126"/>
                </a:lnTo>
                <a:lnTo>
                  <a:pt x="16109" y="19315"/>
                </a:lnTo>
                <a:lnTo>
                  <a:pt x="5491" y="19315"/>
                </a:lnTo>
                <a:lnTo>
                  <a:pt x="5491" y="12126"/>
                </a:lnTo>
                <a:lnTo>
                  <a:pt x="3837" y="12126"/>
                </a:lnTo>
                <a:close/>
              </a:path>
              <a:path fill="darkenLess" w="21600" h="24251">
                <a:moveTo>
                  <a:pt x="13376" y="7774"/>
                </a:moveTo>
                <a:lnTo>
                  <a:pt x="13376" y="6033"/>
                </a:lnTo>
                <a:lnTo>
                  <a:pt x="15152" y="6033"/>
                </a:lnTo>
                <a:lnTo>
                  <a:pt x="15152" y="9549"/>
                </a:lnTo>
                <a:close/>
              </a:path>
              <a:path fill="darkenLess" w="21600" h="24251">
                <a:moveTo>
                  <a:pt x="9877" y="15625"/>
                </a:moveTo>
                <a:lnTo>
                  <a:pt x="11723" y="15625"/>
                </a:lnTo>
                <a:lnTo>
                  <a:pt x="11723" y="19315"/>
                </a:lnTo>
                <a:lnTo>
                  <a:pt x="16109" y="19315"/>
                </a:lnTo>
                <a:lnTo>
                  <a:pt x="16109" y="12126"/>
                </a:lnTo>
                <a:lnTo>
                  <a:pt x="5491" y="12126"/>
                </a:lnTo>
                <a:lnTo>
                  <a:pt x="5491" y="19315"/>
                </a:lnTo>
                <a:lnTo>
                  <a:pt x="9877" y="19315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66"/>
                </a:solidFill>
                <a:latin typeface="Times New Roman"/>
              </a:rPr>
              <a:t>Растительный мир тунд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Picture 3" descr="6"/>
          <p:cNvPicPr/>
          <p:nvPr/>
        </p:nvPicPr>
        <p:blipFill>
          <a:blip r:embed="rId1"/>
          <a:stretch/>
        </p:blipFill>
        <p:spPr>
          <a:xfrm>
            <a:off x="5411880" y="393696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EritrichiumPulvinatum"/>
          <p:cNvPicPr/>
          <p:nvPr/>
        </p:nvPicPr>
        <p:blipFill>
          <a:blip r:embed="rId2"/>
          <a:stretch/>
        </p:blipFill>
        <p:spPr>
          <a:xfrm>
            <a:off x="5219640" y="1557360"/>
            <a:ext cx="289728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NovosSnow"/>
          <p:cNvPicPr/>
          <p:nvPr/>
        </p:nvPicPr>
        <p:blipFill>
          <a:blip r:embed="rId3"/>
          <a:stretch/>
        </p:blipFill>
        <p:spPr>
          <a:xfrm>
            <a:off x="1268280" y="3941640"/>
            <a:ext cx="3105360" cy="218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etulaOs"/>
          <p:cNvPicPr/>
          <p:nvPr/>
        </p:nvPicPr>
        <p:blipFill>
          <a:blip r:embed="rId4"/>
          <a:stretch/>
        </p:blipFill>
        <p:spPr>
          <a:xfrm>
            <a:off x="1308240" y="1600200"/>
            <a:ext cx="3025800" cy="2187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66"/>
                </a:solidFill>
                <a:latin typeface="Times New Roman"/>
              </a:rPr>
              <a:t>Почему большинство животных тундры имеют светлую окраску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Picture 3" descr="1380_16m"/>
          <p:cNvPicPr/>
          <p:nvPr/>
        </p:nvPicPr>
        <p:blipFill>
          <a:blip r:embed="rId1"/>
          <a:stretch/>
        </p:blipFill>
        <p:spPr>
          <a:xfrm>
            <a:off x="1468440" y="1628640"/>
            <a:ext cx="2855880" cy="2233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В тундре зима длится большую часть года. Лежит глубокий белый снег. Животные имеют светлую окраску, помогающую хищникам подкрадываться к жертвам, а жертвам- скрываться от хищников. Светлая шубка животных сливается с белым сне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песец"/>
          <p:cNvPicPr/>
          <p:nvPr/>
        </p:nvPicPr>
        <p:blipFill>
          <a:blip r:embed="rId2"/>
          <a:stretch/>
        </p:blipFill>
        <p:spPr>
          <a:xfrm>
            <a:off x="1271520" y="3941640"/>
            <a:ext cx="3098880" cy="2189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66"/>
                </a:solidFill>
                <a:latin typeface="Times New Roman"/>
              </a:rPr>
              <a:t>Животный мир тунд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Picture 3" descr="826032"/>
          <p:cNvPicPr/>
          <p:nvPr/>
        </p:nvPicPr>
        <p:blipFill>
          <a:blip r:embed="rId1"/>
          <a:stretch/>
        </p:blipFill>
        <p:spPr>
          <a:xfrm>
            <a:off x="5292720" y="3860640"/>
            <a:ext cx="2664000" cy="2514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lemming"/>
          <p:cNvPicPr/>
          <p:nvPr/>
        </p:nvPicPr>
        <p:blipFill>
          <a:blip r:embed="rId2"/>
          <a:stretch/>
        </p:blipFill>
        <p:spPr>
          <a:xfrm>
            <a:off x="5435640" y="1341360"/>
            <a:ext cx="2303280" cy="2373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заяц-беляк"/>
          <p:cNvPicPr/>
          <p:nvPr/>
        </p:nvPicPr>
        <p:blipFill>
          <a:blip r:embed="rId3"/>
          <a:stretch/>
        </p:blipFill>
        <p:spPr>
          <a:xfrm>
            <a:off x="1258920" y="3933720"/>
            <a:ext cx="2865240" cy="251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eneral_2002_05_1gaga"/>
          <p:cNvPicPr/>
          <p:nvPr/>
        </p:nvPicPr>
        <p:blipFill>
          <a:blip r:embed="rId4"/>
          <a:stretch/>
        </p:blipFill>
        <p:spPr>
          <a:xfrm>
            <a:off x="1258920" y="1341360"/>
            <a:ext cx="2808360" cy="23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ундр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ния в тундре  низкорослые, многие из них стелются по земле. Так они приспособились к жизни в тундре. Олений лишайник (ягель) служит основной пищей для северных оленей. Здесь растут морошка, голубика, брусника, карликовая берёзка, полярная ива, различные м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ом в тундре много комаров и мошек. Растениями и насекомыми кормятся утки, кулики, которые прилетают в тундру. Другие птицы – белая куропатка, белая сова постоянно живут в тунд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ундра и челове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28036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мечательный обитатель тундры – дикий северный олень. У него густой мех, широкие копыта. За оленями охотятся волки. Основное занятие населения – оленеводство. Ездят люди на оленьих упряжк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ундре ведутся поиски полезных ископаемых. Хозяйственное освоение тундры приносит большой вред приро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ундре обитают редкие птицы: белый журавль, розовая чайка, сокол-сапсан, краснозобая казарка. Они занесены в Красную книг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хота на песцов, уток, куропаток строго огранич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ой участок тундры взят под строгую охрану. Здесь находится Таймырский заповедник.  В нём трудятся учёные, которые исследуют природу тундры, разрабатывают способы её охр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она лес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075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на лесов занимает больше половины территории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верной части лесной зоны находи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й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Там растут хвойные деревья: ель, сосна, лиственница, пихта, ке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о в тайге намного теплее, чем в тундре, но зима очень холодная. Здесь тоже есть многолетняя мерзлота. В хвойных лесах всегда полумрак, так как мохнатые ветви почти не пропускают солнечных лучей. Почва покрыта мхами и лишайниками, мало трав и кустар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лухом лесу, заваленном буреломом, живёт бурый медведь. Он питается и растениями, и животными. Крупный зверь – лось. Большую ценность представляют пушные звери: соболя, норки, лисицы, горностаи, бобры. Из шкурок этих животных шьют шубы, шапки, воротники. Они теплы, легки и краси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ьные животные подлежат охране. В заповеднике Беловежская пуща охраняют зубров, Воронежском заповеднике – бобров, в Баргузинском – соболе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8" descr="elgol"/>
          <p:cNvPicPr/>
          <p:nvPr/>
        </p:nvPicPr>
        <p:blipFill>
          <a:blip r:embed="rId1"/>
          <a:stretch/>
        </p:blipFill>
        <p:spPr>
          <a:xfrm>
            <a:off x="539640" y="404640"/>
            <a:ext cx="3961080" cy="5977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сосна"/>
          <p:cNvPicPr/>
          <p:nvPr/>
        </p:nvPicPr>
        <p:blipFill>
          <a:blip r:embed="rId2"/>
          <a:stretch/>
        </p:blipFill>
        <p:spPr>
          <a:xfrm>
            <a:off x="4859280" y="476280"/>
            <a:ext cx="4032360" cy="5905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она лес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юго-западу от тайги поверхность земли получает больше тепла и влаги, поэтому там растут вместе с хвойными деревьями широколиственные: дуб, клён, ясень, липа. Такие леса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мешанным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а намного мягче, чем в тайге, многолетней мерзлоты здесь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ительный мир смешанных лесов разнообразен. Кроме деревьев много кустарников: орешник, бересклет, жимолость. Много и трав: сныть, копытень, зеленчук, медуница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животных водится много птиц: глухарь, рябчик, сойка, орёл-беркут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502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она арктических пустын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тика… От этого слова веет ледяным холодом. Арктика – это всё огромное пространство Северного Ледовитого океана вместе с морями и островами. На островах Арктики расположе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ДЯНАЯ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в Арктике никогда не поднимается высоко над горизонтом. Его лучи едва скользят по поверхности земли, давая ей очень мало тепла. Вот почему здесь царство льда и сн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в Арктике полярная ночь. Иногда бывают полярные сияния. Дуют сильные ветры, часто бушует вьюга, температура понижается до – 6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ом в Арктике полярный день. Круглые сутки светло, но не теп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16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130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она степе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лесная зона сменяется зоной степей. Лето тёплое, продолжительное, засушливое. Часто дуют горячие сухие ветры – суховеи. Иногда они переходят в пыльные бури. Дожди редки, обычно ливнев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ях растут разнообразные травянистые растения: тюльпаны, ирисы, ковыль, типчак, полы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образны насекомые степной зоны. Много кузнечиков, бабочек, пчёл, шм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ниями и насекомыми кормятся птицы: степной жаворонок, серая куропатка, журавль-красавка, дроф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епи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 в степях и грызунов: сусликов, хомяков, полёвок, мышей. Грызунами питаются хищные птицы и звери: степной орёл, степной хорёк. Насекомыми питаются ящерицы, грызунами – степная гадю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распахал степи. На месте целинных земель сейчас поля и с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ота на степных животных привела к их исчезновению. Небольшие участки целинных степей охраняются в заповедниках. Но их очень м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9152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056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устын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пустыни занимают небольшую площадь – по берегам Каспийского моря, к западу и к востоку от низовьев Вол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 в пустыне очень жаркое. Поверхность земли нагревается днём до 70 градусов, ночи прохладные, потому что песок и глина быстро остывают. Осадков мало. Иногда за всё лето не бывает ни капли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устыни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из самых известных растений пустыни – верблюжья колючка. Её корни проникают на глубину почти 20 метров и оттуда добывают воду. Очень ценится колосняк (песчаный овёс) и джузгун. Корни этих растений хорошо закрепляют пески, не дают им двигаться под действием ве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устынях водятся тушканчики, песчанки, ушастый ёж, корсак, сайгак. Много пресмыкающихся: песчаный удавчик, ящерица-круглоголовка, быстрая ящурка, ва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101"/>
          <p:cNvPicPr/>
          <p:nvPr/>
        </p:nvPicPr>
        <p:blipFill>
          <a:blip r:embed="rId1"/>
          <a:stretch/>
        </p:blipFill>
        <p:spPr>
          <a:xfrm>
            <a:off x="611280" y="260280"/>
            <a:ext cx="8281800" cy="6337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108"/>
          <p:cNvPicPr/>
          <p:nvPr/>
        </p:nvPicPr>
        <p:blipFill>
          <a:blip r:embed="rId1"/>
          <a:stretch/>
        </p:blipFill>
        <p:spPr>
          <a:xfrm>
            <a:off x="539640" y="260280"/>
            <a:ext cx="8209080" cy="590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100"/>
          <p:cNvPicPr/>
          <p:nvPr/>
        </p:nvPicPr>
        <p:blipFill>
          <a:blip r:embed="rId1"/>
          <a:stretch/>
        </p:blipFill>
        <p:spPr>
          <a:xfrm>
            <a:off x="611280" y="189000"/>
            <a:ext cx="8353440" cy="64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стительный и животный мир ледяной зон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жизни в трудных условиях приспособились немногие живые существа: мхи, лишайники, полярный м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животных больше всего птиц: чайки, кайры, гага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этих птиц кормит море. В море множество водорослей. Ими питаются рачки, рачками – рыбы, а рыбами – птицы. Рыбой кормятся и тюлени. Они – прекрасные пловцы. Под кожей у тюленей толстый слой жира, который защищает от холода. Отдыхая на льдинах, тюлени часто становятся добычей белых медв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рктике есть и моржи. Они крупнее тюленей. Есть и киты. Их длина достигает 15 – 18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устыни и челове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с давних пор осваивают пустыни. Построив каналы, люди подвели во многие районы воду. На орошаемых землях появились поля, сады, виноград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домашних животных в зоне пустынь на первом месте верблюды и ов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угрозой исчезновения оказались животные: гигантский слепыш – подземный житель длиной до 35 см, хищный зверёк перевязка, сайг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аивая пустыню, не нужно наносить природе ущерб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189000"/>
            <a:ext cx="85690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29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02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633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рктика и человек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е время люди охотились на белых медведей, моржей, китов. В результате эти животные стали редк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орях Арктики занимаются охотой и рыболов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йчас охота на редких животных в Арктике запрещена. На острове Врангеля создан заповедник. Под охрану взяты птичьи базары, ограничена рыбная лов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унд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жнее ледяной зоны вдоль берегов северных морей протянулас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она тундр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родные условия тундры похожи на природные условия Арктики, но менее сур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ысячи километров тянется холодная безлесная равн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а в тундре долгая и очень суровая. Лето короткое, прохладное. Круглый год дуют холодные сильные в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короткое лето поверхность тундры оттаивает примерно на полметра в глубину. А ниже – вечная мерзлота. Поэтому в тундре много болот и озё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66"/>
                </a:solidFill>
                <a:latin typeface="Times New Roman"/>
              </a:rPr>
              <a:t>Почему растения тундры имеют жёсткие, маленькие листья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Arial"/>
              </a:rPr>
              <a:t>Такие листья препятствуют испарению воды растительностью. Почва тундры оттаивает на небольшую глубину, вода, находящаяся в ней, очень холодная. Растения не способны усваивать холодную воду, поэтому, даже находясь в переувлажнённых почвах, постоянно испытывают водный гол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1128600" y="1773360"/>
            <a:ext cx="3740400" cy="3892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66"/>
                </a:solidFill>
                <a:latin typeface="Times New Roman"/>
              </a:rPr>
              <a:t>Почему растения тундры стелются по земле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Это приспособление позволяет переносить сильные зимние ветры ( до 40 м/сек), несущие снег и срезающие верхнюю часть растений. Стебли, стелющиеся по земле, укрываются снегом и не вымерз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assiope"/>
          <p:cNvPicPr/>
          <p:nvPr/>
        </p:nvPicPr>
        <p:blipFill>
          <a:blip r:embed="rId1"/>
          <a:stretch/>
        </p:blipFill>
        <p:spPr>
          <a:xfrm>
            <a:off x="5218200" y="1600200"/>
            <a:ext cx="3124080" cy="218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SaxifragaOppositifolia"/>
          <p:cNvPicPr/>
          <p:nvPr/>
        </p:nvPicPr>
        <p:blipFill>
          <a:blip r:embed="rId2"/>
          <a:stretch/>
        </p:blipFill>
        <p:spPr>
          <a:xfrm>
            <a:off x="1284120" y="1600200"/>
            <a:ext cx="3073680" cy="2187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0:26:29Z</dcterms:created>
  <dc:creator>Вайс Валентина Константиновна</dc:creator>
  <dc:description/>
  <dc:language>en-US</dc:language>
  <cp:lastModifiedBy>Admin</cp:lastModifiedBy>
  <dcterms:modified xsi:type="dcterms:W3CDTF">2010-03-28T08:51:19Z</dcterms:modified>
  <cp:revision>9</cp:revision>
  <dc:subject/>
  <dc:title>Природные зоны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240000000000010250300207f7000400038000</vt:lpwstr>
  </property>
</Properties>
</file>