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D2D-3DDC-4171-9995-AAFB1486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456-E731-494F-BB86-C4BEFD97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EC4-3000-4D27-A7C6-309C85E2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D04-2C92-435E-9F39-D5585F58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9F5-2AA1-47DA-A17E-1E8FDC62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0791-8393-4CC3-87CE-123028CB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C4DB-E816-4005-B3EA-AA2EE2E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103E-E60D-413B-8B18-2C5990DF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684-C07F-4593-8867-A110F9B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6208-C58E-43D7-BE40-4BE1B6A3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2173-C6A4-4C35-A183-E2280EE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DDE-7484-418B-A00E-D4A332C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26F3-FACB-4CDC-A649-B4C2489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FA3E-6439-4F7C-84A9-B434EAC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4173-FC88-46F9-A067-4BF2490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FC8-3900-4692-A6B5-A966BC05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70A-216A-4E5E-BABB-41997B79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A15-435F-4AE2-9731-9B72BE8F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E2F-383A-456A-8CC3-0AC4F021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E93-D25F-46E4-8F4C-AA55161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FA6-929D-411A-871C-ED16C07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2B0-F6B2-40AE-A9A1-C7ADA1F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A35-1CE1-42F0-877B-3108D06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67D-8F3F-4E64-B5F9-5E75C4CA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0DD-2302-4CBA-8203-B297A43D4B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49E-F65D-4CCC-8253-AF431FA0B3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риродные зоны Росси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Вайс В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низкорослы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3" descr="EriophorumRusseolum"/>
          <p:cNvPicPr/>
          <p:nvPr/>
        </p:nvPicPr>
        <p:blipFill>
          <a:blip r:embed="rId1"/>
          <a:stretch/>
        </p:blipFill>
        <p:spPr>
          <a:xfrm>
            <a:off x="826920" y="1557360"/>
            <a:ext cx="325440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Растения тундры имеют высоту 15-20 см, у большинства стебель стелющи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Короткое, прохладное лето замедляет рост растений. Зимой сильные ветры срезают надземны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edicularisCapitata"/>
          <p:cNvPicPr/>
          <p:nvPr/>
        </p:nvPicPr>
        <p:blipFill>
          <a:blip r:embed="rId2"/>
          <a:stretch/>
        </p:blipFill>
        <p:spPr>
          <a:xfrm>
            <a:off x="826920" y="4005360"/>
            <a:ext cx="325764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>
            <a:hlinkClick r:id="rId3" action="ppaction://hlinksldjump"/>
          </p:cNvPr>
          <p:cNvSpPr/>
          <p:nvPr/>
        </p:nvSpPr>
        <p:spPr>
          <a:xfrm>
            <a:off x="8604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Раститель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3" descr="6"/>
          <p:cNvPicPr/>
          <p:nvPr/>
        </p:nvPicPr>
        <p:blipFill>
          <a:blip r:embed="rId1"/>
          <a:stretch/>
        </p:blipFill>
        <p:spPr>
          <a:xfrm>
            <a:off x="5411880" y="393696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EritrichiumPulvinatum"/>
          <p:cNvPicPr/>
          <p:nvPr/>
        </p:nvPicPr>
        <p:blipFill>
          <a:blip r:embed="rId2"/>
          <a:stretch/>
        </p:blipFill>
        <p:spPr>
          <a:xfrm>
            <a:off x="5219640" y="1557360"/>
            <a:ext cx="28972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NovosSnow"/>
          <p:cNvPicPr/>
          <p:nvPr/>
        </p:nvPicPr>
        <p:blipFill>
          <a:blip r:embed="rId3"/>
          <a:stretch/>
        </p:blipFill>
        <p:spPr>
          <a:xfrm>
            <a:off x="1268280" y="3941640"/>
            <a:ext cx="310536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etulaOs"/>
          <p:cNvPicPr/>
          <p:nvPr/>
        </p:nvPicPr>
        <p:blipFill>
          <a:blip r:embed="rId4"/>
          <a:stretch/>
        </p:blipFill>
        <p:spPr>
          <a:xfrm>
            <a:off x="1308240" y="160020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большинство животных тундры имеют светлую окраск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3" descr="1380_16m"/>
          <p:cNvPicPr/>
          <p:nvPr/>
        </p:nvPicPr>
        <p:blipFill>
          <a:blip r:embed="rId1"/>
          <a:stretch/>
        </p:blipFill>
        <p:spPr>
          <a:xfrm>
            <a:off x="1468440" y="1628640"/>
            <a:ext cx="2855880" cy="2233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В тундре зима длится большую часть года. Лежит глубокий белый снег. Животные имеют светлую окраску, помогающую хищникам подкрадываться к жертвам, а жертвам- скрываться от хищников. Светлая шубка животных сливается с белым сне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песец"/>
          <p:cNvPicPr/>
          <p:nvPr/>
        </p:nvPicPr>
        <p:blipFill>
          <a:blip r:embed="rId2"/>
          <a:stretch/>
        </p:blipFill>
        <p:spPr>
          <a:xfrm>
            <a:off x="1271520" y="3941640"/>
            <a:ext cx="30988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Живот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826032"/>
          <p:cNvPicPr/>
          <p:nvPr/>
        </p:nvPicPr>
        <p:blipFill>
          <a:blip r:embed="rId1"/>
          <a:stretch/>
        </p:blipFill>
        <p:spPr>
          <a:xfrm>
            <a:off x="5292720" y="386064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emming"/>
          <p:cNvPicPr/>
          <p:nvPr/>
        </p:nvPicPr>
        <p:blipFill>
          <a:blip r:embed="rId2"/>
          <a:stretch/>
        </p:blipFill>
        <p:spPr>
          <a:xfrm>
            <a:off x="5435640" y="1341360"/>
            <a:ext cx="2303280" cy="237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заяц-беляк"/>
          <p:cNvPicPr/>
          <p:nvPr/>
        </p:nvPicPr>
        <p:blipFill>
          <a:blip r:embed="rId3"/>
          <a:stretch/>
        </p:blipFill>
        <p:spPr>
          <a:xfrm>
            <a:off x="1258920" y="3933720"/>
            <a:ext cx="2865240" cy="251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eneral_2002_05_1gaga"/>
          <p:cNvPicPr/>
          <p:nvPr/>
        </p:nvPicPr>
        <p:blipFill>
          <a:blip r:embed="rId4"/>
          <a:stretch/>
        </p:blipFill>
        <p:spPr>
          <a:xfrm>
            <a:off x="1258920" y="134136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 в тундре  низкорослые, многие из них стелются по земле. Так они приспособились к жизни в тундре. Олений лишайник (ягель) служит основной пищей для северных оленей. Здесь растут морошка, голубика, брусника, карликовая берёзка, полярная ива, различные м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тундре много комаров и мошек. Растениями и насекомыми кормятся утки, кулики, которые прилетают в тундру. Другие птицы – белая куропатка, белая сова постоянно живут в тун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мечательный обитатель тундры – дикий северный олень. У него густой мех, широкие копыта. За оленями охотятся волки. Основное занятие населения – оленеводство. Ездят люди на оленьих упряжк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ведутся поиски полезных ископаемых. Хозяйственное освоение тундры приносит большой вред прир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обитают редкие птицы: белый журавль, розовая чайка, сокол-сапсан, краснозобая казарка. Они занесены в Красную кни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хота на песцов, уток, куропаток строго огранич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ой участок тундры взят под строгую охрану. Здесь находится Таймырский заповедник.  В нём трудятся учёные, которые исследуют природу тундры, разрабатывают способы её ох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лесов занимает больше половины территори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верной части лесной зоны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м растут хвойные деревья: ель, сосна, лиственница, пихта, ке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 в тайге намного теплее, чем в тундре, но зима очень холодная. Здесь тоже есть многолетняя мерзлота. В хвойных лесах всегда полумрак, так как мохнатые ветви почти не пропускают солнечных лучей. Почва покрыта мхами и лишайниками, мало трав и кустар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ухом лесу, заваленном буреломом, живёт бурый медведь. Он питается и растениями, и животными. Крупный зверь – лось. Большую ценность представляют пушные звери: соболя, норки, лисицы, горностаи, бобры. Из шкурок этих животных шьют шубы, шапки, воротники. Они теплы, легки и крас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животные подлежат охране. В заповеднике Беловежская пуща охраняют зубров, Воронежском заповеднике – бобров, в Баргузинском – собол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elgol"/>
          <p:cNvPicPr/>
          <p:nvPr/>
        </p:nvPicPr>
        <p:blipFill>
          <a:blip r:embed="rId1"/>
          <a:stretch/>
        </p:blipFill>
        <p:spPr>
          <a:xfrm>
            <a:off x="539640" y="404640"/>
            <a:ext cx="3961080" cy="597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сосна"/>
          <p:cNvPicPr/>
          <p:nvPr/>
        </p:nvPicPr>
        <p:blipFill>
          <a:blip r:embed="rId2"/>
          <a:stretch/>
        </p:blipFill>
        <p:spPr>
          <a:xfrm>
            <a:off x="4859280" y="476280"/>
            <a:ext cx="403236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юго-западу от тайги поверхность земли получает больше тепла и влаги, поэтому там растут вместе с хвойными деревьями широколиственные: дуб, клён, ясень, липа. Такие леса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шанным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намного мягче, чем в тайге, многолетней мерзлоты здесь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ый мир смешанных лесов разнообразен. Кроме деревьев много кустарников: орешник, бересклет, жимолость. Много и трав: сныть, копытень, зеленчук, медуница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водится много птиц: глухарь, рябчик, сойка, орёл-беркут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502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арктических пустын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ика… От этого слова веет ледяным холодом. Арктика – это всё огромное пространство Северного Ледовитого океана вместе с морями и островами. На островах Арктики располож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ДЯНАЯ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в Арктике никогда не поднимается высоко над горизонтом. Его лучи едва скользят по поверхности земли, давая ей очень мало тепла. Вот почему здесь царство льда и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в Арктике полярная ночь. Иногда бывают полярные сияния. Дуют сильные ветры, часто бушует вьюга, температура понижается до – 6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Арктике полярный день. Круглые сутки светло, но не те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16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3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степ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лесная зона сменяется зоной степей. Лето тёплое, продолжительное, засушливое. Часто дуют горячие сухие ветры – суховеи. Иногда они переходят в пыльные бури. Дожди редки, обычно ливне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ях растут разнообразные травянистые растения: тюльпаны, ирисы, ковыль, типчак, пол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ны насекомые степной зоны. Много кузнечиков, бабочек, пчёл, шм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ми и насекомыми кормятся птицы: степной жаворонок, серая куропатка, журавль-красавка, дроф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еп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в степях и грызунов: сусликов, хомяков, полёвок, мышей. Грызунами питаются хищные птицы и звери: степной орёл, степной хорёк. Насекомыми питаются ящерицы, грызунами – степная гадю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распахал степи. На месте целинных земель сейчас поля и с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а на степных животных привела к их исчезновению. Небольшие участки целинных степей охраняются в заповедниках. Но их очень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056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в пустыне очень жаркое. Поверхность земли нагревается днём до 70 градусов, ночи прохладные, потому что песок и глина быстро остывают. Осадков мало. Иногда за всё лето не бывает н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самых известных растений пустыни – верблюжья колючка. Её корни проникают на глубину почти 20 метров и оттуда добывают воду. Очень ценится колосняк (песчаный овёс) и джузгун. Корни этих растений хорошо закрепляют пески, не дают им двигаться под действием в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стынях водятся тушканчики, песчанки, ушастый ёж, корсак, сайгак. Много пресмыкающихся: песчаный удавчик, ящерица-круглоголовка, быстрая ящурка, ва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01"/>
          <p:cNvPicPr/>
          <p:nvPr/>
        </p:nvPicPr>
        <p:blipFill>
          <a:blip r:embed="rId1"/>
          <a:stretch/>
        </p:blipFill>
        <p:spPr>
          <a:xfrm>
            <a:off x="611280" y="260280"/>
            <a:ext cx="8281800" cy="6337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08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00"/>
          <p:cNvPicPr/>
          <p:nvPr/>
        </p:nvPicPr>
        <p:blipFill>
          <a:blip r:embed="rId1"/>
          <a:stretch/>
        </p:blipFill>
        <p:spPr>
          <a:xfrm>
            <a:off x="611280" y="189000"/>
            <a:ext cx="835344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тительный и животный мир ледяной зо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жизни в трудных условиях приспособились немногие живые существа: мхи, лишайники, полярный м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больше всего птиц: чайки, кайры, га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этих птиц кормит море. В море множество водорослей. Ими питаются рачки, рачками – рыбы, а рыбами – птицы. Рыбой кормятся и тюлени. Они – прекрасные пловцы. Под кожей у тюленей толстый слой жира, который защищает от холода. Отдыхая на льдинах, тюлени часто становятся добычей белых медв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рктике есть и моржи. Они крупнее тюленей. Есть и киты. Их длина достигает 15 – 18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с давних пор осваивают пустыни. Построив каналы, люди подвели во многие районы воду. На орошаемых землях появились поля, сады, виногра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домашних животных в зоне пустынь на первом месте верблюды и ов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угрозой исчезновения оказались животные: гигантский слепыш – подземный житель длиной до 35 см, хищный зверёк перевязка, сайг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аивая пустыню, не нужно наносить природе ущер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2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02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ктика и челове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е время люди охотились на белых медведей, моржей, китов. В результате эти животные стали редк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рях Арктики занимаются охотой и рыболов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охота на редких животных в Арктике запрещена. На острове Врангеля создан заповедник. Под охрану взяты птичьи базары, ограничена рыбная лов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ее ледяной зоны вдоль берегов северных морей протянула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она тунд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ые условия тундры похожи на природные условия Арктики, но менее сур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ысячи километров тянется холодная безлесная рав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в тундре долгая и очень суровая. Лето короткое, прохладное. Круглый год дуют холодные сильные в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ороткое лето поверхность тундры оттаивает примерно на полметра в глубину. А ниже – вечная мерзлота. Поэтому в тундре много болот и озё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имеют жёсткие, маленькие листь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Такие листья препятствуют испарению воды растительностью. Почва тундры оттаивает на небольшую глубину, вода, находящаяся в ней, очень холодная. Растения не способны усваивать холодную воду, поэтому, даже находясь в переувлажнённых почвах, постоянно испытывают водный г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28600" y="1773360"/>
            <a:ext cx="3740400" cy="3892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стелются по земл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Это приспособление позволяет переносить сильные зимние ветры ( до 40 м/сек), несущие снег и срезающие верхнюю часть растений. Стебли, стелющиеся по земле, укрываются снегом и не вымерз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assiope"/>
          <p:cNvPicPr/>
          <p:nvPr/>
        </p:nvPicPr>
        <p:blipFill>
          <a:blip r:embed="rId1"/>
          <a:stretch/>
        </p:blipFill>
        <p:spPr>
          <a:xfrm>
            <a:off x="5218200" y="1600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axifragaOppositifolia"/>
          <p:cNvPicPr/>
          <p:nvPr/>
        </p:nvPicPr>
        <p:blipFill>
          <a:blip r:embed="rId2"/>
          <a:stretch/>
        </p:blipFill>
        <p:spPr>
          <a:xfrm>
            <a:off x="1284120" y="1600200"/>
            <a:ext cx="307368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26:29Z</dcterms:created>
  <dc:creator>Вайс Валентина Константиновна</dc:creator>
  <dc:description/>
  <dc:language>en-US</dc:language>
  <cp:lastModifiedBy>Admin</cp:lastModifiedBy>
  <dcterms:modified xsi:type="dcterms:W3CDTF">2010-03-28T08:51:19Z</dcterms:modified>
  <cp:revision>9</cp:revision>
  <dc:subject/>
  <dc:title>Природ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40000000000010250300207f7000400038000</vt:lpwstr>
  </property>
</Properties>
</file>