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F124-8BC8-449A-BE1F-3996A6E51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FC9C-709D-47B6-928A-274F4A1A2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4F8C-739C-481F-A7DC-75D813EBD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9BD9-99B4-4872-84A2-CE12B80CD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3702A-5243-403D-8DC1-F64DDBA29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3EA55-5F44-46EA-98B9-D4EE257DB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A6497-F7B4-4667-BB57-B306DBB28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23F53-B674-45B8-B1CC-41F0D3177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ECDF8-C710-4FDE-BAAD-0893969B3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9B71C-0F87-4E68-B61E-B3A14A5B6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1416F-03F0-488E-8ADB-FA31CE8A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8105-553F-4E5A-851A-0036555F9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8B2F3-862C-4893-82D0-898B1DC6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549CA-37B0-4B05-AB2B-9E580C43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BE045-397E-423F-A9D1-33DA52D21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402DB-FF1A-4DDA-9ACE-E133871F4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81D03-41C4-4C2D-BCCE-3E496D9EF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7E4B-6DD3-402E-9B22-76E1F1B90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1DBF-8969-40F7-978E-5696FBFB9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1F1C-82AB-44E2-9168-B1266134D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4F06-B6B3-41B5-BC8C-42C099A71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66CC-61D5-4C1B-A0FB-76E846B6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01AF-FBA0-4D46-893D-B6AA3EC2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19FA-248A-4BD9-9C16-AA345C6E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2E6C4-C551-4D29-B0CE-20B9BFB74DB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4A9C1-26BF-435D-A8E5-DC7C9857815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Природные зоны России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р: Вайс В.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66"/>
                </a:solidFill>
                <a:latin typeface="Times New Roman"/>
              </a:rPr>
              <a:t>Почему растения тундры низкорослые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1" name="Picture 3" descr="EriophorumRusseolum"/>
          <p:cNvPicPr/>
          <p:nvPr/>
        </p:nvPicPr>
        <p:blipFill>
          <a:blip r:embed="rId1"/>
          <a:stretch/>
        </p:blipFill>
        <p:spPr>
          <a:xfrm>
            <a:off x="826920" y="1557360"/>
            <a:ext cx="3254400" cy="21859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Arial"/>
              </a:rPr>
              <a:t>Растения тундры имеют высоту 15-20 см, у большинства стебель стелющий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Arial"/>
              </a:rPr>
              <a:t>Короткое, прохладное лето замедляет рост растений. Зимой сильные ветры срезают надземные ча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PedicularisCapitata"/>
          <p:cNvPicPr/>
          <p:nvPr/>
        </p:nvPicPr>
        <p:blipFill>
          <a:blip r:embed="rId2"/>
          <a:stretch/>
        </p:blipFill>
        <p:spPr>
          <a:xfrm>
            <a:off x="826920" y="4005360"/>
            <a:ext cx="3257640" cy="2187360"/>
          </a:xfrm>
          <a:prstGeom prst="rect">
            <a:avLst/>
          </a:prstGeom>
          <a:ln w="0">
            <a:noFill/>
          </a:ln>
        </p:spPr>
      </p:pic>
      <p:sp>
        <p:nvSpPr>
          <p:cNvPr id="124" name="AutoShape 6">
            <a:hlinkClick r:id="rId3" action="ppaction://hlinksldjump"/>
          </p:cNvPr>
          <p:cNvSpPr/>
          <p:nvPr/>
        </p:nvSpPr>
        <p:spPr>
          <a:xfrm>
            <a:off x="8604360" y="6453360"/>
            <a:ext cx="360360" cy="404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04640"/>
              <a:gd name="textAreaBottom" fmla="*/ 381600 h 404640"/>
            </a:gdLst>
            <a:ahLst/>
            <a:rect l="textAreaLeft" t="textAreaTop" r="textAreaRight" b="textAreaBottom"/>
            <a:pathLst>
              <a:path w="21600" h="24251">
                <a:moveTo>
                  <a:pt x="0" y="0"/>
                </a:moveTo>
                <a:lnTo>
                  <a:pt x="21600" y="0"/>
                </a:lnTo>
                <a:lnTo>
                  <a:pt x="21600" y="24251"/>
                </a:lnTo>
                <a:lnTo>
                  <a:pt x="0" y="24251"/>
                </a:lnTo>
                <a:close/>
              </a:path>
              <a:path fill="lightenLess" w="21600" h="242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51">
                <a:moveTo>
                  <a:pt x="21600" y="0"/>
                </a:moveTo>
                <a:lnTo>
                  <a:pt x="21600" y="24251"/>
                </a:lnTo>
                <a:lnTo>
                  <a:pt x="20200" y="22851"/>
                </a:lnTo>
                <a:lnTo>
                  <a:pt x="20200" y="1400"/>
                </a:lnTo>
                <a:close/>
              </a:path>
              <a:path fill="darkenLess" w="21600" h="24251">
                <a:moveTo>
                  <a:pt x="21600" y="24251"/>
                </a:moveTo>
                <a:lnTo>
                  <a:pt x="0" y="24251"/>
                </a:lnTo>
                <a:lnTo>
                  <a:pt x="1400" y="22851"/>
                </a:lnTo>
                <a:lnTo>
                  <a:pt x="20200" y="22851"/>
                </a:lnTo>
                <a:close/>
              </a:path>
              <a:path fill="lighten" w="21600" h="24251">
                <a:moveTo>
                  <a:pt x="0" y="242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51"/>
                </a:lnTo>
                <a:close/>
              </a:path>
              <a:path fill="darken" w="21600" h="24251">
                <a:moveTo>
                  <a:pt x="10800" y="5163"/>
                </a:moveTo>
                <a:lnTo>
                  <a:pt x="13376" y="7774"/>
                </a:lnTo>
                <a:lnTo>
                  <a:pt x="13376" y="6033"/>
                </a:lnTo>
                <a:lnTo>
                  <a:pt x="15152" y="6033"/>
                </a:lnTo>
                <a:lnTo>
                  <a:pt x="15152" y="9549"/>
                </a:lnTo>
                <a:lnTo>
                  <a:pt x="17763" y="12126"/>
                </a:lnTo>
                <a:lnTo>
                  <a:pt x="16109" y="12126"/>
                </a:lnTo>
                <a:lnTo>
                  <a:pt x="16109" y="19315"/>
                </a:lnTo>
                <a:lnTo>
                  <a:pt x="5491" y="19315"/>
                </a:lnTo>
                <a:lnTo>
                  <a:pt x="5491" y="12126"/>
                </a:lnTo>
                <a:lnTo>
                  <a:pt x="3837" y="12126"/>
                </a:lnTo>
                <a:close/>
              </a:path>
              <a:path fill="darkenLess" w="21600" h="24251">
                <a:moveTo>
                  <a:pt x="13376" y="7774"/>
                </a:moveTo>
                <a:lnTo>
                  <a:pt x="13376" y="6033"/>
                </a:lnTo>
                <a:lnTo>
                  <a:pt x="15152" y="6033"/>
                </a:lnTo>
                <a:lnTo>
                  <a:pt x="15152" y="9549"/>
                </a:lnTo>
                <a:close/>
              </a:path>
              <a:path fill="darkenLess" w="21600" h="24251">
                <a:moveTo>
                  <a:pt x="9877" y="15625"/>
                </a:moveTo>
                <a:lnTo>
                  <a:pt x="11723" y="15625"/>
                </a:lnTo>
                <a:lnTo>
                  <a:pt x="11723" y="19315"/>
                </a:lnTo>
                <a:lnTo>
                  <a:pt x="16109" y="19315"/>
                </a:lnTo>
                <a:lnTo>
                  <a:pt x="16109" y="12126"/>
                </a:lnTo>
                <a:lnTo>
                  <a:pt x="5491" y="12126"/>
                </a:lnTo>
                <a:lnTo>
                  <a:pt x="5491" y="19315"/>
                </a:lnTo>
                <a:lnTo>
                  <a:pt x="9877" y="19315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8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66"/>
                </a:solidFill>
                <a:latin typeface="Times New Roman"/>
              </a:rPr>
              <a:t>Растительный мир тундр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6" name="Picture 3" descr="6"/>
          <p:cNvPicPr/>
          <p:nvPr/>
        </p:nvPicPr>
        <p:blipFill>
          <a:blip r:embed="rId1"/>
          <a:stretch/>
        </p:blipFill>
        <p:spPr>
          <a:xfrm>
            <a:off x="5411880" y="3936960"/>
            <a:ext cx="2663640" cy="2160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EritrichiumPulvinatum"/>
          <p:cNvPicPr/>
          <p:nvPr/>
        </p:nvPicPr>
        <p:blipFill>
          <a:blip r:embed="rId2"/>
          <a:stretch/>
        </p:blipFill>
        <p:spPr>
          <a:xfrm>
            <a:off x="5219640" y="1557360"/>
            <a:ext cx="2897280" cy="2185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NovosSnow"/>
          <p:cNvPicPr/>
          <p:nvPr/>
        </p:nvPicPr>
        <p:blipFill>
          <a:blip r:embed="rId3"/>
          <a:stretch/>
        </p:blipFill>
        <p:spPr>
          <a:xfrm>
            <a:off x="1268280" y="3941640"/>
            <a:ext cx="3105360" cy="21891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BetulaOs"/>
          <p:cNvPicPr/>
          <p:nvPr/>
        </p:nvPicPr>
        <p:blipFill>
          <a:blip r:embed="rId4"/>
          <a:stretch/>
        </p:blipFill>
        <p:spPr>
          <a:xfrm>
            <a:off x="1308240" y="1600200"/>
            <a:ext cx="3025800" cy="2187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8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66"/>
                </a:solidFill>
                <a:latin typeface="Times New Roman"/>
              </a:rPr>
              <a:t>Почему большинство животных тундры имеют светлую окраску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1" name="Picture 3" descr="1380_16m"/>
          <p:cNvPicPr/>
          <p:nvPr/>
        </p:nvPicPr>
        <p:blipFill>
          <a:blip r:embed="rId1"/>
          <a:stretch/>
        </p:blipFill>
        <p:spPr>
          <a:xfrm>
            <a:off x="1468440" y="1628640"/>
            <a:ext cx="2855880" cy="22338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Arial"/>
              </a:rPr>
              <a:t>В тундре зима длится большую часть года. Лежит глубокий белый снег. Животные имеют светлую окраску, помогающую хищникам подкрадываться к жертвам, а жертвам- скрываться от хищников. Светлая шубка животных сливается с белым снег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песец"/>
          <p:cNvPicPr/>
          <p:nvPr/>
        </p:nvPicPr>
        <p:blipFill>
          <a:blip r:embed="rId2"/>
          <a:stretch/>
        </p:blipFill>
        <p:spPr>
          <a:xfrm>
            <a:off x="1271520" y="3941640"/>
            <a:ext cx="3098880" cy="21891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8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66"/>
                </a:solidFill>
                <a:latin typeface="Times New Roman"/>
              </a:rPr>
              <a:t>Животный мир тундр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5" name="Picture 3" descr="826032"/>
          <p:cNvPicPr/>
          <p:nvPr/>
        </p:nvPicPr>
        <p:blipFill>
          <a:blip r:embed="rId1"/>
          <a:stretch/>
        </p:blipFill>
        <p:spPr>
          <a:xfrm>
            <a:off x="5292720" y="3860640"/>
            <a:ext cx="2664000" cy="2514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lemming"/>
          <p:cNvPicPr/>
          <p:nvPr/>
        </p:nvPicPr>
        <p:blipFill>
          <a:blip r:embed="rId2"/>
          <a:stretch/>
        </p:blipFill>
        <p:spPr>
          <a:xfrm>
            <a:off x="5435640" y="1341360"/>
            <a:ext cx="2303280" cy="2373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заяц-беляк"/>
          <p:cNvPicPr/>
          <p:nvPr/>
        </p:nvPicPr>
        <p:blipFill>
          <a:blip r:embed="rId3"/>
          <a:stretch/>
        </p:blipFill>
        <p:spPr>
          <a:xfrm>
            <a:off x="1258920" y="3933720"/>
            <a:ext cx="2865240" cy="2519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general_2002_05_1gaga"/>
          <p:cNvPicPr/>
          <p:nvPr/>
        </p:nvPicPr>
        <p:blipFill>
          <a:blip r:embed="rId4"/>
          <a:stretch/>
        </p:blipFill>
        <p:spPr>
          <a:xfrm>
            <a:off x="1258920" y="1341360"/>
            <a:ext cx="2808360" cy="2376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8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Тундра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тения в тундре  низкорослые, многие из них стелются по земле. Так они приспособились к жизни в тундре. Олений лишайник (ягель) служит основной пищей для северных оленей. Здесь растут морошка, голубика, брусника, карликовая берёзка, полярная ива, различные мх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том в тундре много комаров и мошек. Растениями и насекомыми кормятся утки, кулики, которые прилетают в тундру. Другие птицы – белая куропатка, белая сова постоянно живут в тунд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Тундра и человек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28036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мечательный обитатель тундры – дикий северный олень. У него густой мех, широкие копыта. За оленями охотятся волки. Основное занятие населения – оленеводство. Ездят люди на оленьих упряжках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тундре ведутся поиски полезных ископаемых. Хозяйственное освоение тундры приносит большой вред природ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тундре обитают редкие птицы: белый журавль, розовая чайка, сокол-сапсан, краснозобая казарка. Они занесены в Красную книг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хота на песцов, уток, куропаток строго ограниче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ольшой участок тундры взят под строгую охрану. Здесь находится Таймырский заповедник.  В нём трудятся учёные, которые исследуют природу тундры, разрабатывают способы её охран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она лесов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0755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она лесов занимает больше половины территории Росс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еверной части лесной зоны находитс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айг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Там растут хвойные деревья: ель, сосна, лиственница, пихта, ке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то в тайге намного теплее, чем в тундре, но зима очень холодная. Здесь тоже есть многолетняя мерзлота. В хвойных лесах всегда полумрак, так как мохнатые ветви почти не пропускают солнечных лучей. Почва покрыта мхами и лишайниками, мало трав и кустар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глухом лесу, заваленном буреломом, живёт бурый медведь. Он питается и растениями, и животными. Крупный зверь – лось. Большую ценность представляют пушные звери: соболя, норки, лисицы, горностаи, бобры. Из шкурок этих животных шьют шубы, шапки, воротники. Они теплы, легки и красив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дельные животные подлежат охране. В заповеднике Беловежская пуща охраняют зубров, Воронежском заповеднике – бобров, в Баргузинском – соболей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8" descr="elgol"/>
          <p:cNvPicPr/>
          <p:nvPr/>
        </p:nvPicPr>
        <p:blipFill>
          <a:blip r:embed="rId1"/>
          <a:stretch/>
        </p:blipFill>
        <p:spPr>
          <a:xfrm>
            <a:off x="539640" y="404640"/>
            <a:ext cx="3961080" cy="59770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сосна"/>
          <p:cNvPicPr/>
          <p:nvPr/>
        </p:nvPicPr>
        <p:blipFill>
          <a:blip r:embed="rId2"/>
          <a:stretch/>
        </p:blipFill>
        <p:spPr>
          <a:xfrm>
            <a:off x="4859280" y="476280"/>
            <a:ext cx="4032360" cy="59054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она лесов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юго-западу от тайги поверхность земли получает больше тепла и влаги, поэтому там растут вместе с хвойными деревьями широколиственные: дуб, клён, ясень, липа. Такие леса называют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мешанными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има намного мягче, чем в тайге, многолетней мерзлоты здесь 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тительный мир смешанных лесов разнообразен. Кроме деревьев много кустарников: орешник, бересклет, жимолость. Много и трав: сныть, копытень, зеленчук, медуница и друг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животных водится много птиц: глухарь, рябчик, сойка, орёл-беркут и друг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502"/>
          <p:cNvPicPr/>
          <p:nvPr/>
        </p:nvPicPr>
        <p:blipFill>
          <a:blip r:embed="rId1"/>
          <a:stretch/>
        </p:blipFill>
        <p:spPr>
          <a:xfrm>
            <a:off x="468360" y="260280"/>
            <a:ext cx="8424720" cy="6337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она арктических пустынь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ктика… От этого слова веет ледяным холодом. Арктика – это всё огромное пространство Северного Ледовитого океана вместе с морями и островами. На островах Арктики расположен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ЕДЯНАЯ З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лнце в Арктике никогда не поднимается высоко над горизонтом. Его лучи едва скользят по поверхности земли, давая ей очень мало тепла. Вот почему здесь царство льда и сне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имой в Арктике полярная ночь. Иногда бывают полярные сияния. Дуют сильные ветры, часто бушует вьюга, температура понижается до – 60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том в Арктике полярный день. Круглые сутки светло, но не тепл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116"/>
          <p:cNvPicPr/>
          <p:nvPr/>
        </p:nvPicPr>
        <p:blipFill>
          <a:blip r:embed="rId1"/>
          <a:stretch/>
        </p:blipFill>
        <p:spPr>
          <a:xfrm>
            <a:off x="395280" y="260280"/>
            <a:ext cx="8424720" cy="626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130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26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она степей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епенно лесная зона сменяется зоной степей. Лето тёплое, продолжительное, засушливое. Часто дуют горячие сухие ветры – суховеи. Иногда они переходят в пыльные бури. Дожди редки, обычно ливневы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тепях растут разнообразные травянистые растения: тюльпаны, ирисы, ковыль, типчак, полы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нообразны насекомые степной зоны. Много кузнечиков, бабочек, пчёл, шм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тениями и насекомыми кормятся птицы: степной жаворонок, серая куропатка, журавль-красавка, дроф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8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тепи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о в степях и грызунов: сусликов, хомяков, полёвок, мышей. Грызунами питаются хищные птицы и звери: степной орёл, степной хорёк. Насекомыми питаются ящерицы, грызунами – степная гадю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к распахал степи. На месте целинных земель сейчас поля и са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хота на степных животных привела к их исчезновению. Небольшие участки целинных степей охраняются в заповедниках. Но их очень ма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5280" y="259920"/>
            <a:ext cx="829152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056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2643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устын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России пустыни занимают небольшую площадь – по берегам Каспийского моря, к западу и к востоку от низовьев Вол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то в пустыне очень жаркое. Поверхность земли нагревается днём до 70 градусов, ночи прохладные, потому что песок и глина быстро остывают. Осадков мало. Иногда за всё лето не бывает ни капли дожд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устыни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о из самых известных растений пустыни – верблюжья колючка. Её корни проникают на глубину почти 20 метров и оттуда добывают воду. Очень ценится колосняк (песчаный овёс) и джузгун. Корни этих растений хорошо закрепляют пески, не дают им двигаться под действием вет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устынях водятся тушканчики, песчанки, ушастый ёж, корсак, сайгак. Много пресмыкающихся: песчаный удавчик, ящерица-круглоголовка, быстрая ящурка, вар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101"/>
          <p:cNvPicPr/>
          <p:nvPr/>
        </p:nvPicPr>
        <p:blipFill>
          <a:blip r:embed="rId1"/>
          <a:stretch/>
        </p:blipFill>
        <p:spPr>
          <a:xfrm>
            <a:off x="611280" y="260280"/>
            <a:ext cx="8281800" cy="63374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108"/>
          <p:cNvPicPr/>
          <p:nvPr/>
        </p:nvPicPr>
        <p:blipFill>
          <a:blip r:embed="rId1"/>
          <a:stretch/>
        </p:blipFill>
        <p:spPr>
          <a:xfrm>
            <a:off x="539640" y="260280"/>
            <a:ext cx="8209080" cy="5905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100"/>
          <p:cNvPicPr/>
          <p:nvPr/>
        </p:nvPicPr>
        <p:blipFill>
          <a:blip r:embed="rId1"/>
          <a:stretch/>
        </p:blipFill>
        <p:spPr>
          <a:xfrm>
            <a:off x="611280" y="189000"/>
            <a:ext cx="8353440" cy="6480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Растительный и животный мир ледяной зоны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жизни в трудных условиях приспособились немногие живые существа: мхи, лишайники, полярный ма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животных больше всего птиц: чайки, кайры, гагар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х этих птиц кормит море. В море множество водорослей. Ими питаются рачки, рачками – рыбы, а рыбами – птицы. Рыбой кормятся и тюлени. Они – прекрасные пловцы. Под кожей у тюленей толстый слой жира, который защищает от холода. Отдыхая на льдинах, тюлени часто становятся добычей белых медве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Арктике есть и моржи. Они крупнее тюленей. Есть и киты. Их длина достигает 15 – 18 мет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устыни и человек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ди с давних пор осваивают пустыни. Построив каналы, люди подвели во многие районы воду. На орошаемых землях появились поля, сады, виноград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домашних животных в зоне пустынь на первом месте верблюды и овц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 угрозой исчезновения оказались животные: гигантский слепыш – подземный житель длиной до 35 см, хищный зверёк перевязка, сайга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ваивая пустыню, не нужно наносить природе ущерб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3640" y="189000"/>
            <a:ext cx="856908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129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80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333360"/>
            <a:ext cx="77724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002"/>
          <p:cNvPicPr/>
          <p:nvPr/>
        </p:nvPicPr>
        <p:blipFill>
          <a:blip r:embed="rId1"/>
          <a:stretch/>
        </p:blipFill>
        <p:spPr>
          <a:xfrm>
            <a:off x="324000" y="260280"/>
            <a:ext cx="8640720" cy="6337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Арктика и человек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лгое время люди охотились на белых медведей, моржей, китов. В результате эти животные стали редки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морях Арктики занимаются охотой и рыболовств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йчас охота на редких животных в Арктике запрещена. На острове Врангеля создан заповедник. Под охрану взяты птичьи базары, ограничена рыбная лов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12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Тундр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Южнее ледяной зоны вдоль берегов северных морей протянулась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она тундры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иродные условия тундры похожи на природные условия Арктики, но менее суро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тысячи километров тянется холодная безлесная равни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има в тундре долгая и очень суровая. Лето короткое, прохладное. Круглый год дуют холодные сильные вет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 короткое лето поверхность тундры оттаивает примерно на полметра в глубину. А ниже – вечная мерзлота. Поэтому в тундре много болот и озё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66"/>
                </a:solidFill>
                <a:latin typeface="Times New Roman"/>
              </a:rPr>
              <a:t>Почему растения тундры имеют жёсткие, маленькие листья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ff"/>
                </a:solidFill>
                <a:latin typeface="Arial"/>
              </a:rPr>
              <a:t>Такие листья препятствуют испарению воды растительностью. Почва тундры оттаивает на небольшую глубину, вода, находящаяся в ней, очень холодная. Растения не способны усваивать холодную воду, поэтому, даже находясь в переувлажнённых почвах, постоянно испытывают водный гол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3"/>
          <p:cNvPicPr/>
          <p:nvPr/>
        </p:nvPicPr>
        <p:blipFill>
          <a:blip r:embed="rId1"/>
          <a:stretch/>
        </p:blipFill>
        <p:spPr>
          <a:xfrm>
            <a:off x="1128600" y="1773360"/>
            <a:ext cx="3740400" cy="38923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8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66"/>
                </a:solidFill>
                <a:latin typeface="Times New Roman"/>
              </a:rPr>
              <a:t>Почему растения тундры стелются по земле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394128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Arial"/>
              </a:rPr>
              <a:t>Это приспособление позволяет переносить сильные зимние ветры ( до 40 м/сек), несущие снег и срезающие верхнюю часть растений. Стебли, стелющиеся по земле, укрываются снегом и не вымерзаю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Cassiope"/>
          <p:cNvPicPr/>
          <p:nvPr/>
        </p:nvPicPr>
        <p:blipFill>
          <a:blip r:embed="rId1"/>
          <a:stretch/>
        </p:blipFill>
        <p:spPr>
          <a:xfrm>
            <a:off x="5218200" y="1600200"/>
            <a:ext cx="3124080" cy="2187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SaxifragaOppositifolia"/>
          <p:cNvPicPr/>
          <p:nvPr/>
        </p:nvPicPr>
        <p:blipFill>
          <a:blip r:embed="rId2"/>
          <a:stretch/>
        </p:blipFill>
        <p:spPr>
          <a:xfrm>
            <a:off x="1284120" y="1600200"/>
            <a:ext cx="3073680" cy="2187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0:26:29Z</dcterms:created>
  <dc:creator>Вайс Валентина Константиновна</dc:creator>
  <dc:description/>
  <dc:language>en-US</dc:language>
  <cp:lastModifiedBy>Admin</cp:lastModifiedBy>
  <dcterms:modified xsi:type="dcterms:W3CDTF">2010-03-28T08:51:19Z</dcterms:modified>
  <cp:revision>9</cp:revision>
  <dc:subject/>
  <dc:title>Природные зоны Росс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2240000000000010250300207f7000400038000</vt:lpwstr>
  </property>
</Properties>
</file>