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5.jpeg" ContentType="image/jpeg"/>
  <Override PartName="/ppt/media/image26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1B566-A067-4306-8501-7E2EF0D1104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C8C1A-3ECD-45E0-8FFC-7CFD42CAEC6C}" type="slidenum">
              <a:rPr b="0" lang="ru-RU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3609-3778-4CFF-B294-7733FDFA5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4CDF-82DA-4394-B168-497DC9BC6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C045-3691-483F-9AD0-5E7C0925C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B265-2E4D-4234-B96B-9C7DA1E6E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579BA-2AE3-4EB7-AEC6-FD50133A9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D7DD5-2BA6-4083-BEA1-963C6A522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E3E72-C422-42C5-88DD-175B2F7F6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BB369-0A85-4653-8F6F-F7075814A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1D914-0BC5-4356-BDBA-BDD73D49B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18C97-D525-41A8-A43B-3DF63407C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F75A5-F323-4C98-9F3E-D459AB38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7A84-DE26-4FF8-B4C3-854676CCD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C584F-A1D4-4115-8F5E-754A1C0F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E3739-CF76-4C84-A3BC-49E62C52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40012-7190-4532-A646-E74D8D2A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ECF98-828C-4339-A368-A1B1EF062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8542F-B97A-428C-81F3-19215EDD4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8CC0-B9E3-4987-B326-0B221E650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20FF-730A-4AB4-BD5C-202FD0B91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3430-3216-45DC-83F6-13E6521ED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53B9-648D-4AA4-BB98-99DC8A5C0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43C9-5E04-4E02-B724-D01D10EF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2A14-82C2-4321-866C-CC8F4DDD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5018-D95B-46CF-AFF3-1278DED9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00EBF-ECDE-4B73-A0D0-7E352C7F95E4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Group 16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5" name="Rectangle 17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Group 19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Rectangle 20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4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5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7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8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9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10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11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2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3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66" name="Rectangle 14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5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6376A-0216-4F4B-A720-2FC23FCF114F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       </a:t>
            </a: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Природные зоны России:</a:t>
            </a:r>
            <a:br>
              <a:rPr sz="3200"/>
            </a:b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 арктические пустыни, тундра и    лесотундра.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1600" spc="-1" strike="noStrike">
                <a:solidFill>
                  <a:srgbClr val="f8f8f8"/>
                </a:solidFill>
                <a:latin typeface="Times New Roman"/>
              </a:rPr>
              <a:t>Выполнил: Полплаухин Алексей</a:t>
            </a:r>
            <a:br>
              <a:rPr sz="1600"/>
            </a:br>
            <a:r>
              <a:rPr b="0" lang="ru-RU" sz="1600" spc="-1" strike="noStrike">
                <a:solidFill>
                  <a:srgbClr val="f8f8f8"/>
                </a:solidFill>
                <a:latin typeface="Times New Roman"/>
              </a:rPr>
              <a:t>МОУ СОШ №2 г.Геленджик</a:t>
            </a:r>
            <a:br>
              <a:rPr sz="1600"/>
            </a:br>
            <a:r>
              <a:rPr b="0" lang="ru-RU" sz="1600" spc="-1" strike="noStrike">
                <a:solidFill>
                  <a:srgbClr val="f8f8f8"/>
                </a:solidFill>
                <a:latin typeface="Times New Roman"/>
              </a:rPr>
              <a:t>Учитель Сбитнева Е.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3635280" y="3284280"/>
            <a:ext cx="6400800" cy="32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685800" y="1546200"/>
            <a:ext cx="3814920" cy="4397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"/>
          <p:cNvPicPr/>
          <p:nvPr/>
        </p:nvPicPr>
        <p:blipFill>
          <a:blip r:embed="rId2"/>
          <a:stretch/>
        </p:blipFill>
        <p:spPr>
          <a:xfrm>
            <a:off x="4643280" y="1546200"/>
            <a:ext cx="3814920" cy="43974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7"/>
          <p:cNvSpPr/>
          <p:nvPr/>
        </p:nvSpPr>
        <p:spPr>
          <a:xfrm>
            <a:off x="5487840" y="1557360"/>
            <a:ext cx="184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ная казарка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2034000" y="150480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Морж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>
            <a:off x="685800" y="2508120"/>
            <a:ext cx="3814920" cy="34354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7"/>
          <p:cNvSpPr/>
          <p:nvPr/>
        </p:nvSpPr>
        <p:spPr>
          <a:xfrm>
            <a:off x="1818360" y="19368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Полынь арктическая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45" name="Picture 8" descr=""/>
          <p:cNvPicPr/>
          <p:nvPr/>
        </p:nvPicPr>
        <p:blipFill>
          <a:blip r:embed="rId2"/>
          <a:stretch/>
        </p:blipFill>
        <p:spPr>
          <a:xfrm>
            <a:off x="4643280" y="2065320"/>
            <a:ext cx="3814920" cy="38782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9"/>
          <p:cNvSpPr/>
          <p:nvPr/>
        </p:nvSpPr>
        <p:spPr>
          <a:xfrm>
            <a:off x="6064560" y="17924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Гусь белолобый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10920" y="380520"/>
            <a:ext cx="77706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Тундра.</a:t>
            </a:r>
            <a:br>
              <a:rPr sz="3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Эта зона занимает примерно17</a:t>
            </a:r>
            <a:r>
              <a:rPr b="0" lang="ar-AE" sz="1600" spc="-1" strike="noStrike">
                <a:solidFill>
                  <a:srgbClr val="ffffff"/>
                </a:solidFill>
                <a:latin typeface="Times New Roman"/>
              </a:rPr>
              <a:t>%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территории России. Климат суровый. Температура января -32 -40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  <a:ea typeface="Calibri"/>
              </a:rPr>
              <a:t>⁰, июля +5 +10⁰, осадков выпадает мало 300 мм. Коэффициент увлажнения избыточный. Почти повсеместно распространена многолетняя мерзлот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7772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99640" y="380520"/>
            <a:ext cx="74818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ундра буквально усеяна неглубокими и небольшими озёрами. Реки в летнее время многоводн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979640" y="1989000"/>
            <a:ext cx="5397480" cy="44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Тазовская губ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ечной срез мерзлоты Гыдана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ечная мерзлота - морозильник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380520"/>
            <a:ext cx="76975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тицы тундры.</a:t>
            </a:r>
            <a:br>
              <a:rPr sz="3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з животных в тундре обитают: песец, лемминг, северный олень. Много птиц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В тундровых озёрах много рыб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755640" y="2276640"/>
            <a:ext cx="7772400" cy="41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Чайк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640" y="380520"/>
            <a:ext cx="784224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Растительность тундры.</a:t>
            </a:r>
            <a:br>
              <a:rPr sz="3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очвы тундрово – глеевые. Растительность низкорослая. Растут: полярный мак, карликовая берёза, карликовая ива, лишайник ягель, брусника, клюква, морошка. Есть в тундре и съедобные гриб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5" descr=""/>
          <p:cNvPicPr/>
          <p:nvPr/>
        </p:nvPicPr>
        <p:blipFill>
          <a:blip r:embed="rId1"/>
          <a:stretch/>
        </p:blipFill>
        <p:spPr>
          <a:xfrm>
            <a:off x="826920" y="2781360"/>
            <a:ext cx="3808440" cy="36241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"/>
          <p:cNvPicPr/>
          <p:nvPr/>
        </p:nvPicPr>
        <p:blipFill>
          <a:blip r:embed="rId2"/>
          <a:stretch/>
        </p:blipFill>
        <p:spPr>
          <a:xfrm>
            <a:off x="4859280" y="2781360"/>
            <a:ext cx="3814920" cy="358308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7"/>
          <p:cNvSpPr/>
          <p:nvPr/>
        </p:nvSpPr>
        <p:spPr>
          <a:xfrm>
            <a:off x="1403280" y="2133720"/>
            <a:ext cx="231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Арктическая береза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п-ов Ямал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6518520" y="24210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Мох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Географическое положени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464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685800" y="2211480"/>
            <a:ext cx="3814920" cy="3732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"/>
          <p:cNvPicPr/>
          <p:nvPr/>
        </p:nvPicPr>
        <p:blipFill>
          <a:blip r:embed="rId2"/>
          <a:stretch/>
        </p:blipFill>
        <p:spPr>
          <a:xfrm>
            <a:off x="4643280" y="2286000"/>
            <a:ext cx="3814920" cy="36576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7"/>
          <p:cNvSpPr/>
          <p:nvPr/>
        </p:nvSpPr>
        <p:spPr>
          <a:xfrm>
            <a:off x="1603080" y="1792440"/>
            <a:ext cx="116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Морошка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5148360" y="172080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Карликовый багульник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10920" y="380520"/>
            <a:ext cx="77706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Лесотундра.</a:t>
            </a:r>
            <a:br>
              <a:rPr sz="3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ереходная зона от тундры к тайге. Зима и лето теплее , чем в тундре. Зона сильно заболочена. Для неё характерно сочетание тундровых и лесных сообществ растений и животных, а также поч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240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Животные тундры и лесотундр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5" descr=""/>
          <p:cNvPicPr/>
          <p:nvPr/>
        </p:nvPicPr>
        <p:blipFill>
          <a:blip r:embed="rId1"/>
          <a:stretch/>
        </p:blipFill>
        <p:spPr>
          <a:xfrm>
            <a:off x="457200" y="1484280"/>
            <a:ext cx="4038480" cy="46418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"/>
          <p:cNvPicPr/>
          <p:nvPr/>
        </p:nvPicPr>
        <p:blipFill>
          <a:blip r:embed="rId2"/>
          <a:stretch/>
        </p:blipFill>
        <p:spPr>
          <a:xfrm>
            <a:off x="4648320" y="1557360"/>
            <a:ext cx="4038480" cy="456876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9"/>
          <p:cNvSpPr/>
          <p:nvPr/>
        </p:nvSpPr>
        <p:spPr>
          <a:xfrm>
            <a:off x="5651640" y="1628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Песец</a:t>
            </a:r>
            <a:br>
              <a:rPr sz="1800"/>
            </a:b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1547640" y="162864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Лемминг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Дикие олен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Picture 3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Девочка-ненка с ручным олененком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Picture 3" descr=""/>
          <p:cNvPicPr/>
          <p:nvPr/>
        </p:nvPicPr>
        <p:blipFill>
          <a:blip r:embed="rId1"/>
          <a:stretch/>
        </p:blipFill>
        <p:spPr>
          <a:xfrm>
            <a:off x="1782720" y="1295280"/>
            <a:ext cx="61228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55640" y="380520"/>
            <a:ext cx="762624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нятием коренных жителей стали: морской промысел, охота и оленеводство. Местами в открытом грунте выращивают картофель, капусту, репу, редис и зелёный лук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Picture 3" descr=""/>
          <p:cNvPicPr/>
          <p:nvPr/>
        </p:nvPicPr>
        <p:blipFill>
          <a:blip r:embed="rId1"/>
          <a:stretch/>
        </p:blipFill>
        <p:spPr>
          <a:xfrm>
            <a:off x="1763640" y="1773360"/>
            <a:ext cx="59850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Царство снега и льда </a:t>
            </a:r>
            <a:br>
              <a:rPr sz="3600"/>
            </a:br>
            <a:br>
              <a:rPr sz="3600"/>
            </a:b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Зима долгая и  холодная, температура января  -16⁰ -32⁰, лето короткое и холодное,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температура от 0 до +4⁰. Осадков мало, выпадают в виде снега.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517680" y="2182680"/>
            <a:ext cx="82483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5640" y="380880"/>
            <a:ext cx="7626240" cy="6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Царство снега и льда.</a:t>
            </a:r>
            <a:br>
              <a:rPr sz="3600"/>
            </a:br>
            <a:br>
              <a:rPr sz="36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чвы почти не развиты. Господствуют мхи и лишайники. Цветковых растений мало. Это полярный мак, снежный лютик и различные камнеломк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755640" y="2349360"/>
            <a:ext cx="777240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Животные Арктики.</a:t>
            </a:r>
            <a:br>
              <a:rPr sz="3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реди животных преобладают те, которых кормит море: птицы и белые медведи. На скалистых берегах летом размещаются птичьи базар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3816360" cy="4537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826920" y="1844640"/>
            <a:ext cx="347832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29" name="Picture 9" descr=""/>
          <p:cNvPicPr/>
          <p:nvPr/>
        </p:nvPicPr>
        <p:blipFill>
          <a:blip r:embed="rId2"/>
          <a:stretch/>
        </p:blipFill>
        <p:spPr>
          <a:xfrm>
            <a:off x="4572000" y="1700280"/>
            <a:ext cx="43210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1579680" y="1295280"/>
            <a:ext cx="61214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3814920" cy="46483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"/>
          <p:cNvPicPr/>
          <p:nvPr/>
        </p:nvPicPr>
        <p:blipFill>
          <a:blip r:embed="rId2"/>
          <a:stretch/>
        </p:blipFill>
        <p:spPr>
          <a:xfrm>
            <a:off x="4643280" y="1295280"/>
            <a:ext cx="38149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17:35:05Z</dcterms:created>
  <dc:creator>Admin</dc:creator>
  <dc:description/>
  <dc:language>en-US</dc:language>
  <cp:lastModifiedBy>Рома</cp:lastModifiedBy>
  <dcterms:modified xsi:type="dcterms:W3CDTF">2011-04-03T08:34:16Z</dcterms:modified>
  <cp:revision>69</cp:revision>
  <dc:subject/>
  <dc:title>Арктические пустыни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c270000000000010250300207f7000400038000</vt:lpwstr>
  </property>
</Properties>
</file>