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CB24-880F-4CDC-909C-2EB99A16DF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86E6-B756-4959-81F3-304C3528B454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536-6D06-4FAC-BAB2-74BF5EDD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955-A9C5-4286-B043-7942E944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057-C38E-4F21-B864-EB709399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C54-3876-447B-A152-83FC40BA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294E-7048-4416-A2B8-9EB49AB3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CDE6-DCF1-42BB-9FAE-8D551CEB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7BB1-9CC4-45DC-B128-BF4F3940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C6D3-551F-4EAF-A5FC-94B9E8E2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A6ED-2F8C-416C-88E7-5053B8BF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B12D-DE09-40F5-BBB2-A0AB3770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F6FE-0E8E-48E4-BC37-C51A5D0A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D36-5F80-4F9D-8CDC-2A50085D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07DB-4555-481B-A8AA-D42D0A9E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5801-CD5E-40CD-9947-49F2097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1198-CC10-4A88-A432-B88EC9A5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BA95-50C9-416E-9BB7-8B4D1D45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55DE-52A2-4D40-96F7-5F8FDBC2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6F2-B98F-475E-8FFF-A7634C5E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828-CC77-483D-9B66-57165061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2DC-BE68-4CB3-8BAB-0256F070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E5C-69D9-4DCB-BC65-FB2CC3BD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968-72AF-4165-AC73-61B4AC06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73A-CAF3-492A-B065-8A674F6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50D-173E-4831-947E-C145823A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2D3E-4E86-44DB-B1D0-DCE1F3056FA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432E-4E6C-4900-84A3-DD57EFD8A9B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Природные зоны России:</a:t>
            </a:r>
            <a:br>
              <a:rPr sz="3200"/>
            </a:b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арктические пустыни, тундра и    лесотундра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Выполнил: Полплаухин Алексей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МОУ СОШ №2 г.Геленджик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Учитель Сбитнева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635280" y="3284280"/>
            <a:ext cx="640080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85800" y="1546200"/>
            <a:ext cx="3814920" cy="4397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643280" y="1546200"/>
            <a:ext cx="3814920" cy="4397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5487840" y="15573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ая казарк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034000" y="1504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орж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685800" y="2508120"/>
            <a:ext cx="3814920" cy="3435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818360" y="1936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лынь арктическа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4643280" y="2065320"/>
            <a:ext cx="3814920" cy="3878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6064560" y="17924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усь белолоб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380520"/>
            <a:ext cx="777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ундра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а зона занимает примерно17</a:t>
            </a:r>
            <a:r>
              <a:rPr b="0" lang="ar-AE" sz="16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территории России. Климат суровый. Температура января -32 -4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⁰, июля +5 +10⁰, осадков выпадает мало 300 мм. Коэффициент увлажнения избыточный. Почти повсеместно распространена многолетняя мерзло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380520"/>
            <a:ext cx="7481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ндра буквально усеяна неглубокими и небольшими озёрами. Реки в летнее время многово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39748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азовская губ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чной срез мерзлоты Гыда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чная мерзлота - морозильн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76975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тицы тундры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животных в тундре обитают: песец, лемминг, северный олень. Много птиц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тундровых озёрах много рыб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77724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й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тительность тундры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чвы тундрово – глеевые. Растительность низкорослая. Растут: полярный мак, карликовая берёза, карликовая ива, лишайник ягель, брусника, клюква, морошка. Есть в тундре и съедобные гриб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3808440" cy="362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14920" cy="3583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1403280" y="2133720"/>
            <a:ext cx="23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рктическая берез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-ов Яма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518520" y="24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ох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еографическое поло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85800" y="2211480"/>
            <a:ext cx="3814920" cy="373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4643280" y="2286000"/>
            <a:ext cx="3814920" cy="3657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603080" y="179244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орошк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148360" y="17208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Карликовый багульник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80520"/>
            <a:ext cx="777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сотундра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ходная зона от тундры к тайге. Зима и лето теплее , чем в тундре. Зона сильно заболочена. Для неё характерно сочетание тундровых и лесных сообществ растений и животных, а также поч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24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Животные тундры и лесотунд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4038480" cy="4641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038480" cy="4568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5651640" y="162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есец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547640" y="1628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мминг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кие оле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вочка-ненка с ручным олененко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782720" y="1295280"/>
            <a:ext cx="612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6262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ятием коренных жителей стали: морской промысел, охота и оленеводство. Местами в открытом грунте выращивают картофель, капусту, репу, редис и зелёный лу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98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арство снега и льда </a:t>
            </a: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има долгая и  холодная, температура января  -16⁰ -32⁰, лето короткое и холодное,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емпература от 0 до +4⁰. Осадков мало, выпадают в виде снега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17680" y="2182680"/>
            <a:ext cx="82483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380880"/>
            <a:ext cx="7626240" cy="6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Царство снега и льда.</a:t>
            </a: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чвы почти не развиты. Господствуют мхи и лишайники. Цветковых растений мало. Это полярный мак, снежный лютик и различные камнелом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7724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Животные Арктики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реди животных преобладают те, которых кормит море: птицы и белые медведи. На скалистых берегах летом размещаются птичьи база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16360" cy="453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1844640"/>
            <a:ext cx="347832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579680" y="1295280"/>
            <a:ext cx="6121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814920" cy="4648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4643280" y="1295280"/>
            <a:ext cx="381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7:35:05Z</dcterms:created>
  <dc:creator>Admin</dc:creator>
  <dc:description/>
  <dc:language>en-US</dc:language>
  <cp:lastModifiedBy>Рома</cp:lastModifiedBy>
  <dcterms:modified xsi:type="dcterms:W3CDTF">2011-04-03T08:34:16Z</dcterms:modified>
  <cp:revision>69</cp:revision>
  <dc:subject/>
  <dc:title>Арктические пустын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270000000000010250300207f7000400038000</vt:lpwstr>
  </property>
</Properties>
</file>