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7F33-F55C-455B-8703-12E944DD56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C135-6BD6-4728-A4EB-604D0D36C5ED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4E3-6426-4C8E-B0F3-98B5D4F6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D7A0-C8EE-4F0E-8C6E-309A6206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273-A934-462E-9818-B9878F23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9CD-24BE-49E0-B3C7-B139DF7E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5873-C8A3-4AA2-AAF9-8ACE0445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7DED-4C3C-4769-BEA5-D7609299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5085-B49A-410D-AC8A-95758AD6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736E-40F7-4624-A360-D7111901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3743-7FA6-46A1-AC22-C18A7D3C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A844-EC74-4F13-A571-249E2643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8347-2713-453E-9641-9308DF6F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F0E-9FC9-4E76-88D5-F3C1EDA1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B7B6-98D3-480E-897E-A3E58F78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D61C-4DDD-4F2B-BF20-CB15F2DD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314D-C68A-43C2-8BF6-B0751B8C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6CFE-AA28-4D3E-AC92-62BC66FC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78F0-49A5-45E1-A892-3050C194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6351-82C2-4E88-B0FC-291EF557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45A-2557-4FFD-8ECE-B7A8D5EB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355-570E-41FF-8F94-B7CAB4C0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77C6-D7FD-4E29-9E34-7EBEFB3C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3B0E-E02D-4565-B8A4-D41C3ED3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9F5-6984-4F6C-8629-4FE2949B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E203-99AF-4D0D-94BC-6E407153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91BF-C6AE-4E2A-ADBF-7C108801D6AE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902B-D1F0-4B52-A15B-4D582AF35B17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Природные зоны России:</a:t>
            </a:r>
            <a:br>
              <a:rPr sz="3200"/>
            </a:b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арктические пустыни, тундра и    лесотундра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Выполнил: Полплаухин Алексей</a:t>
            </a:r>
            <a:br>
              <a:rPr sz="1600"/>
            </a:br>
            <a:r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МОУ СОШ №2 г.Геленджик</a:t>
            </a:r>
            <a:br>
              <a:rPr sz="1600"/>
            </a:br>
            <a:r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Учитель Сбитнева Е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635280" y="3284280"/>
            <a:ext cx="6400800" cy="32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685800" y="1546200"/>
            <a:ext cx="3814920" cy="4397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643280" y="1546200"/>
            <a:ext cx="3814920" cy="4397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5487840" y="155736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ая казарк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034000" y="15048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Морж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685800" y="2508120"/>
            <a:ext cx="3814920" cy="34354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818360" y="1936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лынь арктическа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2"/>
          <a:stretch/>
        </p:blipFill>
        <p:spPr>
          <a:xfrm>
            <a:off x="4643280" y="2065320"/>
            <a:ext cx="3814920" cy="3878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6064560" y="17924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Гусь белолоб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0920" y="380520"/>
            <a:ext cx="777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ундра.</a:t>
            </a:r>
            <a:br>
              <a:rPr sz="3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Эта зона занимает примерно17</a:t>
            </a:r>
            <a:r>
              <a:rPr b="0" lang="ar-AE" sz="16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территории России. Климат суровый. Температура января -32 -40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⁰, июля +5 +10⁰, осадков выпадает мало 300 мм. Коэффициент увлажнения избыточный. Почти повсеместно распространена многолетняя мерзло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380520"/>
            <a:ext cx="74818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ундра буквально усеяна неглубокими и небольшими озёрами. Реки в летнее время многовод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397480" cy="44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азовская губ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ечной срез мерзлоты Гыдан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ечная мерзлота - морозильни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80520"/>
            <a:ext cx="76975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тицы тундры.</a:t>
            </a:r>
            <a:br>
              <a:rPr sz="3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животных в тундре обитают: песец, лемминг, северный олень. Много птиц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тундровых озёрах много рыб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77724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ай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стительность тундры.</a:t>
            </a:r>
            <a:br>
              <a:rPr sz="3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чвы тундрово – глеевые. Растительность низкорослая. Растут: полярный мак, карликовая берёза, карликовая ива, лишайник ягель, брусника, клюква, морошка. Есть в тундре и съедобные гриб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3808440" cy="3624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3814920" cy="35830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1403280" y="2133720"/>
            <a:ext cx="23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рктическая берез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-ов Ямал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6518520" y="2421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Мох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Географическое полож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685800" y="2211480"/>
            <a:ext cx="3814920" cy="3732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4643280" y="2286000"/>
            <a:ext cx="3814920" cy="36576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1603080" y="1792440"/>
            <a:ext cx="11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Морошк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5148360" y="17208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Карликовый багульник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380520"/>
            <a:ext cx="777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есотундра.</a:t>
            </a:r>
            <a:br>
              <a:rPr sz="3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ходная зона от тундры к тайге. Зима и лето теплее , чем в тундре. Зона сильно заболочена. Для неё характерно сочетание тундровых и лесных сообществ растений и животных, а также поч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240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Животные тундры и лесотундр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4038480" cy="4641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2"/>
          <a:stretch/>
        </p:blipFill>
        <p:spPr>
          <a:xfrm>
            <a:off x="4648320" y="1557360"/>
            <a:ext cx="4038480" cy="45687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5651640" y="162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есец</a:t>
            </a:r>
            <a:br>
              <a:rPr sz="1800"/>
            </a:b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1547640" y="1628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емминг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икие олен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евочка-ненка с ручным олененком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1782720" y="1295280"/>
            <a:ext cx="6122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640" y="380520"/>
            <a:ext cx="76262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нятием коренных жителей стали: морской промысел, охота и оленеводство. Местами в открытом грунте выращивают картофель, капусту, репу, редис и зелёный лу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985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Царство снега и льда </a:t>
            </a:r>
            <a:br>
              <a:rPr sz="3600"/>
            </a:br>
            <a:br>
              <a:rPr sz="3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има долгая и  холодная, температура января  -16⁰ -32⁰, лето короткое и холодное,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емпература от 0 до +4⁰. Осадков мало, выпадают в виде снега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17680" y="2182680"/>
            <a:ext cx="82483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380880"/>
            <a:ext cx="7626240" cy="6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Царство снега и льда.</a:t>
            </a:r>
            <a:br>
              <a:rPr sz="3600"/>
            </a:br>
            <a:br>
              <a:rPr sz="36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чвы почти не развиты. Господствуют мхи и лишайники. Цветковых растений мало. Это полярный мак, снежный лютик и различные камнелом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77724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Животные Арктики.</a:t>
            </a:r>
            <a:br>
              <a:rPr sz="3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реди животных преобладают те, которых кормит море: птицы и белые медведи. На скалистых берегах летом размещаются птичьи база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816360" cy="4537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26920" y="1844640"/>
            <a:ext cx="347832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9" name="Picture 9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4321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579680" y="1295280"/>
            <a:ext cx="6121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3814920" cy="4648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>
            <a:off x="4643280" y="1295280"/>
            <a:ext cx="3814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7:35:05Z</dcterms:created>
  <dc:creator>Admin</dc:creator>
  <dc:description/>
  <dc:language>en-US</dc:language>
  <cp:lastModifiedBy>Рома</cp:lastModifiedBy>
  <dcterms:modified xsi:type="dcterms:W3CDTF">2011-04-03T08:34:16Z</dcterms:modified>
  <cp:revision>69</cp:revision>
  <dc:subject/>
  <dc:title>Арктические пустын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270000000000010250300207f7000400038000</vt:lpwstr>
  </property>
</Properties>
</file>