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1036-7248-4984-860E-67BE1E4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A79B-E957-4F99-820A-2812790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ABED-2802-422F-B218-150676F2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57D4-088E-4098-B132-99333B9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615-1098-482D-AED0-B03069B0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723-0618-4E3A-8BD9-D473252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E751-E698-41C5-BD65-582C654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43A-2909-4CCC-B3D3-C6329ACC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9288-9CDF-477C-AA6A-3B763A26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5F7-02C2-4066-B873-B229C97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B1D-C349-4E2B-A94A-D9C0B1A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9902-CEAB-4EBE-8681-1D8DE70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E87B-163A-4147-9EF0-812E47E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D4D-AFE4-4DE7-8027-1C9F7531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B75-A8B5-4BC6-80CB-56F1EFD8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B174-CCA2-4EBC-BAB2-3F8123A9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BA9-232F-4037-9B0A-CFE2741D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23E5-42FA-4E95-B469-D7CB2D7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AA34-8DC3-4CDB-BC88-78B1F662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2CBA-428B-46AF-B8D0-C07A4ED2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FA2F-C950-4689-998E-501239B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571C-7243-4BA6-BF9D-8656427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6158-D209-4655-9EB0-0613CE2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71A2-60EF-4CA8-B9DE-87263EE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1EA-19C1-493A-BEE2-2CAE20B27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08A-D008-4715-BEDF-647FB409A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gniphoto.com/pic/large/145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znes-portal.com/images/GOODS/818048_2352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fegi.ru/primorye/geology/ugol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egi.ru/primorye/geology/ne_rudn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gi.ru/primorye/biology/les.htm" TargetMode="External"/><Relationship Id="rId2" Type="http://schemas.openxmlformats.org/officeDocument/2006/relationships/hyperlink" Target="http://www.fegi.ru/primorye/biology/win_les/sosna_k.htm" TargetMode="External"/><Relationship Id="rId3" Type="http://schemas.openxmlformats.org/officeDocument/2006/relationships/hyperlink" Target="http://www.fegi.ru/primorye/biology/win_les/pikhta1.htm" TargetMode="External"/><Relationship Id="rId4" Type="http://schemas.openxmlformats.org/officeDocument/2006/relationships/hyperlink" Target="http://www.fegi.ru/primorye/biology/win_les/yel.htm" TargetMode="External"/><Relationship Id="rId5" Type="http://schemas.openxmlformats.org/officeDocument/2006/relationships/hyperlink" Target="http://www.fegi.ru/primorye/biology/win_les/bereza.htm" TargetMode="External"/><Relationship Id="rId6" Type="http://schemas.openxmlformats.org/officeDocument/2006/relationships/hyperlink" Target="http://www.fegi.ru/primorye/sad/prfl2.htm" TargetMode="External"/><Relationship Id="rId7" Type="http://schemas.openxmlformats.org/officeDocument/2006/relationships/hyperlink" Target="http://www.fegi.ru/primorye/sad/tropa17.htm" TargetMode="External"/><Relationship Id="rId8" Type="http://schemas.openxmlformats.org/officeDocument/2006/relationships/hyperlink" Target="http://www.fegi.ru/primorye/biology/win_les/dub.htm" TargetMode="External"/><Relationship Id="rId9" Type="http://schemas.openxmlformats.org/officeDocument/2006/relationships/hyperlink" Target="http://www.fegi.ru/primorye/biology/win_les/yasen.htm" TargetMode="External"/><Relationship Id="rId10" Type="http://schemas.openxmlformats.org/officeDocument/2006/relationships/hyperlink" Target="http://www.fegi.ru/primorye/biology/win_les/yilm.htm" TargetMode="External"/><Relationship Id="rId11" Type="http://schemas.openxmlformats.org/officeDocument/2006/relationships/hyperlink" Target="http://www.fegi.ru/primorye/biology/win_les/sosna_k.htm" TargetMode="External"/><Relationship Id="rId12" Type="http://schemas.openxmlformats.org/officeDocument/2006/relationships/hyperlink" Target="http://www.fegi.ru/primorye/biology/win_les/sosna_k.htm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onb.ru/guide/arch_obl/img/les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old.pskov.ru/uploaded_files/images/2007/about_region/natural_resources/forest/le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dproos-nso.ru/img/res_5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egabook.ru/MObjects2/data/pict2002/l00035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egi.ru/primorye/river/river.htm" TargetMode="External"/><Relationship Id="rId2" Type="http://schemas.openxmlformats.org/officeDocument/2006/relationships/hyperlink" Target="http://www.fegi.ru/primorye/geogr/climate.htm" TargetMode="External"/><Relationship Id="rId3" Type="http://schemas.openxmlformats.org/officeDocument/2006/relationships/hyperlink" Target="http://www.fegi.ru/primorye/geogr/artem.htm" TargetMode="External"/><Relationship Id="rId4" Type="http://schemas.openxmlformats.org/officeDocument/2006/relationships/hyperlink" Target="http://www.fegi.ru/primorye/geogr/vladivos.htm" TargetMode="External"/><Relationship Id="rId5" Type="http://schemas.openxmlformats.org/officeDocument/2006/relationships/hyperlink" Target="http://www.fegi.ru/primorye/geogr/khaz.htm" TargetMode="External"/><Relationship Id="rId6" Type="http://schemas.openxmlformats.org/officeDocument/2006/relationships/hyperlink" Target="http://www.fegi.ru/primorye/geogr/people.htm" TargetMode="External"/><Relationship Id="rId7" Type="http://schemas.openxmlformats.org/officeDocument/2006/relationships/hyperlink" Target="http://www.fegi.ru/primorye/river/water.htm" TargetMode="External"/><Relationship Id="rId8" Type="http://schemas.openxmlformats.org/officeDocument/2006/relationships/hyperlink" Target="http://www.fegi.ru/primorye/sea/fish1.htm" TargetMode="External"/><Relationship Id="rId9" Type="http://schemas.openxmlformats.org/officeDocument/2006/relationships/hyperlink" Target="http://www.fegi.ru/primorye/sea/fish1_2.htm" TargetMode="External"/><Relationship Id="rId10" Type="http://schemas.openxmlformats.org/officeDocument/2006/relationships/hyperlink" Target="http://www.fegi.ru/primorye/sea/fish1_25.htm" TargetMode="External"/><Relationship Id="rId11" Type="http://schemas.openxmlformats.org/officeDocument/2006/relationships/hyperlink" Target="http://www.fegi.ru/primorye/sea/fish1_22.htm" TargetMode="External"/><Relationship Id="rId12" Type="http://schemas.openxmlformats.org/officeDocument/2006/relationships/hyperlink" Target="http://www.fegi.ru/primorye/sea/fish1_23.htm" TargetMode="External"/><Relationship Id="rId13" Type="http://schemas.openxmlformats.org/officeDocument/2006/relationships/hyperlink" Target="http://www.fegi.ru/primorye/sea/fish1_5.htm" TargetMode="External"/><Relationship Id="rId14" Type="http://schemas.openxmlformats.org/officeDocument/2006/relationships/hyperlink" Target="http://www.fegi.ru/primorye/sea/fish1_19.htm" TargetMode="External"/><Relationship Id="rId15" Type="http://schemas.openxmlformats.org/officeDocument/2006/relationships/hyperlink" Target="http://www.fegi.ru/primorye/sea/fish1_10.htm" TargetMode="External"/><Relationship Id="rId16" Type="http://schemas.openxmlformats.org/officeDocument/2006/relationships/hyperlink" Target="http://www.fegi.ru/primorye/sea/rak.htm" TargetMode="External"/><Relationship Id="rId17" Type="http://schemas.openxmlformats.org/officeDocument/2006/relationships/hyperlink" Target="http://www.fegi.ru/primorye/sea/moll.htm" TargetMode="External"/><Relationship Id="rId18" Type="http://schemas.openxmlformats.org/officeDocument/2006/relationships/hyperlink" Target="http://www.fegi.ru/primorye/sea/m_gol1.htm" TargetMode="External"/><Relationship Id="rId19" Type="http://schemas.openxmlformats.org/officeDocument/2006/relationships/hyperlink" Target="http://www.fegi.ru/primorye/sea/m_gol1.htm" TargetMode="External"/><Relationship Id="rId20" Type="http://schemas.openxmlformats.org/officeDocument/2006/relationships/hyperlink" Target="http://www.fegi.ru/primorye/sea/ezi.htm" TargetMode="External"/><Relationship Id="rId21" Type="http://schemas.openxmlformats.org/officeDocument/2006/relationships/hyperlink" Target="http://www.fegi.ru/primorye/sea/fish1_11.htm" TargetMode="External"/><Relationship Id="rId22" Type="http://schemas.openxmlformats.org/officeDocument/2006/relationships/hyperlink" Target="http://www.fegi.ru/primorye/river/khanka.htm" TargetMode="External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ИРОДНЫЕ РЕСУРСЫ ПРИМОРСКОГО КРА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готовила ученица 9 класса Кускова Анастас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5640" y="3068640"/>
            <a:ext cx="806436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" descr="Картинка 1 из 157295"/>
          <p:cNvPicPr/>
          <p:nvPr/>
        </p:nvPicPr>
        <p:blipFill>
          <a:blip r:embed="rId1"/>
          <a:stretch/>
        </p:blipFill>
        <p:spPr>
          <a:xfrm>
            <a:off x="3564000" y="7650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Картинка 18 из 48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205000"/>
            <a:ext cx="3492720" cy="2241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51116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орский край богат природными ресурсами. Особенности геологического развития предопределили здесь наличие топливно-энергетических, минерально-сырьевых ресурсов, географическое положение, особенности рельефа и климата, обусловили наличие земельных, водных и гидроэнергетических, лесных и рекреационных ресурсов. Много ценных веществ - химических соединений, солей, металлов - находится в растворенном виде в морской воде, а также в донных россыпях - морские минерально-сырьевые ресур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41 из 160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351320"/>
            <a:ext cx="3348000" cy="250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УГОЛЬ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рождение угля связано с осадочными породами, с длительным накоплением органических масс. В крае выявлено почти 100 месторождений с общими запасами около - 2.4 млрд. тонн. Основные месторождения угля - Бикинское, Павловское, Шкотовское и Артемовское буроугольные, Партизанское и Раздольненское каменноуголь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месторождения угля имеют сложные гидрогеологические условия (небольшая толщина угольных пластов и их высокая обводненность). Это затрудняет добычу угля, делает ее более дорогой. В то же время около 70% запасов угля пригодны для открыто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4307040"/>
            <a:ext cx="3419640" cy="2550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ГОРНО-ГЕОХИМИЧЕСКОЕ СЫРЬЕ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йоне Дальнегорска находится крупнейшее в России месторождение бора (дотолитовых, боросодержащих руд). Разрабатывается оно открытым способом и может обеспечить работу перерабатывающего предприятия не менее чем на 50 лет. Плавиковый шпат, который используется в металлургическом производстве, добывается в Хорольском районе - Вознесенское и Пограничное месторождения. Кроме плавикого шпата в рудах этого месторождения содержатся редкие металлы: литий, бериллий, тантал, ниобий. Морские геологи открыли несколько месторождений фосфоритов - ценных минеральных удобрений - на материковом склоне Японского моря. Однако морская технология их добычи и освоения - дело буду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С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Приморского края (около 75%) покрыт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Лесопокрытая площадь составляет 12.3 млн. га, а общий запас древесины на ней - 1.75 млрд. куб. м. Леса Приморья состоят из многих пород деревьев. Здесь растут хвойные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е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их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ственница; мягкостволь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реза бел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ос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ли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вердолиствен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д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яс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иль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реза желтая. Все эти породы используются в хозяйстве, но более ценная древесина у хвойных пород, особенно у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этому рубк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йчас запрещ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группу включены леса, в которых рубка деревьев строго запрещена, во второй группе рубки ограничены, и лишь леса третьей группы являются эксплуатационными, в них ведутся основные лесозаготовки. Леса третьей группы в Приморье занимают около 60% лесопокрытой площади, а леса, где возможны рубки, - около 7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246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60280"/>
            <a:ext cx="460044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8 из 661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44808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9 из 665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033800" cy="271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49 из 665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645000"/>
            <a:ext cx="4284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ье в целом богато водными ресурсами. По его территории протекает около 600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иной более 100 км. Их них 90 рек имеют длину более 50 км. Суммарный речной сток в крае (в средний п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лиматическим услови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) составляет 64 куб. км. Однако по территории края речной сток распределен неравномерно. Наибольшей "водностью" отличаются Пожарский, Красноармейский и Тернейский районы. Районы с меньшими объемами стока - Хорольский, Черниговский, Ханкайский, Спасский, Михайловский, Октябрьский, Уссурийский, Надеждинский, Шкотовский, город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Арт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Владивост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о же время здесь наиболее высока освоенность и заселенность территории, большие потребности в воде со сторон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омышленности, сельского хозяй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этому в этих районах остро стоят проблем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загрязнения водных ресурс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еспечения пресной в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ский край имеет в прибрежных водах значительные морские биологические ресурсы. Они состоят из различных пород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ры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сельд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камб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нава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минта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лосо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терпу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корюш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беспозвоночных животных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краб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реветок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моллюс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гребешок, мидия, устрицы), трепанг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кальм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рубач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осьмино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морского еж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; водорослей (ламинария или морская капуста, анфельция, грацилярия и друг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гаты рыбой и многие пресноводные водоемы. Здесь водятся сазан, карась, щука, сом, верхогляд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краснопе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о рыбы в крупнейшем озере Дальнего Восток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Хан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где промысловое значение имеют запасы ханкайской горбу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21 из 4678"/>
          <p:cNvPicPr/>
          <p:nvPr/>
        </p:nvPicPr>
        <p:blipFill>
          <a:blip r:embed="rId1"/>
          <a:stretch/>
        </p:blipFill>
        <p:spPr>
          <a:xfrm>
            <a:off x="0" y="719280"/>
            <a:ext cx="92170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38720" cy="314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47 из 4678"/>
          <p:cNvPicPr/>
          <p:nvPr/>
        </p:nvPicPr>
        <p:blipFill>
          <a:blip r:embed="rId2"/>
          <a:stretch/>
        </p:blipFill>
        <p:spPr>
          <a:xfrm>
            <a:off x="4067280" y="32130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6:40:26Z</dcterms:created>
  <dc:creator>пк</dc:creator>
  <dc:description/>
  <dc:language>en-US</dc:language>
  <cp:lastModifiedBy>пк</cp:lastModifiedBy>
  <dcterms:modified xsi:type="dcterms:W3CDTF">2012-05-18T11:14:40Z</dcterms:modified>
  <cp:revision>3</cp:revision>
  <dc:subject/>
  <dc:title>ПРИРОДНЫЕ РЕСУРСЫ ПРИМОРСКОГО КРА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50300207f7000400038000</vt:lpwstr>
  </property>
</Properties>
</file>