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3D00-53C2-46FD-ABA0-38FD31FD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8DF99-3D92-4EB0-8004-7B25DDED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35E46-2E10-46B8-AFCF-24EC27DB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CBD2-AEF5-45F5-BD39-C9DFA1C6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4CAB-6E0A-4918-AFD7-3281A7E1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CB35-CD6E-407B-8D01-93E6B7F2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0BB5-1F32-4E9D-9E98-DACCA8D1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EEDC-BD38-40BF-9641-088916B4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0F83-1165-465D-8AF6-AF8B2C73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5BF4-B5BE-42BB-842B-3707C794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5EEF-5D3C-4FFD-85E6-7BA6D29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8951-A41A-4CBB-95B7-AF7299BE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42C8-56B9-4C58-A05D-C91EC8E9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A49F-5F09-4CED-A97D-C4277D42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409C-546C-4AAF-A189-64272647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ACDB-B03A-4F4A-BAC5-D0BC0D77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F1DF-6B80-4B0D-932C-985387F8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10AD-7045-4127-A56F-DF4C25DD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BA6F-DC52-4A5E-A64C-9EBCDA82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0766-A704-4FA6-A28A-81B0F520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0D13-84AB-48B3-B732-C1B1A7ED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DF58-562E-45CB-A777-1C42D507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2172-B9B1-4C88-AB9B-D6D4902A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FFD1-B021-42E0-88DF-30A59432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9922-1C06-4CFD-8315-61E19F12D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A4DC-F769-4982-9D96-EC1790CFD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gniphoto.com/pic/large/1453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znes-portal.com/images/GOODS/818048_23523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fegi.ru/primorye/geology/ugol.htm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egi.ru/primorye/geology/ne_rudn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egi.ru/primorye/biology/les.htm" TargetMode="External"/><Relationship Id="rId2" Type="http://schemas.openxmlformats.org/officeDocument/2006/relationships/hyperlink" Target="http://www.fegi.ru/primorye/biology/win_les/sosna_k.htm" TargetMode="External"/><Relationship Id="rId3" Type="http://schemas.openxmlformats.org/officeDocument/2006/relationships/hyperlink" Target="http://www.fegi.ru/primorye/biology/win_les/pikhta1.htm" TargetMode="External"/><Relationship Id="rId4" Type="http://schemas.openxmlformats.org/officeDocument/2006/relationships/hyperlink" Target="http://www.fegi.ru/primorye/biology/win_les/yel.htm" TargetMode="External"/><Relationship Id="rId5" Type="http://schemas.openxmlformats.org/officeDocument/2006/relationships/hyperlink" Target="http://www.fegi.ru/primorye/biology/win_les/bereza.htm" TargetMode="External"/><Relationship Id="rId6" Type="http://schemas.openxmlformats.org/officeDocument/2006/relationships/hyperlink" Target="http://www.fegi.ru/primorye/sad/prfl2.htm" TargetMode="External"/><Relationship Id="rId7" Type="http://schemas.openxmlformats.org/officeDocument/2006/relationships/hyperlink" Target="http://www.fegi.ru/primorye/sad/tropa17.htm" TargetMode="External"/><Relationship Id="rId8" Type="http://schemas.openxmlformats.org/officeDocument/2006/relationships/hyperlink" Target="http://www.fegi.ru/primorye/biology/win_les/dub.htm" TargetMode="External"/><Relationship Id="rId9" Type="http://schemas.openxmlformats.org/officeDocument/2006/relationships/hyperlink" Target="http://www.fegi.ru/primorye/biology/win_les/yasen.htm" TargetMode="External"/><Relationship Id="rId10" Type="http://schemas.openxmlformats.org/officeDocument/2006/relationships/hyperlink" Target="http://www.fegi.ru/primorye/biology/win_les/yilm.htm" TargetMode="External"/><Relationship Id="rId11" Type="http://schemas.openxmlformats.org/officeDocument/2006/relationships/hyperlink" Target="http://www.fegi.ru/primorye/biology/win_les/sosna_k.htm" TargetMode="External"/><Relationship Id="rId12" Type="http://schemas.openxmlformats.org/officeDocument/2006/relationships/hyperlink" Target="http://www.fegi.ru/primorye/biology/win_les/sosna_k.htm" TargetMode="Externa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onb.ru/guide/arch_obl/img/les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old.pskov.ru/uploaded_files/images/2007/about_region/natural_resources/forest/les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dproos-nso.ru/img/res_5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megabook.ru/MObjects2/data/pict2002/l00035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egi.ru/primorye/river/river.htm" TargetMode="External"/><Relationship Id="rId2" Type="http://schemas.openxmlformats.org/officeDocument/2006/relationships/hyperlink" Target="http://www.fegi.ru/primorye/geogr/climate.htm" TargetMode="External"/><Relationship Id="rId3" Type="http://schemas.openxmlformats.org/officeDocument/2006/relationships/hyperlink" Target="http://www.fegi.ru/primorye/geogr/artem.htm" TargetMode="External"/><Relationship Id="rId4" Type="http://schemas.openxmlformats.org/officeDocument/2006/relationships/hyperlink" Target="http://www.fegi.ru/primorye/geogr/vladivos.htm" TargetMode="External"/><Relationship Id="rId5" Type="http://schemas.openxmlformats.org/officeDocument/2006/relationships/hyperlink" Target="http://www.fegi.ru/primorye/geogr/khaz.htm" TargetMode="External"/><Relationship Id="rId6" Type="http://schemas.openxmlformats.org/officeDocument/2006/relationships/hyperlink" Target="http://www.fegi.ru/primorye/geogr/people.htm" TargetMode="External"/><Relationship Id="rId7" Type="http://schemas.openxmlformats.org/officeDocument/2006/relationships/hyperlink" Target="http://www.fegi.ru/primorye/river/water.htm" TargetMode="External"/><Relationship Id="rId8" Type="http://schemas.openxmlformats.org/officeDocument/2006/relationships/hyperlink" Target="http://www.fegi.ru/primorye/sea/fish1.htm" TargetMode="External"/><Relationship Id="rId9" Type="http://schemas.openxmlformats.org/officeDocument/2006/relationships/hyperlink" Target="http://www.fegi.ru/primorye/sea/fish1_2.htm" TargetMode="External"/><Relationship Id="rId10" Type="http://schemas.openxmlformats.org/officeDocument/2006/relationships/hyperlink" Target="http://www.fegi.ru/primorye/sea/fish1_25.htm" TargetMode="External"/><Relationship Id="rId11" Type="http://schemas.openxmlformats.org/officeDocument/2006/relationships/hyperlink" Target="http://www.fegi.ru/primorye/sea/fish1_22.htm" TargetMode="External"/><Relationship Id="rId12" Type="http://schemas.openxmlformats.org/officeDocument/2006/relationships/hyperlink" Target="http://www.fegi.ru/primorye/sea/fish1_23.htm" TargetMode="External"/><Relationship Id="rId13" Type="http://schemas.openxmlformats.org/officeDocument/2006/relationships/hyperlink" Target="http://www.fegi.ru/primorye/sea/fish1_5.htm" TargetMode="External"/><Relationship Id="rId14" Type="http://schemas.openxmlformats.org/officeDocument/2006/relationships/hyperlink" Target="http://www.fegi.ru/primorye/sea/fish1_19.htm" TargetMode="External"/><Relationship Id="rId15" Type="http://schemas.openxmlformats.org/officeDocument/2006/relationships/hyperlink" Target="http://www.fegi.ru/primorye/sea/fish1_10.htm" TargetMode="External"/><Relationship Id="rId16" Type="http://schemas.openxmlformats.org/officeDocument/2006/relationships/hyperlink" Target="http://www.fegi.ru/primorye/sea/rak.htm" TargetMode="External"/><Relationship Id="rId17" Type="http://schemas.openxmlformats.org/officeDocument/2006/relationships/hyperlink" Target="http://www.fegi.ru/primorye/sea/moll.htm" TargetMode="External"/><Relationship Id="rId18" Type="http://schemas.openxmlformats.org/officeDocument/2006/relationships/hyperlink" Target="http://www.fegi.ru/primorye/sea/m_gol1.htm" TargetMode="External"/><Relationship Id="rId19" Type="http://schemas.openxmlformats.org/officeDocument/2006/relationships/hyperlink" Target="http://www.fegi.ru/primorye/sea/m_gol1.htm" TargetMode="External"/><Relationship Id="rId20" Type="http://schemas.openxmlformats.org/officeDocument/2006/relationships/hyperlink" Target="http://www.fegi.ru/primorye/sea/ezi.htm" TargetMode="External"/><Relationship Id="rId21" Type="http://schemas.openxmlformats.org/officeDocument/2006/relationships/hyperlink" Target="http://www.fegi.ru/primorye/sea/fish1_11.htm" TargetMode="External"/><Relationship Id="rId22" Type="http://schemas.openxmlformats.org/officeDocument/2006/relationships/hyperlink" Target="http://www.fegi.ru/primorye/river/khanka.htm" TargetMode="External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ИРОДНЫЕ РЕСУРСЫ ПРИМОРСКОГО КРАЯ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готовила ученица 9 класса Кускова Анастас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55640" y="3068640"/>
            <a:ext cx="8064360" cy="32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0" name="" descr="Картинка 1 из 157295"/>
          <p:cNvPicPr/>
          <p:nvPr/>
        </p:nvPicPr>
        <p:blipFill>
          <a:blip r:embed="rId1"/>
          <a:stretch/>
        </p:blipFill>
        <p:spPr>
          <a:xfrm>
            <a:off x="3564000" y="76500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Картинка 18 из 48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205000"/>
            <a:ext cx="3492720" cy="2241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51116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орский край богат природными ресурсами. Особенности геологического развития предопределили здесь наличие топливно-энергетических, минерально-сырьевых ресурсов, географическое положение, особенности рельефа и климата, обусловили наличие земельных, водных и гидроэнергетических, лесных и рекреационных ресурсов. Много ценных веществ - химических соединений, солей, металлов - находится в растворенном виде в морской воде, а также в донных россыпях - морские минерально-сырьевые ресур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Картинка 41 из 1605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4351320"/>
            <a:ext cx="3348000" cy="250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УГОЛЬ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рождение угля связано с осадочными породами, с длительным накоплением органических масс. В крае выявлено почти 100 месторождений с общими запасами около - 2.4 млрд. тонн. Основные месторождения угля - Бикинское, Павловское, Шкотовское и Артемовское буроугольные, Партизанское и Раздольненское каменноугольны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 месторождения угля имеют сложные гидрогеологические условия (небольшая толщина угольных пластов и их высокая обводненность). Это затрудняет добычу угля, делает ее более дорогой. В то же время около 70% запасов угля пригодны для открыто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0" y="4307040"/>
            <a:ext cx="3419640" cy="2550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ГОРНО-ГЕОХИМИЧЕСКОЕ СЫРЬЕ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йоне Дальнегорска находится крупнейшее в России месторождение бора (дотолитовых, боросодержащих руд). Разрабатывается оно открытым способом и может обеспечить работу перерабатывающего предприятия не менее чем на 50 лет. Плавиковый шпат, который используется в металлургическом производстве, добывается в Хорольском районе - Вознесенское и Пограничное месторождения. Кроме плавикого шпата в рудах этого месторождения содержатся редкие металлы: литий, бериллий, тантал, ниобий. Морские геологи открыли несколько месторождений фосфоритов - ценных минеральных удобрений - на материковом склоне Японского моря. Однако морская технология их добычи и освоения - дело будущ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С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часть территории Приморского края (около 75%) покрыта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лес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Лесопокрытая площадь составляет 12.3 млн. га, а общий запас древесины на ней - 1.75 млрд. куб. м. Леса Приморья состоят из многих пород деревьев. Здесь растут хвойные -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е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пих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иственница; мягкоствольные породы -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береза бел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ос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лип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вердолиственные породы -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ду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яс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иль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береза желтая. Все эти породы используются в хозяйстве, но более ценная древесина у хвойных пород, особенно у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кед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этому рубка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кед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йчас запрещ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группу включены леса, в которых рубка деревьев строго запрещена, во второй группе рубки ограничены, и лишь леса третьей группы являются эксплуатационными, в них ведутся основные лесозаготовки. Леса третьей группы в Приморье занимают около 60% лесопокрытой площади, а леса, где возможны рубки, - около 75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246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60280"/>
            <a:ext cx="460044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8 из 6619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448080"/>
            <a:ext cx="4321080" cy="3241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Картинка 9 из 6651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549360"/>
            <a:ext cx="4033800" cy="2716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49 из 6651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3645000"/>
            <a:ext cx="42847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Д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орье в целом богато водными ресурсами. По его территории протекает около 600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ре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иной более 100 км. Их них 90 рек имеют длину более 50 км. Суммарный речной сток в крае (в средний п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лиматическим условия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) составляет 64 куб. км. Однако по территории края речной сток распределен неравномерно. Наибольшей "водностью" отличаются Пожарский, Красноармейский и Тернейский районы. Районы с меньшими объемами стока - Хорольский, Черниговский, Ханкайский, Спасский, Михайловский, Октябрьский, Уссурийский, Надеждинский, Шкотовский, города -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Арт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Владивосто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о же время здесь наиболее высока освоенность и заселенность территории, большие потребности в воде со сторон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промышленности, сельского хозяй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насел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оэтому в этих районах остро стоят проблем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загрязнения водных ресурс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еспечения пресной во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морский край имеет в прибрежных водах значительные морские биологические ресурсы. Они состоят из различных пород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ры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сельд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камбал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наваг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минта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лосо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терпу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корюш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беспозвоночных животных -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краб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реветок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моллюск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гребешок, мидия, устрицы), трепанга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кальма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рубача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осьминог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морского еж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др.; водорослей (ламинария или морская капуста, анфельция, грацилярия и друг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гаты рыбой и многие пресноводные водоемы. Здесь водятся сазан, карась, щука, сом, верхогляд,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краснопе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Много рыбы в крупнейшем озере Дальнего Востока -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Хан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где промысловое значение имеют запасы ханкайской горбу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Картинка 21 из 4678"/>
          <p:cNvPicPr/>
          <p:nvPr/>
        </p:nvPicPr>
        <p:blipFill>
          <a:blip r:embed="rId1"/>
          <a:stretch/>
        </p:blipFill>
        <p:spPr>
          <a:xfrm>
            <a:off x="0" y="719280"/>
            <a:ext cx="921708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338720" cy="314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артинка 47 из 4678"/>
          <p:cNvPicPr/>
          <p:nvPr/>
        </p:nvPicPr>
        <p:blipFill>
          <a:blip r:embed="rId2"/>
          <a:stretch/>
        </p:blipFill>
        <p:spPr>
          <a:xfrm>
            <a:off x="4067280" y="321300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6:40:26Z</dcterms:created>
  <dc:creator>пк</dc:creator>
  <dc:description/>
  <dc:language>en-US</dc:language>
  <cp:lastModifiedBy>пк</cp:lastModifiedBy>
  <dcterms:modified xsi:type="dcterms:W3CDTF">2012-05-18T11:14:40Z</dcterms:modified>
  <cp:revision>3</cp:revision>
  <dc:subject/>
  <dc:title>ПРИРОДНЫЕ РЕСУРСЫ ПРИМОРСКОГО КРА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40000000000010250300207f7000400038000</vt:lpwstr>
  </property>
</Properties>
</file>