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6.png" ContentType="image/png"/>
  <Override PartName="/ppt/media/image9.png" ContentType="image/png"/>
  <Override PartName="/ppt/media/image5.gif" ContentType="image/gif"/>
  <Override PartName="/ppt/media/image4.jpeg" ContentType="image/jpe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wmf" ContentType="image/x-wmf"/>
  <Override PartName="/ppt/media/image3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F9E-10E9-4AF3-99D7-1652E06FD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FC5-C245-41DB-A219-2DAA8C2FDA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5CB-D8AE-4E45-ACD1-95BDBD3A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CC0-1A3D-4430-A527-7808A679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37D-EEDF-45C6-8919-4A24E9B0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CCB-85F0-4F0E-B8BF-1859ACAE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474F-85E5-453A-BCDB-6379F09C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CA0-81CE-4C98-A970-039A6016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839-1EAC-4B94-B760-E36BA3F0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3B54-EE31-438F-9AEF-0F607F85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34FC-CA62-4778-A5FB-460AF2A8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EA8E-0B60-4180-9628-12E0C002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A3CC-787F-457E-8591-CDA31ED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5DD-99FD-4719-AF25-9F4DE90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717-F340-4F4E-AA61-118AA339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41C1-BF87-45DD-ADBB-63C0046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402B-38CD-4175-9706-AF108121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0C3-80DA-46E1-B466-D35DD06E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68B-34DF-426A-AA86-6370F35F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7AF-62D2-40A8-A46F-F59ED674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54F-ABBB-4684-9C5C-AF133A9C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01D-AC22-482F-805C-27FBD12B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F58-13FA-411B-894D-3EBF5DB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1CE-7331-47F7-93E9-5FC81BC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14A-D9BB-4F45-9E59-6DA163D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A5E-74EA-4CD9-A56F-9E8CBBB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0B84-08A8-4713-944B-477C5165F9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BC2A-27D8-40FD-9FBA-88C3706749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1.jpe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556731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6731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56731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Мировая добыча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рудного сырь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120" y="1714680"/>
          <a:ext cx="8429760" cy="4875120"/>
        </p:xfrm>
        <a:graphic>
          <a:graphicData uri="http://schemas.openxmlformats.org/drawingml/2006/table">
            <a:tbl>
              <a:tblPr/>
              <a:tblGrid>
                <a:gridCol w="2011320"/>
                <a:gridCol w="1176480"/>
                <a:gridCol w="5241960"/>
              </a:tblGrid>
              <a:tr h="3052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ыр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страны добы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52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краина, США, Канада, ЮА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2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2724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32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, США, Канада, Замбия, ДР Конго, Пер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652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523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</a:tr>
              <a:tr h="32652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да, Новая Каледо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9720" y="152280"/>
            <a:ext cx="79153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агоценные металл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Драгоценные камни и металлы"/>
          <p:cNvPicPr/>
          <p:nvPr/>
        </p:nvPicPr>
        <p:blipFill>
          <a:blip r:embed="rId1"/>
          <a:srcRect l="0" t="0" r="30" b="0"/>
          <a:stretch/>
        </p:blipFill>
        <p:spPr>
          <a:xfrm>
            <a:off x="714240" y="1714680"/>
            <a:ext cx="778680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Мировая добыча</a:t>
            </a: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нерудного сырь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2500200"/>
          <a:ext cx="8429400" cy="3648240"/>
        </p:xfrm>
        <a:graphic>
          <a:graphicData uri="http://schemas.openxmlformats.org/drawingml/2006/table">
            <a:tbl>
              <a:tblPr/>
              <a:tblGrid>
                <a:gridCol w="2011320"/>
                <a:gridCol w="1176120"/>
                <a:gridCol w="5241960"/>
              </a:tblGrid>
              <a:tr h="66060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ыр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е стр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ы (тыс.кар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17" name="Picture 2" descr="D:\КАРТИНКИ\Коллекция картинок1\j0431528.png"/>
          <p:cNvPicPr/>
          <p:nvPr/>
        </p:nvPicPr>
        <p:blipFill>
          <a:blip r:embed="rId16"/>
          <a:stretch/>
        </p:blipFill>
        <p:spPr>
          <a:xfrm>
            <a:off x="6858000" y="1000080"/>
            <a:ext cx="2000160" cy="15382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9199800" cy="19335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357120" y="19346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урсообеспеченность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соотношение между величиной природных ресурсов и размерами их использования. Она выражается количеством лет, на которое должно хватить данного ресурса, либо его запасами из расчета на душу насел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642960" y="3571920"/>
            <a:ext cx="807228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Ресурсообеспеченность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 запасы / добыча (число лет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760" y="5290560"/>
            <a:ext cx="86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Ежегодный рост добыч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олезных ископаемых составляет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2% в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ельные ресурс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Карта земельных ресурсов"/>
          <p:cNvPicPr/>
          <p:nvPr/>
        </p:nvPicPr>
        <p:blipFill>
          <a:blip r:embed="rId1">
            <a:lum contrast="18000"/>
          </a:blip>
          <a:srcRect l="0" t="0" r="51" b="0"/>
          <a:stretch/>
        </p:blipFill>
        <p:spPr>
          <a:xfrm>
            <a:off x="642960" y="1676520"/>
            <a:ext cx="7929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4" descr="D:\КАРТИНКИ\Коллекция картинок3\j0283511.gif"/>
          <p:cNvPicPr/>
          <p:nvPr/>
        </p:nvPicPr>
        <p:blipFill>
          <a:blip r:embed="rId2"/>
          <a:stretch/>
        </p:blipFill>
        <p:spPr>
          <a:xfrm>
            <a:off x="142920" y="5143680"/>
            <a:ext cx="1643040" cy="1595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51920"/>
            <a:ext cx="8201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мирового земельного фонд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120" y="2071800"/>
          <a:ext cx="8572680" cy="4452840"/>
        </p:xfrm>
        <a:graphic>
          <a:graphicData uri="http://schemas.openxmlformats.org/drawingml/2006/table">
            <a:tbl>
              <a:tblPr/>
              <a:tblGrid>
                <a:gridCol w="2286000"/>
                <a:gridCol w="1150920"/>
                <a:gridCol w="1241640"/>
                <a:gridCol w="1309680"/>
                <a:gridCol w="798480"/>
                <a:gridCol w="1785960"/>
              </a:tblGrid>
              <a:tr h="7855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и населенных пун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-тываемые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луга и пастбищ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продуктивные и непродуктивные зем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696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273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782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размерам пашн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840" y="1785960"/>
          <a:ext cx="8358120" cy="4784760"/>
        </p:xfrm>
        <a:graphic>
          <a:graphicData uri="http://schemas.openxmlformats.org/drawingml/2006/table">
            <a:tbl>
              <a:tblPr/>
              <a:tblGrid>
                <a:gridCol w="3163680"/>
                <a:gridCol w="5194440"/>
              </a:tblGrid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шни, млн. 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4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пашней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500040" y="1643040"/>
            <a:ext cx="8167680" cy="505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929800" cy="64915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лесной площад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785960"/>
          <a:ext cx="8643960" cy="4876920"/>
        </p:xfrm>
        <a:graphic>
          <a:graphicData uri="http://schemas.openxmlformats.org/drawingml/2006/table">
            <a:tbl>
              <a:tblPr/>
              <a:tblGrid>
                <a:gridCol w="4721400"/>
                <a:gridCol w="3922560"/>
              </a:tblGrid>
              <a:tr h="9752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г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5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9045720" cy="560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:\КАРТИНКИ\Коллекция картинок3\j0340604.wmf"/>
          <p:cNvPicPr/>
          <p:nvPr/>
        </p:nvPicPr>
        <p:blipFill>
          <a:blip r:embed="rId2"/>
          <a:stretch/>
        </p:blipFill>
        <p:spPr>
          <a:xfrm>
            <a:off x="6643800" y="4429080"/>
            <a:ext cx="2214360" cy="1844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:\КАРТИНКИ\Коллекция картинок3\j0437805.wmf"/>
          <p:cNvPicPr/>
          <p:nvPr/>
        </p:nvPicPr>
        <p:blipFill>
          <a:blip r:embed="rId3"/>
          <a:stretch/>
        </p:blipFill>
        <p:spPr>
          <a:xfrm>
            <a:off x="214200" y="4429080"/>
            <a:ext cx="2643480" cy="1989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размерам лесной площад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7120" y="2000160"/>
          <a:ext cx="8286840" cy="4505400"/>
        </p:xfrm>
        <a:graphic>
          <a:graphicData uri="http://schemas.openxmlformats.org/drawingml/2006/table">
            <a:tbl>
              <a:tblPr/>
              <a:tblGrid>
                <a:gridCol w="2652840"/>
                <a:gridCol w="5634000"/>
              </a:tblGrid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ая площадь, млн. 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6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Кон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32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и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лесными ресурсами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794720" cy="495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ресурс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сной вод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57120" y="1928880"/>
          <a:ext cx="8429760" cy="4608360"/>
        </p:xfrm>
        <a:graphic>
          <a:graphicData uri="http://schemas.openxmlformats.org/drawingml/2006/table">
            <a:tbl>
              <a:tblPr/>
              <a:tblGrid>
                <a:gridCol w="3603600"/>
                <a:gridCol w="1621080"/>
                <a:gridCol w="3205080"/>
              </a:tblGrid>
              <a:tr h="704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тыс. км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ушу населения,  тыс. м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о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8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 Амер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97524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мира по запасам пресной вод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200" y="1785960"/>
          <a:ext cx="8501040" cy="4782960"/>
        </p:xfrm>
        <a:graphic>
          <a:graphicData uri="http://schemas.openxmlformats.org/drawingml/2006/table">
            <a:tbl>
              <a:tblPr/>
              <a:tblGrid>
                <a:gridCol w="2855880"/>
                <a:gridCol w="1967040"/>
                <a:gridCol w="3678120"/>
              </a:tblGrid>
              <a:tr h="7984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 к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ушу населен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гладе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5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1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ян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крупнейших водохранилищ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4200" y="1857240"/>
          <a:ext cx="8572680" cy="4540320"/>
        </p:xfrm>
        <a:graphic>
          <a:graphicData uri="http://schemas.openxmlformats.org/drawingml/2006/table">
            <a:tbl>
              <a:tblPr/>
              <a:tblGrid>
                <a:gridCol w="2359080"/>
                <a:gridCol w="2086200"/>
                <a:gridCol w="1566720"/>
                <a:gridCol w="2560680"/>
              </a:tblGrid>
              <a:tr h="6303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й объем, км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верхности, к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02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анда, Кения, Танз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, Зимбаб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р (Асу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ипет, Суд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та (Акосомб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ел-Джонсо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ди-Тарт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дон М. Ш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d4"/>
                </a:solidFill>
                <a:latin typeface="Arial"/>
              </a:rPr>
              <a:t>Обеспеченность речным стоком на душу насел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0" b="27"/>
          <a:stretch/>
        </p:blipFill>
        <p:spPr>
          <a:xfrm>
            <a:off x="844560" y="1714680"/>
            <a:ext cx="8013600" cy="50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сурсы мирового океан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РЕСУРСЫ МИРОВОГО ОКЕАНА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60240" y="1676520"/>
            <a:ext cx="78235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14680" y="152280"/>
            <a:ext cx="72007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ыбные ресурс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Рыбные ресурсы"/>
          <p:cNvPicPr/>
          <p:nvPr/>
        </p:nvPicPr>
        <p:blipFill>
          <a:blip r:embed="rId1">
            <a:lum contrast="14000"/>
          </a:blip>
          <a:srcRect l="0" t="0" r="0" b="-67"/>
          <a:stretch/>
        </p:blipFill>
        <p:spPr>
          <a:xfrm>
            <a:off x="500040" y="1751040"/>
            <a:ext cx="8001000" cy="49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мерам выбросов углерод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Таблица 3" descr=""/>
          <p:cNvPicPr/>
          <p:nvPr/>
        </p:nvPicPr>
        <p:blipFill>
          <a:blip r:embed="rId1"/>
          <a:stretch/>
        </p:blipFill>
        <p:spPr>
          <a:xfrm>
            <a:off x="-73080" y="2133720"/>
            <a:ext cx="9150480" cy="39132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природных ресурсов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85840" y="1596960"/>
            <a:ext cx="864396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404640" tIns="228600" bIns="342720" anchor="ctr">
            <a:spAutoFit/>
          </a:bodyPr>
          <a:p>
            <a:pPr algn="just"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происхождению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минеральные (полезные ископаемы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климат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водны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земельные (почвенны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биолог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ресурсы Мирового оке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99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исчерпаемост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99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счерпаемые: невозобновимые (минеральные, руды металлов, соли, сера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озобновимые (земля, вода, воздух, почвенные, гидроэнергетическ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неисчерпаемые (энергия солнца, геотермальная, ветра, морских приливов, отливов и течени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99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 применен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природные ресурсы для промышленности: топливно-энергетические;  металлургические; химическое и прочее сырь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для сельского хозяйства: земельные; почвенные; агроклиматическ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для отдыха и туризма: рекреационные ресурс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мирового потребления энергоресурс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5840" y="2214720"/>
          <a:ext cx="8715240" cy="4146480"/>
        </p:xfrm>
        <a:graphic>
          <a:graphicData uri="http://schemas.openxmlformats.org/drawingml/2006/table">
            <a:tbl>
              <a:tblPr/>
              <a:tblGrid>
                <a:gridCol w="1776240"/>
                <a:gridCol w="1387440"/>
                <a:gridCol w="1387440"/>
                <a:gridCol w="1389240"/>
                <a:gridCol w="1387440"/>
                <a:gridCol w="1387440"/>
              </a:tblGrid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Источники энер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197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1991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0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05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2010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ф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й г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ЭС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b6efba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пливно-энергетические ресурсы ми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Топливно-энергетические ресурсы"/>
          <p:cNvPicPr/>
          <p:nvPr/>
        </p:nvPicPr>
        <p:blipFill>
          <a:blip r:embed="rId1"/>
          <a:srcRect l="0" t="0" r="0" b="47"/>
          <a:stretch/>
        </p:blipFill>
        <p:spPr>
          <a:xfrm>
            <a:off x="500040" y="1709640"/>
            <a:ext cx="8131320" cy="50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ределение запасов угольных ресурс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4200" y="1785960"/>
          <a:ext cx="8715600" cy="4873680"/>
        </p:xfrm>
        <a:graphic>
          <a:graphicData uri="http://schemas.openxmlformats.org/drawingml/2006/table">
            <a:tbl>
              <a:tblPr/>
              <a:tblGrid>
                <a:gridCol w="5141880"/>
                <a:gridCol w="3573720"/>
              </a:tblGrid>
              <a:tr h="97488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, регион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тон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Европ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убежная Аз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0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 Аме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инская Амери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  <a:tr h="487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 и Океа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e8f9e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угл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8760" y="1928880"/>
          <a:ext cx="8215200" cy="4694040"/>
        </p:xfrm>
        <a:graphic>
          <a:graphicData uri="http://schemas.openxmlformats.org/drawingml/2006/table">
            <a:tbl>
              <a:tblPr/>
              <a:tblGrid>
                <a:gridCol w="3382920"/>
                <a:gridCol w="4832280"/>
              </a:tblGrid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млрд. 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нефт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5840" y="1785960"/>
          <a:ext cx="8358120" cy="4714920"/>
        </p:xfrm>
        <a:graphic>
          <a:graphicData uri="http://schemas.openxmlformats.org/drawingml/2006/table">
            <a:tbl>
              <a:tblPr/>
              <a:tblGrid>
                <a:gridCol w="4098960"/>
                <a:gridCol w="4259160"/>
              </a:tblGrid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млрд. тон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довская Ара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ве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</a:rPr>
              <a:t>Десять первых стран по разведанным запасам газ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00040" y="1857240"/>
          <a:ext cx="8143920" cy="4714920"/>
        </p:xfrm>
        <a:graphic>
          <a:graphicData uri="http://schemas.openxmlformats.org/drawingml/2006/table">
            <a:tbl>
              <a:tblPr/>
              <a:tblGrid>
                <a:gridCol w="3703680"/>
                <a:gridCol w="4440240"/>
              </a:tblGrid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, трлн. м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удовская Ара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е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26:24Z</dcterms:created>
  <dc:creator>starostina</dc:creator>
  <dc:description/>
  <cp:keywords/>
  <dc:language>en-US</dc:language>
  <cp:lastModifiedBy>starostina</cp:lastModifiedBy>
  <dcterms:modified xsi:type="dcterms:W3CDTF">2010-05-06T06:28:12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1c000000000001024140</vt:lpwstr>
  </property>
  <property fmtid="{D5CDD505-2E9C-101B-9397-08002B2CF9AE}" pid="3" name="_TemplateID">
    <vt:lpwstr>TC011408001049</vt:lpwstr>
  </property>
</Properties>
</file>