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13.png" ContentType="image/png"/>
  <Override PartName="/ppt/media/image8.wmf" ContentType="image/x-wmf"/>
  <Override PartName="/ppt/media/image11.jpeg" ContentType="image/jpeg"/>
  <Override PartName="/ppt/media/image6.png" ContentType="image/png"/>
  <Override PartName="/ppt/media/image9.png" ContentType="image/png"/>
  <Override PartName="/ppt/media/image5.gif" ContentType="image/gif"/>
  <Override PartName="/ppt/media/image4.jpeg" ContentType="image/jpeg"/>
  <Override PartName="/ppt/media/image23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18.wmf" ContentType="image/x-wmf"/>
  <Override PartName="/ppt/media/image3.jpeg" ContentType="image/jpeg"/>
  <Override PartName="/ppt/media/image17.png" ContentType="image/png"/>
  <Override PartName="/ppt/media/image19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2992-DD14-41FD-894D-DFEFA61F5F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53EF-4688-4B9D-A192-C4C1252134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4C6-870C-40FD-9F7F-16FEB3E7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BCD-EA31-439B-81B5-5A3455A3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335-70BE-4730-B5FE-C47CF411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3DE-1848-4B9C-9083-35A68B5D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D664-09E3-4C0E-8313-C88DF669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C8DE-62ED-4FE1-9248-4E30EB6C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EFD2-5A20-4782-ADAE-B34D850B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AC8D-C06F-4F96-9423-A6482967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551D-4290-4EAB-BD1F-03EBC916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082F-2A35-4953-A23F-B1B2E75D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6F68-B439-4C50-A989-61123ACE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F52-7A9F-42E7-A870-07EDE4E9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0188-D1D1-47C0-ACF4-09D8342E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FDF0-F955-477C-8D9B-F511A345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4CB8-2D8E-4A6D-9BE0-399A2476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69BD-2885-4AF0-B928-C27FFE5D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1C6E-0E52-4D05-8872-0836CA71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EF7-8DC6-423B-B1C2-6B49180C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937-5DA9-476E-8226-10AA6514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B93B-A54A-4DEC-BF67-36536524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DF0-0C3B-4959-996B-EBA6CB0F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C76-38DC-4E5C-BF95-BF0564E4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16C6-0F6F-42EB-86A2-A7BA3D14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B711-B90B-407C-8DCB-E007D575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828D-3CA3-4CF1-8D5E-9BFDB87FF3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9F2E-BB15-4042-9976-C15203637B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image" Target="../media/image11.jpeg"/><Relationship Id="rId22" Type="http://schemas.openxmlformats.org/officeDocument/2006/relationships/image" Target="../media/image11.jpeg"/><Relationship Id="rId23" Type="http://schemas.openxmlformats.org/officeDocument/2006/relationships/image" Target="../media/image11.jpeg"/><Relationship Id="rId24" Type="http://schemas.openxmlformats.org/officeDocument/2006/relationships/image" Target="../media/image11.jpeg"/><Relationship Id="rId25" Type="http://schemas.openxmlformats.org/officeDocument/2006/relationships/image" Target="../media/image11.jpeg"/><Relationship Id="rId26" Type="http://schemas.openxmlformats.org/officeDocument/2006/relationships/image" Target="../media/image11.jpeg"/><Relationship Id="rId27" Type="http://schemas.openxmlformats.org/officeDocument/2006/relationships/image" Target="../media/image11.jpeg"/><Relationship Id="rId28" Type="http://schemas.openxmlformats.org/officeDocument/2006/relationships/image" Target="../media/image11.jpeg"/><Relationship Id="rId29" Type="http://schemas.openxmlformats.org/officeDocument/2006/relationships/image" Target="../media/image11.jpeg"/><Relationship Id="rId30" Type="http://schemas.openxmlformats.org/officeDocument/2006/relationships/image" Target="../media/image11.jpeg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0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556731"/>
            </a:solidFill>
            <a:miter/>
          </a:ln>
        </p:spPr>
      </p:pic>
      <p:sp>
        <p:nvSpPr>
          <p:cNvPr id="91" name="Rectangle 3"/>
          <p:cNvSpPr/>
          <p:nvPr/>
        </p:nvSpPr>
        <p:spPr>
          <a:xfrm>
            <a:off x="2627280" y="5167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33336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56731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56731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Мировая добыча</a:t>
            </a: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рудного сырь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57120" y="1714680"/>
          <a:ext cx="8429760" cy="4875120"/>
        </p:xfrm>
        <a:graphic>
          <a:graphicData uri="http://schemas.openxmlformats.org/drawingml/2006/table">
            <a:tbl>
              <a:tblPr/>
              <a:tblGrid>
                <a:gridCol w="2011320"/>
                <a:gridCol w="1176480"/>
                <a:gridCol w="5241960"/>
              </a:tblGrid>
              <a:tr h="30528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ыр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ч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е страны добы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526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н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, Бразилия, Австралия,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краина, США, Канада, ЮА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6523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ганцев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, Китай, ЮАР, Австралия, Бразилия, Инд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3268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ов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, ЮАР, Инд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2724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кс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, Гвинея, Ямайка, Бразилия, Инд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3268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н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ли, США, Канада, Замбия, ДР Конго, Пер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6526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нков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, Австралия, Китай, Перу, США, Мекси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6523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цов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, США, Китай, Канада, Перу, Мекси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6523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овянные руд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, Бразилия, Индонезия, Малайзия, Таиланд, Болив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</a:tr>
              <a:tr h="3265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елев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нада, Новая Каледо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9720" y="152280"/>
            <a:ext cx="791532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рагоценные металлы мир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Драгоценные камни и металлы"/>
          <p:cNvPicPr/>
          <p:nvPr/>
        </p:nvPicPr>
        <p:blipFill>
          <a:blip r:embed="rId1"/>
          <a:srcRect l="0" t="0" r="30" b="0"/>
          <a:stretch/>
        </p:blipFill>
        <p:spPr>
          <a:xfrm>
            <a:off x="714240" y="1714680"/>
            <a:ext cx="7786800" cy="50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986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Мировая добыча</a:t>
            </a: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нерудного сырь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28760" y="2500200"/>
          <a:ext cx="8429400" cy="3648240"/>
        </p:xfrm>
        <a:graphic>
          <a:graphicData uri="http://schemas.openxmlformats.org/drawingml/2006/table">
            <a:tbl>
              <a:tblPr/>
              <a:tblGrid>
                <a:gridCol w="2011320"/>
                <a:gridCol w="1176120"/>
                <a:gridCol w="5241960"/>
              </a:tblGrid>
              <a:tr h="66060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ыр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ч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е стр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ориты, апат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, Китай, Марокко, Иордания, Тунис,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йные со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, ФРГ, США, Франция, Израиль,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, Канада, Польша, Кита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мазы (тыс.кар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, Ботсвана, ДР Конго,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117" name="Picture 2" descr="D:\КАРТИНКИ\Коллекция картинок1\j0431528.png"/>
          <p:cNvPicPr/>
          <p:nvPr/>
        </p:nvPicPr>
        <p:blipFill>
          <a:blip r:embed="rId16"/>
          <a:stretch/>
        </p:blipFill>
        <p:spPr>
          <a:xfrm>
            <a:off x="6858000" y="1000080"/>
            <a:ext cx="2000160" cy="15382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71360"/>
            <a:ext cx="9199800" cy="1933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357120" y="193464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сурсообеспеченность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соотношение между величиной природных ресурсов и размерами их использования. Она выражается количеством лет, на которое должно хватить данного ресурса, либо его запасами из расчета на душу населе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642960" y="3571920"/>
            <a:ext cx="8072280" cy="155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Ресурсообеспеченность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= запасы / добыча (число лет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3760" y="5290560"/>
            <a:ext cx="86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Ежегодный рост добыч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полезных ископаемых составляет 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2% в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14680" y="152280"/>
            <a:ext cx="720072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емельные ресурсы мир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Карта земельных ресурсов"/>
          <p:cNvPicPr/>
          <p:nvPr/>
        </p:nvPicPr>
        <p:blipFill>
          <a:blip r:embed="rId1">
            <a:lum contrast="18000"/>
          </a:blip>
          <a:srcRect l="0" t="0" r="51" b="0"/>
          <a:stretch/>
        </p:blipFill>
        <p:spPr>
          <a:xfrm>
            <a:off x="642960" y="1676520"/>
            <a:ext cx="79297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Picture 4" descr="D:\КАРТИНКИ\Коллекция картинок3\j0283511.gif"/>
          <p:cNvPicPr/>
          <p:nvPr/>
        </p:nvPicPr>
        <p:blipFill>
          <a:blip r:embed="rId2"/>
          <a:stretch/>
        </p:blipFill>
        <p:spPr>
          <a:xfrm>
            <a:off x="142920" y="5143680"/>
            <a:ext cx="1643040" cy="15951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3880" y="151920"/>
            <a:ext cx="8201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уктура мирового земельного фонд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57120" y="2071800"/>
          <a:ext cx="8572680" cy="4452840"/>
        </p:xfrm>
        <a:graphic>
          <a:graphicData uri="http://schemas.openxmlformats.org/drawingml/2006/table">
            <a:tbl>
              <a:tblPr/>
              <a:tblGrid>
                <a:gridCol w="2286000"/>
                <a:gridCol w="1150920"/>
                <a:gridCol w="1241640"/>
                <a:gridCol w="1309680"/>
                <a:gridCol w="798480"/>
                <a:gridCol w="1785960"/>
              </a:tblGrid>
              <a:tr h="78552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и населенных пун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а-тываемые зем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е луга и пастбищ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продуктивные и непродуктивные зем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Евро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А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ая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73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ая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67824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мира по размерам пашн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5840" y="1785960"/>
          <a:ext cx="8358120" cy="4784760"/>
        </p:xfrm>
        <a:graphic>
          <a:graphicData uri="http://schemas.openxmlformats.org/drawingml/2006/table">
            <a:tbl>
              <a:tblPr/>
              <a:tblGrid>
                <a:gridCol w="3163680"/>
                <a:gridCol w="5194440"/>
              </a:tblGrid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ашни, млн. 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ге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d4"/>
                </a:solidFill>
                <a:latin typeface="Arial"/>
              </a:rPr>
              <a:t>Обеспеченность пашней на душу насел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rcRect l="0" t="0" r="0" b="68"/>
          <a:stretch/>
        </p:blipFill>
        <p:spPr>
          <a:xfrm>
            <a:off x="500040" y="1643040"/>
            <a:ext cx="8167680" cy="505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4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929800" cy="64915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пределение лесной площад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14200" y="1785960"/>
          <a:ext cx="8643960" cy="4876920"/>
        </p:xfrm>
        <a:graphic>
          <a:graphicData uri="http://schemas.openxmlformats.org/drawingml/2006/table">
            <a:tbl>
              <a:tblPr/>
              <a:tblGrid>
                <a:gridCol w="4721400"/>
                <a:gridCol w="3922560"/>
              </a:tblGrid>
              <a:tr h="97524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, регио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г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Евро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Аз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ая Аме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инская Аме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5" descr=""/>
          <p:cNvPicPr/>
          <p:nvPr/>
        </p:nvPicPr>
        <p:blipFill>
          <a:blip r:embed="rId1"/>
          <a:stretch/>
        </p:blipFill>
        <p:spPr>
          <a:xfrm>
            <a:off x="79200" y="706320"/>
            <a:ext cx="9045720" cy="5602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D:\КАРТИНКИ\Коллекция картинок3\j0340604.wmf"/>
          <p:cNvPicPr/>
          <p:nvPr/>
        </p:nvPicPr>
        <p:blipFill>
          <a:blip r:embed="rId2"/>
          <a:stretch/>
        </p:blipFill>
        <p:spPr>
          <a:xfrm>
            <a:off x="6643800" y="4429080"/>
            <a:ext cx="2214360" cy="1844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D:\КАРТИНКИ\Коллекция картинок3\j0437805.wmf"/>
          <p:cNvPicPr/>
          <p:nvPr/>
        </p:nvPicPr>
        <p:blipFill>
          <a:blip r:embed="rId3"/>
          <a:stretch/>
        </p:blipFill>
        <p:spPr>
          <a:xfrm>
            <a:off x="214200" y="4429080"/>
            <a:ext cx="2643480" cy="19893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мира по размерам лесной площад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57120" y="2000160"/>
          <a:ext cx="8286840" cy="4505400"/>
        </p:xfrm>
        <a:graphic>
          <a:graphicData uri="http://schemas.openxmlformats.org/drawingml/2006/table">
            <a:tbl>
              <a:tblPr/>
              <a:tblGrid>
                <a:gridCol w="2652840"/>
                <a:gridCol w="5634000"/>
              </a:tblGrid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ная площадь, млн. 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6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32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Кон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32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32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и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d4"/>
                </a:solidFill>
                <a:latin typeface="Arial"/>
              </a:rPr>
              <a:t>Обеспеченность лесными ресурсами на душу насел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14240" y="1714680"/>
            <a:ext cx="7794720" cy="495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пределение ресурсо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сной вод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57120" y="1928880"/>
          <a:ext cx="8429760" cy="4608360"/>
        </p:xfrm>
        <a:graphic>
          <a:graphicData uri="http://schemas.openxmlformats.org/drawingml/2006/table">
            <a:tbl>
              <a:tblPr/>
              <a:tblGrid>
                <a:gridCol w="3603600"/>
                <a:gridCol w="1621080"/>
                <a:gridCol w="3205080"/>
              </a:tblGrid>
              <a:tr h="704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, регион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тыс. км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ушу населения,  тыс. м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о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ая Аме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ая Аме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97524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6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мира по запасам пресной вод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4200" y="1785960"/>
          <a:ext cx="8501040" cy="4782960"/>
        </p:xfrm>
        <a:graphic>
          <a:graphicData uri="http://schemas.openxmlformats.org/drawingml/2006/table">
            <a:tbl>
              <a:tblPr/>
              <a:tblGrid>
                <a:gridCol w="2855880"/>
                <a:gridCol w="1967040"/>
                <a:gridCol w="3678120"/>
              </a:tblGrid>
              <a:tr h="7984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 км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ушу населения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м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16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гладе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16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ьян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крупнейших водохранилищ мир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14200" y="1857240"/>
          <a:ext cx="8572680" cy="4540320"/>
        </p:xfrm>
        <a:graphic>
          <a:graphicData uri="http://schemas.openxmlformats.org/drawingml/2006/table">
            <a:tbl>
              <a:tblPr/>
              <a:tblGrid>
                <a:gridCol w="2359080"/>
                <a:gridCol w="2086200"/>
                <a:gridCol w="1566720"/>
                <a:gridCol w="2560680"/>
              </a:tblGrid>
              <a:tr h="63036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ый объем, км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оверхности, к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020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анда, Кения, Танз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т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и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бия, Зимбаб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р (Асуа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ипет, Суд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та (Акосомб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иел-Джонсо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ди-Тарт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дон М. Ш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d4"/>
                </a:solidFill>
                <a:latin typeface="Arial"/>
              </a:rPr>
              <a:t>Обеспеченность речным стоком на душу насел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0" t="0" r="0" b="27"/>
          <a:stretch/>
        </p:blipFill>
        <p:spPr>
          <a:xfrm>
            <a:off x="844560" y="1714680"/>
            <a:ext cx="8013600" cy="504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14680" y="152280"/>
            <a:ext cx="720072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сурсы мирового океан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РЕСУРСЫ МИРОВОГО ОКЕАНА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60240" y="1676520"/>
            <a:ext cx="78235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14680" y="152280"/>
            <a:ext cx="720072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ыбные ресурс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Рыбные ресурсы"/>
          <p:cNvPicPr/>
          <p:nvPr/>
        </p:nvPicPr>
        <p:blipFill>
          <a:blip r:embed="rId1">
            <a:lum contrast="14000"/>
          </a:blip>
          <a:srcRect l="0" t="0" r="0" b="-67"/>
          <a:stretch/>
        </p:blipFill>
        <p:spPr>
          <a:xfrm>
            <a:off x="500040" y="1751040"/>
            <a:ext cx="8001000" cy="496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по размерам выбросов углерод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Таблица 3" descr=""/>
          <p:cNvPicPr/>
          <p:nvPr/>
        </p:nvPicPr>
        <p:blipFill>
          <a:blip r:embed="rId1"/>
          <a:stretch/>
        </p:blipFill>
        <p:spPr>
          <a:xfrm>
            <a:off x="-73080" y="2133720"/>
            <a:ext cx="9150480" cy="39132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природных ресурсов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285840" y="1596960"/>
            <a:ext cx="8643960" cy="52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404640" tIns="228600" bIns="342720" anchor="ctr">
            <a:spAutoFit/>
          </a:bodyPr>
          <a:p>
            <a:pPr algn="just">
              <a:buClr>
                <a:srgbClr val="ff99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По происхождению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минеральные (полезные ископаемые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климатическ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водны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земельные (почвенные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биологическ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99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ресурсы Мирового океа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9900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По исчерпаемост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99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исчерпаемые: невозобновимые (минеральные, руды металлов, соли, сера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возобновимые (земля, вода, воздух, почвенные, гидроэнергетические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неисчерпаемые (энергия солнца, геотермальная, ветра, морских приливов, отливов и течений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99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По применению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природные ресурсы для промышленности: топливно-энергетические;  металлургические; химическое и прочее сырь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для сельского хозяйства: земельные; почвенные; агроклиматическ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для отдыха и туризма: рекреационные ресурс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уктура мирового потребления энергоресурсо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5840" y="2214720"/>
          <a:ext cx="8715240" cy="4146480"/>
        </p:xfrm>
        <a:graphic>
          <a:graphicData uri="http://schemas.openxmlformats.org/drawingml/2006/table">
            <a:tbl>
              <a:tblPr/>
              <a:tblGrid>
                <a:gridCol w="1776240"/>
                <a:gridCol w="1387440"/>
                <a:gridCol w="1387440"/>
                <a:gridCol w="1389240"/>
                <a:gridCol w="1387440"/>
                <a:gridCol w="1387440"/>
              </a:tblGrid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Источники энер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1971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1991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2000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2005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2010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5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ф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7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615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й г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615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Э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615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ЭС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опливно-энергетические ресурсы мир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Топливно-энергетические ресурсы"/>
          <p:cNvPicPr/>
          <p:nvPr/>
        </p:nvPicPr>
        <p:blipFill>
          <a:blip r:embed="rId1"/>
          <a:srcRect l="0" t="0" r="0" b="47"/>
          <a:stretch/>
        </p:blipFill>
        <p:spPr>
          <a:xfrm>
            <a:off x="500040" y="1709640"/>
            <a:ext cx="8131320" cy="50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пределение запасов угольных ресурсо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14200" y="1785960"/>
          <a:ext cx="8715600" cy="4873680"/>
        </p:xfrm>
        <a:graphic>
          <a:graphicData uri="http://schemas.openxmlformats.org/drawingml/2006/table">
            <a:tbl>
              <a:tblPr/>
              <a:tblGrid>
                <a:gridCol w="5141880"/>
                <a:gridCol w="3573720"/>
              </a:tblGrid>
              <a:tr h="974880"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, регион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тон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0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Европ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Аз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0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ри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ая Амери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инская Амери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по разведанным запасам угл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8760" y="1928880"/>
          <a:ext cx="8215200" cy="4694040"/>
        </p:xfrm>
        <a:graphic>
          <a:graphicData uri="http://schemas.openxmlformats.org/drawingml/2006/table">
            <a:tbl>
              <a:tblPr/>
              <a:tblGrid>
                <a:gridCol w="3382920"/>
                <a:gridCol w="4832280"/>
              </a:tblGrid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млрд. тон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по разведанным запасам нефт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85840" y="1785960"/>
          <a:ext cx="8358120" cy="4714920"/>
        </p:xfrm>
        <a:graphic>
          <a:graphicData uri="http://schemas.openxmlformats.org/drawingml/2006/table">
            <a:tbl>
              <a:tblPr/>
              <a:tblGrid>
                <a:gridCol w="4098960"/>
                <a:gridCol w="4259160"/>
              </a:tblGrid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млрд. тон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удовская Арав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вей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по разведанным запасам газ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00040" y="1857240"/>
          <a:ext cx="8143920" cy="4714920"/>
        </p:xfrm>
        <a:graphic>
          <a:graphicData uri="http://schemas.openxmlformats.org/drawingml/2006/table">
            <a:tbl>
              <a:tblPr/>
              <a:tblGrid>
                <a:gridCol w="3703680"/>
                <a:gridCol w="4440240"/>
              </a:tblGrid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трлн. м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удовская Ара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ге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жи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8:26:24Z</dcterms:created>
  <dc:creator>starostina</dc:creator>
  <dc:description/>
  <cp:keywords/>
  <dc:language>en-US</dc:language>
  <cp:lastModifiedBy>starostina</cp:lastModifiedBy>
  <dcterms:modified xsi:type="dcterms:W3CDTF">2010-05-06T06:28:12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1c000000000001024140</vt:lpwstr>
  </property>
  <property fmtid="{D5CDD505-2E9C-101B-9397-08002B2CF9AE}" pid="3" name="_TemplateID">
    <vt:lpwstr>TC011408001049</vt:lpwstr>
  </property>
</Properties>
</file>