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6.png" ContentType="image/png"/>
  <Override PartName="/ppt/media/image9.png" ContentType="image/png"/>
  <Override PartName="/ppt/media/image5.gif" ContentType="image/gif"/>
  <Override PartName="/ppt/media/image4.jpeg" ContentType="image/jpe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9FA6-0116-4C13-9700-4F4A915E2F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9D8-C399-4921-B330-E6AAD075A5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F60-E258-4282-94AE-2B7BB2A7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5A1-A955-4B0B-A957-7FA808E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2EF-95CA-40FF-AA35-BE6187CA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8EB-9112-450B-9EB3-0FAD7FF2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437A-BB0C-49B0-8EF9-01BF37B0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16FD-3837-4592-A9C5-C8755C0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BD4-DD1F-4365-95DB-B898C4C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1C92-C95A-46AE-B91D-E414E37F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87F6-A545-4E37-B8BB-8E5E85E1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416B-9484-46E0-8FA2-A7A94CB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345B-403B-4032-B28B-E5FA2D5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D9D-9AEB-425E-88E0-6C439E34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7D3C-A1E0-4C9A-889B-B92967BD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832D-14D0-4CA4-8C28-68A2B28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2FC3-EEAA-480E-95D7-1E28B4D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46BD-2BDA-434D-AA8D-FFCCB2B0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57F0-3A7E-4C21-9556-FBB5314C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24E-217E-4130-9D30-D7D8A464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D2B-67B0-46D9-991E-3CC286B8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9E7-5BBF-4AA6-9D22-D600DF97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2C1-9F3A-442F-A80F-D9115420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71F-D8DA-4E82-B808-88CB90D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3A7-3A9F-4D1D-B21C-E1BC2A4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D15-5A23-4023-8136-9CFDE9D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ED58-28C3-4D7E-83A7-A3C6163FF1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653-8AAF-4686-8B90-D5D0B4C812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556731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6731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6731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Мировая добыча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рудного сырь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120" y="1714680"/>
          <a:ext cx="8429760" cy="4875120"/>
        </p:xfrm>
        <a:graphic>
          <a:graphicData uri="http://schemas.openxmlformats.org/drawingml/2006/table">
            <a:tbl>
              <a:tblPr/>
              <a:tblGrid>
                <a:gridCol w="2011320"/>
                <a:gridCol w="1176480"/>
                <a:gridCol w="5241960"/>
              </a:tblGrid>
              <a:tr h="3052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ыр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страны добы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52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краина, США, Канада, Ю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2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272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32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, США, Канада, Замбия, ДР Конго, Пер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652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  <a:tr h="326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да, Новая Каледо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9720" y="152280"/>
            <a:ext cx="79153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агоценные металл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Драгоценные камни и металлы"/>
          <p:cNvPicPr/>
          <p:nvPr/>
        </p:nvPicPr>
        <p:blipFill>
          <a:blip r:embed="rId1"/>
          <a:srcRect l="0" t="0" r="30" b="0"/>
          <a:stretch/>
        </p:blipFill>
        <p:spPr>
          <a:xfrm>
            <a:off x="714240" y="1714680"/>
            <a:ext cx="778680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Мировая добыча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нерудного сырь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2500200"/>
          <a:ext cx="8429400" cy="3648240"/>
        </p:xfrm>
        <a:graphic>
          <a:graphicData uri="http://schemas.openxmlformats.org/drawingml/2006/table">
            <a:tbl>
              <a:tblPr/>
              <a:tblGrid>
                <a:gridCol w="2011320"/>
                <a:gridCol w="1176120"/>
                <a:gridCol w="5241960"/>
              </a:tblGrid>
              <a:tr h="66060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ыр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стр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ы (тыс.кар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17" name="Picture 2" descr="D:\КАРТИНКИ\Коллекция картинок1\j0431528.png"/>
          <p:cNvPicPr/>
          <p:nvPr/>
        </p:nvPicPr>
        <p:blipFill>
          <a:blip r:embed="rId16"/>
          <a:stretch/>
        </p:blipFill>
        <p:spPr>
          <a:xfrm>
            <a:off x="6858000" y="1000080"/>
            <a:ext cx="2000160" cy="1538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919980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357120" y="19346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урсообеспеченность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соотношение между величиной природных ресурсов и размерами их использования. Она выражается количеством лет, на которое должно хватить данного ресурса, либо его запасами из расчета на душу насел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642960" y="3571920"/>
            <a:ext cx="807228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Ресурсообеспеченность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 запасы / добыча (число лет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760" y="5290560"/>
            <a:ext cx="86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Ежегодный рост добыч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олезных ископаемых составляет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2% в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ельные ресурс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Карта земельных ресурсов"/>
          <p:cNvPicPr/>
          <p:nvPr/>
        </p:nvPicPr>
        <p:blipFill>
          <a:blip r:embed="rId1">
            <a:lum contrast="18000"/>
          </a:blip>
          <a:srcRect l="0" t="0" r="51" b="0"/>
          <a:stretch/>
        </p:blipFill>
        <p:spPr>
          <a:xfrm>
            <a:off x="642960" y="1676520"/>
            <a:ext cx="7929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4" descr="D:\КАРТИНКИ\Коллекция картинок3\j0283511.gif"/>
          <p:cNvPicPr/>
          <p:nvPr/>
        </p:nvPicPr>
        <p:blipFill>
          <a:blip r:embed="rId2"/>
          <a:stretch/>
        </p:blipFill>
        <p:spPr>
          <a:xfrm>
            <a:off x="142920" y="5143680"/>
            <a:ext cx="1643040" cy="1595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51920"/>
            <a:ext cx="8201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мирового земельного фонд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120" y="2071800"/>
          <a:ext cx="8572680" cy="4452840"/>
        </p:xfrm>
        <a:graphic>
          <a:graphicData uri="http://schemas.openxmlformats.org/drawingml/2006/table">
            <a:tbl>
              <a:tblPr/>
              <a:tblGrid>
                <a:gridCol w="2286000"/>
                <a:gridCol w="1150920"/>
                <a:gridCol w="1241640"/>
                <a:gridCol w="1309680"/>
                <a:gridCol w="798480"/>
                <a:gridCol w="1785960"/>
              </a:tblGrid>
              <a:tr h="7855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и населенных пун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-тываемые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луга и пастбищ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продуктивные и непродуктивные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73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782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размерам пашн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840" y="1785960"/>
          <a:ext cx="8358120" cy="4784760"/>
        </p:xfrm>
        <a:graphic>
          <a:graphicData uri="http://schemas.openxmlformats.org/drawingml/2006/table">
            <a:tbl>
              <a:tblPr/>
              <a:tblGrid>
                <a:gridCol w="3163680"/>
                <a:gridCol w="5194440"/>
              </a:tblGrid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шни, млн. 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пашней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500040" y="1643040"/>
            <a:ext cx="8167680" cy="505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929800" cy="64915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лесной площад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785960"/>
          <a:ext cx="8643960" cy="4876920"/>
        </p:xfrm>
        <a:graphic>
          <a:graphicData uri="http://schemas.openxmlformats.org/drawingml/2006/table">
            <a:tbl>
              <a:tblPr/>
              <a:tblGrid>
                <a:gridCol w="4721400"/>
                <a:gridCol w="3922560"/>
              </a:tblGrid>
              <a:tr h="9752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г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5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9045720" cy="560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:\КАРТИНКИ\Коллекция картинок3\j0340604.wmf"/>
          <p:cNvPicPr/>
          <p:nvPr/>
        </p:nvPicPr>
        <p:blipFill>
          <a:blip r:embed="rId2"/>
          <a:stretch/>
        </p:blipFill>
        <p:spPr>
          <a:xfrm>
            <a:off x="6643800" y="4429080"/>
            <a:ext cx="2214360" cy="1844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КАРТИНКИ\Коллекция картинок3\j0437805.wmf"/>
          <p:cNvPicPr/>
          <p:nvPr/>
        </p:nvPicPr>
        <p:blipFill>
          <a:blip r:embed="rId3"/>
          <a:stretch/>
        </p:blipFill>
        <p:spPr>
          <a:xfrm>
            <a:off x="214200" y="4429080"/>
            <a:ext cx="2643480" cy="1989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размерам лесной площад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7120" y="2000160"/>
          <a:ext cx="8286840" cy="4505400"/>
        </p:xfrm>
        <a:graphic>
          <a:graphicData uri="http://schemas.openxmlformats.org/drawingml/2006/table">
            <a:tbl>
              <a:tblPr/>
              <a:tblGrid>
                <a:gridCol w="2652840"/>
                <a:gridCol w="5634000"/>
              </a:tblGrid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 площадь, млн. 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6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Кон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и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лесными ресурсами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794720" cy="495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ресурс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сной вод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57120" y="1928880"/>
          <a:ext cx="8429760" cy="4608360"/>
        </p:xfrm>
        <a:graphic>
          <a:graphicData uri="http://schemas.openxmlformats.org/drawingml/2006/table">
            <a:tbl>
              <a:tblPr/>
              <a:tblGrid>
                <a:gridCol w="3603600"/>
                <a:gridCol w="1621080"/>
                <a:gridCol w="3205080"/>
              </a:tblGrid>
              <a:tr h="704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тыс. км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ушу населения,  тыс. м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9752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запасам пресной вод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200" y="1785960"/>
          <a:ext cx="8501040" cy="4782960"/>
        </p:xfrm>
        <a:graphic>
          <a:graphicData uri="http://schemas.openxmlformats.org/drawingml/2006/table">
            <a:tbl>
              <a:tblPr/>
              <a:tblGrid>
                <a:gridCol w="2855880"/>
                <a:gridCol w="1967040"/>
                <a:gridCol w="3678120"/>
              </a:tblGrid>
              <a:tr h="7984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 к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ушу населен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гладе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крупнейших водохранилищ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4200" y="1857240"/>
          <a:ext cx="8572680" cy="4540320"/>
        </p:xfrm>
        <a:graphic>
          <a:graphicData uri="http://schemas.openxmlformats.org/drawingml/2006/table">
            <a:tbl>
              <a:tblPr/>
              <a:tblGrid>
                <a:gridCol w="2359080"/>
                <a:gridCol w="2086200"/>
                <a:gridCol w="1566720"/>
                <a:gridCol w="2560680"/>
              </a:tblGrid>
              <a:tr h="6303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й объем, км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верхности, к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02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анда, Кения, Тан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, Зимбаб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р (Асу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пет, Суд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та (Акосомб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ел-Джонс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ди-Тарт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дон М. Ш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речным стоком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0" b="27"/>
          <a:stretch/>
        </p:blipFill>
        <p:spPr>
          <a:xfrm>
            <a:off x="844560" y="1714680"/>
            <a:ext cx="8013600" cy="50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сурсы мирового океан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РЕСУРСЫ МИРОВОГО ОКЕАНА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60240" y="1676520"/>
            <a:ext cx="7823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ные ресур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Рыбные ресурсы"/>
          <p:cNvPicPr/>
          <p:nvPr/>
        </p:nvPicPr>
        <p:blipFill>
          <a:blip r:embed="rId1">
            <a:lum contrast="14000"/>
          </a:blip>
          <a:srcRect l="0" t="0" r="0" b="-67"/>
          <a:stretch/>
        </p:blipFill>
        <p:spPr>
          <a:xfrm>
            <a:off x="500040" y="1751040"/>
            <a:ext cx="8001000" cy="49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мерам выбросов углерод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Таблица 3" descr=""/>
          <p:cNvPicPr/>
          <p:nvPr/>
        </p:nvPicPr>
        <p:blipFill>
          <a:blip r:embed="rId1"/>
          <a:stretch/>
        </p:blipFill>
        <p:spPr>
          <a:xfrm>
            <a:off x="-73080" y="2133720"/>
            <a:ext cx="9150480" cy="3913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природных ресурсов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85840" y="1596960"/>
            <a:ext cx="864396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404640" tIns="228600" bIns="342720" anchor="ctr">
            <a:spAutoFit/>
          </a:bodyPr>
          <a:p>
            <a:pPr algn="just"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происхождению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минеральные (полезные ископаемы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климат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вод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земельные (почвенны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биолог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ресурсы Мирового оке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99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исчерпаемост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счерпаемые: невозобновимые (минеральные, руды металлов, соли, сера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озобновимые (земля, вода, воздух, почвенные, гидроэнергетическ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неисчерпаемые (энергия солнца, геотермальная, ветра, морских приливов, отливов и течени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применен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природные ресурсы для промышленности: топливно-энергетические;  металлургические; химическое и прочее сырь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для сельского хозяйства: земельные; почвенные; агроклимат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для отдыха и туризма: рекреационные ресурс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мирового потребления энергоресурс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5840" y="2214720"/>
          <a:ext cx="8715240" cy="4146480"/>
        </p:xfrm>
        <a:graphic>
          <a:graphicData uri="http://schemas.openxmlformats.org/drawingml/2006/table">
            <a:tbl>
              <a:tblPr/>
              <a:tblGrid>
                <a:gridCol w="1776240"/>
                <a:gridCol w="1387440"/>
                <a:gridCol w="1387440"/>
                <a:gridCol w="1389240"/>
                <a:gridCol w="1387440"/>
                <a:gridCol w="138744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Источники энер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197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199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0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05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й г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ЭС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пливно-энергетические ресурс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Топливно-энергетические ресурсы"/>
          <p:cNvPicPr/>
          <p:nvPr/>
        </p:nvPicPr>
        <p:blipFill>
          <a:blip r:embed="rId1"/>
          <a:srcRect l="0" t="0" r="0" b="47"/>
          <a:stretch/>
        </p:blipFill>
        <p:spPr>
          <a:xfrm>
            <a:off x="500040" y="1709640"/>
            <a:ext cx="8131320" cy="50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запасов угольных ресурс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4200" y="1785960"/>
          <a:ext cx="8715600" cy="4873680"/>
        </p:xfrm>
        <a:graphic>
          <a:graphicData uri="http://schemas.openxmlformats.org/drawingml/2006/table">
            <a:tbl>
              <a:tblPr/>
              <a:tblGrid>
                <a:gridCol w="5141880"/>
                <a:gridCol w="3573720"/>
              </a:tblGrid>
              <a:tr h="97488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тон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Аме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угл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928880"/>
          <a:ext cx="8215200" cy="4694040"/>
        </p:xfrm>
        <a:graphic>
          <a:graphicData uri="http://schemas.openxmlformats.org/drawingml/2006/table">
            <a:tbl>
              <a:tblPr/>
              <a:tblGrid>
                <a:gridCol w="3382920"/>
                <a:gridCol w="4832280"/>
              </a:tblGrid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млрд. 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нефт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5840" y="1785960"/>
          <a:ext cx="8358120" cy="4714920"/>
        </p:xfrm>
        <a:graphic>
          <a:graphicData uri="http://schemas.openxmlformats.org/drawingml/2006/table">
            <a:tbl>
              <a:tblPr/>
              <a:tblGrid>
                <a:gridCol w="4098960"/>
                <a:gridCol w="4259160"/>
              </a:tblGrid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млрд. 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довская Ара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ве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газ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0040" y="1857240"/>
          <a:ext cx="8143920" cy="4714920"/>
        </p:xfrm>
        <a:graphic>
          <a:graphicData uri="http://schemas.openxmlformats.org/drawingml/2006/table">
            <a:tbl>
              <a:tblPr/>
              <a:tblGrid>
                <a:gridCol w="3703680"/>
                <a:gridCol w="4440240"/>
              </a:tblGrid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трлн. 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довская Ара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26:24Z</dcterms:created>
  <dc:creator>starostina</dc:creator>
  <dc:description/>
  <cp:keywords/>
  <dc:language>en-US</dc:language>
  <cp:lastModifiedBy>starostina</cp:lastModifiedBy>
  <dcterms:modified xsi:type="dcterms:W3CDTF">2010-05-06T06:28:12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1c000000000001024140</vt:lpwstr>
  </property>
  <property fmtid="{D5CDD505-2E9C-101B-9397-08002B2CF9AE}" pid="3" name="_TemplateID">
    <vt:lpwstr>TC011408001049</vt:lpwstr>
  </property>
</Properties>
</file>