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86AD-1DA6-4DA7-A534-9C22CE9CC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25C1-A7BD-40AE-BD5C-44F0A1DAA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9D40-8E5F-4AF7-94D1-9ACF7ED52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5BBD-916B-4B5D-8911-0B057375D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4555-5DF3-43B2-841C-4B251F6A9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DFE3-6EA7-4542-BCB8-FD3E6E6E5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3EC0-07A8-436A-A65C-76EF47B26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AAC4-E9F5-4884-9614-34533FD49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3806-1126-4B07-A402-E60761CA3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AF6C-09B1-41B0-8A37-ED83F834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9238-7844-4973-BF9C-032035DF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96D3-97D2-42CD-A02D-B12D2240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411EA-82FA-4ED9-87D7-A50326C6AD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849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2781360"/>
            <a:ext cx="9144000" cy="3932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042920" y="18900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00"/>
                </a:solidFill>
                <a:latin typeface="Arial"/>
              </a:rPr>
              <a:t>Природа Ура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12000" y="5734080"/>
            <a:ext cx="30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хеева В.Н.,                 МАОУ-Гимназия № 47,           г. Екатерин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Сапфи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рун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Александри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ран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мети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5508720" cy="5445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863960" y="1413000"/>
            <a:ext cx="4280040" cy="54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орный хруста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6146640" cy="5516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931000" y="1341360"/>
            <a:ext cx="3213000" cy="551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озовый квар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397160"/>
            <a:ext cx="9144000" cy="546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амарски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одон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алах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456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203640" y="0"/>
            <a:ext cx="594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альские горы – горы средней высоты (1000-1500м) Наивысшая точка – г. Народная, 1895 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03640" y="692280"/>
            <a:ext cx="5761080" cy="703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 высоте Урал разделен                                           на 5 природных район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64000" y="2205000"/>
            <a:ext cx="3635640" cy="916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ярный Урал – 500-600м.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высота – г.Пайер – 1472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932360" y="3213000"/>
            <a:ext cx="4033800" cy="916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полярный Урал – 1500-1600м.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высота – г. Народная – 1895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4221000"/>
            <a:ext cx="3960720" cy="916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верный Урал – 1000-1500м.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высота – г.Телпозиз – 1617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95640" y="5157720"/>
            <a:ext cx="4033800" cy="916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ий Урал – 500-700м.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высота – г.Качканар – 878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19640" y="6093000"/>
            <a:ext cx="3960720" cy="916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Южный Урал – 1000-1500м.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высота – г.Ямантау – 1638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64000" y="1413000"/>
            <a:ext cx="0" cy="4608360"/>
          </a:xfrm>
          <a:prstGeom prst="line">
            <a:avLst/>
          </a:prstGeom>
          <a:ln w="7632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40360" y="1413000"/>
            <a:ext cx="0" cy="3600360"/>
          </a:xfrm>
          <a:prstGeom prst="line">
            <a:avLst/>
          </a:prstGeom>
          <a:ln w="7632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716000" y="1413000"/>
            <a:ext cx="1800" cy="2663640"/>
          </a:xfrm>
          <a:prstGeom prst="line">
            <a:avLst/>
          </a:prstGeom>
          <a:ln w="7632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219640" y="1413000"/>
            <a:ext cx="0" cy="1800000"/>
          </a:xfrm>
          <a:prstGeom prst="line">
            <a:avLst/>
          </a:prstGeom>
          <a:ln w="7632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24360" y="1413000"/>
            <a:ext cx="0" cy="792000"/>
          </a:xfrm>
          <a:prstGeom prst="line">
            <a:avLst/>
          </a:prstGeom>
          <a:ln w="7632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г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1433520"/>
            <a:ext cx="9144000" cy="54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Яш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1379520"/>
            <a:ext cx="9144000" cy="547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око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одорок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401840"/>
            <a:ext cx="9144000" cy="545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Хром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1387440"/>
            <a:ext cx="9144000" cy="547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ёт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Шерл в сирицитовом сланц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рагон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540320" y="1484280"/>
            <a:ext cx="4603680" cy="53737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5148360" cy="53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емат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1434960"/>
            <a:ext cx="9144000" cy="542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771280" y="0"/>
            <a:ext cx="61930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лим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08000" y="0"/>
            <a:ext cx="2592360" cy="6669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700360" y="3716280"/>
            <a:ext cx="2014560" cy="647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дурал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859280" y="3716280"/>
            <a:ext cx="187164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р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77080" y="3716280"/>
            <a:ext cx="22669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урал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00360" y="4724280"/>
            <a:ext cx="2087640" cy="1441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ffff99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мерен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иненталь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избыточ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влажнени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932360" y="4724280"/>
            <a:ext cx="1871640" cy="1441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ffff99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сот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яс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77080" y="4724280"/>
            <a:ext cx="2266920" cy="1441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ffff99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иненталь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недостаточны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влажн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16360" y="549360"/>
            <a:ext cx="5976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Изменяется с севера на юг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убарктиче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меренно-континентальный с избыточным увлажн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инентальный с недостаточным увлажн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43280" y="2565360"/>
            <a:ext cx="56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Барьерная роль г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92360" y="4365720"/>
            <a:ext cx="217800" cy="360360"/>
          </a:xfrm>
          <a:prstGeom prst="downArrow">
            <a:avLst>
              <a:gd name="adj1" fmla="val 50000"/>
              <a:gd name="adj2" fmla="val 41364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956720" y="4365720"/>
            <a:ext cx="217440" cy="360360"/>
          </a:xfrm>
          <a:prstGeom prst="downArrow">
            <a:avLst>
              <a:gd name="adj1" fmla="val 50000"/>
              <a:gd name="adj2" fmla="val 41432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724360" y="4365720"/>
            <a:ext cx="217800" cy="360360"/>
          </a:xfrm>
          <a:prstGeom prst="downArrow">
            <a:avLst>
              <a:gd name="adj1" fmla="val 50000"/>
              <a:gd name="adj2" fmla="val 41364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627280" y="3284640"/>
            <a:ext cx="6516720" cy="431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ЛИМ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6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ысотная поясность Ур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87138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агра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анализировать тематические карты атласа  по населению региона (с.10-19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Выписать в тетрадь информаци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обенности естественного прироста населения (Р,С и Епр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овой и возрастной состав населения. Демографическая нагрузка нас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грации, уровень жизни на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нический и религиозный состав на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формулировать общие вы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6669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003640" y="189000"/>
            <a:ext cx="3708720" cy="7038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льеф Уральского экономического рай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43280" y="1557360"/>
            <a:ext cx="1152720" cy="8636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ус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вн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96360" y="1557360"/>
            <a:ext cx="1368360" cy="8636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ад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бир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вн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940360" y="1557360"/>
            <a:ext cx="1440000" cy="8636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раль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907920"/>
            <a:ext cx="144360" cy="649440"/>
          </a:xfrm>
          <a:prstGeom prst="downArrow">
            <a:avLst>
              <a:gd name="adj1" fmla="val 50000"/>
              <a:gd name="adj2" fmla="val 112469"/>
            </a:avLst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588000" y="907920"/>
            <a:ext cx="144720" cy="649440"/>
          </a:xfrm>
          <a:prstGeom prst="downArrow">
            <a:avLst>
              <a:gd name="adj1" fmla="val 50000"/>
              <a:gd name="adj2" fmla="val 112189"/>
            </a:avLst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101080" y="907920"/>
            <a:ext cx="142920" cy="649440"/>
          </a:xfrm>
          <a:prstGeom prst="downArrow">
            <a:avLst>
              <a:gd name="adj1" fmla="val 50000"/>
              <a:gd name="adj2" fmla="val 113602"/>
            </a:avLst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35640" y="2492280"/>
            <a:ext cx="4608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сская равнин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Верхнекамская возвышен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Бугульминско-Белебеевская возвыш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Общий Сы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43280" y="5516640"/>
            <a:ext cx="388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Западно-Сибирская равни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Кондинская низм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Ишимская равн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4005360"/>
            <a:ext cx="374328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Уральские горы: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верный Урал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редний Урал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Южный Урал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6669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003640" y="189000"/>
            <a:ext cx="3708720" cy="7038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льеф Уральского экономического рай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43280" y="1700280"/>
            <a:ext cx="1152720" cy="8636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ус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вн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596360" y="1700280"/>
            <a:ext cx="1368360" cy="8636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ад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бир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вн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1700280"/>
            <a:ext cx="1439640" cy="8636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раль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76720" y="907920"/>
            <a:ext cx="216000" cy="792360"/>
          </a:xfrm>
          <a:prstGeom prst="downArrow">
            <a:avLst>
              <a:gd name="adj1" fmla="val 50000"/>
              <a:gd name="adj2" fmla="val 91708"/>
            </a:avLst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516720" y="907920"/>
            <a:ext cx="216000" cy="792360"/>
          </a:xfrm>
          <a:prstGeom prst="downArrow">
            <a:avLst>
              <a:gd name="adj1" fmla="val 50000"/>
              <a:gd name="adj2" fmla="val 91708"/>
            </a:avLst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101080" y="907920"/>
            <a:ext cx="216000" cy="792360"/>
          </a:xfrm>
          <a:prstGeom prst="downArrow">
            <a:avLst>
              <a:gd name="adj1" fmla="val 50000"/>
              <a:gd name="adj2" fmla="val 91708"/>
            </a:avLst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3141720"/>
            <a:ext cx="1297080" cy="1079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ус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атфор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40360" y="3141720"/>
            <a:ext cx="1584360" cy="1079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рцин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ладчат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667640" y="3141720"/>
            <a:ext cx="1297080" cy="1079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ад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бирс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тфор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00720" y="4581360"/>
            <a:ext cx="1439640" cy="216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ле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копае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легаю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чех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атфор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40360" y="4581360"/>
            <a:ext cx="1656000" cy="216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е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копае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легают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гматиче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метаморф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ских го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од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96360" y="4581360"/>
            <a:ext cx="1547640" cy="216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ле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копае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легаю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чех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атфор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101080" y="2565360"/>
            <a:ext cx="216000" cy="576360"/>
          </a:xfrm>
          <a:prstGeom prst="downArrow">
            <a:avLst>
              <a:gd name="adj1" fmla="val 50000"/>
              <a:gd name="adj2" fmla="val 66708"/>
            </a:avLst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76720" y="2565360"/>
            <a:ext cx="216000" cy="576360"/>
          </a:xfrm>
          <a:prstGeom prst="downArrow">
            <a:avLst>
              <a:gd name="adj1" fmla="val 50000"/>
              <a:gd name="adj2" fmla="val 66708"/>
            </a:avLst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659640" y="2565360"/>
            <a:ext cx="216000" cy="576360"/>
          </a:xfrm>
          <a:prstGeom prst="downArrow">
            <a:avLst>
              <a:gd name="adj1" fmla="val 50000"/>
              <a:gd name="adj2" fmla="val 66708"/>
            </a:avLst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03640" y="422100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244000" y="4221000"/>
            <a:ext cx="215640" cy="360360"/>
          </a:xfrm>
          <a:prstGeom prst="downArrow">
            <a:avLst>
              <a:gd name="adj1" fmla="val 50000"/>
              <a:gd name="adj2" fmla="val 41778"/>
            </a:avLst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588000" y="422100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893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еральны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пливно-энергетические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ефть, га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орф,каменный угол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дные (железные рулы, медно-никелевые, алюминиевые), но они истоще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 Гидроэнергетические – Кама, Урал, Чусовая, Сосьва и другие (рек много, но большинство из них – это верховья ре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сные ресурсы Пермской и Свердловской обла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венные ресурсы Бошкортостана, Оренбургской, Челябинской и Курганской обла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креационные ресурсы (минеральные воды, природа, археологические памятники и т.д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Алма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зумруд в сланц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2T09:07:18Z</dcterms:created>
  <dc:creator>Miheeva</dc:creator>
  <dc:description/>
  <dc:language>en-US</dc:language>
  <cp:lastModifiedBy>Miheeva</cp:lastModifiedBy>
  <dcterms:modified xsi:type="dcterms:W3CDTF">2011-08-30T09:51:00Z</dcterms:modified>
  <cp:revision>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21f0000000000010243100207f6000400038000</vt:lpwstr>
  </property>
</Properties>
</file>