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A6A-F50F-4ECC-AD6F-4B5B7B35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CD2-DB2A-49B1-AD24-74A4D8F9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DF9-33A2-4EE6-ACC0-000DA025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37B-BE4D-412F-B0B3-5348ECD0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589-F99A-4796-9E0A-2F3E8C9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D82-C2EA-4120-9BEE-08950091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D0B-8147-47D8-8209-CCDFEF4A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2A5-2E65-4339-88EB-620F92C7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CF9-990F-41F5-A661-AD6C1903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215-604B-4D4B-A7CB-0663DC27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AA8-4740-4EEF-85B3-3E803615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08C-E433-415A-A9D2-768F8901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A31E-0866-47A5-AE0F-AE6174407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4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Природа Ур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734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хеева В.Н.,                 МАОУ-Гимназия № 47,           г.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пф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ександр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508720" cy="544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63960" y="1413000"/>
            <a:ext cx="42800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ный хруст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146640" cy="551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31000" y="1341360"/>
            <a:ext cx="3213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зовый к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марск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д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0"/>
            <a:ext cx="59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ьские горы – горы средней высоты (1000-1500м) Наивысшая точка – г. Народная, 189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692280"/>
            <a:ext cx="57610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высоте Урал разделен                                           на 5 природных район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205000"/>
            <a:ext cx="363564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ный Урал – 500-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Пайер – 1472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321300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олярный Урал – 1500-1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 Народная – 189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221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Телпозиз – 1617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515772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Урал – 500-7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Качканар – 87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6093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Ямантау – 163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413000"/>
            <a:ext cx="0" cy="4608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413000"/>
            <a:ext cx="0" cy="3600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16000" y="1413000"/>
            <a:ext cx="1800" cy="266364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413000"/>
            <a:ext cx="0" cy="1800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1413000"/>
            <a:ext cx="0" cy="79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3352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ш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914400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доро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ом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ё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 в сирицитовом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г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40320" y="1484280"/>
            <a:ext cx="4603680" cy="537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14836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м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6193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259236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00360" y="3716280"/>
            <a:ext cx="20145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716280"/>
            <a:ext cx="187164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3716280"/>
            <a:ext cx="22669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4724280"/>
            <a:ext cx="2087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избыто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4724280"/>
            <a:ext cx="1871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4724280"/>
            <a:ext cx="226692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достаточ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549360"/>
            <a:ext cx="59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Изменяется с севера на юг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арк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континентальный с избы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с недоста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565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Барьерная роль 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436572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284640"/>
            <a:ext cx="6516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сотная поясность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713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тематические карты атласа  по населению региона (с.10-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ыписать в тетрадь информа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естественного прироста населения (Р,С и Еп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й и возрастной состав населения. Демографическая нагрузка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и, уровень жизн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ический и религиозны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общи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155736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155736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1557360"/>
            <a:ext cx="144000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144360" cy="649440"/>
          </a:xfrm>
          <a:prstGeom prst="downArrow">
            <a:avLst>
              <a:gd name="adj1" fmla="val 50000"/>
              <a:gd name="adj2" fmla="val 11246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907920"/>
            <a:ext cx="144720" cy="649440"/>
          </a:xfrm>
          <a:prstGeom prst="downArrow">
            <a:avLst>
              <a:gd name="adj1" fmla="val 50000"/>
              <a:gd name="adj2" fmla="val 11218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01080" y="907920"/>
            <a:ext cx="142920" cy="649440"/>
          </a:xfrm>
          <a:prstGeom prst="downArrow">
            <a:avLst>
              <a:gd name="adj1" fmla="val 50000"/>
              <a:gd name="adj2" fmla="val 113602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5640" y="249228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ая равн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ерхнекамская возвыш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угульминско-Белебеевская возвы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щий Сы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5516640"/>
            <a:ext cx="38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падно-Сибирская равн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ондин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шим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005360"/>
            <a:ext cx="3743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ральские горы: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ерный Урал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ий Ура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ый Урал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170028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96360" y="170028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1700280"/>
            <a:ext cx="14396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141720"/>
            <a:ext cx="158436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458136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581360"/>
            <a:ext cx="165600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егаю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ма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таморф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ких го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6360" y="4581360"/>
            <a:ext cx="1547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108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ераль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ливно-энергетические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фть, г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рф,каменный у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ные (железные рулы, медно-никелевые, алюминиевые), но они исто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Гидроэнергетические – Кама, Урал, Чусовая, Сосьва и другие (рек много, но большинство из них – это верховья р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ые ресурсы Пермской и Свердлов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енные ресурсы Бошкортостана, Оренбургской, Челябинской и Курган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реационные ресурсы (минеральные воды, природа, археологические памятни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мруд в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07:18Z</dcterms:created>
  <dc:creator>Miheeva</dc:creator>
  <dc:description/>
  <dc:language>en-US</dc:language>
  <cp:lastModifiedBy>Miheeva</cp:lastModifiedBy>
  <dcterms:modified xsi:type="dcterms:W3CDTF">2011-08-30T09:51:0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3100207f6000400038000</vt:lpwstr>
  </property>
</Properties>
</file>