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2.jpeg" ContentType="image/jpeg"/>
  <Override PartName="/ppt/media/image21.jpeg" ContentType="image/jpeg"/>
  <Override PartName="/ppt/media/image20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6.jpeg" ContentType="image/jpeg"/>
  <Override PartName="/ppt/media/image27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23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3AB21-D977-46C2-816D-DA2114D94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F1780-A2BF-4AE9-8CFA-12A474AF9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AF0A1-9828-4761-92AF-9053B558F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F93C0-08AF-43B4-83AE-FFF581864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687FE-FE4B-466E-8DDD-EB7173E6C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2848A-367C-4E9A-BAA4-4B1C1D5F3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C37F2-505B-464C-9878-EE1B200D2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B60A4-F3C1-4750-9852-3975BA590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A6E8E-B2EB-4C96-9B09-6B4524A50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2B823-DE06-432F-A9C6-35E281332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730B4-0079-4292-BB44-2757BDEF0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C67C4-7C4C-45EB-8A30-02C4ED3AF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9AA23-60C5-475A-898D-6F6036CDA37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280" y="11592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8494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2781360"/>
            <a:ext cx="9144000" cy="39322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042920" y="189000"/>
            <a:ext cx="712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3300"/>
                </a:solidFill>
                <a:latin typeface="Arial"/>
              </a:rPr>
              <a:t>Природа Урал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012000" y="5734080"/>
            <a:ext cx="302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ихеева В.Н.,                 МАОУ-Гимназия № 47,           г. Екатеринбур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Сапфи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1484280"/>
            <a:ext cx="9144000" cy="537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Корун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1268280"/>
            <a:ext cx="9144000" cy="5589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Александри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1484280"/>
            <a:ext cx="9144000" cy="537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Грана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1341360"/>
            <a:ext cx="9144000" cy="551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Аметис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1413000"/>
            <a:ext cx="5508720" cy="5445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4863960" y="1413000"/>
            <a:ext cx="4280040" cy="544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Горный хрустал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1341360"/>
            <a:ext cx="6146640" cy="551664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5931000" y="1341360"/>
            <a:ext cx="3213000" cy="551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Розовый квар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1397160"/>
            <a:ext cx="9144000" cy="546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Самарски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1484280"/>
            <a:ext cx="9144000" cy="537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Родони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0" y="1341360"/>
            <a:ext cx="9144000" cy="551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Малахи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0" y="1413000"/>
            <a:ext cx="9144000" cy="544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456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203640" y="0"/>
            <a:ext cx="594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ральские горы – горы средней высоты (1000-1500м) Наивысшая точка – г. Народная, 1895 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203640" y="692280"/>
            <a:ext cx="5761080" cy="703800"/>
          </a:xfrm>
          <a:prstGeom prst="rect">
            <a:avLst/>
          </a:prstGeom>
          <a:solidFill>
            <a:srgbClr val="ccffcc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 высоте Урал разделен                                           на 5 природных районов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364000" y="2205000"/>
            <a:ext cx="3635640" cy="916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ярный Урал – 500-600м.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x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высота – г.Пайер – 1472 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932360" y="3213000"/>
            <a:ext cx="4033800" cy="916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полярный Урал – 1500-1600м.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x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высота – г. Народная – 1895 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572000" y="4221000"/>
            <a:ext cx="3960720" cy="916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еверный Урал – 1000-1500м.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x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высота – г.Телпозиз – 1617 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995640" y="5157720"/>
            <a:ext cx="4033800" cy="916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редний Урал – 500-700м.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x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высота – г.Качканар – 878 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19640" y="6093000"/>
            <a:ext cx="3960720" cy="916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Южный Урал – 1000-1500м.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x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высота – г.Ямантау – 1638 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564000" y="1413000"/>
            <a:ext cx="0" cy="4608360"/>
          </a:xfrm>
          <a:prstGeom prst="line">
            <a:avLst/>
          </a:prstGeom>
          <a:ln w="7632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140360" y="1413000"/>
            <a:ext cx="0" cy="3600360"/>
          </a:xfrm>
          <a:prstGeom prst="line">
            <a:avLst/>
          </a:prstGeom>
          <a:ln w="7632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716000" y="1413000"/>
            <a:ext cx="1800" cy="2663640"/>
          </a:xfrm>
          <a:prstGeom prst="line">
            <a:avLst/>
          </a:prstGeom>
          <a:ln w="7632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219640" y="1413000"/>
            <a:ext cx="0" cy="1800000"/>
          </a:xfrm>
          <a:prstGeom prst="line">
            <a:avLst/>
          </a:prstGeom>
          <a:ln w="7632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724360" y="1413000"/>
            <a:ext cx="0" cy="792000"/>
          </a:xfrm>
          <a:prstGeom prst="line">
            <a:avLst/>
          </a:prstGeom>
          <a:ln w="7632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Ага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1433520"/>
            <a:ext cx="9144000" cy="542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Яшм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1379520"/>
            <a:ext cx="9144000" cy="547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рокои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0" y="1341360"/>
            <a:ext cx="9144000" cy="551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Тодороки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1401840"/>
            <a:ext cx="9144000" cy="545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Хроми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0" y="1387440"/>
            <a:ext cx="9144000" cy="5470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Гёти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1268280"/>
            <a:ext cx="9144000" cy="5589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Шерл в сирицитовом сланц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1413000"/>
            <a:ext cx="9144000" cy="544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Арагони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4540320" y="1484280"/>
            <a:ext cx="4603680" cy="537372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0" y="1484280"/>
            <a:ext cx="5148360" cy="537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Гемати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0" y="1434960"/>
            <a:ext cx="9144000" cy="542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771280" y="0"/>
            <a:ext cx="619308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Клима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08000" y="0"/>
            <a:ext cx="2592360" cy="666900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2700360" y="3716280"/>
            <a:ext cx="2014560" cy="6476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едураль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859280" y="3716280"/>
            <a:ext cx="187164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ра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877080" y="3716280"/>
            <a:ext cx="22669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аураль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700360" y="4724280"/>
            <a:ext cx="2087640" cy="144144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ffff99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меренно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нтинентальны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 избыточны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влажнение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932360" y="4724280"/>
            <a:ext cx="1871640" cy="144144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ffff99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ысотна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яс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877080" y="4724280"/>
            <a:ext cx="2266920" cy="144144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ffff99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нтинентальны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 недостаточны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влажнени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916360" y="549360"/>
            <a:ext cx="597672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Изменяется с севера на юг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убарктическ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меренно-континентальный с избыточным увлажнени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нтинентальный с недостаточным увлажнени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843280" y="2565360"/>
            <a:ext cx="56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Барьерная роль г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492360" y="4365720"/>
            <a:ext cx="217800" cy="360360"/>
          </a:xfrm>
          <a:prstGeom prst="downArrow">
            <a:avLst>
              <a:gd name="adj1" fmla="val 50000"/>
              <a:gd name="adj2" fmla="val 41364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956720" y="4365720"/>
            <a:ext cx="217440" cy="360360"/>
          </a:xfrm>
          <a:prstGeom prst="downArrow">
            <a:avLst>
              <a:gd name="adj1" fmla="val 50000"/>
              <a:gd name="adj2" fmla="val 41432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724360" y="4365720"/>
            <a:ext cx="217800" cy="360360"/>
          </a:xfrm>
          <a:prstGeom prst="downArrow">
            <a:avLst>
              <a:gd name="adj1" fmla="val 50000"/>
              <a:gd name="adj2" fmla="val 41364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627280" y="3284640"/>
            <a:ext cx="6516720" cy="4316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ЛИМА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036000" cy="68580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56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Высотная поясность Ура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1125360"/>
            <a:ext cx="8713800" cy="573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арагра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анализировать тематические карты атласа  по населению региона (с.10-19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Выписать в тетрадь информацию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обенности естественного прироста населения (Р,С и Епр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ловой и возрастной состав населения. Демографическая нагрузка насел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играции, уровень жизни насе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нический и религиозный состав насе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формулировать общие выво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643280" cy="6669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5003640" y="189000"/>
            <a:ext cx="3708720" cy="70380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ffcc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ельеф Уральского экономического райо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43280" y="1557360"/>
            <a:ext cx="1152720" cy="86364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ffff99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усс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авн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596360" y="1557360"/>
            <a:ext cx="1368360" cy="86364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ffff99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падно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ибирс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вн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940360" y="1557360"/>
            <a:ext cx="1440000" cy="86364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ffff99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ральск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о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907920"/>
            <a:ext cx="144360" cy="649440"/>
          </a:xfrm>
          <a:prstGeom prst="downArrow">
            <a:avLst>
              <a:gd name="adj1" fmla="val 50000"/>
              <a:gd name="adj2" fmla="val 112469"/>
            </a:avLst>
          </a:prstGeom>
          <a:gradFill rotWithShape="0">
            <a:gsLst>
              <a:gs pos="0">
                <a:srgbClr val="ffcc99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588000" y="907920"/>
            <a:ext cx="144720" cy="649440"/>
          </a:xfrm>
          <a:prstGeom prst="downArrow">
            <a:avLst>
              <a:gd name="adj1" fmla="val 50000"/>
              <a:gd name="adj2" fmla="val 112189"/>
            </a:avLst>
          </a:prstGeom>
          <a:gradFill rotWithShape="0">
            <a:gsLst>
              <a:gs pos="0">
                <a:srgbClr val="ffcc99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8101080" y="907920"/>
            <a:ext cx="142920" cy="649440"/>
          </a:xfrm>
          <a:prstGeom prst="downArrow">
            <a:avLst>
              <a:gd name="adj1" fmla="val 50000"/>
              <a:gd name="adj2" fmla="val 113602"/>
            </a:avLst>
          </a:prstGeom>
          <a:gradFill rotWithShape="0">
            <a:gsLst>
              <a:gs pos="0">
                <a:srgbClr val="ffcc99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535640" y="2492280"/>
            <a:ext cx="460836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усская равнина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Верхнекамская возвышеннос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Бугульминско-Белебеевская возвыш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Общий Сыр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643280" y="5516640"/>
            <a:ext cx="3888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 Западно-Сибирская равнин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Кондинская низмен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Ишимская равн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72000" y="4005360"/>
            <a:ext cx="374328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Уральские горы: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еверный Урал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редний Урал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Южный Урал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5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643280" cy="66690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5003640" y="189000"/>
            <a:ext cx="3708720" cy="70380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ffcc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ельеф Уральского экономического райо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43280" y="1700280"/>
            <a:ext cx="1152720" cy="86364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ffff99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усс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авн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596360" y="1700280"/>
            <a:ext cx="1368360" cy="86364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ffff99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падно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ибирс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вн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12000" y="1700280"/>
            <a:ext cx="1439640" cy="86364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ffff99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ральск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о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076720" y="907920"/>
            <a:ext cx="216000" cy="792360"/>
          </a:xfrm>
          <a:prstGeom prst="downArrow">
            <a:avLst>
              <a:gd name="adj1" fmla="val 50000"/>
              <a:gd name="adj2" fmla="val 91708"/>
            </a:avLst>
          </a:prstGeom>
          <a:gradFill rotWithShape="0">
            <a:gsLst>
              <a:gs pos="0">
                <a:srgbClr val="ffcc99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516720" y="907920"/>
            <a:ext cx="216000" cy="792360"/>
          </a:xfrm>
          <a:prstGeom prst="downArrow">
            <a:avLst>
              <a:gd name="adj1" fmla="val 50000"/>
              <a:gd name="adj2" fmla="val 91708"/>
            </a:avLst>
          </a:prstGeom>
          <a:gradFill rotWithShape="0">
            <a:gsLst>
              <a:gs pos="0">
                <a:srgbClr val="ffcc99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8101080" y="907920"/>
            <a:ext cx="216000" cy="792360"/>
          </a:xfrm>
          <a:prstGeom prst="downArrow">
            <a:avLst>
              <a:gd name="adj1" fmla="val 50000"/>
              <a:gd name="adj2" fmla="val 91708"/>
            </a:avLst>
          </a:prstGeom>
          <a:gradFill rotWithShape="0">
            <a:gsLst>
              <a:gs pos="0">
                <a:srgbClr val="ffcc99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3141720"/>
            <a:ext cx="1297080" cy="107928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ffcc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усс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латфор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940360" y="3141720"/>
            <a:ext cx="1584360" cy="107928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ffcc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ла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ерцинск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кладчат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667640" y="3141720"/>
            <a:ext cx="1297080" cy="107928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ffcc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падно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ибирска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латфор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00720" y="4581360"/>
            <a:ext cx="1439640" cy="2160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лез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скопаем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алегаю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 чехл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латфор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940360" y="4581360"/>
            <a:ext cx="1656000" cy="2160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ез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копаем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легают 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гматически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метаморфи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еских гор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род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596360" y="4581360"/>
            <a:ext cx="1547640" cy="2160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лез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скопаем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алегаю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 чехл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латфор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8101080" y="2565360"/>
            <a:ext cx="216000" cy="576360"/>
          </a:xfrm>
          <a:prstGeom prst="downArrow">
            <a:avLst>
              <a:gd name="adj1" fmla="val 50000"/>
              <a:gd name="adj2" fmla="val 66708"/>
            </a:avLst>
          </a:prstGeom>
          <a:gradFill rotWithShape="0">
            <a:gsLst>
              <a:gs pos="0">
                <a:srgbClr val="ffcc99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076720" y="2565360"/>
            <a:ext cx="216000" cy="576360"/>
          </a:xfrm>
          <a:prstGeom prst="downArrow">
            <a:avLst>
              <a:gd name="adj1" fmla="val 50000"/>
              <a:gd name="adj2" fmla="val 66708"/>
            </a:avLst>
          </a:prstGeom>
          <a:gradFill rotWithShape="0">
            <a:gsLst>
              <a:gs pos="0">
                <a:srgbClr val="ffcc99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659640" y="2565360"/>
            <a:ext cx="216000" cy="576360"/>
          </a:xfrm>
          <a:prstGeom prst="downArrow">
            <a:avLst>
              <a:gd name="adj1" fmla="val 50000"/>
              <a:gd name="adj2" fmla="val 66708"/>
            </a:avLst>
          </a:prstGeom>
          <a:gradFill rotWithShape="0">
            <a:gsLst>
              <a:gs pos="0">
                <a:srgbClr val="ffcc99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003640" y="4221000"/>
            <a:ext cx="216000" cy="360360"/>
          </a:xfrm>
          <a:prstGeom prst="downArrow">
            <a:avLst>
              <a:gd name="adj1" fmla="val 50000"/>
              <a:gd name="adj2" fmla="val 41708"/>
            </a:avLst>
          </a:prstGeom>
          <a:gradFill rotWithShape="0">
            <a:gsLst>
              <a:gs pos="0">
                <a:srgbClr val="ffcc99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244000" y="4221000"/>
            <a:ext cx="215640" cy="360360"/>
          </a:xfrm>
          <a:prstGeom prst="downArrow">
            <a:avLst>
              <a:gd name="adj1" fmla="val 50000"/>
              <a:gd name="adj2" fmla="val 41778"/>
            </a:avLst>
          </a:prstGeom>
          <a:gradFill rotWithShape="0">
            <a:gsLst>
              <a:gs pos="0">
                <a:srgbClr val="ffcc99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588000" y="4221000"/>
            <a:ext cx="216000" cy="360360"/>
          </a:xfrm>
          <a:prstGeom prst="downArrow">
            <a:avLst>
              <a:gd name="adj1" fmla="val 50000"/>
              <a:gd name="adj2" fmla="val 41708"/>
            </a:avLst>
          </a:prstGeom>
          <a:gradFill rotWithShape="0">
            <a:gsLst>
              <a:gs pos="0">
                <a:srgbClr val="ffcc99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Ресурс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50560" y="1196640"/>
            <a:ext cx="889308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инеральные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пливно-энергетические (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нефть, газ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торф,каменный уголь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удные (железные рулы, медно-никелевые, алюминиевые), но они истоще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 Гидроэнергетические – Кама, Урал, Чусовая, Сосьва и другие (рек много, но большинство из них – это верховья рек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есные ресурсы Пермской и Свердловской област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чвенные ресурсы Бошкортостана, Оренбургской, Челябинской и Курганской област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креационные ресурсы (минеральные воды, природа, археологические памятники и т.д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Алмаз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1484280"/>
            <a:ext cx="9144000" cy="537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Изумруд в сланц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1268280"/>
            <a:ext cx="9144000" cy="5589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2T09:07:18Z</dcterms:created>
  <dc:creator>Miheeva</dc:creator>
  <dc:description/>
  <dc:language>en-US</dc:language>
  <cp:lastModifiedBy>Miheeva</cp:lastModifiedBy>
  <dcterms:modified xsi:type="dcterms:W3CDTF">2011-08-30T09:51:00Z</dcterms:modified>
  <cp:revision>8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821f0000000000010243100207f6000400038000</vt:lpwstr>
  </property>
</Properties>
</file>