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5307-47DA-43A8-B764-2A1D7105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38D-5451-4388-A322-47B8CF8C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C21-8162-480C-BE3A-F57AFEF9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668-7421-46C3-A098-C74D94F1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ABB-4C0A-4552-BD80-C4F5BD5B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7CE-0366-44E2-9EE3-FC3C6051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FEF-470D-4025-BAD6-94A7EB7C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167-8E67-4A39-93A1-D3DCD98A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D09-7AC8-4B42-9DC8-F4E81DEB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D3F-75E2-4964-A6FC-6F701DB1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1DF-2DB5-4334-9D02-EA5093C6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BA2-0E25-45E2-876A-45D10B5E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1DD133-8F36-4C0B-954D-0D7A7087CA7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2040" y="12600"/>
            <a:ext cx="10231560" cy="231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взолей Хусейн-Бека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27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итаемая мусульманами святыня была возведена в первой половине 14-го века, а в 18-19 веках была превращена временем в ру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11 году было принято решение о восстановлени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от история создания памятника: "К 1393-1394 гг. среднеазиатский завоеватель Тамерлан, продвигавшийся со своей ордой на Москв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новился у Акзирата. Башкирский хан, чтобы не вступить в конфликт с грозным завоевателем, оказал «железному хромцу» щедр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теприимство. Тамерлан, учитывая, что Хусейн-Бек, также как он, выходец из Туркестана, а его святость была известна в арабском мир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я возвеличить своего земляка, решил воздвигнуть над его могилой мавзолей."</a:t>
            </a:r>
            <a:br>
              <a:rPr sz="1200"/>
            </a:b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linkme.ufanet.ru/images/555138ca4b74da868d263ed26a09d0f3.jpg"/>
          <p:cNvPicPr/>
          <p:nvPr/>
        </p:nvPicPr>
        <p:blipFill>
          <a:blip r:embed="rId1"/>
          <a:stretch/>
        </p:blipFill>
        <p:spPr>
          <a:xfrm>
            <a:off x="1143000" y="1809720"/>
            <a:ext cx="735768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48600" y="18000"/>
            <a:ext cx="10528920" cy="368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рендыкский медведь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7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ивительный золотой самородок называют Ирендекский медведь. Формой он действи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оминает мишку. Весит бесценный слиток почти пять килограммов! Как гласит легенда, эт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иток башкиры передали в 1557 году Ивану Грозному в знак уважения, но по дороге на об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али разбойники. Кому-то из стрельцов удалось закопать слиток в землю, где он и пролеж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400 лет. Самородок золота весом 4 кг 788 граммов найден механизатором совх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рендыкский» Р.И.Утягуловым при вспашке земли в 1992 у деревни Кусеев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химическому составу представляет собой платинисто-иридисто-палладистое золото высо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ы. Слиток является национальным достоянием Российской Федерации и Республ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шкортостан и хранится в Национальном Банке республик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linkme.ufanet.ru/images/0398a078c0c95de28ae9898dcf9754b3.jpg"/>
          <p:cNvPicPr/>
          <p:nvPr/>
        </p:nvPicPr>
        <p:blipFill>
          <a:blip r:embed="rId1"/>
          <a:stretch/>
        </p:blipFill>
        <p:spPr>
          <a:xfrm>
            <a:off x="785880" y="3143160"/>
            <a:ext cx="7358760" cy="344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51120" y="18000"/>
            <a:ext cx="10230120" cy="368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еро Аракуль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7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75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еро Аракуль ("дальнее озеро"), расположенное в Челябинской области, находится меж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, интересно своей природой и богатой «рыбной» историей. Интересно отметить, что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берегах Аракуля произрастают в основном сосна и лиственница, то на остр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лся настоящий дендрарий. Кроме хвойных, здесь представлены разнообраз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венные поро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лепны аракульские пейзажи, открывающиеся с горы Шихан. Озеро на фоне го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женное со всех сторон лесом, сверкает, словно изумруд. В 1969 году Аракуль объя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ом приро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linkme.ufanet.ru/images/22e90340441e2cb8f9a5b009ad3b6bbf.jpg"/>
          <p:cNvPicPr/>
          <p:nvPr/>
        </p:nvPicPr>
        <p:blipFill>
          <a:blip r:embed="rId1"/>
          <a:stretch/>
        </p:blipFill>
        <p:spPr>
          <a:xfrm>
            <a:off x="-785880" y="2857320"/>
            <a:ext cx="5714640" cy="4285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http://linkme.ufanet.ru/images/bc73448395470a894c43bf1f6988323a.jpg"/>
          <p:cNvPicPr/>
          <p:nvPr/>
        </p:nvPicPr>
        <p:blipFill>
          <a:blip r:embed="rId2"/>
          <a:stretch/>
        </p:blipFill>
        <p:spPr>
          <a:xfrm>
            <a:off x="4929120" y="3071880"/>
            <a:ext cx="6170400" cy="37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48960" y="10080"/>
            <a:ext cx="10507320" cy="2041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ница Европы и Азии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9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чательно географическое положение Башкортостана - это граница между частями с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ропой и Ази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альских горах стоит мемориальная стела, символизирующая границу двух контин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Европы и Азии. Климат здесь непредсказуем - можно перебраться через небольшой перев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 Азии в Европу - и из солнечной погоды тут же попасть под дож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linkme.ufanet.ru/images/8d57dfe5c48daf4ead647ffc6dc5af87.jpg"/>
          <p:cNvPicPr/>
          <p:nvPr/>
        </p:nvPicPr>
        <p:blipFill>
          <a:blip r:embed="rId1"/>
          <a:stretch/>
        </p:blipFill>
        <p:spPr>
          <a:xfrm>
            <a:off x="2571840" y="2000160"/>
            <a:ext cx="57146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1991160" y="-471600"/>
            <a:ext cx="5161320" cy="94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галитический комплекс в селе Ахуново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2286000" y="310572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70200" y="23400"/>
            <a:ext cx="10774440" cy="404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га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ческий комплекс в селе Ахунов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 был обнаружен в 1996 году этнографической группой Челябинского государствен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ниверситета. Памятник включает в себя 13 менгиров высотой от 70 до 200 сантиметров. Скор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го, наши предки использовали менгиры для ведения календаря. Также они могли применя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олнечные часы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инственным аналогом по структуре, материалу и количеству наблюдаемых объектов мегалитиче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а является только знаменитый английский Стоунхендж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ходе раскопок в районе менгиров были обнаружены многочисленные фрагменты керами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ом числ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алы верхних и нижних частей сосудов. Кроме того, обнаружены кости лошади, круп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мелкого рогатого скота. Некоторые из них обожжены. Таким образом, полученные данные позволя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атривать мегалитический памятник Ахуново не только как древний культовый комплекс, но и как од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наиболее крупных по количеству наблюдаемых астрономических событий древнюю обсерваторию Евразии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http://linkme.ufanet.ru/images/c6271b909e6add963a34880566ac0d7d.jpg"/>
          <p:cNvPicPr/>
          <p:nvPr/>
        </p:nvPicPr>
        <p:blipFill>
          <a:blip r:embed="rId1"/>
          <a:stretch/>
        </p:blipFill>
        <p:spPr>
          <a:xfrm>
            <a:off x="3929040" y="3643200"/>
            <a:ext cx="48337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64800" y="16200"/>
            <a:ext cx="9375120" cy="282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ремельские окресност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ремель означает «Священная гора». Иремель, величественный и вместе с тем гостеприим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хож на великое здание — памятник красоте, сооруженный самой природой. Кроме того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ремельских окрестностях имеется река Иремель, на которой начиная с 17 века мыли золот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сих пор в лесах встречается много шурфов от небольших до настоящих выработок. Врем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чной работы прошли, и на смену им пришла техника, а вместе с ней - горы вывороченой 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на реки породы. Там и сейчас еще остались вагончики и останки техники. </a:t>
            </a:r>
            <a:br>
              <a:rPr sz="18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linkme.ufanet.ru/images/db0f00f474a6bd57d73043dc63196516.jpg"/>
          <p:cNvPicPr/>
          <p:nvPr/>
        </p:nvPicPr>
        <p:blipFill>
          <a:blip r:embed="rId1"/>
          <a:stretch/>
        </p:blipFill>
        <p:spPr>
          <a:xfrm>
            <a:off x="0" y="2357280"/>
            <a:ext cx="5714640" cy="3809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ttp://linkme.ufanet.ru/images/f06a5b4700a4ed13d3547b9b74b95d0b.jpg"/>
          <p:cNvPicPr/>
          <p:nvPr/>
        </p:nvPicPr>
        <p:blipFill>
          <a:blip r:embed="rId2"/>
          <a:stretch/>
        </p:blipFill>
        <p:spPr>
          <a:xfrm>
            <a:off x="4690800" y="4000680"/>
            <a:ext cx="4452840" cy="28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51840" y="11520"/>
            <a:ext cx="10554840" cy="23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 Салавату Юлаеву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6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Уфе есть памятник Салавату Юлаеву работы скульптора Тавасиева. Изображение эт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а попало на герб Башкортостана. Именем Салавата Юлаева названы проспект в Уф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 Салават, Салаватский район, хоккейный клуб «Салават Юлаев», многочис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и, предприятия, улицы городов и сел республи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ават Юлаев - башкирский национальный герой, участник Крестьянской войны 1773—1775 гг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движник Емельяна Пугачёва, поэт-импровиза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linkme.ufanet.ru/images/4fb5ede6cced1145b8d7adcddef8aff5.jpg"/>
          <p:cNvPicPr/>
          <p:nvPr/>
        </p:nvPicPr>
        <p:blipFill>
          <a:blip r:embed="rId1"/>
          <a:stretch/>
        </p:blipFill>
        <p:spPr>
          <a:xfrm>
            <a:off x="1571760" y="2286000"/>
            <a:ext cx="6939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53280" y="11520"/>
            <a:ext cx="11291040" cy="23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 Белая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7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а Белая на Южном Урале - одна из красивейших рек России, и к тому же хорошо течет и 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м н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 иных препятствий, кроме мелей и перекатов, благодаря чему очень хороша для спла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Места на реке Белой известеы своей красотой: скалистый, с обрывами, гротами и множеством пещ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linkme.ufanet.ru/images/2e978f185083b04836bb7e56d58ca9a7.jpg"/>
          <p:cNvPicPr/>
          <p:nvPr/>
        </p:nvPicPr>
        <p:blipFill>
          <a:blip r:embed="rId1"/>
          <a:stretch/>
        </p:blipFill>
        <p:spPr>
          <a:xfrm>
            <a:off x="1643040" y="1767960"/>
            <a:ext cx="6643440" cy="49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88560" y="12600"/>
            <a:ext cx="19393920" cy="259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ханы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3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ханы - самый высокий скальный массив Среднего Урала. Эти горы - уникаль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вторимый памятник геологических процессов в Приуралье. В древности на месте Башки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лось море, а Шиханы были рифами. По сей день они хранят на себе отпечатки моллюсков. В скоплении окаменелостей можно найти остатки кораллов, губок и водоросл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абсолютно уникальный в планетарном масштабе объект, подобных морских объектов в ми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нет. У их подножия Шихан лежит одно из живописнейших уральских озер - Аракуль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linkme.ufanet.ru/images/31d1dad1e4e52a06fd17c343d936f24d.jpg"/>
          <p:cNvPicPr/>
          <p:nvPr/>
        </p:nvPicPr>
        <p:blipFill>
          <a:blip r:embed="rId1"/>
          <a:stretch/>
        </p:blipFill>
        <p:spPr>
          <a:xfrm>
            <a:off x="1214280" y="2016360"/>
            <a:ext cx="7429320" cy="48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62280" y="16200"/>
            <a:ext cx="9478800" cy="282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опад Атыш (стреляющий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опад образован подземной речкой, проделывающей большой путь в недрах. В отличие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ычны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опадов, он низвергается из входного отверстия карстовой пещеры, расположенной в отвес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ле. С высоты более 4-х метров, поток воды вытекает из глубокого грота, внутри которого 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ьёт мощн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ходящей струёй. Падающая вода выработала огромный водобойный котел. Подоб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стовые водопады известны, но ни один из них не образует отвесного столба падающей воды.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linkme.ufanet.ru/images/2ee30ca2c2da889f3c01ae80cdbfb9cf.jpg"/>
          <p:cNvPicPr/>
          <p:nvPr/>
        </p:nvPicPr>
        <p:blipFill>
          <a:blip r:embed="rId1"/>
          <a:stretch/>
        </p:blipFill>
        <p:spPr>
          <a:xfrm>
            <a:off x="1500120" y="2215440"/>
            <a:ext cx="6217200" cy="46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61560" y="20520"/>
            <a:ext cx="9579600" cy="3559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пова пещер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пова пещера, одна из крупнейших пещер на Южном Урал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как заумно её описывают учёные: "Это - карстовая пещера, выработанная подзем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ами в каменноугольных известняках массива Шульган-Таш, образующих крупную синклин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ридионального простирания."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есь сохранилась уникальная для России палеолитическая живопись - изображения мамон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шадей, носорогов, быков и абстрактных фигур, выполненные красной охро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я то, что Капова пещера является одновременно уникальным природным и культур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ником, рекомендуется поставить Капову пещеру на контроль в ЮНЕСКО в фонд "Сокровищ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ловечества".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linkme.ufanet.ru/images/af1bf986bc5cb30b76a880a9bf23fe87.jpg"/>
          <p:cNvPicPr/>
          <p:nvPr/>
        </p:nvPicPr>
        <p:blipFill>
          <a:blip r:embed="rId1"/>
          <a:stretch/>
        </p:blipFill>
        <p:spPr>
          <a:xfrm>
            <a:off x="-642960" y="3000240"/>
            <a:ext cx="5714640" cy="3580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http://linkme.ufanet.ru/images/5b7d5a5c9f233c5f50ad2d8541ef40af.jpg"/>
          <p:cNvPicPr/>
          <p:nvPr/>
        </p:nvPicPr>
        <p:blipFill>
          <a:blip r:embed="rId2"/>
          <a:stretch/>
        </p:blipFill>
        <p:spPr>
          <a:xfrm>
            <a:off x="4381560" y="3648240"/>
            <a:ext cx="4762080" cy="32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52200" y="16560"/>
            <a:ext cx="10236240" cy="341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четь Ля-Ля Тюльпан</a:t>
            </a:r>
            <a:br>
              <a:rPr sz="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6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еть Ля-Ля Тюльпан построена в мусульманском центре России– Уфе. Это уникальней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овая постройка не имеет аналогов в мире. Работа мечети направлена на укре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й двух религиозных конфесс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еть Ля-Ля Тюльпан выполняет несколько функций одновременно. Это и образовате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е, и мусульманский храм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о собраний мусульманских религиозных деятелей. Мечеть в настоящее время яв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оящим достоянием города Уфы и всей Башкир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кальным культовым строением, главной достопримечательностью город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linkme.ufanet.ru/images/4cf299e3116cbffaa83064b5e5d5ba08.jpg"/>
          <p:cNvPicPr/>
          <p:nvPr/>
        </p:nvPicPr>
        <p:blipFill>
          <a:blip r:embed="rId1"/>
          <a:stretch/>
        </p:blipFill>
        <p:spPr>
          <a:xfrm>
            <a:off x="2428920" y="2786040"/>
            <a:ext cx="4571640" cy="40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  <Words>38</Words>
  <Paragraphs>71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3:33:40Z</dcterms:created>
  <dc:creator>Руслан</dc:creator>
  <dc:description/>
  <dc:language>en-US</dc:language>
  <cp:lastModifiedBy>Руслан</cp:lastModifiedBy>
  <dcterms:modified xsi:type="dcterms:W3CDTF">2012-09-05T14:20:14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662023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  <property fmtid="{D5CDD505-2E9C-101B-9397-08002B2CF9AE}" pid="5" name="PresentationFormat">
    <vt:lpwstr>Экран (4:3)</vt:lpwstr>
  </property>
  <property fmtid="{D5CDD505-2E9C-101B-9397-08002B2CF9AE}" pid="6" name="Slides">
    <vt:r8>12</vt:r8>
  </property>
</Properties>
</file>