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B7E-5197-4757-BA09-A48406CD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E38-5126-4CFC-962B-47E231E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1ED-AAEB-4A66-812E-A5076C2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48A-9BB9-4B53-9A10-9D3E56E6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858-39AD-4305-BD00-0465F9F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85E-9515-413D-B038-DF9F43D2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2FE-59B5-430B-BC26-DD1397D6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4A9-EDDF-40E6-A5A5-D851C6C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A09-F46E-4ED5-ACD3-C817C3E2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024-4779-4429-AE94-BB35A31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7A3-6B79-4874-BB4E-D73734F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246-4A4C-4824-91AE-D1E49820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3F90E6-0FCA-45D4-8694-6A9809682C3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2040" y="12600"/>
            <a:ext cx="10231560" cy="231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взолей Хусейн-Бека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7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итаемая мусульманами святыня была возведена в первой половине 14-го века, а в 18-19 веках была превращена временем в ру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11 году было принято решение о восстановле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история создания памятника: "К 1393-1394 гг. среднеазиатский завоеватель Тамерлан, продвигавшийся со своей ордой на Москв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овился у Акзирата. Башкирский хан, чтобы не вступить в конфликт с грозным завоевателем, оказал «железному хромцу» щед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теприимство. Тамерлан, учитывая, что Хусейн-Бек, также как он, выходец из Туркестана, а его святость была известна в арабском мир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я возвеличить своего земляка, решил воздвигнуть над его могилой мавзолей."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linkme.ufanet.ru/images/555138ca4b74da868d263ed26a09d0f3.jpg"/>
          <p:cNvPicPr/>
          <p:nvPr/>
        </p:nvPicPr>
        <p:blipFill>
          <a:blip r:embed="rId1"/>
          <a:stretch/>
        </p:blipFill>
        <p:spPr>
          <a:xfrm>
            <a:off x="1143000" y="1809720"/>
            <a:ext cx="73576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8600" y="18000"/>
            <a:ext cx="105289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ендыкский медвед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7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ый золотой самородок называют Ирендекский медведь. Формой он действ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ет мишку. Весит бесценный слиток почти пять килограммов! Как гласит легенда,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ток башкиры передали в 1557 году Ивану Грозному в знак уважения, но по дороге на об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али разбойники. Кому-то из стрельцов удалось закопать слиток в землю, где он и проле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400 лет. Самородок золота весом 4 кг 788 граммов найден механизатором совх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рендыкский» Р.И.Утягуловым при вспашке земли в 1992 у деревни Кусее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имическому составу представляет собой платинисто-иридисто-палладистое золото выс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ы. Слиток является национальным достоянием Российской Федерации и Республ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кортостан и хранится в Национальном Банке республи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linkme.ufanet.ru/images/0398a078c0c95de28ae9898dcf9754b3.jpg"/>
          <p:cNvPicPr/>
          <p:nvPr/>
        </p:nvPicPr>
        <p:blipFill>
          <a:blip r:embed="rId1"/>
          <a:stretch/>
        </p:blipFill>
        <p:spPr>
          <a:xfrm>
            <a:off x="785880" y="3143160"/>
            <a:ext cx="7358760" cy="344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1120" y="18000"/>
            <a:ext cx="102301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Аракул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5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еро Аракуль ("дальнее озеро"), расположенное в Челябинской области, находится 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, интересно своей природой и богатой «рыбной» историей. Интересно отметить, что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берегах Аракуля произрастают в основном сосна и лиственница, то на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лся настоящий дендрарий. Кроме хвойных, здесь представлены разн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ые поро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ы аракульские пейзажи, открывающиеся с горы Шихан. Озеро на фоне г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енное со всех сторон лесом, сверкает, словно изумруд. В 1969 году Аракуль объя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ом приро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linkme.ufanet.ru/images/22e90340441e2cb8f9a5b009ad3b6bbf.jpg"/>
          <p:cNvPicPr/>
          <p:nvPr/>
        </p:nvPicPr>
        <p:blipFill>
          <a:blip r:embed="rId1"/>
          <a:stretch/>
        </p:blipFill>
        <p:spPr>
          <a:xfrm>
            <a:off x="-785880" y="2857320"/>
            <a:ext cx="5714640" cy="42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ttp://linkme.ufanet.ru/images/bc73448395470a894c43bf1f6988323a.jpg"/>
          <p:cNvPicPr/>
          <p:nvPr/>
        </p:nvPicPr>
        <p:blipFill>
          <a:blip r:embed="rId2"/>
          <a:stretch/>
        </p:blipFill>
        <p:spPr>
          <a:xfrm>
            <a:off x="4929120" y="3071880"/>
            <a:ext cx="617040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8960" y="10080"/>
            <a:ext cx="10507320" cy="204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 Европы и Азии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9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тельно географическое положение Башкортостана - это граница между частями с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ой и Ази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альских горах стоит мемориальная стела, символизирующая границу двух конти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вропы и Азии. Климат здесь непредсказуем - можно перебраться через небольшой пере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 Азии в Европу - и из солнечной погоды тут же попасть под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linkme.ufanet.ru/images/8d57dfe5c48daf4ead647ffc6dc5af87.jpg"/>
          <p:cNvPicPr/>
          <p:nvPr/>
        </p:nvPicPr>
        <p:blipFill>
          <a:blip r:embed="rId1"/>
          <a:stretch/>
        </p:blipFill>
        <p:spPr>
          <a:xfrm>
            <a:off x="2571840" y="2000160"/>
            <a:ext cx="57146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991160" y="-471600"/>
            <a:ext cx="5161320" cy="94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тический комплекс в селе Ахуново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286000" y="31057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0200" y="23400"/>
            <a:ext cx="10774440" cy="40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ческий комплекс в селе Ахунов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был обнаружен в 1996 году этнографической группой Челябинского государ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верситета. Памятник включает в себя 13 менгиров высотой от 70 до 200 сантиметров. Скор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о, наши предки использовали менгиры для ведения календаря. Также они могли приме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лнечные ча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ственным аналогом по структуре, материалу и количеству наблюдаемых объектов мегалит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а является только знаменитый английский Стоунхендж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раскопок в районе менгиров были обнаружены многочисленные фрагменты керами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алы верхних и нижних частей сосудов. Кроме того, обнаружены кости лошади, круп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мелкого рогатого скота. Некоторые из них обожжены. Таким образом, полученные данные позвол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атривать мегалитический памятник Ахуново не только как древний культовый комплекс, но и как од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наиболее крупных по количеству наблюдаемых астрономических событий древнюю обсерваторию Еврази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linkme.ufanet.ru/images/c6271b909e6add963a34880566ac0d7d.jpg"/>
          <p:cNvPicPr/>
          <p:nvPr/>
        </p:nvPicPr>
        <p:blipFill>
          <a:blip r:embed="rId1"/>
          <a:stretch/>
        </p:blipFill>
        <p:spPr>
          <a:xfrm>
            <a:off x="3929040" y="3643200"/>
            <a:ext cx="4833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4800" y="16200"/>
            <a:ext cx="937512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е окрес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 означает «Священная гора». Иремель, величественный и вместе с тем гостеприи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хож на великое здание — памятник красоте, сооруженный самой природой. Кроме того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х окрестностях имеется река Иремель, на которой начиная с 17 века мыли золо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сих пор в лесах встречается много шурфов от небольших до настоящих выработок. Вр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й работы прошли, и на смену им пришла техника, а вместе с ней - горы вывороченой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а реки породы. Там и сейчас еще остались вагончики и останки техники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linkme.ufanet.ru/images/db0f00f474a6bd57d73043dc63196516.jpg"/>
          <p:cNvPicPr/>
          <p:nvPr/>
        </p:nvPicPr>
        <p:blipFill>
          <a:blip r:embed="rId1"/>
          <a:stretch/>
        </p:blipFill>
        <p:spPr>
          <a:xfrm>
            <a:off x="0" y="2357280"/>
            <a:ext cx="5714640" cy="380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linkme.ufanet.ru/images/f06a5b4700a4ed13d3547b9b74b95d0b.jpg"/>
          <p:cNvPicPr/>
          <p:nvPr/>
        </p:nvPicPr>
        <p:blipFill>
          <a:blip r:embed="rId2"/>
          <a:stretch/>
        </p:blipFill>
        <p:spPr>
          <a:xfrm>
            <a:off x="4690800" y="4000680"/>
            <a:ext cx="4452840" cy="28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1840" y="11520"/>
            <a:ext cx="105548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Салавату Юлаеву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фе есть памятник Салавату Юлаеву работы скульптора Тавасиева. Изображение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а попало на герб Башкортостана. Именем Салавата Юлаева названы проспект в Уф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Салават, Салаватский район, хоккейный клуб «Салават Юлаев», многочис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, предприятия, улицы городов и сел республ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ват Юлаев - башкирский национальный герой, участник Крестьянской войны 1773—1775 г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движник Емельяна Пугачёва, поэт-импровиза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linkme.ufanet.ru/images/4fb5ede6cced1145b8d7adcddef8aff5.jpg"/>
          <p:cNvPicPr/>
          <p:nvPr/>
        </p:nvPicPr>
        <p:blipFill>
          <a:blip r:embed="rId1"/>
          <a:stretch/>
        </p:blipFill>
        <p:spPr>
          <a:xfrm>
            <a:off x="1571760" y="2286000"/>
            <a:ext cx="693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3280" y="11520"/>
            <a:ext cx="112910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Белая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Белая на Южном Урале - одна из красивейших рек России, и к тому же хорошо течет и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 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иных препятствий, кроме мелей и перекатов, благодаря чему очень хороша для спл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еста на реке Белой известеы своей красотой: скалистый, с обрывами, гротами и множеством пещ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linkme.ufanet.ru/images/2e978f185083b04836bb7e56d58ca9a7.jpg"/>
          <p:cNvPicPr/>
          <p:nvPr/>
        </p:nvPicPr>
        <p:blipFill>
          <a:blip r:embed="rId1"/>
          <a:stretch/>
        </p:blipFill>
        <p:spPr>
          <a:xfrm>
            <a:off x="1643040" y="1767960"/>
            <a:ext cx="6643440" cy="49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8560" y="12600"/>
            <a:ext cx="19393920" cy="259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ханы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3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ханы - самый высокий скальный массив Среднего Урала. Эти горы - уник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вторимый памятник геологических процессов в Приуралье. В древности на месте Башки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лось море, а Шиханы были рифами. По сей день они хранят на себе отпечатки моллюсков. В скоплении окаменелостей можно найти остатки кораллов, губок и водорос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абсолютно уникальный в планетарном масштабе объект, подобных морских объектов 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нет. У их подножия Шихан лежит одно из живописнейших уральских озер - Аракул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linkme.ufanet.ru/images/31d1dad1e4e52a06fd17c343d936f24d.jpg"/>
          <p:cNvPicPr/>
          <p:nvPr/>
        </p:nvPicPr>
        <p:blipFill>
          <a:blip r:embed="rId1"/>
          <a:stretch/>
        </p:blipFill>
        <p:spPr>
          <a:xfrm>
            <a:off x="1214280" y="2016360"/>
            <a:ext cx="7429320" cy="48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2280" y="16200"/>
            <a:ext cx="947880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Атыш (стреляющи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образован подземной речкой, проделывающей большой путь в недрах. В отличие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ов, он низвергается из входного отверстия карстовой пещеры, расположенной в от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ле. С высоты более 4-х метров, поток воды вытекает из глубокого грота, внутри которого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ьёт мощ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ходящей струёй. Падающая вода выработала огромный водобойный котел. Подоб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стовые водопады известны, но ни один из них не образует отвесного столба падающей воды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linkme.ufanet.ru/images/2ee30ca2c2da889f3c01ae80cdbfb9cf.jpg"/>
          <p:cNvPicPr/>
          <p:nvPr/>
        </p:nvPicPr>
        <p:blipFill>
          <a:blip r:embed="rId1"/>
          <a:stretch/>
        </p:blipFill>
        <p:spPr>
          <a:xfrm>
            <a:off x="1500120" y="2215440"/>
            <a:ext cx="621720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61560" y="20520"/>
            <a:ext cx="9579600" cy="355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, одна из крупнейших пещер на Южном Ура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как заумно её описывают учёные: "Это - карстовая пещера, выработанная подзем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ми в каменноугольных известняках массива Шульган-Таш, образующих крупную синклин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ридионального простирания."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сохранилась уникальная для России палеолитическая живопись - изображения мамо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шадей, носорогов, быков и абстрактных фигур, выполненные красной охр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я то, что Капова пещера является одновременно уникальным природным и культур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ом, рекомендуется поставить Капову пещеру на контроль в ЮНЕСКО в фонд "Сокров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ства"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linkme.ufanet.ru/images/af1bf986bc5cb30b76a880a9bf23fe87.jpg"/>
          <p:cNvPicPr/>
          <p:nvPr/>
        </p:nvPicPr>
        <p:blipFill>
          <a:blip r:embed="rId1"/>
          <a:stretch/>
        </p:blipFill>
        <p:spPr>
          <a:xfrm>
            <a:off x="-642960" y="3000240"/>
            <a:ext cx="5714640" cy="358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ttp://linkme.ufanet.ru/images/5b7d5a5c9f233c5f50ad2d8541ef40af.jpg"/>
          <p:cNvPicPr/>
          <p:nvPr/>
        </p:nvPicPr>
        <p:blipFill>
          <a:blip r:embed="rId2"/>
          <a:stretch/>
        </p:blipFill>
        <p:spPr>
          <a:xfrm>
            <a:off x="4381560" y="3648240"/>
            <a:ext cx="4762080" cy="32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2200" y="16560"/>
            <a:ext cx="10236240" cy="341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еть Ля-Ля Тюльпан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построена в мусульманском центре России– Уфе. Это уникальней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овая постройка не имеет аналогов в мире. Работа мечети направлена на у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й двух религиозных конфесс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выполняет несколько функций одновременно. Это и образова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, и мусульманский храм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собраний мусульманских религиозных деятелей. Мечеть в настоящее время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им достоянием города Уфы и всей Башки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кальным культовым строением, главной достопримечательностью город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linkme.ufanet.ru/images/4cf299e3116cbffaa83064b5e5d5ba08.jpg"/>
          <p:cNvPicPr/>
          <p:nvPr/>
        </p:nvPicPr>
        <p:blipFill>
          <a:blip r:embed="rId1"/>
          <a:stretch/>
        </p:blipFill>
        <p:spPr>
          <a:xfrm>
            <a:off x="2428920" y="2786040"/>
            <a:ext cx="4571640" cy="40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  <Words>38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33:40Z</dcterms:created>
  <dc:creator>Руслан</dc:creator>
  <dc:description/>
  <dc:language>en-US</dc:language>
  <cp:lastModifiedBy>Руслан</cp:lastModifiedBy>
  <dcterms:modified xsi:type="dcterms:W3CDTF">2012-09-05T14:20:1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62023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12</vt:r8>
  </property>
</Properties>
</file>