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801-6705-4007-A161-75BA5A8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EA8-21F6-4C9D-B1AD-95EBEBC9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9D9-A162-4494-BC28-32E0D31C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EB8-891F-4BA1-8707-E965F5E4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033-94CA-4672-A2A7-91D033C2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8A9-78A0-4F71-A074-107D683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23C-DA22-4BEC-8964-E23258C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06F-506E-45F4-A39C-D4D9B52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162-439D-4E81-A1C4-467AC0D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479-6A05-4C8B-B31E-4B49D02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5CE-CB48-47D2-9771-289E944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19C-2046-4FA4-A498-26C9EF5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2ED-81E0-40D5-AF39-95FBAFC1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школа4</cp:lastModifiedBy>
  <dcterms:modified xsi:type="dcterms:W3CDTF">2012-04-24T05:45:34Z</dcterms:modified>
  <cp:revision>9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