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50C-64FD-44C7-81B2-33CC6D4A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8B7-9C8B-4E6D-BB94-69B7AA6B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FDE-53D8-47A7-B2A3-D6E4C265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747-1024-4AD1-BE12-C835DD52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F0A-4ABF-4102-A549-36586E5C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015-BE69-430F-A351-656A9C19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D46-A74E-4AD1-98AB-FF75054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6B3-774B-482C-AD2E-A9D42A3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31A-FC72-4604-B38C-4AA8DF04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730-9F33-43AD-9675-A6190423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5FA-9043-42B6-BBDC-3AE6F5F2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8AA-5AF6-4566-A646-BE4DCBC3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3760-793C-4438-B96D-97E5D115A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Monotype Corsiva"/>
              </a:rPr>
              <a:t>Цель урока: обобщить и систематизировать знания о природных регионах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765000"/>
            <a:ext cx="7561440" cy="25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рода регионов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Кавк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Ур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82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ашук и Бешта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825800" cy="3211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В 1841 году на склоне горы Машук, близ Пятигорска был убит М.Ю.Лермо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-56" b="270"/>
          <a:stretch/>
        </p:blipFill>
        <p:spPr>
          <a:xfrm>
            <a:off x="611280" y="2060640"/>
            <a:ext cx="2808360" cy="374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42544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Александр Твард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ма: « За далью да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3521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Василий Андреевич Жуков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98600" y="1700280"/>
            <a:ext cx="3889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Степан Щипач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260"/>
          <a:stretch/>
        </p:blipFill>
        <p:spPr>
          <a:xfrm>
            <a:off x="2627280" y="1413000"/>
            <a:ext cx="385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Фро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511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арк Серге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336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Андрей Вознесе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3473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пределять уровень знаний основных физико-географических показателей крупных природных комплексо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азвивать умение работы с разными источниками географической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Иркутская ГЭ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345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ЦБК на Байка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111640" cy="3027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0" b="-94"/>
          <a:stretch/>
        </p:blipFill>
        <p:spPr>
          <a:xfrm>
            <a:off x="3995640" y="3573360"/>
            <a:ext cx="4991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Сплав леса по ре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25780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оря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езамерзающее море на север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Море, омывающее с юго-востока Чукотский полу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Море в Калининградской обл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Море на востоке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Море, названное в честь двух братьев-исследова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Моря России ( ответы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енце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рингово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лтий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отское м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е Лапте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Реклама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жду опять дождя гриб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 лесам бродить прив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жду опять, когда пробьется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29080" y="1341360"/>
            <a:ext cx="342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ехи кедра. Покупайте орехи! Орехи – это до 36% жирного масла, крахмал, клетчатка, витамины. В скорлупе орехов 12% дубильного вещества. Ядра орехов содержат 0,65 мг витамина В, до 10 мг витамина Е. Скорлупу орехов применяют в виде настоя от глухоты. Масло орехов используют в парфюмерии и  консервировании. Орехи по питательным качествам превосходят такие продукты, как молоко, мя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3565440" cy="2146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115920"/>
            <a:ext cx="2952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усника. Это не только вкусно, но и полезно. Даже листья брусники лечат! Чего только нет в листьях брусники! А ягоды! Чай с брусничным вареньем. Какое наслажд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юква. Покупайте клюкву! Она может храниться очень долго благодаря бензойной кислоте. Ягоды вкусные, полезные. В них есть витамин С, каротин, железо, разные кислоты, которые необходимы челов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386240" cy="2741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60360" y="115920"/>
            <a:ext cx="2773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Реклам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упайте лекарственные травы! Они полезны всем: ромашка - содержит все необходимые вещества для человека. Крапива –содержит  муравьиную кислоту, витамины С, К и В 2.Крапива широко используется в пищу – для борщей и супов. Ее хлорофилл используется в кондитерском деле, как крас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, в зарослях лесных, где все для     сердца ми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чистым воздухом так сладостно ды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ь в травах и цветах целительна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всех умеющих их тайну разг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795920" cy="360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457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721000">
            <a:off x="4211640" y="3068640"/>
            <a:ext cx="4314960" cy="323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Природа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0627400">
            <a:off x="394920" y="1773000"/>
            <a:ext cx="4897440" cy="30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842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3025800" cy="2270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это край – кормил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ая мудрость гла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– матушка, а хлеб – батю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рода есть слова: хлеб – всей жизни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хлеба ни куска, то и в тереме т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 в закромах – счастье в домах, каравай хлеба не свалится с н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, хлебушек душистый, с хрустной корочкой ви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он – теплый, золотистый, словно солнцем нали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ый дом, на каждый стол он пожаловал – приш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1456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0" t="0" r="0" b="-83"/>
          <a:stretch/>
        </p:blipFill>
        <p:spPr>
          <a:xfrm>
            <a:off x="4427640" y="189000"/>
            <a:ext cx="20890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Реклам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солнечник – чрезвычайно важная сельскохозяйственная куль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дает около 90% растительного жира, употребляемого в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езное применение находят все растения. Мякина превращается в эластичную массу – фактис – заменитель каучука. Из подсолнуха изготавливают силос, жмыхи, ткани, резину. А также продукты – масло, халву, маргарин. Подсолнечник – младший сын в семье культурных растений в бескрайней русской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хар. Покупайте, покупайте сахар! Сахар – это сахароза! ЕЕ получают из сахарной свеклы. Очищенную сахарную свеклу в свеклорезках превращают в тонкую стружку и помещают в специальные сосуды, где пропускают горячую воду. Потом все это обрабатывают, упаривают и вот готовый сладкий саха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Monotype Corsiva"/>
              </a:rPr>
              <a:t>Подсолнечник. Сахарная свекл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25" b="0"/>
          <a:stretch/>
        </p:blipFill>
        <p:spPr>
          <a:xfrm>
            <a:off x="0" y="3187800"/>
            <a:ext cx="4021200" cy="367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95640" y="1341360"/>
            <a:ext cx="52563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Monotype Corsiva"/>
              </a:rPr>
              <a:t>Черная 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Корейские лианы на Дальнем Вост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891240" cy="583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360" y="1052640"/>
            <a:ext cx="777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00360" y="3860640"/>
            <a:ext cx="3952800" cy="14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Урок оконч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Станции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шнее в цепоч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тературная странич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я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родные з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обо всем ( географически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Крупные регионы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точно-Европей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Русская) рав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4681440" cy="297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6957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Западно-сибирская равн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адно-сибирская равнина- самая низкая равнин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583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Monotype Corsiva"/>
              </a:rPr>
              <a:t>Восточная Сибирь или Среднесибирское плоског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678200" cy="330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59280" y="3560760"/>
            <a:ext cx="4086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Дальний вост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6702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4284720" y="1052640"/>
            <a:ext cx="4753080" cy="33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3313080" cy="2487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508720" y="4478400"/>
            <a:ext cx="31669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Monotype Corsiva"/>
              </a:rPr>
              <a:t>Горы южной Сиби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35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40:37Z</dcterms:created>
  <dc:creator>Admin</dc:creator>
  <dc:description/>
  <dc:language>en-US</dc:language>
  <cp:lastModifiedBy>школа4</cp:lastModifiedBy>
  <dcterms:modified xsi:type="dcterms:W3CDTF">2012-04-24T05:45:34Z</dcterms:modified>
  <cp:revision>9</cp:revision>
  <dc:subject/>
  <dc:title>Природа регионов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50000000000010250300207f7000400038000</vt:lpwstr>
  </property>
</Properties>
</file>