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40.jpeg" ContentType="image/jpeg"/>
  <Override PartName="/ppt/media/image44.jpeg" ContentType="image/jpeg"/>
  <Override PartName="/ppt/media/image9.jpeg" ContentType="image/jpeg"/>
  <Override PartName="/ppt/media/image11.jpeg" ContentType="image/jpeg"/>
  <Override PartName="/ppt/media/image2.jpeg" ContentType="image/jpeg"/>
  <Override PartName="/ppt/media/image36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43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8081D-F3DE-4CF1-A9B8-456DC8962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6A9F4-42CB-4397-A267-49BCF49A6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93118-D0F7-40B3-B4FD-593F2B43B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09A13-CDD8-4EE5-B26E-88FFF4827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A2FE1-5A43-4677-8A5E-B98EFFCEB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5CCF6-B96F-454E-B106-9BCE97851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2A98A-47DC-489B-A4FB-883E91AFB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3CCF0-9500-478E-B67B-1CD3EF2A8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B4379-16FD-4BEE-A8BD-1FF26874A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99727-8CAE-48E8-B04E-8014984F0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15D1E-67EC-4DA2-ACB1-B15A6396C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E52C0-4D22-40CD-A786-65D361764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77417-6A53-4EBC-BCEB-C10DED9517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Monotype Corsiva"/>
              </a:rPr>
              <a:t>Цель урока: обобщить и систематизировать знания о природных регионах Росс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826920" y="765000"/>
            <a:ext cx="7561440" cy="2519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Природа регионов Росси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ff"/>
                </a:solidFill>
                <a:latin typeface="Monotype Corsiva"/>
              </a:rPr>
              <a:t>Кавказ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116000" y="1125360"/>
            <a:ext cx="7272360" cy="54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ff"/>
                </a:solidFill>
                <a:latin typeface="Monotype Corsiva"/>
              </a:rPr>
              <a:t>Ура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324000" y="1341360"/>
            <a:ext cx="8820000" cy="51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ff"/>
                </a:solidFill>
                <a:latin typeface="Monotype Corsiva"/>
              </a:rPr>
              <a:t>Машук и Бешта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324000" y="1484280"/>
            <a:ext cx="4825800" cy="321156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4572000" y="3357720"/>
            <a:ext cx="4140360" cy="31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ff"/>
                </a:solidFill>
                <a:latin typeface="Monotype Corsiva"/>
              </a:rPr>
              <a:t>В 1841 году на склоне горы Машук, близ Пятигорска был убит М.Ю.Лермонт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rcRect l="0" t="0" r="-56" b="270"/>
          <a:stretch/>
        </p:blipFill>
        <p:spPr>
          <a:xfrm>
            <a:off x="611280" y="2060640"/>
            <a:ext cx="2808360" cy="37447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211640" y="2133720"/>
            <a:ext cx="4254480" cy="34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ff"/>
                </a:solidFill>
                <a:latin typeface="Monotype Corsiva"/>
              </a:rPr>
              <a:t>Александр Твардовски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эма: « За далью даль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2987640" y="2133720"/>
            <a:ext cx="3521160" cy="45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ff"/>
                </a:solidFill>
                <a:latin typeface="Monotype Corsiva"/>
              </a:rPr>
              <a:t>Василий Андреевич Жуковски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2298600" y="1700280"/>
            <a:ext cx="3889440" cy="42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ff"/>
                </a:solidFill>
                <a:latin typeface="Monotype Corsiva"/>
              </a:rPr>
              <a:t>Степан Щипачев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rcRect l="0" t="0" r="0" b="260"/>
          <a:stretch/>
        </p:blipFill>
        <p:spPr>
          <a:xfrm>
            <a:off x="2627280" y="1413000"/>
            <a:ext cx="385128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ff"/>
                </a:solidFill>
                <a:latin typeface="Monotype Corsiva"/>
              </a:rPr>
              <a:t>Фролов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187280" y="1628640"/>
            <a:ext cx="511344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ff"/>
                </a:solidFill>
                <a:latin typeface="Monotype Corsiva"/>
              </a:rPr>
              <a:t>Марк Сергеев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2700360" y="1628640"/>
            <a:ext cx="333684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ff"/>
                </a:solidFill>
                <a:latin typeface="Monotype Corsiva"/>
              </a:rPr>
              <a:t>Андрей Вознесенски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2340000" y="1125360"/>
            <a:ext cx="3473280" cy="54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ff"/>
                </a:solidFill>
                <a:latin typeface="Monotype Corsiva"/>
              </a:rPr>
              <a:t>Задачи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определять уровень знаний основных физико-географических показателей крупных природных комплексов Росси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развивать умение работы с разными источниками географической информаци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воспитывать бережное отношение к природ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ff"/>
                </a:solidFill>
                <a:latin typeface="Monotype Corsiva"/>
              </a:rPr>
              <a:t>Иркутская ГЭ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187280" y="1268280"/>
            <a:ext cx="6734520" cy="505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ff"/>
                </a:solidFill>
                <a:latin typeface="Monotype Corsiva"/>
              </a:rPr>
              <a:t>ЦБК на Байкал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250920" y="1413000"/>
            <a:ext cx="5111640" cy="302724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rcRect l="0" t="0" r="0" b="-94"/>
          <a:stretch/>
        </p:blipFill>
        <p:spPr>
          <a:xfrm>
            <a:off x="3995640" y="3573360"/>
            <a:ext cx="4991040" cy="30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ff"/>
                </a:solidFill>
                <a:latin typeface="Monotype Corsiva"/>
              </a:rPr>
              <a:t>Сплав леса по рекам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2050920" y="1628640"/>
            <a:ext cx="5257800" cy="429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ff"/>
                </a:solidFill>
                <a:latin typeface="Monotype Corsiva"/>
              </a:rPr>
              <a:t>Моря Росси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Незамерзающее море на севере Росси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Море, омывающее с юго-востока Чукотский полуостро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Море в Калининградской област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Море на востоке Росси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Море, названное в честь двух братьев-исследовател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ff"/>
                </a:solidFill>
                <a:latin typeface="Monotype Corsiva"/>
              </a:rPr>
              <a:t>Моря России ( ответы)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аренцево мор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ерингово мор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алтийское мор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хотское мор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оре Лаптевы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ff"/>
                </a:solidFill>
                <a:latin typeface="Monotype Corsiva"/>
              </a:rPr>
              <a:t>Реклама №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699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Я жду опять дождя грибног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Я по лесам бродить привы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 жду опять, когда пробьется сн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Едва приметный борови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5329080" y="1341360"/>
            <a:ext cx="342288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395280" y="2276280"/>
            <a:ext cx="822960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рехи кедра. Покупайте орехи! Орехи – это до 36% жирного масла, крахмал, клетчатка, витамины. В скорлупе орехов 12% дубильного вещества. Ядра орехов содержат 0,65 мг витамина В, до 10 мг витамина Е. Скорлупу орехов применяют в виде настоя от глухоты. Масло орехов используют в парфюмерии и  консервировании. Орехи по питательным качествам превосходят такие продукты, как молоко, мяс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95280" y="115920"/>
            <a:ext cx="3565440" cy="21463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572000" y="115920"/>
            <a:ext cx="2952720" cy="21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395280" y="2924280"/>
            <a:ext cx="8229600" cy="36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русника. Это не только вкусно, но и полезно. Даже листья брусники лечат! Чего только нет в листьях брусники! А ягоды! Чай с брусничным вареньем. Какое наслаждение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люква. Покупайте клюкву! Она может храниться очень долго благодаря бензойной кислоте. Ягоды вкусные, полезные. В них есть витамин С, каротин, железо, разные кислоты, которые необходимы человек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4356000" y="189000"/>
            <a:ext cx="4386240" cy="27414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1260360" y="115920"/>
            <a:ext cx="277344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ff"/>
                </a:solidFill>
                <a:latin typeface="Monotype Corsiva"/>
              </a:rPr>
              <a:t>Реклама №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купайте лекарственные травы! Они полезны всем: ромашка - содержит все необходимые вещества для человека. Крапива –содержит  муравьиную кислоту, витамины С, К и В 2.Крапива широко используется в пищу – для борщей и супов. Ее хлорофилл используется в кондитерском деле, как красител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десь, в зарослях лесных, где все для     сердца мило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де чистым воздухом так сладостно дышат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Есть в травах и цветах целительная си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ля всех умеющих их тайну разгада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79280" y="404640"/>
            <a:ext cx="4795920" cy="36007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4356000" y="3213000"/>
            <a:ext cx="4457880" cy="33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 rot="20721000">
            <a:off x="4211640" y="3068640"/>
            <a:ext cx="4314960" cy="323676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ff"/>
                </a:solidFill>
                <a:latin typeface="Monotype Corsiva"/>
              </a:rPr>
              <a:t>Природа Росси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 rot="20627400">
            <a:off x="394920" y="1773000"/>
            <a:ext cx="4897440" cy="30337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7093080" y="189000"/>
            <a:ext cx="1842840" cy="27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755640" y="0"/>
            <a:ext cx="3025800" cy="227016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1915920"/>
            <a:ext cx="8229600" cy="494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 это край – кормилец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родная мудрость гласи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емля – матушка, а хлеб – батюш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 народа есть слова: хлеб – всей жизни голо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гда хлеба ни куска, то и в тереме тос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леб в закромах – счастье в домах, каравай хлеба не свалится с неб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т он, хлебушек душистый, с хрустной корочкой вит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т он – теплый, золотистый, словно солнцем налит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каждый дом, на каждый стол он пожаловал – прише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6948360" y="115920"/>
            <a:ext cx="2014560" cy="29448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rcRect l="0" t="0" r="0" b="-83"/>
          <a:stretch/>
        </p:blipFill>
        <p:spPr>
          <a:xfrm>
            <a:off x="4427640" y="189000"/>
            <a:ext cx="2089080" cy="20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ff"/>
                </a:solidFill>
                <a:latin typeface="Monotype Corsiva"/>
              </a:rPr>
              <a:t>Реклама №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дсолнечник – чрезвычайно важная сельскохозяйственная культу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н дает около 90% растительного жира, употребляемого в промышлен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лезное применение находят все растения. Мякина превращается в эластичную массу – фактис – заменитель каучука. Из подсолнуха изготавливают силос, жмыхи, ткани, резину. А также продукты – масло, халву, маргарин. Подсолнечник – младший сын в семье культурных растений в бескрайней русской степ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ахар. Покупайте, покупайте сахар! Сахар – это сахароза! ЕЕ получают из сахарной свеклы. Очищенную сахарную свеклу в свеклорезках превращают в тонкую стружку и помещают в специальные сосуды, где пропускают горячую воду. Потом все это обрабатывают, упаривают и вот готовый сладкий сахар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Monotype Corsiva"/>
              </a:rPr>
              <a:t>Подсолнечник. Сахарная свекла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rcRect l="0" t="0" r="25" b="0"/>
          <a:stretch/>
        </p:blipFill>
        <p:spPr>
          <a:xfrm>
            <a:off x="0" y="3187800"/>
            <a:ext cx="4021200" cy="36702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3995640" y="1341360"/>
            <a:ext cx="5256360" cy="36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Monotype Corsiva"/>
              </a:rPr>
              <a:t>Черная бел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476360" y="1557360"/>
            <a:ext cx="619776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7640" y="259920"/>
            <a:ext cx="7559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ff"/>
                </a:solidFill>
                <a:latin typeface="Monotype Corsiva"/>
              </a:rPr>
              <a:t>Корейские лианы на Дальнем Восток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5076720" y="836640"/>
            <a:ext cx="3891240" cy="583560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468360" y="1989000"/>
            <a:ext cx="4248000" cy="287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4360" y="1052640"/>
            <a:ext cx="7777080" cy="25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Impact"/>
              </a:rPr>
              <a:t>Спасибо за внимание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Impact"/>
              <a:ea typeface="Impact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700360" y="3860640"/>
            <a:ext cx="3952800" cy="140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Times New Roman"/>
              </a:rPr>
              <a:t>Урок окончен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ff"/>
                </a:solidFill>
                <a:latin typeface="Monotype Corsiva"/>
              </a:rPr>
              <a:t>Станции урок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Лишнее в цепочк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Литературная страничк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оря Росси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иродные зон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се обо всем ( географический диктант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ff"/>
                </a:solidFill>
                <a:latin typeface="Monotype Corsiva"/>
              </a:rPr>
              <a:t>Крупные регионы Росси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5338800" cy="11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осточно-Европейск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 Русская) равни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68360" y="3284640"/>
            <a:ext cx="4681440" cy="29797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5292720" y="1413000"/>
            <a:ext cx="3695760" cy="262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ff"/>
                </a:solidFill>
                <a:latin typeface="Monotype Corsiva"/>
              </a:rPr>
              <a:t>Западно-сибирская равнин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8000" y="1484280"/>
            <a:ext cx="843588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ападно-сибирская равнина- самая низкая равнина Росс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50920" y="2637000"/>
            <a:ext cx="5832720" cy="38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91520" cy="13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Monotype Corsiva"/>
              </a:rPr>
              <a:t>Восточная Сибирь или Среднесибирское плоскогорь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68360" y="1628640"/>
            <a:ext cx="4678200" cy="33022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4859280" y="3560760"/>
            <a:ext cx="4086360" cy="31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ff"/>
                </a:solidFill>
                <a:latin typeface="Monotype Corsiva"/>
              </a:rPr>
              <a:t>Дальний восто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3670200"/>
            <a:ext cx="4249800" cy="3187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rcRect l="0" t="0" r="0" b="-20"/>
          <a:stretch/>
        </p:blipFill>
        <p:spPr>
          <a:xfrm>
            <a:off x="4284720" y="1052640"/>
            <a:ext cx="4753080" cy="33382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395280" y="1052640"/>
            <a:ext cx="3313080" cy="24876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5508720" y="4478400"/>
            <a:ext cx="3166920" cy="23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ff"/>
                </a:solidFill>
                <a:latin typeface="Monotype Corsiva"/>
              </a:rPr>
              <a:t>Горы южной Сибир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900000" y="1341360"/>
            <a:ext cx="7535880" cy="492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3T15:40:37Z</dcterms:created>
  <dc:creator>Admin</dc:creator>
  <dc:description/>
  <dc:language>en-US</dc:language>
  <cp:lastModifiedBy>школа4</cp:lastModifiedBy>
  <dcterms:modified xsi:type="dcterms:W3CDTF">2012-04-24T05:45:34Z</dcterms:modified>
  <cp:revision>9</cp:revision>
  <dc:subject/>
  <dc:title>Природа регионов Росси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88150000000000010250300207f7000400038000</vt:lpwstr>
  </property>
</Properties>
</file>