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D1D-407B-42A7-A08F-766E377D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3DF-98E5-4839-9613-BEECE163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CF9-2F3F-4F71-B51B-584D3BC5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79D-D9BC-407C-9BD5-A62DA4C9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20B2-3C8A-46E7-ACAD-6FBEF739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B1D3-9222-4091-9E06-0614D8BB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D349-6E46-4B93-955D-836C16F0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D872-F413-4D64-915C-36A6087D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47BC-0B37-46E3-91FB-229DF530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D5C1-47DD-4AC9-B9CF-ACD810D8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2C41-3AC7-4B47-A9D3-150C27B7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C9B-1C14-4F14-9432-FB2997CC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FCCA-7BDC-439B-8F9E-A3B906CC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C247-84AA-42E0-90F1-D0EEF54B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2755-1071-4F93-BEE7-6B56E7A6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5607-0DF9-4321-8D6E-4FB67867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CF5A-DAC6-4FD0-A21A-1D98722D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ADD-C3E9-448B-A42E-74F1EC4C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C28-D66A-4F0C-9791-53638740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82F-6408-46FF-BC4A-40F2BBA5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60A-F149-4E5D-86A0-4D41D431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2B8-ABC0-4C0C-B86D-53FBD9C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117-AB47-499C-A07C-84FA5E85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E2E-33C3-488D-BC0C-46F269B9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9F84-0A02-4A9C-8603-68A79B186B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2C6B-08A8-4192-9ECE-E84E51D964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Картинка 14 из 14202"/>
          <p:cNvPicPr/>
          <p:nvPr/>
        </p:nvPicPr>
        <p:blipFill>
          <a:blip r:embed="rId2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0" y="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aramond"/>
              </a:rPr>
              <a:t>Природа Поволжь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Garamond"/>
              </a:rPr>
              <a:t>Население и хозяйственное освоени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6713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79280" y="260280"/>
            <a:ext cx="2627280" cy="1434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Поволжь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382752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ельеф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4" descr="Фото0054"/>
          <p:cNvPicPr/>
          <p:nvPr/>
        </p:nvPicPr>
        <p:blipFill>
          <a:blip r:embed="rId2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84720" y="620640"/>
            <a:ext cx="485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пределит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оеобразие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рельефа Поволжь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98100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148428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льеф равнинный с общим падением высот с севера на юг к Каспийскому мор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34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ы рельеф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278136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70828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олжская воз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4292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игулевский кряж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3141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равобережь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3141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Левобережь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371628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ские низм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надпойменные террасы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4581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6516720" y="4292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ий Сырт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холмистые увалы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558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аспийская низ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5013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. Ерге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48000" y="404280"/>
            <a:ext cx="399564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Климат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995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 умеренно- континентальны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юге-континентальны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ия в в температурах и осадках при движении  с севера на ю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лга- местный климатический рубеж (на правобережье зима умеренно холодная, многоснежная, на левобережье-зима холодная, малоснежная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Фото0050"/>
          <p:cNvPicPr/>
          <p:nvPr/>
        </p:nvPicPr>
        <p:blipFill>
          <a:blip r:embed="rId2"/>
          <a:stretch/>
        </p:blipFill>
        <p:spPr>
          <a:xfrm>
            <a:off x="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3133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6084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Ландшафты Поволжь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916360" y="1341360"/>
            <a:ext cx="3168360" cy="3057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580000" y="3870360"/>
            <a:ext cx="3564000" cy="2987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328464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состеп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6400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сты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4365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епи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Object 2" descr=""/>
          <p:cNvPicPr/>
          <p:nvPr/>
        </p:nvPicPr>
        <p:blipFill>
          <a:blip r:embed="rId2"/>
          <a:stretch/>
        </p:blipFill>
        <p:spPr>
          <a:xfrm>
            <a:off x="271440" y="981000"/>
            <a:ext cx="8872560" cy="5523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Численность населения регионов Поволжья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(млн. человек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0" y="5157720"/>
            <a:ext cx="921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волжье – наиболее заселенный и освоенный район Ро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редняя плотность в 3 раза выше, чем по России. В нем прожива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олее 17 млн. человек, 70% населения русские, 16% татары, калмыки, чуваши,  мордва, марийцы, украинцы, казах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39640" y="0"/>
            <a:ext cx="756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9"/>
          <p:cNvSpPr/>
          <p:nvPr/>
        </p:nvSpPr>
        <p:spPr>
          <a:xfrm>
            <a:off x="4429080" y="4286160"/>
            <a:ext cx="142920" cy="14292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Овал 23"/>
          <p:cNvSpPr/>
          <p:nvPr/>
        </p:nvSpPr>
        <p:spPr>
          <a:xfrm>
            <a:off x="6143760" y="571680"/>
            <a:ext cx="142920" cy="14256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Овал 24"/>
          <p:cNvSpPr/>
          <p:nvPr/>
        </p:nvSpPr>
        <p:spPr>
          <a:xfrm>
            <a:off x="6500880" y="2000160"/>
            <a:ext cx="142920" cy="14292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640560" y="2813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3"/>
          <a:srcRect l="0" t="10653" r="75196" b="47496"/>
          <a:stretch/>
        </p:blipFill>
        <p:spPr>
          <a:xfrm>
            <a:off x="6767640" y="2852640"/>
            <a:ext cx="237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60480" y="-360"/>
            <a:ext cx="548316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Республика Калмыкия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5003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Республика Татарстан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79280" y="260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9efee"/>
                </a:solidFill>
                <a:latin typeface="Arial"/>
              </a:rPr>
              <a:t>Национальные костюм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519280" cy="359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4640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411280" y="3068640"/>
            <a:ext cx="25210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5:31:29Z</dcterms:created>
  <dc:creator>teacher</dc:creator>
  <dc:description/>
  <dc:language>en-US</dc:language>
  <cp:lastModifiedBy>Miheeva</cp:lastModifiedBy>
  <dcterms:modified xsi:type="dcterms:W3CDTF">2011-08-30T10:51:43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90000000000010243100207f6000400038000</vt:lpwstr>
  </property>
</Properties>
</file>