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020-E825-45A4-992E-3C596E22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A56-798A-4113-B0CC-C48DE220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7FA-E6AB-4A34-9FA8-BCA3FEF0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CE8-C075-45DF-8085-BB4F0227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1830-D297-4081-92E0-8C62D818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E1D7-3B5A-441C-8677-3D594612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2E85-82C9-42E3-A8F4-1E88A54D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A19A-0CF4-4355-B1AC-43B43CB3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C93-198F-45F3-982B-4AB83307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A207-8CA7-4C5F-81AD-046C9AD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AC3A-F366-4A6E-89EB-0B17FC13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A31-7080-4DE3-A8B0-03B420A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AE45-80B5-4871-A854-5FE6B24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C127-5D38-4470-857E-9130C41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AE84-949D-4FC2-9BEB-C038FC24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EE85-EE43-4C9D-AD3E-AB6A7472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17E4-9732-4374-B144-03859029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262-0F44-45F9-95DC-D64BAD0D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FAD-43B3-479B-960D-B3FABE66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30D-E6B6-4DDC-B16B-73C449E4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F67-27D5-4C84-B0C7-9D89B909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CC3-47E0-407A-B197-6E9C5A2D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C9F-CE85-443A-BA12-F84CF4DA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260-AA28-4662-844E-9CE82D17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E3E8-0199-41E1-933F-6ED9654D23D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789A-C798-48C9-B792-C9F950A5AF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Картинка 14 из 14202"/>
          <p:cNvPicPr/>
          <p:nvPr/>
        </p:nvPicPr>
        <p:blipFill>
          <a:blip r:embed="rId2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0" y="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Природа Поволжь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Население и хозяйственное освоени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6713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79280" y="260280"/>
            <a:ext cx="2627280" cy="1434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оволжь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382752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Рельеф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4" descr="Фото0054"/>
          <p:cNvPicPr/>
          <p:nvPr/>
        </p:nvPicPr>
        <p:blipFill>
          <a:blip r:embed="rId2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84720" y="620640"/>
            <a:ext cx="485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пределит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еобразие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рельефа Поволжь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981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14842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льеф равнинный с общим падением высот с севера на юг к Каспийскому мор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34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ы рельеф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278136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70828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олжская воз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4292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игулевский кряж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314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равобережь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14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Левобережь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37162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ские низм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надпойменные террасы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581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6516720" y="4292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щий Сырт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холмистые увалы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558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аспийская низ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5013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. Ерге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48000" y="404280"/>
            <a:ext cx="399564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лимат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995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умеренно- континентальны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юге-континентальны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ия в в температурах и осадках при движении  с севера на ю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лга- местный климатический рубеж (на правобережье зима умеренно холодная, многоснежная, на левобережье-зима холодная, малоснежна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Фото0050"/>
          <p:cNvPicPr/>
          <p:nvPr/>
        </p:nvPicPr>
        <p:blipFill>
          <a:blip r:embed="rId2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3133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6084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Ландшафты Поволжь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916360" y="1341360"/>
            <a:ext cx="3168360" cy="3057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580000" y="3870360"/>
            <a:ext cx="3564000" cy="2987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32846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состеп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6400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сты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4365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епи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Object 2" descr=""/>
          <p:cNvPicPr/>
          <p:nvPr/>
        </p:nvPicPr>
        <p:blipFill>
          <a:blip r:embed="rId2"/>
          <a:stretch/>
        </p:blipFill>
        <p:spPr>
          <a:xfrm>
            <a:off x="271440" y="981000"/>
            <a:ext cx="8872560" cy="5523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Численность населения регионов Поволжья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(млн. человек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0" y="5157720"/>
            <a:ext cx="92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волжье – наиболее заселенный и освоенный район Ро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редняя плотность в 3 раза выше, чем по России. В нем прожива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олее 17 млн. человек, 70% населения русские, 16% татары, калмыки, чуваши,  мордва, марийцы, украинцы, казах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39640" y="0"/>
            <a:ext cx="7561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9"/>
          <p:cNvSpPr/>
          <p:nvPr/>
        </p:nvSpPr>
        <p:spPr>
          <a:xfrm>
            <a:off x="4429080" y="4286160"/>
            <a:ext cx="142920" cy="1429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Овал 23"/>
          <p:cNvSpPr/>
          <p:nvPr/>
        </p:nvSpPr>
        <p:spPr>
          <a:xfrm>
            <a:off x="6143760" y="571680"/>
            <a:ext cx="142920" cy="14256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Овал 24"/>
          <p:cNvSpPr/>
          <p:nvPr/>
        </p:nvSpPr>
        <p:spPr>
          <a:xfrm>
            <a:off x="6500880" y="2000160"/>
            <a:ext cx="142920" cy="1429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640560" y="281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3"/>
          <a:srcRect l="0" t="10653" r="75196" b="47496"/>
          <a:stretch/>
        </p:blipFill>
        <p:spPr>
          <a:xfrm>
            <a:off x="6767640" y="2852640"/>
            <a:ext cx="237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60480" y="-360"/>
            <a:ext cx="548316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Республика Калмыкия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500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Республика Татарстан</a:t>
            </a: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79280" y="260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9efee"/>
                </a:solidFill>
                <a:latin typeface="Arial"/>
              </a:rPr>
              <a:t>Национальные костюм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2519280" cy="359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4640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411280" y="3068640"/>
            <a:ext cx="25210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5:31:29Z</dcterms:created>
  <dc:creator>teacher</dc:creator>
  <dc:description/>
  <dc:language>en-US</dc:language>
  <cp:lastModifiedBy>Miheeva</cp:lastModifiedBy>
  <dcterms:modified xsi:type="dcterms:W3CDTF">2011-08-30T10:51:43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90000000000010243100207f6000400038000</vt:lpwstr>
  </property>
</Properties>
</file>