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68A-F5DF-47C6-8EC4-6A19CF00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EFE-163C-407D-9F61-9284D03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4DC-9929-41D9-A2C2-43E5ACC7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9BE-FEA1-4398-87D2-3581139B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393E-7303-48AC-A7C2-533FA97A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1C61-20D6-4FD2-9A84-39D1D2C0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6F9-6339-4DBE-A763-D727C50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230F-BA70-44CC-8AE9-A7AF18F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924A-B945-4350-8417-6623BFA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8A2-CF18-4B5B-9127-CB9FB9A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05FA-5DC3-4CDB-AE4C-6073CBB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374-8E3C-446B-9E8D-B25940F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167-EED1-46F2-89AE-6B79782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7A7-58E2-42A0-A7A9-87660B8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1252-DE81-4514-9B4C-D25C4F8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79FB-FB5D-45B0-9744-7A6B73A6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7F3-0A35-4294-98C3-8B3D5B00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389-61C4-4D32-B2DF-ACA1C162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8A3-8929-4C54-B2DE-050E5594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12B-A4D3-4D5B-BD69-68ED9DD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08C-8F39-40BC-9ED1-C001106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ADB-8038-4E86-ADA6-76AB7264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948-8EEF-4596-9638-67C183B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C24-9156-47A5-9EDB-10636BA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542-49A5-4BBC-A8EB-10EB70B93E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5D4E-5296-444F-A55D-1431A8C8B6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4 из 14202"/>
          <p:cNvPicPr/>
          <p:nvPr/>
        </p:nvPicPr>
        <p:blipFill>
          <a:blip r:embed="rId2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0" y="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Природа Поволжь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Население и хозяйственное освое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713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9280" y="260280"/>
            <a:ext cx="2627280" cy="1434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олжь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382752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льеф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4" descr="Фото0054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620640"/>
            <a:ext cx="485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ределит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еобрази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ельефа Поволжь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981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1484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еф равнинный с общим падением высот с севера на юг к Каспийскому мор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ы рельеф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278136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70828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лжская воз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429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гулевский кряж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а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Ле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37162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ие низм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надпойменные террас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58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4292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ий Сыр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олмистые увал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58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спийская низ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5013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. Ерг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8000" y="404280"/>
            <a:ext cx="39956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лимат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99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умеренно- 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юге-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ия в в температурах и осадках при движении  с севера на ю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га- местный климатический рубеж (на правобережье зима умеренно холодная, многоснежная, на левобережье-зима холодная, малоснежна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Фото0050"/>
          <p:cNvPicPr/>
          <p:nvPr/>
        </p:nvPicPr>
        <p:blipFill>
          <a:blip r:embed="rId2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313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6084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Ландшафты Поволжь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3168360" cy="3057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580000" y="3870360"/>
            <a:ext cx="3564000" cy="2987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32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состеп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6400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сты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епи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271440" y="981000"/>
            <a:ext cx="8872560" cy="5523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Численность населения регионов Поволжь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(млн. человек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5157720"/>
            <a:ext cx="92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волжье – наиболее заселенный и освоенный район Ро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едняя плотность в 3 раза выше, чем по России. В нем прожива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ее 17 млн. человек, 70% населения русские, 16% татары, калмыки, чуваши,  мордва, марийцы, украинцы, казах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640" y="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9"/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Овал 23"/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Овал 24"/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640560" y="281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3"/>
          <a:srcRect l="0" t="10653" r="75196" b="47496"/>
          <a:stretch/>
        </p:blipFill>
        <p:spPr>
          <a:xfrm>
            <a:off x="6767640" y="2852640"/>
            <a:ext cx="23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60480" y="-360"/>
            <a:ext cx="548316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26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9efee"/>
                </a:solidFill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519280" cy="359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252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5:31:29Z</dcterms:created>
  <dc:creator>teacher</dc:creator>
  <dc:description/>
  <dc:language>en-US</dc:language>
  <cp:lastModifiedBy>Miheeva</cp:lastModifiedBy>
  <dcterms:modified xsi:type="dcterms:W3CDTF">2011-08-30T10:51:43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90000000000010243100207f6000400038000</vt:lpwstr>
  </property>
</Properties>
</file>