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jpeg" ContentType="image/jpe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51.jpeg" ContentType="image/jpeg"/>
  <Override PartName="/ppt/media/image76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99.jpeg" ContentType="image/jpeg"/>
  <Override PartName="/ppt/media/image70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9CB3-1432-45E9-8988-DD72B1ECC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A28-C985-4521-8AF1-169390762E42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518-0303-4438-AC8E-7BFFDB00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BF1-A7B6-4705-83E1-164A7EEC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1D6-C7C2-4226-9467-BC3F6AE8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521-2DD9-4888-9046-3329B031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CCC5-40B9-4C36-9F93-C656B12F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55C3-9AF9-4E40-9577-BA3F9BB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F17-15C0-4B36-A0E2-08CB832A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DE03-803D-4812-9A59-372F6884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617-F45D-4DED-AFDF-76AAD3C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838D-04A4-4C16-9F69-9A1492BD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B58B-6390-46CF-A72E-4B05D46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324-453C-449F-876F-746543E2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145-7FC3-47E4-ACB7-191B718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E692-A3A0-4B63-850E-0F3CA50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7A0A-675A-4435-960E-08C247C9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EB5-9DEC-4BC8-9E84-357F8C3A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7D8B-8484-482E-8E56-B4138C7A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E154-7CB5-4880-BAC5-6011B193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9D97-7280-49C8-A28A-81A0E47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AF9F-0F8B-4A2B-9E6D-E3C77A1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0938-9CBF-49CB-9955-7FFC594C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50C8-B392-4179-AE55-90B3B2A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CB0-0E2B-4BD4-AD86-330D98E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ACD6-AECA-443D-96C3-874D117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9D57-0F99-451E-9EF5-CCB98F5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D384-D79F-4D63-B9FA-557D3C4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6E09-65EB-418F-A548-07221141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677C-3C98-422B-B212-C8C6DFDF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3959-039E-475D-8AB5-5E2BC3CB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4078-A429-4E1D-94AC-52B6191A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DE20-B898-437F-8D42-65FFD1E1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AE70-F64C-4D60-AEEC-6C7202C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68A7-DBC5-4DFB-AC67-EA137FC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DD2-0B53-4AD3-BEB5-1F54102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C9E8-A16B-4C0F-97F2-8D7E24B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9237-91F1-43C5-BCBD-9FA9C99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58EC-256F-4409-B8BA-2E606A1D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A4DF-5FFE-4398-9B73-D238D7E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A980-CFD7-470D-9174-FEDB330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4DD0-F678-439F-89C0-2F8EECA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CBA8-2951-4904-9C8A-02C316C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D1C0-1C2F-4D9C-A42D-CE72DE8E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D06F-B756-4E46-A8F6-50D20210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F87-60A2-4C2C-A653-6182F8F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B54-1CD6-4193-8E92-EDB9772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00F-8FD9-496C-BEA3-43B8478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083-07B3-40DF-8297-4BBFD90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17E-751C-41A3-AB57-880ED69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E3D-75D0-4A8C-859C-ACCDA33D27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B67-258D-4FFC-817B-137DDB23BC2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9F81-AD46-44E5-8BF7-46CBDFCDE0D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03C-8237-4061-861E-90FDC64D168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2;&#1091;&#1084;&#1091;&#1083;&#1103;&#1094;&#1080;&#1103;" TargetMode="External"/><Relationship Id="rId2" Type="http://schemas.openxmlformats.org/officeDocument/2006/relationships/hyperlink" Target="http://ru.wikipedia.org/wiki/&#1050;&#1084;" TargetMode="External"/><Relationship Id="rId3" Type="http://schemas.openxmlformats.org/officeDocument/2006/relationships/hyperlink" Target="http://ru.wikipedia.org/wiki/&#1050;&#1072;&#1088;&#1082;&#1080;&#1085;&#1080;&#1090;&#1089;&#1082;&#1080;&#1081;_&#1079;&#1072;&#1083;&#1080;&#1074;" TargetMode="External"/><Relationship Id="rId4" Type="http://schemas.openxmlformats.org/officeDocument/2006/relationships/hyperlink" Target="http://ru.wikipedia.org/wiki/&#1050;&#1072;&#1083;&#1072;&#1084;&#1080;&#1090;&#1089;&#1082;&#1080;&#1081;_&#1079;&#1072;&#1083;&#1080;&#1074;" TargetMode="External"/><Relationship Id="rId5" Type="http://schemas.openxmlformats.org/officeDocument/2006/relationships/hyperlink" Target="http://ru.wikipedia.org/wiki/&#1060;&#1077;&#1086;&#1076;&#1086;&#1089;&#1080;&#1081;&#1089;&#1082;&#1080;&#1081;_&#1079;&#1072;&#1083;&#1080;&#1074;" TargetMode="External"/><Relationship Id="rId6" Type="http://schemas.openxmlformats.org/officeDocument/2006/relationships/hyperlink" Target="http://ru.wikipedia.org/wiki/&#1057;&#1080;&#1074;&#1072;&#1096;" TargetMode="External"/><Relationship Id="rId7" Type="http://schemas.openxmlformats.org/officeDocument/2006/relationships/hyperlink" Target="http://ru.wikipedia.org/wiki/&#1050;&#1072;&#1079;&#1072;&#1085;&#1090;&#1080;&#1087;&#1089;&#1082;&#1080;&#1081;_&#1079;&#1072;&#1083;&#1080;&#1074;" TargetMode="External"/><Relationship Id="rId8" Type="http://schemas.openxmlformats.org/officeDocument/2006/relationships/hyperlink" Target="http://ru.wikipedia.org/wiki/&#1040;&#1088;&#1072;&#1073;&#1072;&#1090;&#1089;&#1082;&#1080;&#1081;_&#1079;&#1072;&#1083;&#1080;&#1074;" TargetMode="External"/><Relationship Id="rId9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10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11" Type="http://schemas.openxmlformats.org/officeDocument/2006/relationships/hyperlink" Target="http://ru.wikipedia.org/wiki/&#1043;&#1077;&#1088;&#1072;&#1082;&#1083;&#1077;&#1081;&#1089;&#1082;&#1080;&#1081;_&#1087;&#1086;&#1083;&#1091;&#1086;&#1089;&#1090;&#1088;&#1086;&#1074;" TargetMode="External"/><Relationship Id="rId12" Type="http://schemas.openxmlformats.org/officeDocument/2006/relationships/hyperlink" Target="http://ru.wikipedia.org/wiki/&#1058;&#1102;&#1087;-&#1058;&#1072;&#1088;&#1093;&#1072;&#1085;_%28&#1087;&#1086;&#1083;&#1091;&#1086;&#1089;&#1090;&#1088;&#1086;&#1074;%29" TargetMode="External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&#1089;&#1082;&#1080;&#1077;_&#1075;&#1086;&#1088;&#1099;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rymology.info/index.php/&#1050;&#1088;&#1099;&#1084;" TargetMode="External"/><Relationship Id="rId2" Type="http://schemas.openxmlformats.org/officeDocument/2006/relationships/hyperlink" Target="http://krymology.info/index.php/&#1050;&#1088;&#1099;&#1084;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9;&#1084;&#1077;&#1088;&#1077;&#1085;&#1085;&#1086;-&#1082;&#1086;&#1085;&#1090;&#1080;&#1085;&#1077;&#1085;&#1090;&#1072;&#1083;&#1100;&#1085;&#1099;&#1081;_&#1082;&#1083;&#1080;&#1084;&#1072;&#1090;" TargetMode="External"/><Relationship Id="rId3" Type="http://schemas.openxmlformats.org/officeDocument/2006/relationships/hyperlink" Target="http://ru.wikipedia.org/wiki/&#1070;&#1041;&#1050;" TargetMode="External"/><Relationship Id="rId4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3;&#1075;&#1080;&#1088;" TargetMode="External"/><Relationship Id="rId2" Type="http://schemas.openxmlformats.org/officeDocument/2006/relationships/hyperlink" Target="http://ru.wikipedia.org/wiki/&#1050;&#1072;&#1095;&#1072;_%28&#1088;&#1077;&#1082;&#1072;,_&#1074;&#1087;&#1072;&#1076;&#1072;&#1077;&#1090;_&#1074;_&#1063;&#1105;&#1088;&#1085;&#1086;&#1077;_&#1084;&#1086;&#1088;&#1077;%29" TargetMode="External"/><Relationship Id="rId3" Type="http://schemas.openxmlformats.org/officeDocument/2006/relationships/hyperlink" Target="http://ru.wikipedia.org/wiki/&#1040;&#1083;&#1100;&#1084;&#1072;" TargetMode="External"/><Relationship Id="rId4" Type="http://schemas.openxmlformats.org/officeDocument/2006/relationships/hyperlink" Target="http://ru.wikipedia.org/wiki/&#1041;&#1077;&#1083;&#1100;&#1073;&#1077;&#1082;_%28&#1088;&#1077;&#1082;&#1072;%29" TargetMode="External"/><Relationship Id="rId5" Type="http://schemas.openxmlformats.org/officeDocument/2006/relationships/hyperlink" Target="http://ru.wikipedia.org/wiki/&#1057;&#1072;&#1089;&#1099;&#1082;-&#1057;&#1080;&#1074;&#1072;&#1096;" TargetMode="External"/><Relationship Id="rId6" Type="http://schemas.openxmlformats.org/officeDocument/2006/relationships/hyperlink" Target="http://ru.wikipedia.org/wiki/&#1055;&#1088;&#1080;&#1095;&#1077;&#1088;&#1085;&#1086;&#1084;&#1086;&#1088;&#1089;&#1082;&#1080;&#1081;_&#1072;&#1088;&#1090;&#1077;&#1079;&#1080;&#1072;&#1085;&#1089;&#1082;&#1080;&#1081;_&#1073;&#1072;&#1089;&#1089;&#1077;&#1081;&#1085;" TargetMode="External"/><Relationship Id="rId7" Type="http://schemas.openxmlformats.org/officeDocument/2006/relationships/hyperlink" Target="http://ru.wikipedia.org/wiki/&#1057;&#1077;&#1074;&#1077;&#1088;&#1086;-&#1050;&#1088;&#1099;&#1084;&#1089;&#1082;&#1080;&#1081;_&#1082;&#1072;&#1085;&#1072;&#1083;" TargetMode="External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5;&#1076;&#1086;&#1083;&#1086;-&#1050;&#1091;&#1073;&#1072;&#1085;&#1089;&#1082;&#1072;&#1103;_&#1085;&#1077;&#1092;&#1090;&#1077;&#1075;&#1072;&#1079;&#1086;&#1085;&#1086;&#1089;&#1085;&#1072;&#1103;_&#1086;&#1073;&#1083;&#1072;&#1089;&#1090;&#1100;" TargetMode="External"/><Relationship Id="rId2" Type="http://schemas.openxmlformats.org/officeDocument/2006/relationships/hyperlink" Target="http://ru.wikipedia.org/wiki/&#1055;&#1088;&#1080;&#1095;&#1077;&#1088;&#1085;&#1086;&#1084;&#1086;&#1088;&#1089;&#1082;&#1086;-&#1050;&#1088;&#1099;&#1084;&#1089;&#1082;&#1072;&#1103;_&#1085;&#1077;&#1092;&#1090;&#1077;&#1075;&#1072;&#1079;&#1086;&#1085;&#1086;&#1089;&#1085;&#1072;&#1103;_&#1086;&#1073;&#1083;&#1072;&#1089;&#1090;&#1100;" TargetMode="External"/><Relationship Id="rId3" Type="http://schemas.openxmlformats.org/officeDocument/2006/relationships/hyperlink" Target="http://ru.wikipedia.org/wiki/&#1050;&#1077;&#1088;&#1095;&#1077;&#1085;&#1089;&#1082;&#1080;&#1081;_&#1078;&#1077;&#1083;&#1077;&#1079;&#1086;&#1088;&#1091;&#1076;&#1085;&#1099;&#1081;_&#1073;&#1072;&#1089;&#1089;&#1077;&#1081;&#1085;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3" Type="http://schemas.openxmlformats.org/officeDocument/2006/relationships/hyperlink" Target="http://ru.wikipedia.org/wiki/&#1053;&#1072;&#1090;&#1088;&#1080;&#1081;" TargetMode="External"/><Relationship Id="rId4" Type="http://schemas.openxmlformats.org/officeDocument/2006/relationships/hyperlink" Target="http://ru.wikipedia.org/wiki/&#1052;&#1072;&#1075;&#1085;&#1080;&#1081;" TargetMode="External"/><Relationship Id="rId5" Type="http://schemas.openxmlformats.org/officeDocument/2006/relationships/hyperlink" Target="http://ru.wikipedia.org/wiki/&#1041;&#1088;&#1086;&#1084;" TargetMode="External"/><Relationship Id="rId6" Type="http://schemas.openxmlformats.org/officeDocument/2006/relationships/hyperlink" Target="http://ru.wikipedia.org/wiki/&#1050;&#1074;&#1072;&#1088;&#1094;" TargetMode="External"/><Relationship Id="rId7" Type="http://schemas.openxmlformats.org/officeDocument/2006/relationships/hyperlink" Target="http://ru.wikipedia.org/wiki/&#1043;&#1080;&#1087;&#1089;" TargetMode="External"/><Relationship Id="rId8" Type="http://schemas.openxmlformats.org/officeDocument/2006/relationships/hyperlink" Target="http://ru.wikipedia.org/wiki/&#1050;&#1072;&#1088;&#1072;-&#1044;&#1072;&#1075;" TargetMode="External"/><Relationship Id="rId9" Type="http://schemas.openxmlformats.org/officeDocument/2006/relationships/hyperlink" Target="http://ru.wikipedia.org/wiki/&#1043;&#1086;&#1088;&#1085;&#1099;&#1081;_&#1093;&#1088;&#1091;&#1089;&#1090;&#1072;&#1083;&#1100;" TargetMode="External"/><Relationship Id="rId10" Type="http://schemas.openxmlformats.org/officeDocument/2006/relationships/hyperlink" Target="http://ru.wikipedia.org/wiki/&#1040;&#1084;&#1077;&#1090;&#1080;&#1089;&#1090;" TargetMode="External"/><Relationship Id="rId11" Type="http://schemas.openxmlformats.org/officeDocument/2006/relationships/hyperlink" Target="http://ru.wikipedia.org/wiki/&#1062;&#1080;&#1090;&#1088;&#1080;&#1085;" TargetMode="External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_&#1074;&#1077;&#1082;" TargetMode="External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78;&#1085;&#1099;&#1081;_&#1073;&#1077;&#1088;&#1077;&#1075;_&#1050;&#1088;&#1099;&#1084;&#1072;" TargetMode="External"/><Relationship Id="rId2" Type="http://schemas.openxmlformats.org/officeDocument/2006/relationships/hyperlink" Target="http://ru.wikipedia.org/wiki/&#1071;&#1083;&#1090;&#1080;&#1085;&#1089;&#1082;&#1080;&#1081;_&#1075;&#1086;&#1088;&#1089;&#1086;&#1074;&#1077;&#1090;" TargetMode="External"/><Relationship Id="rId3" Type="http://schemas.openxmlformats.org/officeDocument/2006/relationships/hyperlink" Target="http://ru.wikipedia.org/wiki/&#1040;&#1083;&#1091;&#1096;&#1090;&#1080;&#1085;&#1089;&#1082;&#1080;&#1081;_&#1075;&#1086;&#1088;&#1089;&#1086;&#1074;&#1077;&#1090;" TargetMode="External"/><Relationship Id="rId4" Type="http://schemas.openxmlformats.org/officeDocument/2006/relationships/hyperlink" Target="http://ru.wikipedia.org/wiki/&#1045;&#1074;&#1087;&#1072;&#1090;&#1086;&#1088;&#1080;&#1103;" TargetMode="External"/><Relationship Id="rId5" Type="http://schemas.openxmlformats.org/officeDocument/2006/relationships/hyperlink" Target="http://ru.wikipedia.org/wiki/&#1057;&#1072;&#1082;&#1080;_%28&#1075;&#1086;&#1088;&#1086;&#1076;%29" TargetMode="External"/><Relationship Id="rId6" Type="http://schemas.openxmlformats.org/officeDocument/2006/relationships/hyperlink" Target="http://ru.wikipedia.org/wiki/&#1060;&#1077;&#1086;&#1076;&#1086;&#1089;&#1080;&#1081;&#1089;&#1082;&#1080;&#1081;_&#1075;&#1086;&#1088;&#1089;&#1086;&#1074;&#1077;&#1090;" TargetMode="External"/><Relationship Id="rId7" Type="http://schemas.openxmlformats.org/officeDocument/2006/relationships/hyperlink" Target="http://ru.wikipedia.org/wiki/&#1057;&#1091;&#1076;&#1072;&#1082;&#1089;&#1082;&#1080;&#1081;_&#1075;&#1086;&#1088;&#1089;&#1086;&#1074;&#1077;&#1090;" TargetMode="External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" TargetMode="External"/><Relationship Id="rId2" Type="http://schemas.openxmlformats.org/officeDocument/2006/relationships/hyperlink" Target="http://ru.wikipedia.org/wiki/&#1070;&#1078;&#1085;&#1099;&#1081;_&#1073;&#1077;&#1088;&#1077;&#1075;_&#1050;&#1088;&#1099;&#1084;&#1072;" TargetMode="External"/><Relationship Id="rId3" Type="http://schemas.openxmlformats.org/officeDocument/2006/relationships/hyperlink" Target="http://ru.wikipedia.org/wiki/&#1043;&#1091;&#1088;&#1079;&#1091;&#1092;" TargetMode="External"/><Relationship Id="rId4" Type="http://schemas.openxmlformats.org/officeDocument/2006/relationships/hyperlink" Target="http://ru.wikipedia.org/wiki/&#1055;&#1080;&#1086;&#1085;&#1077;&#1088;&#1089;&#1082;&#1080;&#1081;_&#1083;&#1072;&#1075;&#1077;&#1088;&#1100;" TargetMode="External"/><Relationship Id="rId5" Type="http://schemas.openxmlformats.org/officeDocument/2006/relationships/hyperlink" Target="http://ru.wikipedia.org/wiki/&#1057;&#1057;&#1057;&#1056;" TargetMode="External"/><Relationship Id="rId6" Type="http://schemas.openxmlformats.org/officeDocument/2006/relationships/hyperlink" Target="http://ru.wikipedia.org/wiki/&#1055;&#1080;&#1086;&#1085;&#1077;&#1088;&#1089;&#1082;&#1086;&#1077;_&#1076;&#1074;&#1080;&#1078;&#1077;&#1085;&#1080;&#1077;" TargetMode="External"/><Relationship Id="rId7" Type="http://schemas.openxmlformats.org/officeDocument/2006/relationships/hyperlink" Target="http://ru.wikipedia.org/wiki/1925_&#1075;&#1086;&#1076;" TargetMode="External"/><Relationship Id="rId8" Type="http://schemas.openxmlformats.org/officeDocument/2006/relationships/hyperlink" Target="http://deti-travel.ru/region/305/base/1358.html" TargetMode="External"/><Relationship Id="rId9" Type="http://schemas.openxmlformats.org/officeDocument/2006/relationships/hyperlink" Target="http://deti-travel.ru/region/305/base/1359.html" TargetMode="External"/><Relationship Id="rId10" Type="http://schemas.openxmlformats.org/officeDocument/2006/relationships/hyperlink" Target="http://deti-travel.ru/region/305/base/1357.html" TargetMode="External"/><Relationship Id="rId11" Type="http://schemas.openxmlformats.org/officeDocument/2006/relationships/hyperlink" Target="http://deti-travel.ru/region/305/base/1356.html" TargetMode="External"/><Relationship Id="rId12" Type="http://schemas.openxmlformats.org/officeDocument/2006/relationships/hyperlink" Target="http://deti-travel.ru/region/305/base/1355.html" TargetMode="External"/><Relationship Id="rId13" Type="http://schemas.openxmlformats.org/officeDocument/2006/relationships/hyperlink" Target="http://deti-travel.ru/region/305/base/1362.html" TargetMode="External"/><Relationship Id="rId14" Type="http://schemas.openxmlformats.org/officeDocument/2006/relationships/hyperlink" Target="http://deti-travel.ru/region/305/base/1363.html" TargetMode="External"/><Relationship Id="rId15" Type="http://schemas.openxmlformats.org/officeDocument/2006/relationships/hyperlink" Target="http://deti-travel.ru/region/305/base/1360.html" TargetMode="External"/><Relationship Id="rId16" Type="http://schemas.openxmlformats.org/officeDocument/2006/relationships/hyperlink" Target="http://deti-travel.ru/region/305/base/1361.html" TargetMode="External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lora.crimea.ru/moshevelnik/moshevelnik.html" TargetMode="External"/><Relationship Id="rId2" Type="http://schemas.openxmlformats.org/officeDocument/2006/relationships/hyperlink" Target="http://flora.crimea.ru/zemlanichnik/zemlanichnik.html" TargetMode="External"/><Relationship Id="rId3" Type="http://schemas.openxmlformats.org/officeDocument/2006/relationships/hyperlink" Target="http://flora.crimea.ru/Orchidaceae/Comperia.html" TargetMode="External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72;-&#1044;&#1072;&#1075;_%28&#1074;&#1091;&#1083;&#1082;&#1072;&#1085;&#1080;&#1095;&#1077;&#1089;&#1082;&#1080;&#1081;_&#1084;&#1072;&#1089;&#1089;&#1080;&#1074;%29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91;&#1086;&#1089;&#1090;&#1088;&#1086;&#1074;" TargetMode="External"/><Relationship Id="rId2" Type="http://schemas.openxmlformats.org/officeDocument/2006/relationships/hyperlink" Target="http://ru.wikipedia.org/wiki/&#1063;&#1105;&#1088;&#1085;&#1086;&#1077;_&#1084;&#1086;&#1088;&#1077;" TargetMode="External"/><Relationship Id="rId3" Type="http://schemas.openxmlformats.org/officeDocument/2006/relationships/hyperlink" Target="http://ru.wikipedia.org/wiki/&#1040;&#1079;&#1086;&#1074;&#1089;&#1082;&#1086;&#1077;_&#1084;&#1086;&#1088;&#1077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56;&#1077;&#1089;&#1087;&#1091;&#1073;&#1083;&#1080;&#1082;&#1072;_&#1050;&#1088;&#1099;&#1084;" TargetMode="External"/><Relationship Id="rId6" Type="http://schemas.openxmlformats.org/officeDocument/2006/relationships/hyperlink" Target="http://ru.wikipedia.org/wiki/&#1057;&#1077;&#1074;&#1072;&#1089;&#1090;&#1086;&#1087;&#1086;&#1083;&#1100;" TargetMode="External"/><Relationship Id="rId7" Type="http://schemas.openxmlformats.org/officeDocument/2006/relationships/hyperlink" Target="http://ru.wikipedia.org/wiki/&#1040;&#1088;&#1072;&#1073;&#1072;&#1090;&#1089;&#1082;&#1072;&#1103;_&#1089;&#1090;&#1088;&#1077;&#1083;&#1082;&#1072;" TargetMode="External"/><Relationship Id="rId8" Type="http://schemas.openxmlformats.org/officeDocument/2006/relationships/hyperlink" Target="http://ru.wikipedia.org/wiki/&#1061;&#1077;&#1088;&#1089;&#1086;&#1085;&#1089;&#1082;&#1072;&#1103;_&#1086;&#1073;&#1083;&#1072;&#1089;&#1090;&#1100;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_&#1072;&#1087;&#1088;&#1077;&#1083;&#1103;" TargetMode="External"/><Relationship Id="rId2" Type="http://schemas.openxmlformats.org/officeDocument/2006/relationships/hyperlink" Target="http://ru.wikipedia.org/wiki/1783" TargetMode="External"/><Relationship Id="rId3" Type="http://schemas.openxmlformats.org/officeDocument/2006/relationships/hyperlink" Target="http://ru.wikipedia.org/wiki/&#1045;&#1082;&#1072;&#1090;&#1077;&#1088;&#1080;&#1085;&#1072;_II" TargetMode="External"/><Relationship Id="rId4" Type="http://schemas.openxmlformats.org/officeDocument/2006/relationships/hyperlink" Target="http://ru.wikipedia.org/wiki/&#1056;&#1086;&#1089;&#1089;&#1080;&#1081;&#1089;&#1082;&#1072;&#1103;_&#1080;&#1084;&#1087;&#1077;&#1088;&#1080;&#1103;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_&#1084;&#1072;&#1088;&#1090;&#1072;" TargetMode="External"/><Relationship Id="rId2" Type="http://schemas.openxmlformats.org/officeDocument/2006/relationships/hyperlink" Target="http://ru.wikipedia.org/wiki/&#1055;&#1088;&#1080;&#1089;&#1086;&#1077;&#1076;&#1080;&#1085;&#1077;&#1085;&#1080;&#1077;_&#1050;&#1088;&#1099;&#1084;&#1072;_&#1082;_&#1056;&#1086;&#1089;&#1089;&#1080;&#1080;_%282014%29" TargetMode="External"/><Relationship Id="rId3" Type="http://schemas.openxmlformats.org/officeDocument/2006/relationships/hyperlink" Target="http://ru.wikipedia.org/wiki/&#1057;&#1077;&#1074;&#1072;&#1089;&#1090;&#1086;&#1087;&#1086;&#1083;&#1100;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9;&#1089;_&#1053;&#1080;&#1082;&#1086;&#1083;&#1072;&#1103;" TargetMode="External"/><Relationship Id="rId2" Type="http://schemas.openxmlformats.org/officeDocument/2006/relationships/hyperlink" Target="http://ru.wikipedia.org/w/index.php?title=&#1050;&#1072;&#1088;&#1072;-&#1052;&#1088;&#1091;&#1085;_%28&#1084;&#1099;&#1089;%29&amp;action=edit&amp;redlink=1" TargetMode="External"/><Relationship Id="rId3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4" Type="http://schemas.openxmlformats.org/officeDocument/2006/relationships/hyperlink" Target="http://ru.wikipedia.org/wiki/&#1060;&#1086;&#1085;&#1072;&#1088;&#1100;_%28&#1084;&#1099;&#1089;%29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105;&#1088;&#1085;&#1086;&#1077;_&#1084;&#1086;&#1088;&#1077;" TargetMode="External"/><Relationship Id="rId2" Type="http://schemas.openxmlformats.org/officeDocument/2006/relationships/hyperlink" Target="http://ru.wikipedia.org/wiki/&#1040;&#1079;&#1086;&#1074;&#1089;&#1082;&#1086;&#1077;_&#1084;&#1086;&#1088;&#1077;" TargetMode="External"/><Relationship Id="rId3" Type="http://schemas.openxmlformats.org/officeDocument/2006/relationships/hyperlink" Target="http://ru.wikipedia.org/wiki/&#1055;&#1077;&#1088;&#1077;&#1082;&#1086;&#1087;&#1089;&#1082;&#1080;&#1081;_&#1087;&#1077;&#1088;&#1077;&#1096;&#1077;&#1077;&#1082;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10802880" cy="373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066920" y="3933360"/>
            <a:ext cx="460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зентацию подготовила учитель географи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«СОШ №5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Всеволожск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нинградской области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влова Татьяна Александ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40291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3280" y="980640"/>
            <a:ext cx="3683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ерег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аккумулятив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ровнены. Протяжённость береговой линии свыше 1 тысяч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Крупнейшие заливы на побережье Чёрного моря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аркин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Калам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Феодосий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обережье Азовского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Сиваш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Казантип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Араба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востоке Крыма находи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Керчен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западе —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Тарханкут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юг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Гераклей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север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Тюп-Тарха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3"/>
          <a:stretch/>
        </p:blipFill>
        <p:spPr>
          <a:xfrm>
            <a:off x="223920" y="480960"/>
            <a:ext cx="4314600" cy="323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4"/>
          <a:stretch/>
        </p:blipFill>
        <p:spPr>
          <a:xfrm>
            <a:off x="223920" y="3716280"/>
            <a:ext cx="43257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то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2280" y="198864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ымский полуостров можно разделить на две крупные тектонические структуры: Cкифскую плиту и Альпийскую геосинклинальную складчатую обла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40320" y="1628640"/>
            <a:ext cx="4275000" cy="2935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4546440" y="3429000"/>
            <a:ext cx="2167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412640"/>
            <a:ext cx="4038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ое геологическое строение имеет Керченский полуостров, который является как бы границей перехода от платформенной части к складчатым структурам, где был сформирован Индоло-Кубанский краевой прогиб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90520" y="278136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63520" y="836640"/>
            <a:ext cx="4262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ье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1280" y="1934640"/>
            <a:ext cx="80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льеф Крымского полуострова представляет собой три неравные части: Северо-Крымская равнина с Тарханкутской возвышенностью (около 70 % территории), Керченский полуостров 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горны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ростирающийся тремя грядами на юге. Главная гряда Крымских гор (1545 м, гора Роман-Кош) состоит из отдельных известняковых массивов (яйл) с платоподобними вершинами, глубокими каньонами. Южный склон Главной гряды выделяется как Крымское субсредиземноморье. Внутренняя и Внешняя гряды образуют Крымское предгорь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48240" y="704520"/>
            <a:ext cx="4138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епной Кры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32000" y="1920960"/>
            <a:ext cx="3754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пной Крым занимает 16 840 км², что составляет около 72% территори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епно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— равнинная часть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рымског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луострова, некогда занятая степной расти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297000" y="54936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324000" y="3718080"/>
            <a:ext cx="4224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ный Крым в пределах альпийской геосинклинальной складчатой области протянулся полосой около 180 км от Севастополя до Феодосии и шириной до 50 км. Горный Крым состоит из трех гряд-куэст: Главной, внутренней и внешней, которые имеют пологий длинный северный и крутой короткий южный скл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78200" y="620640"/>
            <a:ext cx="4200840" cy="314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4678200" y="3770280"/>
            <a:ext cx="42008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ая гряда возвышается над южным берегом Крыма отвесными обрывами. Наиболее высокая часть гряды имеет вид гребня. Между ее южными и северными склонами располагаются столообразные поверхности-яйлы (с тюркского "летнее пастбище"). С запада на восток различают 10 яйл: Байдарская, Ай-Петринская, Ялтинская, Никитская, Гурзуфская, Бабуган - самая высокая с вершиной Роман-Кош (1545 м.), Чатырдагская, Демерджи, Долгоруковская, Караби-яйла - самая большая по площади(113 км. кв.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686480" y="422280"/>
            <a:ext cx="3997080" cy="300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4686480" y="3429000"/>
            <a:ext cx="399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76720" y="1196640"/>
            <a:ext cx="3610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даря мощным толщам верхнеюрских известняков на Главной куэсте  насчитывают более 800 крупных карстовых полостей (пещеры: Мраморная, Кизил-Коба (более 21 км.), Эмине-Баир-Хосар, Ставрикайская, Басман и др.; шахты: Крубера, Солдатская (517м.), Молодежная и др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4367160" cy="2292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345960" y="87948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557360"/>
            <a:ext cx="3683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южных склонов характерны лакколиты (низвергнувшиеся вулканы)- куполообразные вершины, состоящие из магматических пород (Аюдаг, Плака, Кастель, Урага и др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133880" y="3429000"/>
            <a:ext cx="4640400" cy="3108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106880" y="565200"/>
            <a:ext cx="46958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еобразной визитной карточкой Крыма является Карадагский вулканический массив (577м.), образовавшийся в среднеюрский период в результате подводных вулканических изверж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746280" y="386064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12560" y="1557360"/>
            <a:ext cx="873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ие горные   верши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ман-Кош — 1545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мир-Капу — 1540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ейтин-Кош — 1534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емаль-Эгерек — 1529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лизи-Бурун — 1527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гара-Бурун — 1453 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530600" y="3456000"/>
            <a:ext cx="4489560" cy="336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530600" y="219240"/>
            <a:ext cx="45039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98064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ельеф Крыма оказывают влияние как внутренние, так и внешние процессы (землетрясения, оползни, обвалы, осыпи, абразия берегов, сели, карст, водная и ветровая эрозия, просадка грунта и др.). Крым подвержен сейсмической опасности в предгорье и равнинной части до 6-7 баллов, в горном Крыму и на ЮБК до 8-9 балл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03680" y="1920960"/>
            <a:ext cx="4083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03680" y="611280"/>
            <a:ext cx="4240440" cy="2867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643280" y="3478320"/>
            <a:ext cx="4199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9280" y="7045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цессы выветри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3280" y="1920960"/>
            <a:ext cx="3683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тормы усиливают морскую абразию, видоизменяя крымский берег. Селевые паводки проходят по долинам горных рек Ускут, Ай-Серез, Шелен, Ворон и др., размывая и разрушая территорию. Водная и ветровая эрозия создаёт причудливые формы скал ("сфинксы", «каменные грибы", «столбы-приведения"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26880" y="801720"/>
            <a:ext cx="3570480" cy="2674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2987640" y="784080"/>
            <a:ext cx="2001960" cy="2673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353880" y="3492360"/>
            <a:ext cx="413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72104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лима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280" y="1920960"/>
            <a:ext cx="3527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ым, несмотря на относительно небольшую территорию, отличается разнообразным климат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лима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еверной част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умеренно-континентальны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южном бере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с чертами похожими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субтроп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5"/>
          <a:stretch/>
        </p:blipFill>
        <p:spPr>
          <a:xfrm>
            <a:off x="4191120" y="504720"/>
            <a:ext cx="4854600" cy="3249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6"/>
          <a:stretch/>
        </p:blipFill>
        <p:spPr>
          <a:xfrm>
            <a:off x="4179960" y="3738600"/>
            <a:ext cx="48546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ч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92200" y="1926720"/>
            <a:ext cx="35481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чвы Крыма разнообразны. К почвам равнинного Крыма относят: тёмно-каштановые, чернозёмы южные, чернозёмы предгорные, лугово-чернозёмные, лугово-каштановые, солонцы и солончаки.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олонцы и солонча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распространены в Присивашье, на побережьях Каркинитского залива и Керченского полуостр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горном Крыму сформировались бурые горно-лесные почв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275000" y="647640"/>
            <a:ext cx="4680000" cy="2954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275000" y="3602160"/>
            <a:ext cx="46213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35280" y="398160"/>
            <a:ext cx="32511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Гидрограф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76720" y="112536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территории Крыма протекают 257 рек (крупнейшие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Салги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ч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ь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Бель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ндол, Биюк-Карасу, Чёрная, Бурульча). Самая длинная река Крыма — Салгир (220 км), самая полноводная — Бельбек (расход воды — 1500 литров в секунду). В Крыму находится свыше 50 солёных озёр, самое крупное из них — озеро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сык-Сиваш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205 км². Расположен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ричерноморский артезианский бассей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Степная часть изрезана каналами для орошения, крупнейшим явля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еверо-Крымский кана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8"/>
          <a:stretch/>
        </p:blipFill>
        <p:spPr>
          <a:xfrm>
            <a:off x="246240" y="3484440"/>
            <a:ext cx="4249440" cy="318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9"/>
          <a:stretch/>
        </p:blipFill>
        <p:spPr>
          <a:xfrm>
            <a:off x="216000" y="398520"/>
            <a:ext cx="4276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46640" y="764640"/>
            <a:ext cx="38988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лезные ископаемы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Индоло-Кубан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Причерноморско-Крым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ерченский железорудный бассей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4"/>
          <a:stretch/>
        </p:blipFill>
        <p:spPr>
          <a:xfrm>
            <a:off x="119160" y="404640"/>
            <a:ext cx="4599000" cy="329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5"/>
          <a:stretch/>
        </p:blipFill>
        <p:spPr>
          <a:xfrm>
            <a:off x="119160" y="3324240"/>
            <a:ext cx="4592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1520" y="76464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важным видом полезных ископаемых Крымского полуострова являются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железные ру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залежи которых сосредоточены на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ерченском полуостров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Из солёных озер Крыма добываются сол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натр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маг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бром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кальция, также имеются источники с минеральной водой хлоридно-сульфатного состава. Из нерудных полезных ископаемых большое значение имеют залежи известняка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кварцевых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есков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гип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глин. В райо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Кара-Даг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стречаются поделочные камн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горный хрустал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аметис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цитри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друг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2"/>
          <a:stretch/>
        </p:blipFill>
        <p:spPr>
          <a:xfrm>
            <a:off x="4643280" y="476280"/>
            <a:ext cx="4395960" cy="3246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13"/>
          <a:stretch/>
        </p:blipFill>
        <p:spPr>
          <a:xfrm>
            <a:off x="4937040" y="372276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704520"/>
            <a:ext cx="397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0280" y="2060640"/>
            <a:ext cx="3303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ьшее значение имеют природные рекреационные ресурсы: мягкий климат, теплое море, лечебные грязи, минеральные воды, живописные пейзаж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302000" y="4680"/>
            <a:ext cx="4842000" cy="322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4302000" y="3198960"/>
            <a:ext cx="484200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19280" y="7045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   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76720" y="1920960"/>
            <a:ext cx="3610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чало развития Крыма как курорта относится ко второй полови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XIX ве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С улучшением транспортного сообщения жителям Центральных губерний Российской империи стало проще добираться на морские курорты. На рубеже веков происходит бум строительства летних резиденций: дач, вилл и дворцов. Сохранившиеся по сей день, они являются одной из характерных черт крымских гор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330120" y="703440"/>
            <a:ext cx="4224240" cy="281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341280" y="3500280"/>
            <a:ext cx="42130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уостров Кры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44520" y="1219320"/>
            <a:ext cx="8369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66168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вестные курортные район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Южный берег Крыма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Ял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уш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Запад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Евпаторийско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-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Юго-Восточ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Феодосий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уд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6758640" y="765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8"/>
          <a:stretch/>
        </p:blipFill>
        <p:spPr>
          <a:xfrm>
            <a:off x="4427640" y="404640"/>
            <a:ext cx="4503600" cy="30402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6974640" y="62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9"/>
          <a:stretch/>
        </p:blipFill>
        <p:spPr>
          <a:xfrm>
            <a:off x="4427640" y="3444840"/>
            <a:ext cx="4503600" cy="3121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6997320" y="3860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511200" y="981000"/>
            <a:ext cx="814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30040" y="260280"/>
            <a:ext cx="4491360" cy="3368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4721400" y="3648240"/>
            <a:ext cx="4267080" cy="2871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64404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вад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5183640" y="42926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3"/>
          <a:stretch/>
        </p:blipFill>
        <p:spPr>
          <a:xfrm>
            <a:off x="230040" y="3629160"/>
            <a:ext cx="4491360" cy="28908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2435040" y="40053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>
            <a:off x="4721400" y="250920"/>
            <a:ext cx="4265280" cy="33782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7206480" y="7747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да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55640" y="187200"/>
            <a:ext cx="77709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4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2118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т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5280" y="185868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Арте́к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международный детский центр 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Расположен н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южном берегу Кры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посёлке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Гурзу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прошлом — самый знаменитый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пионерский лагер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визитная карточк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ионерск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траны. Лагерь был открыт 16 июн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1925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59280" y="3284640"/>
            <a:ext cx="38275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агерь "Артек" - это 10 детских лагере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шесть из них работают круглогодично — «Алмазный», 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«Янта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«Хрусталь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«Морск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«Лазу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«Кипарис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четыре только в сезон с мая по октябрь 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3"/>
              </a:rPr>
              <a:t>«Реч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4"/>
              </a:rPr>
              <a:t>«Озе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5"/>
              </a:rPr>
              <a:t>«Лес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6"/>
              </a:rPr>
              <a:t>«Полев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7"/>
          <a:stretch/>
        </p:blipFill>
        <p:spPr>
          <a:xfrm>
            <a:off x="4836960" y="111240"/>
            <a:ext cx="3622680" cy="3019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18"/>
          <a:stretch/>
        </p:blipFill>
        <p:spPr>
          <a:xfrm>
            <a:off x="900000" y="4165560"/>
            <a:ext cx="3141720" cy="25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19"/>
          <a:stretch/>
        </p:blipFill>
        <p:spPr>
          <a:xfrm>
            <a:off x="179280" y="84240"/>
            <a:ext cx="1812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915920"/>
            <a:ext cx="367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тепном Крыму из млекопитающих широко распространены: суслики, мыши, хомяки, тушканчики, а также степной хорёк, ласка, лисица. Довольно богат мир птиц, особенно водоплавающих. Это чайки-хохотуньи, цапли, чибисы. Из других видов птиц представлены степные орлы, жаворонки, пустельги, куропатки и др. Из пресмыкающихся и земноводных здесь обитают: степная гадюка, ящерицы, ужи и др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1676520" cy="1724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424400" y="5651640"/>
            <a:ext cx="4570200" cy="1199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4665600" y="227160"/>
            <a:ext cx="4097520" cy="2857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4"/>
          <a:stretch/>
        </p:blipFill>
        <p:spPr>
          <a:xfrm>
            <a:off x="4665600" y="3068640"/>
            <a:ext cx="40896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орном Крыму фауна значительно богаче. Из млекопитающих встречаются: крымский олень, косуля, кабан, муфлон. Из хищников - лисица обыкновенная, куница каменная, ласка, барсу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тиц в крымских лесах не много. Это дятлы, скворцы, дрозды, зяблики и хищные виды - ястребы, белоголовые сипы, чёрные грифы. Пресмыкающиеся и земноводные представлены: черепахами болотными, леопардовым и желтобрюхим полозами, ящерицами. Среди насекомых выделяются средиземноморские виды: цикады, москиты, жуки-богомолы, крымская жужелиц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068640" cy="245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3182760" cy="21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322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14480" y="73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ло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астоящее время на полуострове насчитывается свыше 2536 видов и подвидов высших растений . В Крыму 106 эндемичных видов растений, то есть видов, которые свойственны исключительно Крыму и нигде больше не встречаются. Во флоре горного Крыма немало третичных реликтов, например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ожжевельник высоки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земляничник мелкоплодны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омперия Компер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другие раст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4"/>
          <a:stretch/>
        </p:blipFill>
        <p:spPr>
          <a:xfrm>
            <a:off x="9360" y="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5"/>
          <a:stretch/>
        </p:blipFill>
        <p:spPr>
          <a:xfrm>
            <a:off x="4503600" y="3357720"/>
            <a:ext cx="4326120" cy="331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6"/>
          <a:stretch/>
        </p:blipFill>
        <p:spPr>
          <a:xfrm>
            <a:off x="4533840" y="333360"/>
            <a:ext cx="41864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Никитский ботанический сад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55640" y="2060280"/>
            <a:ext cx="3456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китский ботанический сад – удивительный уголок Крыма. Расположенный неподалеку от Ялты, в поселке Никита, сад плавно спускается к морю, образуя несколько парков: Верхний, Нижний, Приморский, парк на мысе Монтедор. Никитский ботанический сад – это огромная коллекция растений со всего света, это один из старейших ботанических садов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4429080" y="2276640"/>
            <a:ext cx="4370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27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 русских источниках Крымский полуостров до 1920-х годов именовался Тавридой.  Современное же название полуострова происходит, вероятно, от тюркского слова «кырым» — вал, стена, ров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270828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50880" y="1943280"/>
            <a:ext cx="6096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31840" y="123840"/>
            <a:ext cx="4194000" cy="3149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231840" y="3267000"/>
            <a:ext cx="4194000" cy="3157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4425840" y="123840"/>
            <a:ext cx="4483080" cy="3108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"/>
          <p:cNvPicPr/>
          <p:nvPr/>
        </p:nvPicPr>
        <p:blipFill>
          <a:blip r:embed="rId4"/>
          <a:stretch/>
        </p:blipFill>
        <p:spPr>
          <a:xfrm>
            <a:off x="4425840" y="3203640"/>
            <a:ext cx="4473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360" y="549000"/>
            <a:ext cx="316872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храна прир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88000" y="206064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но-заповедный фонд включает 158 объектов и территорий (в том числе 46 общегосударственного значения, площадь которых составляет 5,8 % площади Крымского полуострова). Основу заповедного фонда составляют 6 природных заповедников общей площадью 63,9 тыс. га Крымский с филиалом «Лебяжьи острова», Ялтинский горно-лесной, Мыс Мартьян, Карадагский, Казантипский, Опук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-12600" y="3521160"/>
            <a:ext cx="4944960" cy="3333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11160" y="22320"/>
            <a:ext cx="48974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88960" y="1052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у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052640"/>
            <a:ext cx="382752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Крыму расположены крупные научные центры — океанографического (в Севастополе и Керчи), эколого-биологического (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арадагска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биостанция), историко-археологического, курортологического, общемедицинского, аграрного и винодельческого, военно-космического, авиационного и военно-морского профиля. Университеты — Таврический национальный, медицинский, аграрный, Севастопольский национальный технический университет.   На юге Крыма расположены Крымская астрофизическая обсерватория и её филиал — Симеизская обсерватор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8480" y="620640"/>
            <a:ext cx="4287600" cy="28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578480" y="3502080"/>
            <a:ext cx="4297320" cy="3000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5867280" y="378936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ская обсерватор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300720" y="98100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радагская биостанц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0000" y="7045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ультур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052640"/>
            <a:ext cx="397044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 — один из немногих районов Восточной Европы, приобщившихся к культуре античных Греции и Рима во времена их расцвета. Крымская культура Средних веков тесно связана с Византией и Средиземноморьем. Сохранившиеся доныне руины Херсонеса, основанного ещё в античные времена — наследие древнегреческой и ранней средневековой византийской архитектуры. Позднесредневековая культура полуострова проникнута влиянием малоазиатской мусульманской культуры, несёт на себе отпечаток сельджукизма. Крым — родина многих народов и культур, начиная от ранне-осевших народов — греков, армян, болгар, римлян и др. и позже-осевших в результате новых завоеваний — татар и славянских народ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4608360" y="3209760"/>
            <a:ext cx="4229280" cy="317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6984000" y="6093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4608360" y="260280"/>
            <a:ext cx="4229280" cy="26892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6980040" y="27082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55640" y="1341360"/>
            <a:ext cx="338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ым связан с именами И. К. Айвазовского, Чехова, Волошина, Грина, Аркадия Аверченко, Марины Цветаевой; красоту полуострова воспел в «Крымских сонетах» Мицкевич; героическому прошлому, посвящены стихи Алексея Апухтина и Юлии Друниной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646360" cy="3558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94320" y="260280"/>
            <a:ext cx="2592360" cy="34686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4836600" y="2781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655040" y="630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973760" y="3255840"/>
            <a:ext cx="4046400" cy="2924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2"/>
          <a:stretch/>
        </p:blipFill>
        <p:spPr>
          <a:xfrm>
            <a:off x="4859280" y="168120"/>
            <a:ext cx="3954600" cy="28400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1"/>
          <p:cNvSpPr/>
          <p:nvPr/>
        </p:nvSpPr>
        <p:spPr>
          <a:xfrm>
            <a:off x="7073280" y="2852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. Коров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6876720" y="616572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Г. Мясое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3"/>
          <a:stretch/>
        </p:blipFill>
        <p:spPr>
          <a:xfrm>
            <a:off x="576360" y="168120"/>
            <a:ext cx="3743280" cy="30448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2201760" y="3222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. Васнец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4"/>
          <a:stretch/>
        </p:blipFill>
        <p:spPr>
          <a:xfrm>
            <a:off x="650880" y="3527280"/>
            <a:ext cx="3592440" cy="26384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2490120" y="6350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. Серебряк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4614840" y="3421080"/>
            <a:ext cx="4260960" cy="31528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7057440" y="6381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И. Куинд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338040" y="281160"/>
            <a:ext cx="4151520" cy="283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219240" y="3484440"/>
            <a:ext cx="4390920" cy="310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4"/>
          <a:stretch/>
        </p:blipFill>
        <p:spPr>
          <a:xfrm>
            <a:off x="4614840" y="281160"/>
            <a:ext cx="4222800" cy="27874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7"/>
          <p:cNvSpPr/>
          <p:nvPr/>
        </p:nvSpPr>
        <p:spPr>
          <a:xfrm>
            <a:off x="5937120" y="30686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.Айвазов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2354400" y="325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. Василье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2211480" y="65660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Милю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601560"/>
            <a:ext cx="77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са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24000" y="1412640"/>
            <a:ext cx="41716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ссандра является крупным центром виноградарства и виноделия в Крыму. Здесь находятся всемирно известные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Головной завод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подвал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богатой энотекой (коллекцией вин)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комбината "Массандра"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4052880" y="14400"/>
            <a:ext cx="2324160" cy="1920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03640" y="188928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"/>
          <p:cNvPicPr/>
          <p:nvPr/>
        </p:nvPicPr>
        <p:blipFill>
          <a:blip r:embed="rId3"/>
          <a:stretch/>
        </p:blipFill>
        <p:spPr>
          <a:xfrm>
            <a:off x="5364000" y="60480"/>
            <a:ext cx="3618000" cy="1828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4"/>
          <a:stretch/>
        </p:blipFill>
        <p:spPr>
          <a:xfrm>
            <a:off x="826920" y="3997440"/>
            <a:ext cx="3378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 северной част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2"/>
              </a:rPr>
              <a:t>Чёрного моря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, с северо-востока омыва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3"/>
              </a:rPr>
              <a:t>Азовским море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Бо́льшую часть территории полуострова занимают входящие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4"/>
              </a:rPr>
              <a:t>Российской Федераци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5"/>
              </a:rPr>
              <a:t>Республика 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6"/>
              </a:rPr>
              <a:t>Севастополь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.Северная часть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7"/>
              </a:rPr>
              <a:t>Арабатской стрелк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ходит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8"/>
              </a:rPr>
              <a:t>Херсонской област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(Украина)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9"/>
          <a:stretch/>
        </p:blipFill>
        <p:spPr>
          <a:xfrm>
            <a:off x="739800" y="2133720"/>
            <a:ext cx="777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4360" y="1920960"/>
            <a:ext cx="34560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9 апре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178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Императрицей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Екатериной 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дписан Манифест о присоединении к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Российской импер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Кры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5"/>
          <a:stretch/>
        </p:blipFill>
        <p:spPr>
          <a:xfrm>
            <a:off x="4597560" y="500040"/>
            <a:ext cx="4290840" cy="321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4597560" y="3716280"/>
            <a:ext cx="4370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57360"/>
            <a:ext cx="3610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8 мар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2014 года был подписан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догово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 вхождении Республики Крым и города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Севастопо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состав Российской Федерации на правах субъектов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4152960" y="3429000"/>
            <a:ext cx="4714920" cy="313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4152960" y="549360"/>
            <a:ext cx="47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052640"/>
            <a:ext cx="368316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айняя северная точка Крыма расположена на Перекопском перешейке, крайняя южная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ыс Никола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запад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ра-Мру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Прибойный) н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Тарханкут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восточ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Фонарь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на Керченском полуострове. Расстояние с запада на восток (между мысами Кара-Мрун и Фонарь) — 326 км, с севера на юг (от Перекопского перешейка до мыса Николая) — 205 км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5"/>
          <a:stretch/>
        </p:blipFill>
        <p:spPr>
          <a:xfrm>
            <a:off x="4356000" y="2349360"/>
            <a:ext cx="44020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82480" y="1125000"/>
            <a:ext cx="326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ымский полуостров глубоко выдаётся в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Чёрное мор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оторым омывается с юга и запада, с востока омывае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Азовским море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На севере соединяется с континентом узким (до 8 км)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Перекопским перешейко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Площадь — около 26 860 км², из которых 72 % — равнина, 20 % — горы и 8 % — озёра и другие водные объе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4"/>
          <a:stretch/>
        </p:blipFill>
        <p:spPr>
          <a:xfrm>
            <a:off x="3882960" y="2006640"/>
            <a:ext cx="50450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3:25:23Z</dcterms:created>
  <dc:creator>1</dc:creator>
  <dc:description/>
  <dc:language>en-US</dc:language>
  <cp:lastModifiedBy>1</cp:lastModifiedBy>
  <dcterms:modified xsi:type="dcterms:W3CDTF">2014-05-08T13:24:26Z</dcterms:modified>
  <cp:revision>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440000000000010250300207f7000400038000</vt:lpwstr>
  </property>
</Properties>
</file>