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98.jpeg" ContentType="image/jpeg"/>
  <Override PartName="/ppt/media/image8.jpeg" ContentType="image/jpeg"/>
  <Override PartName="/ppt/media/image43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50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51.jpeg" ContentType="image/jpeg"/>
  <Override PartName="/ppt/media/image76.jpeg" ContentType="image/jpeg"/>
  <Override PartName="/ppt/media/image73.jpeg" ContentType="image/jpeg"/>
  <Override PartName="/ppt/media/image85.jpeg" ContentType="image/jpeg"/>
  <Override PartName="/ppt/media/image26.jpeg" ContentType="image/jpeg"/>
  <Override PartName="/ppt/media/image99.jpeg" ContentType="image/jpeg"/>
  <Override PartName="/ppt/media/image70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D5F-ACC8-4101-BEB2-EAC89CC736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1B26-A114-40C3-8A31-F168DBEEA316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93E-B48E-4AD3-89AB-3EC9EBC7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FB0-4E90-4910-9218-9C0B2BC4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6E2-524B-4A39-A586-947ABAF5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72A-0C4B-471D-BA5C-668EB8E3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F460-36BD-48BC-9834-1193D391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B4CD-7E57-4442-B021-B03D18D1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DBFE-2951-4F04-9A71-8E2D6711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FB2D-3945-46EE-8854-83E374CB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4297-8F9A-4906-90BD-1D716B25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852F-BFAA-4A76-BA53-14CCF7DE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2D54-2C0D-4904-B3D0-A6F869E6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078-4182-40EB-9559-E54EBA17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6A6B-3B44-46D2-A2EC-7C3F0D6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AE18-362D-4888-9C76-A905DFA0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4BDD-9029-487E-9DF7-BD782FD5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3381-6489-430A-BB17-2CE52D33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CF52-4414-4856-8DAB-FEE5F4BF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A362-E43C-438D-BE42-4CFE348D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6C91-C7AE-47B7-BE4E-1DB5293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082E-C3BA-45FC-BE03-03813A3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F7C10-6D03-483E-AE70-B93988C0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B700-C5D7-4209-BE85-CD1076B4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38A-CD79-4534-ACC9-BAFA0C07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74B3-5806-4C00-A17C-67F801BD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9103-72AF-4ECD-B317-7AB8F83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9EE0-B5CD-490D-88A5-9378919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025A-E7D4-4632-86E6-A16898F5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8F77-6D1C-4959-919A-E7501E21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E666-DB04-4AAD-A109-26A9F9DA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C278-6042-4FAB-8F83-731A5D0C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05FD-5690-4275-8989-A17E914A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00BCB-E570-4FB3-A7EB-E8671668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1ED0-754F-45C9-8EF3-C381A87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A24-6DA1-49C9-B913-2B640D3A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A5EE-5313-4F28-95BC-6A8945C2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F39D4-4E97-4169-9247-B5E1664C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080B-6179-4FE9-995D-B07E1EF6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CC47D-C95C-4D26-8F48-A40F8C13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E723-05DD-48BA-995F-AF00B6A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C521B-FC3D-4BB6-AF7A-721C3FC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34A4-D2D0-4D3B-BDAE-CEC8FC03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85A18-A8A9-4331-BE05-BC36BCAC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EC82-601F-4BFA-BE9D-A477E029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600-3F4C-4235-9483-940A4A3A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762-84AA-4CD6-AD7A-714E29FA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F88-2818-4BDF-B2AD-6BA698D4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7A6-F014-4184-BFFD-E4B86B7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A30-2FDD-474B-99E7-4ED9144D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B866-C9EF-4BE5-9F70-0ADD5636175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73DA-53F9-4589-997E-2914C920C44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41CA-ECFA-4C8C-9CE4-F13DE3B4FEE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6876-A819-4BF3-9D65-CA03B459EAF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82;&#1091;&#1084;&#1091;&#1083;&#1103;&#1094;&#1080;&#1103;" TargetMode="External"/><Relationship Id="rId2" Type="http://schemas.openxmlformats.org/officeDocument/2006/relationships/hyperlink" Target="http://ru.wikipedia.org/wiki/&#1050;&#1084;" TargetMode="External"/><Relationship Id="rId3" Type="http://schemas.openxmlformats.org/officeDocument/2006/relationships/hyperlink" Target="http://ru.wikipedia.org/wiki/&#1050;&#1072;&#1088;&#1082;&#1080;&#1085;&#1080;&#1090;&#1089;&#1082;&#1080;&#1081;_&#1079;&#1072;&#1083;&#1080;&#1074;" TargetMode="External"/><Relationship Id="rId4" Type="http://schemas.openxmlformats.org/officeDocument/2006/relationships/hyperlink" Target="http://ru.wikipedia.org/wiki/&#1050;&#1072;&#1083;&#1072;&#1084;&#1080;&#1090;&#1089;&#1082;&#1080;&#1081;_&#1079;&#1072;&#1083;&#1080;&#1074;" TargetMode="External"/><Relationship Id="rId5" Type="http://schemas.openxmlformats.org/officeDocument/2006/relationships/hyperlink" Target="http://ru.wikipedia.org/wiki/&#1060;&#1077;&#1086;&#1076;&#1086;&#1089;&#1080;&#1081;&#1089;&#1082;&#1080;&#1081;_&#1079;&#1072;&#1083;&#1080;&#1074;" TargetMode="External"/><Relationship Id="rId6" Type="http://schemas.openxmlformats.org/officeDocument/2006/relationships/hyperlink" Target="http://ru.wikipedia.org/wiki/&#1057;&#1080;&#1074;&#1072;&#1096;" TargetMode="External"/><Relationship Id="rId7" Type="http://schemas.openxmlformats.org/officeDocument/2006/relationships/hyperlink" Target="http://ru.wikipedia.org/wiki/&#1050;&#1072;&#1079;&#1072;&#1085;&#1090;&#1080;&#1087;&#1089;&#1082;&#1080;&#1081;_&#1079;&#1072;&#1083;&#1080;&#1074;" TargetMode="External"/><Relationship Id="rId8" Type="http://schemas.openxmlformats.org/officeDocument/2006/relationships/hyperlink" Target="http://ru.wikipedia.org/wiki/&#1040;&#1088;&#1072;&#1073;&#1072;&#1090;&#1089;&#1082;&#1080;&#1081;_&#1079;&#1072;&#1083;&#1080;&#1074;" TargetMode="External"/><Relationship Id="rId9" Type="http://schemas.openxmlformats.org/officeDocument/2006/relationships/hyperlink" Target="http://ru.wikipedia.org/wiki/&#1050;&#1077;&#1088;&#1095;&#1077;&#1085;&#1089;&#1082;&#1080;&#1081;_&#1087;&#1086;&#1083;&#1091;&#1086;&#1089;&#1090;&#1088;&#1086;&#1074;" TargetMode="External"/><Relationship Id="rId10" Type="http://schemas.openxmlformats.org/officeDocument/2006/relationships/hyperlink" Target="http://ru.wikipedia.org/wiki/&#1058;&#1072;&#1088;&#1093;&#1072;&#1085;&#1082;&#1091;&#1090;&#1089;&#1082;&#1080;&#1081;_&#1087;&#1086;&#1083;&#1091;&#1086;&#1089;&#1090;&#1088;&#1086;&#1074;" TargetMode="External"/><Relationship Id="rId11" Type="http://schemas.openxmlformats.org/officeDocument/2006/relationships/hyperlink" Target="http://ru.wikipedia.org/wiki/&#1043;&#1077;&#1088;&#1072;&#1082;&#1083;&#1077;&#1081;&#1089;&#1082;&#1080;&#1081;_&#1087;&#1086;&#1083;&#1091;&#1086;&#1089;&#1090;&#1088;&#1086;&#1074;" TargetMode="External"/><Relationship Id="rId12" Type="http://schemas.openxmlformats.org/officeDocument/2006/relationships/hyperlink" Target="http://ru.wikipedia.org/wiki/&#1058;&#1102;&#1087;-&#1058;&#1072;&#1088;&#1093;&#1072;&#1085;_%28&#1087;&#1086;&#1083;&#1091;&#1086;&#1089;&#1090;&#1088;&#1086;&#1074;%29" TargetMode="External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99;&#1084;&#1089;&#1082;&#1080;&#1077;_&#1075;&#1086;&#1088;&#1099;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rymology.info/index.php/&#1050;&#1088;&#1099;&#1084;" TargetMode="External"/><Relationship Id="rId2" Type="http://schemas.openxmlformats.org/officeDocument/2006/relationships/hyperlink" Target="http://krymology.info/index.php/&#1050;&#1088;&#1099;&#1084;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80;&#1084;&#1072;&#1090;" TargetMode="External"/><Relationship Id="rId2" Type="http://schemas.openxmlformats.org/officeDocument/2006/relationships/hyperlink" Target="http://ru.wikipedia.org/wiki/&#1059;&#1084;&#1077;&#1088;&#1077;&#1085;&#1085;&#1086;-&#1082;&#1086;&#1085;&#1090;&#1080;&#1085;&#1077;&#1085;&#1090;&#1072;&#1083;&#1100;&#1085;&#1099;&#1081;_&#1082;&#1083;&#1080;&#1084;&#1072;&#1090;" TargetMode="External"/><Relationship Id="rId3" Type="http://schemas.openxmlformats.org/officeDocument/2006/relationships/hyperlink" Target="http://ru.wikipedia.org/wiki/&#1070;&#1041;&#1050;" TargetMode="External"/><Relationship Id="rId4" Type="http://schemas.openxmlformats.org/officeDocument/2006/relationships/hyperlink" Target="http://ru.wikipedia.org/wiki/&#1057;&#1091;&#1073;&#1090;&#1088;&#1086;&#1087;&#1080;&#1095;&#1077;&#1089;&#1082;&#1080;&#1081;_&#1082;&#1083;&#1080;&#1084;&#1072;&#1090;" TargetMode="External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3;&#1075;&#1080;&#1088;" TargetMode="External"/><Relationship Id="rId2" Type="http://schemas.openxmlformats.org/officeDocument/2006/relationships/hyperlink" Target="http://ru.wikipedia.org/wiki/&#1050;&#1072;&#1095;&#1072;_%28&#1088;&#1077;&#1082;&#1072;,_&#1074;&#1087;&#1072;&#1076;&#1072;&#1077;&#1090;_&#1074;_&#1063;&#1105;&#1088;&#1085;&#1086;&#1077;_&#1084;&#1086;&#1088;&#1077;%29" TargetMode="External"/><Relationship Id="rId3" Type="http://schemas.openxmlformats.org/officeDocument/2006/relationships/hyperlink" Target="http://ru.wikipedia.org/wiki/&#1040;&#1083;&#1100;&#1084;&#1072;" TargetMode="External"/><Relationship Id="rId4" Type="http://schemas.openxmlformats.org/officeDocument/2006/relationships/hyperlink" Target="http://ru.wikipedia.org/wiki/&#1041;&#1077;&#1083;&#1100;&#1073;&#1077;&#1082;_%28&#1088;&#1077;&#1082;&#1072;%29" TargetMode="External"/><Relationship Id="rId5" Type="http://schemas.openxmlformats.org/officeDocument/2006/relationships/hyperlink" Target="http://ru.wikipedia.org/wiki/&#1057;&#1072;&#1089;&#1099;&#1082;-&#1057;&#1080;&#1074;&#1072;&#1096;" TargetMode="External"/><Relationship Id="rId6" Type="http://schemas.openxmlformats.org/officeDocument/2006/relationships/hyperlink" Target="http://ru.wikipedia.org/wiki/&#1055;&#1088;&#1080;&#1095;&#1077;&#1088;&#1085;&#1086;&#1084;&#1086;&#1088;&#1089;&#1082;&#1080;&#1081;_&#1072;&#1088;&#1090;&#1077;&#1079;&#1080;&#1072;&#1085;&#1089;&#1082;&#1080;&#1081;_&#1073;&#1072;&#1089;&#1089;&#1077;&#1081;&#1085;" TargetMode="External"/><Relationship Id="rId7" Type="http://schemas.openxmlformats.org/officeDocument/2006/relationships/hyperlink" Target="http://ru.wikipedia.org/wiki/&#1057;&#1077;&#1074;&#1077;&#1088;&#1086;-&#1050;&#1088;&#1099;&#1084;&#1089;&#1082;&#1080;&#1081;_&#1082;&#1072;&#1085;&#1072;&#1083;" TargetMode="External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5;&#1076;&#1086;&#1083;&#1086;-&#1050;&#1091;&#1073;&#1072;&#1085;&#1089;&#1082;&#1072;&#1103;_&#1085;&#1077;&#1092;&#1090;&#1077;&#1075;&#1072;&#1079;&#1086;&#1085;&#1086;&#1089;&#1085;&#1072;&#1103;_&#1086;&#1073;&#1083;&#1072;&#1089;&#1090;&#1100;" TargetMode="External"/><Relationship Id="rId2" Type="http://schemas.openxmlformats.org/officeDocument/2006/relationships/hyperlink" Target="http://ru.wikipedia.org/wiki/&#1055;&#1088;&#1080;&#1095;&#1077;&#1088;&#1085;&#1086;&#1084;&#1086;&#1088;&#1089;&#1082;&#1086;-&#1050;&#1088;&#1099;&#1084;&#1089;&#1082;&#1072;&#1103;_&#1085;&#1077;&#1092;&#1090;&#1077;&#1075;&#1072;&#1079;&#1086;&#1085;&#1086;&#1089;&#1085;&#1072;&#1103;_&#1086;&#1073;&#1083;&#1072;&#1089;&#1090;&#1100;" TargetMode="External"/><Relationship Id="rId3" Type="http://schemas.openxmlformats.org/officeDocument/2006/relationships/hyperlink" Target="http://ru.wikipedia.org/wiki/&#1050;&#1077;&#1088;&#1095;&#1077;&#1085;&#1089;&#1082;&#1080;&#1081;_&#1078;&#1077;&#1083;&#1077;&#1079;&#1086;&#1088;&#1091;&#1076;&#1085;&#1099;&#1081;_&#1073;&#1072;&#1089;&#1089;&#1077;&#1081;&#1085;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7;&#1083;&#1077;&#1079;&#1085;&#1072;&#1103;_&#1088;&#1091;&#1076;&#1072;" TargetMode="External"/><Relationship Id="rId2" Type="http://schemas.openxmlformats.org/officeDocument/2006/relationships/hyperlink" Target="http://ru.wikipedia.org/wiki/&#1050;&#1077;&#1088;&#1095;&#1077;&#1085;&#1089;&#1082;&#1080;&#1081;_&#1087;&#1086;&#1083;&#1091;&#1086;&#1089;&#1090;&#1088;&#1086;&#1074;" TargetMode="External"/><Relationship Id="rId3" Type="http://schemas.openxmlformats.org/officeDocument/2006/relationships/hyperlink" Target="http://ru.wikipedia.org/wiki/&#1053;&#1072;&#1090;&#1088;&#1080;&#1081;" TargetMode="External"/><Relationship Id="rId4" Type="http://schemas.openxmlformats.org/officeDocument/2006/relationships/hyperlink" Target="http://ru.wikipedia.org/wiki/&#1052;&#1072;&#1075;&#1085;&#1080;&#1081;" TargetMode="External"/><Relationship Id="rId5" Type="http://schemas.openxmlformats.org/officeDocument/2006/relationships/hyperlink" Target="http://ru.wikipedia.org/wiki/&#1041;&#1088;&#1086;&#1084;" TargetMode="External"/><Relationship Id="rId6" Type="http://schemas.openxmlformats.org/officeDocument/2006/relationships/hyperlink" Target="http://ru.wikipedia.org/wiki/&#1050;&#1074;&#1072;&#1088;&#1094;" TargetMode="External"/><Relationship Id="rId7" Type="http://schemas.openxmlformats.org/officeDocument/2006/relationships/hyperlink" Target="http://ru.wikipedia.org/wiki/&#1043;&#1080;&#1087;&#1089;" TargetMode="External"/><Relationship Id="rId8" Type="http://schemas.openxmlformats.org/officeDocument/2006/relationships/hyperlink" Target="http://ru.wikipedia.org/wiki/&#1050;&#1072;&#1088;&#1072;-&#1044;&#1072;&#1075;" TargetMode="External"/><Relationship Id="rId9" Type="http://schemas.openxmlformats.org/officeDocument/2006/relationships/hyperlink" Target="http://ru.wikipedia.org/wiki/&#1043;&#1086;&#1088;&#1085;&#1099;&#1081;_&#1093;&#1088;&#1091;&#1089;&#1090;&#1072;&#1083;&#1100;" TargetMode="External"/><Relationship Id="rId10" Type="http://schemas.openxmlformats.org/officeDocument/2006/relationships/hyperlink" Target="http://ru.wikipedia.org/wiki/&#1040;&#1084;&#1077;&#1090;&#1080;&#1089;&#1090;" TargetMode="External"/><Relationship Id="rId11" Type="http://schemas.openxmlformats.org/officeDocument/2006/relationships/hyperlink" Target="http://ru.wikipedia.org/wiki/&#1062;&#1080;&#1090;&#1088;&#1080;&#1085;" TargetMode="External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X_&#1074;&#1077;&#1082;" TargetMode="External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0;&#1078;&#1085;&#1099;&#1081;_&#1073;&#1077;&#1088;&#1077;&#1075;_&#1050;&#1088;&#1099;&#1084;&#1072;" TargetMode="External"/><Relationship Id="rId2" Type="http://schemas.openxmlformats.org/officeDocument/2006/relationships/hyperlink" Target="http://ru.wikipedia.org/wiki/&#1071;&#1083;&#1090;&#1080;&#1085;&#1089;&#1082;&#1080;&#1081;_&#1075;&#1086;&#1088;&#1089;&#1086;&#1074;&#1077;&#1090;" TargetMode="External"/><Relationship Id="rId3" Type="http://schemas.openxmlformats.org/officeDocument/2006/relationships/hyperlink" Target="http://ru.wikipedia.org/wiki/&#1040;&#1083;&#1091;&#1096;&#1090;&#1080;&#1085;&#1089;&#1082;&#1080;&#1081;_&#1075;&#1086;&#1088;&#1089;&#1086;&#1074;&#1077;&#1090;" TargetMode="External"/><Relationship Id="rId4" Type="http://schemas.openxmlformats.org/officeDocument/2006/relationships/hyperlink" Target="http://ru.wikipedia.org/wiki/&#1045;&#1074;&#1087;&#1072;&#1090;&#1086;&#1088;&#1080;&#1103;" TargetMode="External"/><Relationship Id="rId5" Type="http://schemas.openxmlformats.org/officeDocument/2006/relationships/hyperlink" Target="http://ru.wikipedia.org/wiki/&#1057;&#1072;&#1082;&#1080;_%28&#1075;&#1086;&#1088;&#1086;&#1076;%29" TargetMode="External"/><Relationship Id="rId6" Type="http://schemas.openxmlformats.org/officeDocument/2006/relationships/hyperlink" Target="http://ru.wikipedia.org/wiki/&#1060;&#1077;&#1086;&#1076;&#1086;&#1089;&#1080;&#1081;&#1089;&#1082;&#1080;&#1081;_&#1075;&#1086;&#1088;&#1089;&#1086;&#1074;&#1077;&#1090;" TargetMode="External"/><Relationship Id="rId7" Type="http://schemas.openxmlformats.org/officeDocument/2006/relationships/hyperlink" Target="http://ru.wikipedia.org/wiki/&#1057;&#1091;&#1076;&#1072;&#1082;&#1089;&#1082;&#1080;&#1081;_&#1075;&#1086;&#1088;&#1089;&#1086;&#1074;&#1077;&#1090;" TargetMode="External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99;&#1084;" TargetMode="External"/><Relationship Id="rId2" Type="http://schemas.openxmlformats.org/officeDocument/2006/relationships/hyperlink" Target="http://ru.wikipedia.org/wiki/&#1070;&#1078;&#1085;&#1099;&#1081;_&#1073;&#1077;&#1088;&#1077;&#1075;_&#1050;&#1088;&#1099;&#1084;&#1072;" TargetMode="External"/><Relationship Id="rId3" Type="http://schemas.openxmlformats.org/officeDocument/2006/relationships/hyperlink" Target="http://ru.wikipedia.org/wiki/&#1043;&#1091;&#1088;&#1079;&#1091;&#1092;" TargetMode="External"/><Relationship Id="rId4" Type="http://schemas.openxmlformats.org/officeDocument/2006/relationships/hyperlink" Target="http://ru.wikipedia.org/wiki/&#1055;&#1080;&#1086;&#1085;&#1077;&#1088;&#1089;&#1082;&#1080;&#1081;_&#1083;&#1072;&#1075;&#1077;&#1088;&#1100;" TargetMode="External"/><Relationship Id="rId5" Type="http://schemas.openxmlformats.org/officeDocument/2006/relationships/hyperlink" Target="http://ru.wikipedia.org/wiki/&#1057;&#1057;&#1057;&#1056;" TargetMode="External"/><Relationship Id="rId6" Type="http://schemas.openxmlformats.org/officeDocument/2006/relationships/hyperlink" Target="http://ru.wikipedia.org/wiki/&#1055;&#1080;&#1086;&#1085;&#1077;&#1088;&#1089;&#1082;&#1086;&#1077;_&#1076;&#1074;&#1080;&#1078;&#1077;&#1085;&#1080;&#1077;" TargetMode="External"/><Relationship Id="rId7" Type="http://schemas.openxmlformats.org/officeDocument/2006/relationships/hyperlink" Target="http://ru.wikipedia.org/wiki/1925_&#1075;&#1086;&#1076;" TargetMode="External"/><Relationship Id="rId8" Type="http://schemas.openxmlformats.org/officeDocument/2006/relationships/hyperlink" Target="http://deti-travel.ru/region/305/base/1358.html" TargetMode="External"/><Relationship Id="rId9" Type="http://schemas.openxmlformats.org/officeDocument/2006/relationships/hyperlink" Target="http://deti-travel.ru/region/305/base/1359.html" TargetMode="External"/><Relationship Id="rId10" Type="http://schemas.openxmlformats.org/officeDocument/2006/relationships/hyperlink" Target="http://deti-travel.ru/region/305/base/1357.html" TargetMode="External"/><Relationship Id="rId11" Type="http://schemas.openxmlformats.org/officeDocument/2006/relationships/hyperlink" Target="http://deti-travel.ru/region/305/base/1356.html" TargetMode="External"/><Relationship Id="rId12" Type="http://schemas.openxmlformats.org/officeDocument/2006/relationships/hyperlink" Target="http://deti-travel.ru/region/305/base/1355.html" TargetMode="External"/><Relationship Id="rId13" Type="http://schemas.openxmlformats.org/officeDocument/2006/relationships/hyperlink" Target="http://deti-travel.ru/region/305/base/1362.html" TargetMode="External"/><Relationship Id="rId14" Type="http://schemas.openxmlformats.org/officeDocument/2006/relationships/hyperlink" Target="http://deti-travel.ru/region/305/base/1363.html" TargetMode="External"/><Relationship Id="rId15" Type="http://schemas.openxmlformats.org/officeDocument/2006/relationships/hyperlink" Target="http://deti-travel.ru/region/305/base/1360.html" TargetMode="External"/><Relationship Id="rId16" Type="http://schemas.openxmlformats.org/officeDocument/2006/relationships/hyperlink" Target="http://deti-travel.ru/region/305/base/1361.html" TargetMode="External"/><Relationship Id="rId17" Type="http://schemas.openxmlformats.org/officeDocument/2006/relationships/image" Target="../media/image67.jpeg"/><Relationship Id="rId18" Type="http://schemas.openxmlformats.org/officeDocument/2006/relationships/image" Target="../media/image68.jpeg"/><Relationship Id="rId19" Type="http://schemas.openxmlformats.org/officeDocument/2006/relationships/image" Target="../media/image69.jpeg"/><Relationship Id="rId2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lora.crimea.ru/moshevelnik/moshevelnik.html" TargetMode="External"/><Relationship Id="rId2" Type="http://schemas.openxmlformats.org/officeDocument/2006/relationships/hyperlink" Target="http://flora.crimea.ru/zemlanichnik/zemlanichnik.html" TargetMode="External"/><Relationship Id="rId3" Type="http://schemas.openxmlformats.org/officeDocument/2006/relationships/hyperlink" Target="http://flora.crimea.ru/Orchidaceae/Comperia.html" TargetMode="External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8;&#1072;-&#1044;&#1072;&#1075;_%28&#1074;&#1091;&#1083;&#1082;&#1072;&#1085;&#1080;&#1095;&#1077;&#1089;&#1082;&#1080;&#1081;_&#1084;&#1072;&#1089;&#1089;&#1080;&#1074;%29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91;&#1086;&#1089;&#1090;&#1088;&#1086;&#1074;" TargetMode="External"/><Relationship Id="rId2" Type="http://schemas.openxmlformats.org/officeDocument/2006/relationships/hyperlink" Target="http://ru.wikipedia.org/wiki/&#1063;&#1105;&#1088;&#1085;&#1086;&#1077;_&#1084;&#1086;&#1088;&#1077;" TargetMode="External"/><Relationship Id="rId3" Type="http://schemas.openxmlformats.org/officeDocument/2006/relationships/hyperlink" Target="http://ru.wikipedia.org/wiki/&#1040;&#1079;&#1086;&#1074;&#1089;&#1082;&#1086;&#1077;_&#1084;&#1086;&#1088;&#1077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56;&#1077;&#1089;&#1087;&#1091;&#1073;&#1083;&#1080;&#1082;&#1072;_&#1050;&#1088;&#1099;&#1084;" TargetMode="External"/><Relationship Id="rId6" Type="http://schemas.openxmlformats.org/officeDocument/2006/relationships/hyperlink" Target="http://ru.wikipedia.org/wiki/&#1057;&#1077;&#1074;&#1072;&#1089;&#1090;&#1086;&#1087;&#1086;&#1083;&#1100;" TargetMode="External"/><Relationship Id="rId7" Type="http://schemas.openxmlformats.org/officeDocument/2006/relationships/hyperlink" Target="http://ru.wikipedia.org/wiki/&#1040;&#1088;&#1072;&#1073;&#1072;&#1090;&#1089;&#1082;&#1072;&#1103;_&#1089;&#1090;&#1088;&#1077;&#1083;&#1082;&#1072;" TargetMode="External"/><Relationship Id="rId8" Type="http://schemas.openxmlformats.org/officeDocument/2006/relationships/hyperlink" Target="http://ru.wikipedia.org/wiki/&#1061;&#1077;&#1088;&#1089;&#1086;&#1085;&#1089;&#1082;&#1072;&#1103;_&#1086;&#1073;&#1083;&#1072;&#1089;&#1090;&#1100;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_&#1072;&#1087;&#1088;&#1077;&#1083;&#1103;" TargetMode="External"/><Relationship Id="rId2" Type="http://schemas.openxmlformats.org/officeDocument/2006/relationships/hyperlink" Target="http://ru.wikipedia.org/wiki/1783" TargetMode="External"/><Relationship Id="rId3" Type="http://schemas.openxmlformats.org/officeDocument/2006/relationships/hyperlink" Target="http://ru.wikipedia.org/wiki/&#1045;&#1082;&#1072;&#1090;&#1077;&#1088;&#1080;&#1085;&#1072;_II" TargetMode="External"/><Relationship Id="rId4" Type="http://schemas.openxmlformats.org/officeDocument/2006/relationships/hyperlink" Target="http://ru.wikipedia.org/wiki/&#1056;&#1086;&#1089;&#1089;&#1080;&#1081;&#1089;&#1082;&#1072;&#1103;_&#1080;&#1084;&#1087;&#1077;&#1088;&#1080;&#1103;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_&#1084;&#1072;&#1088;&#1090;&#1072;" TargetMode="External"/><Relationship Id="rId2" Type="http://schemas.openxmlformats.org/officeDocument/2006/relationships/hyperlink" Target="http://ru.wikipedia.org/wiki/&#1055;&#1088;&#1080;&#1089;&#1086;&#1077;&#1076;&#1080;&#1085;&#1077;&#1085;&#1080;&#1077;_&#1050;&#1088;&#1099;&#1084;&#1072;_&#1082;_&#1056;&#1086;&#1089;&#1089;&#1080;&#1080;_%282014%29" TargetMode="External"/><Relationship Id="rId3" Type="http://schemas.openxmlformats.org/officeDocument/2006/relationships/hyperlink" Target="http://ru.wikipedia.org/wiki/&#1057;&#1077;&#1074;&#1072;&#1089;&#1090;&#1086;&#1087;&#1086;&#1083;&#1100;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99;&#1089;_&#1053;&#1080;&#1082;&#1086;&#1083;&#1072;&#1103;" TargetMode="External"/><Relationship Id="rId2" Type="http://schemas.openxmlformats.org/officeDocument/2006/relationships/hyperlink" Target="http://ru.wikipedia.org/w/index.php?title=&#1050;&#1072;&#1088;&#1072;-&#1052;&#1088;&#1091;&#1085;_%28&#1084;&#1099;&#1089;%29&amp;action=edit&amp;redlink=1" TargetMode="External"/><Relationship Id="rId3" Type="http://schemas.openxmlformats.org/officeDocument/2006/relationships/hyperlink" Target="http://ru.wikipedia.org/wiki/&#1058;&#1072;&#1088;&#1093;&#1072;&#1085;&#1082;&#1091;&#1090;&#1089;&#1082;&#1080;&#1081;_&#1087;&#1086;&#1083;&#1091;&#1086;&#1089;&#1090;&#1088;&#1086;&#1074;" TargetMode="External"/><Relationship Id="rId4" Type="http://schemas.openxmlformats.org/officeDocument/2006/relationships/hyperlink" Target="http://ru.wikipedia.org/wiki/&#1060;&#1086;&#1085;&#1072;&#1088;&#1100;_%28&#1084;&#1099;&#1089;%29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105;&#1088;&#1085;&#1086;&#1077;_&#1084;&#1086;&#1088;&#1077;" TargetMode="External"/><Relationship Id="rId2" Type="http://schemas.openxmlformats.org/officeDocument/2006/relationships/hyperlink" Target="http://ru.wikipedia.org/wiki/&#1040;&#1079;&#1086;&#1074;&#1089;&#1082;&#1086;&#1077;_&#1084;&#1086;&#1088;&#1077;" TargetMode="External"/><Relationship Id="rId3" Type="http://schemas.openxmlformats.org/officeDocument/2006/relationships/hyperlink" Target="http://ru.wikipedia.org/wiki/&#1055;&#1077;&#1088;&#1077;&#1082;&#1086;&#1087;&#1089;&#1082;&#1080;&#1081;_&#1087;&#1077;&#1088;&#1077;&#1096;&#1077;&#1077;&#1082;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10802880" cy="373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066920" y="3933360"/>
            <a:ext cx="4608360" cy="237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зентацию подготовила учитель географи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У «СОШ №5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. Всеволожск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енинградской области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авлова Татьяна Александр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40291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3280" y="980640"/>
            <a:ext cx="3683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ерега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аккумулятивн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ровнены. Протяжённость береговой линии свыше 1 тысячи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Крупнейшие заливы на побережье Чёрного моря: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Каркинит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Каламит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Феодосий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побережье Азовского: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Сиваш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Казантип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8"/>
              </a:rPr>
              <a:t>Арабатск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 востоке Крыма находится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9"/>
              </a:rPr>
              <a:t>Керченский полуост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на западе —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0"/>
              </a:rPr>
              <a:t>Тарханкутский полуост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на юге —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1"/>
              </a:rPr>
              <a:t>Гераклейский полуост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на севере —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2"/>
              </a:rPr>
              <a:t>Тюп-Тархан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3"/>
          <a:stretch/>
        </p:blipFill>
        <p:spPr>
          <a:xfrm>
            <a:off x="223920" y="480960"/>
            <a:ext cx="4314600" cy="323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4"/>
          <a:stretch/>
        </p:blipFill>
        <p:spPr>
          <a:xfrm>
            <a:off x="223920" y="3716280"/>
            <a:ext cx="43257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ктон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12280" y="198864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ымский полуостров можно разделить на две крупные тектонические структуры: Cкифскую плиту и Альпийскую геосинклинальную складчатую обла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540320" y="1628640"/>
            <a:ext cx="4275000" cy="2935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3"/>
          <a:stretch/>
        </p:blipFill>
        <p:spPr>
          <a:xfrm>
            <a:off x="4546440" y="3429000"/>
            <a:ext cx="2167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8320" y="1412640"/>
            <a:ext cx="40384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ое геологическое строение имеет Керченский полуостров, который является как бы границей перехода от платформенной части к складчатым структурам, где был сформирован Индоло-Кубанский краевой прогиб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90520" y="278136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263520" y="836640"/>
            <a:ext cx="4262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лье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11280" y="1934640"/>
            <a:ext cx="8075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льеф Крымского полуострова представляет собой три неравные части: Северо-Крымская равнина с Тарханкутской возвышенностью (около 70 % территории), Керченский полуостров и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горный Кры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ростирающийся тремя грядами на юге. Главная гряда Крымских гор (1545 м, гора Роман-Кош) состоит из отдельных известняковых массивов (яйл) с платоподобними вершинами, глубокими каньонами. Южный склон Главной гряды выделяется как Крымское субсредиземноморье. Внутренняя и Внешняя гряды образуют Крымское предгорь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48240" y="704520"/>
            <a:ext cx="4138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епной Кры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32000" y="1920960"/>
            <a:ext cx="3754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епной Крым занимает 16 840 км², что составляет около 72% территории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рым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епной Кры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— равнинная часть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рымског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луострова, некогда занятая степной раститель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297000" y="549360"/>
            <a:ext cx="4225680" cy="3168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4"/>
          <a:stretch/>
        </p:blipFill>
        <p:spPr>
          <a:xfrm>
            <a:off x="324000" y="3718080"/>
            <a:ext cx="4224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ымские го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рный Крым в пределах альпийской геосинклинальной складчатой области протянулся полосой около 180 км от Севастополя до Феодосии и шириной до 50 км. Горный Крым состоит из трех гряд-куэст: Главной, внутренней и внешней, которые имеют пологий длинный северный и крутой короткий южный скло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678200" y="620640"/>
            <a:ext cx="4200840" cy="3149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4678200" y="3770280"/>
            <a:ext cx="42008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ымские го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вная гряда возвышается над южным берегом Крыма отвесными обрывами. Наиболее высокая часть гряды имеет вид гребня. Между ее южными и северными склонами располагаются столообразные поверхности-яйлы (с тюркского "летнее пастбище"). С запада на восток различают 10 яйл: Байдарская, Ай-Петринская, Ялтинская, Никитская, Гурзуфская, Бабуган - самая высокая с вершиной Роман-Кош (1545 м.), Чатырдагская, Демерджи, Долгоруковская, Караби-яйла - самая большая по площади(113 км. кв.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4686480" y="422280"/>
            <a:ext cx="3997080" cy="300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2"/>
          <a:stretch/>
        </p:blipFill>
        <p:spPr>
          <a:xfrm>
            <a:off x="4686480" y="3429000"/>
            <a:ext cx="399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76720" y="1196640"/>
            <a:ext cx="3610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лагодаря мощным толщам верхнеюрских известняков на Главной куэсте  насчитывают более 800 крупных карстовых полостей (пещеры: Мраморная, Кизил-Коба (более 21 км.), Эмине-Баир-Хосар, Ставрикайская, Басман и др.; шахты: Крубера, Солдатская (517м.), Молодежная и др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4367160" cy="2292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345960" y="879480"/>
            <a:ext cx="44640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557360"/>
            <a:ext cx="3683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южных склонов характерны лакколиты (низвергнувшиеся вулканы)- куполообразные вершины, состоящие из магматических пород (Аюдаг, Плака, Кастель, Урага и др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4133880" y="3429000"/>
            <a:ext cx="4640400" cy="3108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4106880" y="565200"/>
            <a:ext cx="46958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267920"/>
            <a:ext cx="40384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еобразной визитной карточкой Крыма является Карадагский вулканический массив (577м.), образовавшийся в среднеюрский период в результате подводных вулканических изверж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746280" y="3860640"/>
            <a:ext cx="36194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12560" y="1557360"/>
            <a:ext cx="873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кие горные   верши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ман-Кош — 1545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мир-Капу — 1540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ейтин-Кош — 1534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емаль-Эгерек — 1529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лизи-Бурун — 1527 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гара-Бурун — 1453 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530600" y="3456000"/>
            <a:ext cx="4489560" cy="3365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530600" y="219240"/>
            <a:ext cx="450396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980640"/>
            <a:ext cx="4038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рельеф Крыма оказывают влияние как внутренние, так и внешние процессы (землетрясения, оползни, обвалы, осыпи, абразия берегов, сели, карст, водная и ветровая эрозия, просадка грунта и др.). Крым подвержен сейсмической опасности в предгорье и равнинной части до 6-7 баллов, в горном Крыму и на ЮБК до 8-9 балл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03680" y="1920960"/>
            <a:ext cx="4083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4603680" y="611280"/>
            <a:ext cx="4240440" cy="2867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4643280" y="3478320"/>
            <a:ext cx="4199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9280" y="7045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цессы выветрив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3280" y="1920960"/>
            <a:ext cx="36831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Штормы усиливают морскую абразию, видоизменяя крымский берег. Селевые паводки проходят по долинам горных рек Ускут, Ай-Серез, Шелен, Ворон и др., размывая и разрушая территорию. Водная и ветровая эрозия создаёт причудливые формы скал ("сфинксы", «каменные грибы", «столбы-приведения"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326880" y="801720"/>
            <a:ext cx="3570480" cy="2674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2987640" y="784080"/>
            <a:ext cx="2001960" cy="2673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3"/>
          <a:stretch/>
        </p:blipFill>
        <p:spPr>
          <a:xfrm>
            <a:off x="353880" y="3492360"/>
            <a:ext cx="4138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72104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лимат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9280" y="1920960"/>
            <a:ext cx="3527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ым, несмотря на относительно небольшую территорию, отличается разнообразным климат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лима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еверной части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умеренно-континентальны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на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южном берег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с чертами похожими на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субтропиче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5"/>
          <a:stretch/>
        </p:blipFill>
        <p:spPr>
          <a:xfrm>
            <a:off x="4191120" y="504720"/>
            <a:ext cx="4854600" cy="3249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6"/>
          <a:stretch/>
        </p:blipFill>
        <p:spPr>
          <a:xfrm>
            <a:off x="4179960" y="3738600"/>
            <a:ext cx="485460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чв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92200" y="1926720"/>
            <a:ext cx="35481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чвы Крыма разнообразны. К почвам равнинного Крыма относят: тёмно-каштановые, чернозёмы южные, чернозёмы предгорные, лугово-чернозёмные, лугово-каштановые, солонцы и солончаки.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Солонцы и солончак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распространены в Присивашье, на побережьях Каркинитского залива и Керченского полуостро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горном Крыму сформировались бурые горно-лесные почв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4275000" y="647640"/>
            <a:ext cx="4680000" cy="2954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4275000" y="3602160"/>
            <a:ext cx="462132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435280" y="398160"/>
            <a:ext cx="32511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  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Гидрограф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76720" y="1125360"/>
            <a:ext cx="345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 территории Крыма протекают 257 рек (крупнейшие —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Салги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ач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Альм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Бель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ндол, Биюк-Карасу, Чёрная, Бурульча). Самая длинная река Крыма — Салгир (220 км), самая полноводная — Бельбек (расход воды — 1500 литров в секунду). В Крыму находится свыше 50 солёных озёр, самое крупное из них — озеро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Сасык-Сиваш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 205 км². Расположен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Причерноморский артезианский бассей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Степная часть изрезана каналами для орошения, крупнейшим является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Северо-Крымский кана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8"/>
          <a:stretch/>
        </p:blipFill>
        <p:spPr>
          <a:xfrm>
            <a:off x="246240" y="3484440"/>
            <a:ext cx="4249440" cy="3186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9"/>
          <a:stretch/>
        </p:blipFill>
        <p:spPr>
          <a:xfrm>
            <a:off x="216000" y="398520"/>
            <a:ext cx="4276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246640" y="764640"/>
            <a:ext cx="38988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лезные ископаемы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Индоло-Кубанская нефтегазоносная об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Причерноморско-Крымская нефтегазоносная об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Керченский железорудный бассей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4"/>
          <a:stretch/>
        </p:blipFill>
        <p:spPr>
          <a:xfrm>
            <a:off x="119160" y="404640"/>
            <a:ext cx="4599000" cy="329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"/>
          <p:cNvPicPr/>
          <p:nvPr/>
        </p:nvPicPr>
        <p:blipFill>
          <a:blip r:embed="rId5"/>
          <a:stretch/>
        </p:blipFill>
        <p:spPr>
          <a:xfrm>
            <a:off x="119160" y="3324240"/>
            <a:ext cx="45925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1520" y="764640"/>
            <a:ext cx="4038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иболее важным видом полезных ископаемых Крымского полуострова являются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железные руд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залежи которых сосредоточены на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ерченском полуостров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Из солёных озер Крыма добываются соли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натр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маг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бром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кальция, также имеются источники с минеральной водой хлоридно-сульфатного состава. Из нерудных полезных ископаемых большое значение имеют залежи известняка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кварцевых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есков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гипс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глин. В районе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8"/>
              </a:rPr>
              <a:t>Кара-Даг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стречаются поделочные камни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9"/>
              </a:rPr>
              <a:t>горный хрустал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0"/>
              </a:rPr>
              <a:t>аметист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1"/>
              </a:rPr>
              <a:t>цитри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друг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2"/>
          <a:stretch/>
        </p:blipFill>
        <p:spPr>
          <a:xfrm>
            <a:off x="4643280" y="476280"/>
            <a:ext cx="4395960" cy="3246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"/>
          <p:cNvPicPr/>
          <p:nvPr/>
        </p:nvPicPr>
        <p:blipFill>
          <a:blip r:embed="rId13"/>
          <a:stretch/>
        </p:blipFill>
        <p:spPr>
          <a:xfrm>
            <a:off x="4937040" y="372276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704520"/>
            <a:ext cx="397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екреационные ресурс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0280" y="2060640"/>
            <a:ext cx="3303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ибольшее значение имеют природные рекреационные ресурсы: мягкий климат, теплое море, лечебные грязи, минеральные воды, живописные пейзаж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302000" y="4680"/>
            <a:ext cx="4842000" cy="322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4302000" y="3198960"/>
            <a:ext cx="4842000" cy="36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219280" y="7045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дых            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76720" y="1920960"/>
            <a:ext cx="3610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чало развития Крыма как курорта относится ко второй половине 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XIX ве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С улучшением транспортного сообщения жителям Центральных губерний Российской империи стало проще добираться на морские курорты. На рубеже веков происходит бум строительства летних резиденций: дач, вилл и дворцов. Сохранившиеся по сей день, они являются одной из характерных черт крымских горо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330120" y="703440"/>
            <a:ext cx="4224240" cy="281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3"/>
          <a:stretch/>
        </p:blipFill>
        <p:spPr>
          <a:xfrm>
            <a:off x="341280" y="3500280"/>
            <a:ext cx="421308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луостров Кры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44520" y="1219320"/>
            <a:ext cx="83692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661680"/>
            <a:ext cx="7483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ды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вестные курортные район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Южный берег Крыма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 —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Ялтин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Алуштин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реги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Западное побережье —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Евпаторийско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-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Сак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регио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Юго-Восточное побережье —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Феодосий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Судакский</a:t>
            </a: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 реги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6758640" y="765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луп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8"/>
          <a:stretch/>
        </p:blipFill>
        <p:spPr>
          <a:xfrm>
            <a:off x="4427640" y="404640"/>
            <a:ext cx="4503600" cy="30402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6974640" y="62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луп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9"/>
          <a:stretch/>
        </p:blipFill>
        <p:spPr>
          <a:xfrm>
            <a:off x="4427640" y="3444840"/>
            <a:ext cx="4503600" cy="3121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1"/>
          <p:cNvSpPr/>
          <p:nvPr/>
        </p:nvSpPr>
        <p:spPr>
          <a:xfrm>
            <a:off x="6997320" y="3860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л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511200" y="981000"/>
            <a:ext cx="8140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230040" y="260280"/>
            <a:ext cx="4491360" cy="3368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4721400" y="3648240"/>
            <a:ext cx="4267080" cy="28717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64404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вад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5183640" y="429264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ерсоне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2" name="Picture 7" descr=""/>
          <p:cNvPicPr/>
          <p:nvPr/>
        </p:nvPicPr>
        <p:blipFill>
          <a:blip r:embed="rId3"/>
          <a:stretch/>
        </p:blipFill>
        <p:spPr>
          <a:xfrm>
            <a:off x="230040" y="3629160"/>
            <a:ext cx="4491360" cy="289080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2435040" y="40053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о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4"/>
          <a:stretch/>
        </p:blipFill>
        <p:spPr>
          <a:xfrm>
            <a:off x="4721400" y="250920"/>
            <a:ext cx="4265280" cy="33782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7"/>
          <p:cNvSpPr/>
          <p:nvPr/>
        </p:nvSpPr>
        <p:spPr>
          <a:xfrm>
            <a:off x="7206480" y="7747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уда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755640" y="187200"/>
            <a:ext cx="77709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74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8560" y="1052640"/>
            <a:ext cx="72118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рте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5280" y="185868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Арте́к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 международный детский центр в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рым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Расположен на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южном берегу Крым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посёлке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Гурзуф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 прошлом — самый знаменитый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пионерский лагерь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5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визитная карточка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6"/>
              </a:rPr>
              <a:t>Пионерск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страны. Лагерь был открыт 16 июня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7"/>
              </a:rPr>
              <a:t>1925 го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59280" y="3284640"/>
            <a:ext cx="38275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агерь "Артек" - это 10 детских лагере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- шесть из них работают круглогодично — «Алмазный», 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8"/>
              </a:rPr>
              <a:t>«Янтар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9"/>
              </a:rPr>
              <a:t>«Хрусталь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0"/>
              </a:rPr>
              <a:t>«Морск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1"/>
              </a:rPr>
              <a:t>«Лазур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2"/>
              </a:rPr>
              <a:t>«Кипарис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- четыре только в сезон с мая по октябрь —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3"/>
              </a:rPr>
              <a:t>«Речн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4"/>
              </a:rPr>
              <a:t>«Озерны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5"/>
              </a:rPr>
              <a:t>«Лесн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onstantia"/>
                <a:hlinkClick r:id="rId16"/>
              </a:rPr>
              <a:t>«Полевой»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7"/>
          <a:stretch/>
        </p:blipFill>
        <p:spPr>
          <a:xfrm>
            <a:off x="4836960" y="111240"/>
            <a:ext cx="3622680" cy="3019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18"/>
          <a:stretch/>
        </p:blipFill>
        <p:spPr>
          <a:xfrm>
            <a:off x="900000" y="4165560"/>
            <a:ext cx="3141720" cy="2519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19"/>
          <a:stretch/>
        </p:blipFill>
        <p:spPr>
          <a:xfrm>
            <a:off x="179280" y="84240"/>
            <a:ext cx="1812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03280" y="7045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ау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360" y="1915920"/>
            <a:ext cx="3672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степном Крыму из млекопитающих широко распространены: суслики, мыши, хомяки, тушканчики, а также степной хорёк, ласка, лисица. Довольно богат мир птиц, особенно водоплавающих. Это чайки-хохотуньи, цапли, чибисы. Из других видов птиц представлены степные орлы, жаворонки, пустельги, куропатки и др. Из пресмыкающихся и земноводных здесь обитают: степная гадюка, ящерицы, ужи и др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1676520" cy="1724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424400" y="5651640"/>
            <a:ext cx="4570200" cy="1199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4665600" y="227160"/>
            <a:ext cx="4097520" cy="2857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4"/>
          <a:stretch/>
        </p:blipFill>
        <p:spPr>
          <a:xfrm>
            <a:off x="4665600" y="3068640"/>
            <a:ext cx="40896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ау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горном Крыму фауна значительно богаче. Из млекопитающих встречаются: крымский олень, косуля, кабан, муфлон. Из хищников - лисица обыкновенная, куница каменная, ласка, барсу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тиц в крымских лесах не много. Это дятлы, скворцы, дрозды, зяблики и хищные виды - ястребы, белоголовые сипы, чёрные грифы. Пресмыкающиеся и земноводные представлены: черепахами болотными, леопардовым и желтобрюхим полозами, ящерицами. Среди насекомых выделяются средиземноморские виды: цикады, москиты, жуки-богомолы, крымская жужелиц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08000" y="4292640"/>
            <a:ext cx="3068640" cy="2455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3182760" cy="21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1332000" y="2349360"/>
            <a:ext cx="32209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14480" y="73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ло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настоящее время на полуострове насчитывается свыше 2536 видов и подвидов высших растений . В Крыму 106 эндемичных видов растений, то есть видов, которые свойственны исключительно Крыму и нигде больше не встречаются. Во флоре горного Крыма немало третичных реликтов, например,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можжевельник высокий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земляничник мелкоплодный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комперия Компер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 другие расте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4"/>
          <a:stretch/>
        </p:blipFill>
        <p:spPr>
          <a:xfrm>
            <a:off x="9360" y="0"/>
            <a:ext cx="1905120" cy="146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5"/>
          <a:stretch/>
        </p:blipFill>
        <p:spPr>
          <a:xfrm>
            <a:off x="4503600" y="3357720"/>
            <a:ext cx="4326120" cy="3319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6"/>
          <a:stretch/>
        </p:blipFill>
        <p:spPr>
          <a:xfrm>
            <a:off x="4533840" y="333360"/>
            <a:ext cx="41864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Никитский ботанический сад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55640" y="2060280"/>
            <a:ext cx="34560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икитский ботанический сад – удивительный уголок Крыма. Расположенный неподалеку от Ялты, в поселке Никита, сад плавно спускается к морю, образуя несколько парков: Верхний, Нижний, Приморский, парк на мысе Монтедор. Никитский ботанический сад – это огромная коллекция растений со всего света, это один из старейших ботанических садов мир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4429080" y="2276640"/>
            <a:ext cx="4370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276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В русских источниках Крымский полуостров до 1920-х годов именовался Тавридой.  Современное же название полуострова происходит, вероятно, от тюркского слова «кырым» — вал, стена, ров</a:t>
            </a:r>
            <a:r>
              <a:rPr b="0" lang="ru-RU" sz="2000" spc="-1" strike="noStrike" baseline="30000">
                <a:solidFill>
                  <a:srgbClr val="04617b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2708280"/>
            <a:ext cx="822960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550880" y="1943280"/>
            <a:ext cx="60962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31840" y="123840"/>
            <a:ext cx="4194000" cy="3149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231840" y="3267000"/>
            <a:ext cx="4194000" cy="3157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3"/>
          <a:stretch/>
        </p:blipFill>
        <p:spPr>
          <a:xfrm>
            <a:off x="4425840" y="123840"/>
            <a:ext cx="4483080" cy="3108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"/>
          <p:cNvPicPr/>
          <p:nvPr/>
        </p:nvPicPr>
        <p:blipFill>
          <a:blip r:embed="rId4"/>
          <a:stretch/>
        </p:blipFill>
        <p:spPr>
          <a:xfrm>
            <a:off x="4425840" y="3203640"/>
            <a:ext cx="44737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32360" y="549000"/>
            <a:ext cx="316872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храна приро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788000" y="206064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родно-заповедный фонд включает 158 объектов и территорий (в том числе 46 общегосударственного значения, площадь которых составляет 5,8 % площади Крымского полуострова). Основу заповедного фонда составляют 6 природных заповедников общей площадью 63,9 тыс. га Крымский с филиалом «Лебяжьи острова», Ялтинский горно-лесной, Мыс Мартьян, Карадагский, Казантипский, Опукск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-12600" y="3521160"/>
            <a:ext cx="4944960" cy="3333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11160" y="22320"/>
            <a:ext cx="48974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88960" y="10522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Наук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052640"/>
            <a:ext cx="382752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Крыму расположены крупные научные центры — океанографического (в Севастополе и Керчи), эколого-биологического (</a:t>
            </a:r>
            <a:r>
              <a:rPr b="0" lang="ru-RU" sz="2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Карадагска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биостанция), историко-археологического, курортологического, общемедицинского, аграрного и винодельческого, военно-космического, авиационного и военно-морского профиля. Университеты — Таврический национальный, медицинский, аграрный, Севастопольский национальный технический университет.   На юге Крыма расположены Крымская астрофизическая обсерватория и её филиал — Симеизская обсерватор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578480" y="620640"/>
            <a:ext cx="4287600" cy="2881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4578480" y="3502080"/>
            <a:ext cx="4297320" cy="30002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5867280" y="378936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ымская обсерватор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6300720" y="98100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радагская биостанц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00000" y="7045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ультура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052640"/>
            <a:ext cx="397044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рым — один из немногих районов Восточной Европы, приобщившихся к культуре античных Греции и Рима во времена их расцвета. Крымская культура Средних веков тесно связана с Византией и Средиземноморьем. Сохранившиеся доныне руины Херсонеса, основанного ещё в античные времена — наследие древнегреческой и ранней средневековой византийской архитектуры. Позднесредневековая культура полуострова проникнута влиянием малоазиатской мусульманской культуры, несёт на себе отпечаток сельджукизма. Крым — родина многих народов и культур, начиная от ранне-осевших народов — греков, армян, болгар, римлян и др. и позже-осевших в результате новых завоеваний — татар и славянских народов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4608360" y="3209760"/>
            <a:ext cx="4229280" cy="3175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5"/>
          <p:cNvSpPr/>
          <p:nvPr/>
        </p:nvSpPr>
        <p:spPr>
          <a:xfrm>
            <a:off x="6984000" y="6093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ерсоне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4608360" y="260280"/>
            <a:ext cx="4229280" cy="26892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6980040" y="27082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о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55640" y="1341360"/>
            <a:ext cx="3384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ым связан с именами И. К. Айвазовского, Чехова, Волошина, Грина, Аркадия Аверченко, Марины Цветаевой; красоту полуострова воспел в «Крымских сонетах» Мицкевич; героическому прошлому, посвящены стихи Алексея Апухтина и Юлии Друниной.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646360" cy="3558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594320" y="260280"/>
            <a:ext cx="2592360" cy="34686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4"/>
          <p:cNvSpPr/>
          <p:nvPr/>
        </p:nvSpPr>
        <p:spPr>
          <a:xfrm>
            <a:off x="4836600" y="2781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л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7655040" y="630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еодо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4973760" y="3255840"/>
            <a:ext cx="4046400" cy="2924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"/>
          <p:cNvPicPr/>
          <p:nvPr/>
        </p:nvPicPr>
        <p:blipFill>
          <a:blip r:embed="rId2"/>
          <a:stretch/>
        </p:blipFill>
        <p:spPr>
          <a:xfrm>
            <a:off x="4859280" y="168120"/>
            <a:ext cx="3954600" cy="28400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1"/>
          <p:cNvSpPr/>
          <p:nvPr/>
        </p:nvSpPr>
        <p:spPr>
          <a:xfrm>
            <a:off x="7073280" y="2852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. Коров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6876720" y="616572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.Г. Мясое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0" name="Picture 11" descr=""/>
          <p:cNvPicPr/>
          <p:nvPr/>
        </p:nvPicPr>
        <p:blipFill>
          <a:blip r:embed="rId3"/>
          <a:stretch/>
        </p:blipFill>
        <p:spPr>
          <a:xfrm>
            <a:off x="576360" y="168120"/>
            <a:ext cx="3743280" cy="30448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"/>
          <p:cNvSpPr/>
          <p:nvPr/>
        </p:nvSpPr>
        <p:spPr>
          <a:xfrm>
            <a:off x="2201760" y="3222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. Васнец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4"/>
          <a:stretch/>
        </p:blipFill>
        <p:spPr>
          <a:xfrm>
            <a:off x="650880" y="3527280"/>
            <a:ext cx="3592440" cy="26384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2490120" y="63500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. Серебряко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4614840" y="3421080"/>
            <a:ext cx="4260960" cy="315288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7057440" y="6381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 И. Куинд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338040" y="281160"/>
            <a:ext cx="4151520" cy="2831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219240" y="3484440"/>
            <a:ext cx="4390920" cy="3102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4"/>
          <a:stretch/>
        </p:blipFill>
        <p:spPr>
          <a:xfrm>
            <a:off x="4614840" y="281160"/>
            <a:ext cx="4222800" cy="27874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7"/>
          <p:cNvSpPr/>
          <p:nvPr/>
        </p:nvSpPr>
        <p:spPr>
          <a:xfrm>
            <a:off x="5937120" y="306864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.Айвазовс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2354400" y="325440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. Василье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TextBox 9"/>
          <p:cNvSpPr/>
          <p:nvPr/>
        </p:nvSpPr>
        <p:spPr>
          <a:xfrm>
            <a:off x="2211480" y="65660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. Милю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4920" y="601560"/>
            <a:ext cx="77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ссанд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24000" y="1412640"/>
            <a:ext cx="41716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ссандра является крупным центром виноградарства и виноделия в Крыму. Здесь находятся всемирно известные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Головной завод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инподвал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богатой энотекой (коллекцией вин)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инкомбината "Массандра"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4052880" y="14400"/>
            <a:ext cx="2324160" cy="19206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5003640" y="1889280"/>
            <a:ext cx="3618000" cy="4824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"/>
          <p:cNvPicPr/>
          <p:nvPr/>
        </p:nvPicPr>
        <p:blipFill>
          <a:blip r:embed="rId3"/>
          <a:stretch/>
        </p:blipFill>
        <p:spPr>
          <a:xfrm>
            <a:off x="5364000" y="60480"/>
            <a:ext cx="3618000" cy="1828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4"/>
          <a:stretch/>
        </p:blipFill>
        <p:spPr>
          <a:xfrm>
            <a:off x="826920" y="3997440"/>
            <a:ext cx="33782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Крым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 —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в северной част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2"/>
              </a:rPr>
              <a:t>Чёрного моря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, с северо-востока омывается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3"/>
              </a:rPr>
              <a:t>Азовским морем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Бо́льшую часть территории полуострова занимают входящие в состав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4"/>
              </a:rPr>
              <a:t>Российской Федерации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5"/>
              </a:rPr>
              <a:t>Республика Крым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6"/>
              </a:rPr>
              <a:t>Севастополь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.Северная часть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7"/>
              </a:rPr>
              <a:t>Арабатской стрелки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входит в состав </a:t>
            </a:r>
            <a:r>
              <a:rPr b="0" lang="ru-RU" sz="1800" spc="-1" strike="noStrike" u="sng">
                <a:solidFill>
                  <a:srgbClr val="f49100"/>
                </a:solidFill>
                <a:uFillTx/>
                <a:latin typeface="Calibri"/>
                <a:hlinkClick r:id="rId8"/>
              </a:rPr>
              <a:t>Херсонской области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(Украина)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9"/>
          <a:stretch/>
        </p:blipFill>
        <p:spPr>
          <a:xfrm>
            <a:off x="739800" y="2133720"/>
            <a:ext cx="7777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4360" y="1920960"/>
            <a:ext cx="34560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19 апрел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178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Императрицей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Екатериной I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дписан Манифест о присоединении к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Российской импер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Кры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5"/>
          <a:stretch/>
        </p:blipFill>
        <p:spPr>
          <a:xfrm>
            <a:off x="4597560" y="500040"/>
            <a:ext cx="4290840" cy="3216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6"/>
          <a:stretch/>
        </p:blipFill>
        <p:spPr>
          <a:xfrm>
            <a:off x="4597560" y="3716280"/>
            <a:ext cx="43704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57360"/>
            <a:ext cx="36100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18 март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2014 года был подписан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догово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 вхождении Республики Крым и города </a:t>
            </a:r>
            <a:r>
              <a:rPr b="0" lang="ru-RU" sz="26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Севастопол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 состав Российской Федерации на правах субъектов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4"/>
          <a:stretch/>
        </p:blipFill>
        <p:spPr>
          <a:xfrm>
            <a:off x="4152960" y="3429000"/>
            <a:ext cx="4714920" cy="3139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5"/>
          <a:stretch/>
        </p:blipFill>
        <p:spPr>
          <a:xfrm>
            <a:off x="4152960" y="549360"/>
            <a:ext cx="47149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052640"/>
            <a:ext cx="368316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айняя северная точка Крыма расположена на Перекопском перешейке, крайняя южная —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мыс Никола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крайняя западная — мыс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Кара-Мрун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(Прибойный) на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Тарханкут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крайняя восточная — мыс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4"/>
              </a:rPr>
              <a:t>Фонарь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на Керченском полуострове. Расстояние с запада на восток (между мысами Кара-Мрун и Фонарь) — 326 км, с севера на юг (от Перекопского перешейка до мыса Николая) — 205 км.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5"/>
          <a:stretch/>
        </p:blipFill>
        <p:spPr>
          <a:xfrm>
            <a:off x="4356000" y="2349360"/>
            <a:ext cx="44020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82480" y="1125000"/>
            <a:ext cx="326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ымский полуостров глубоко выдаётся в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Чёрное море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которым омывается с юга и запада, с востока омывается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Азовским море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На севере соединяется с континентом узким (до 8 км) </a:t>
            </a:r>
            <a:r>
              <a:rPr b="0" lang="ru-RU" sz="22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Перекопским перешейко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Площадь — около 26 860 км², из которых 72 % — равнина, 20 % — горы и 8 % — озёра и другие водные объек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4"/>
          <a:stretch/>
        </p:blipFill>
        <p:spPr>
          <a:xfrm>
            <a:off x="3882960" y="2006640"/>
            <a:ext cx="50450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3:25:23Z</dcterms:created>
  <dc:creator>1</dc:creator>
  <dc:description/>
  <dc:language>en-US</dc:language>
  <cp:lastModifiedBy>1</cp:lastModifiedBy>
  <dcterms:modified xsi:type="dcterms:W3CDTF">2014-05-08T13:24:26Z</dcterms:modified>
  <cp:revision>6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440000000000010250300207f7000400038000</vt:lpwstr>
  </property>
</Properties>
</file>