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wmf" ContentType="image/x-wmf"/>
  <Override PartName="/ppt/media/image4.gif" ContentType="image/gif"/>
  <Override PartName="/ppt/media/image8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FA9-77B0-45A5-91DB-2866C28D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9CC-6F86-411C-9E6C-9BF51AEC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0EE-4161-4F06-BF37-3DDFDA88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2EE-A8F5-4FE9-A6AA-4A192518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5830-625E-47C6-8829-F996F94A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9AB7-64AD-4366-985C-5257F30A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0A3A-1F9F-49ED-8814-1BD605D8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52A5-DD73-4A64-9EF3-FC00DDAE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C6F9-05F6-4E0B-B4B7-43C12367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CFEF-B06A-423C-B93D-5B0370DB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3465-49AA-4CD4-B332-029A539D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457-A05A-4003-8489-BB32369D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7526-36CB-4BDA-8572-928BFF48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FFDD-60FD-4663-AE55-F8CACF05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FC90-286D-4828-9299-4D6731FE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E522-EF87-4D43-A1CA-88F2167A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4F4B-FA05-41B0-8ECD-9570AB68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C8B4-31CC-49A1-8F60-34C2AC32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635-55F2-4C6E-A806-CE8FC474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206-775B-488D-91D6-AFF08FAC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9A1-A0DE-4EA6-A89A-16FF0CC2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100-BD1F-4154-A1B5-C0A0B3B6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8B12-BA2F-4738-8536-35DACEB9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B576-C517-485C-BB6C-ACD6CF2A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CF26-4F5C-41CE-89A8-C4D98F30E2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F337-4F68-496D-800F-26CDD9AAB0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Природа – это МЫ!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Урок – викторина в 5 класс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е подвела нас сегодня погод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Чудесным видом с утра за окном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Как богато искрится природа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се деревья покрыв серебром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6561000" y="3789360"/>
            <a:ext cx="2138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одведем итоги!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3492360" y="2565360"/>
            <a:ext cx="247824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Цели и задачи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овторение и закрепление пройденного материала по природоведению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азвитие навыков работы в группе, умения прислушиваться к мнению друг друг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азвитие познавательного интереса к предмет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едставление команд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3068640"/>
            <a:ext cx="7696080" cy="28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аем всем ни пуха, ни пера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04000" y="4581360"/>
            <a:ext cx="137952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Разминк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16360" y="3141720"/>
            <a:ext cx="360036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Измерительны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57600" y="2349360"/>
            <a:ext cx="3628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Загадочны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388800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Что бы это значило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54360" y="2637000"/>
            <a:ext cx="18334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Изобрази пословицу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4" name="Picture 36" descr="photo24"/>
          <p:cNvPicPr/>
          <p:nvPr/>
        </p:nvPicPr>
        <p:blipFill>
          <a:blip r:embed="rId1"/>
          <a:stretch/>
        </p:blipFill>
        <p:spPr>
          <a:xfrm rot="2580000">
            <a:off x="539280" y="19886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588000" y="4437000"/>
            <a:ext cx="1473480" cy="1535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419640" y="2997360"/>
            <a:ext cx="1871640" cy="18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Буримэ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396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огод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кно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еребро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5579640" y="1844640"/>
            <a:ext cx="2808360" cy="1224000"/>
          </a:xfrm>
          <a:prstGeom prst="cloudCallout">
            <a:avLst>
              <a:gd name="adj1" fmla="val 26027"/>
              <a:gd name="adj2" fmla="val 21074"/>
            </a:avLst>
          </a:prstGeom>
          <a:gradFill rotWithShape="0">
            <a:gsLst>
              <a:gs pos="0">
                <a:srgbClr val="d6e0e0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353640" y="3051360"/>
            <a:ext cx="495720" cy="495360"/>
            <a:chOff x="6353640" y="3051360"/>
            <a:chExt cx="495720" cy="495360"/>
          </a:xfrm>
        </p:grpSpPr>
        <p:grpSp>
          <p:nvGrpSpPr>
            <p:cNvPr id="111" name=""/>
            <p:cNvGrpSpPr/>
            <p:nvPr/>
          </p:nvGrpSpPr>
          <p:grpSpPr>
            <a:xfrm>
              <a:off x="6372360" y="3070080"/>
              <a:ext cx="430920" cy="432000"/>
              <a:chOff x="6372360" y="3070080"/>
              <a:chExt cx="430920" cy="432000"/>
            </a:xfrm>
          </p:grpSpPr>
          <p:sp>
            <p:nvSpPr>
              <p:cNvPr id="112" name=""/>
              <p:cNvSpPr/>
              <p:nvPr/>
            </p:nvSpPr>
            <p:spPr>
              <a:xfrm>
                <a:off x="6400800" y="3098880"/>
                <a:ext cx="374040" cy="37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688440" y="3386520"/>
                <a:ext cx="0" cy="115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688440" y="338652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486840" y="30700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72360" y="318528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6413040" y="3086640"/>
              <a:ext cx="376560" cy="425520"/>
              <a:chOff x="6413040" y="3086640"/>
              <a:chExt cx="376560" cy="425520"/>
            </a:xfrm>
          </p:grpSpPr>
          <p:sp>
            <p:nvSpPr>
              <p:cNvPr id="118" name=""/>
              <p:cNvSpPr/>
              <p:nvPr/>
            </p:nvSpPr>
            <p:spPr>
              <a:xfrm flipH="1">
                <a:off x="6450480" y="3102480"/>
                <a:ext cx="302040" cy="393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413040" y="340560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519960" y="340560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6682680" y="31795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668640" y="3086640"/>
                <a:ext cx="14040" cy="1072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6353640" y="3216600"/>
              <a:ext cx="495720" cy="165600"/>
              <a:chOff x="6353640" y="3216600"/>
              <a:chExt cx="495720" cy="16560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6353640" y="3291480"/>
                <a:ext cx="49572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flipV="1">
                <a:off x="6388920" y="322992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6393960" y="330372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 flipV="1">
                <a:off x="6734880" y="329508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734520" y="321660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516000" y="3051360"/>
              <a:ext cx="170640" cy="495360"/>
              <a:chOff x="6516000" y="3051360"/>
              <a:chExt cx="170640" cy="495360"/>
            </a:xfrm>
          </p:grpSpPr>
          <p:sp>
            <p:nvSpPr>
              <p:cNvPr id="130" name=""/>
              <p:cNvSpPr/>
              <p:nvPr/>
            </p:nvSpPr>
            <p:spPr>
              <a:xfrm flipH="1">
                <a:off x="6590880" y="3051360"/>
                <a:ext cx="2088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6516000" y="343296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595920" y="343296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6606720" y="309276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534000" y="3086640"/>
                <a:ext cx="7344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5418720" y="3195720"/>
            <a:ext cx="495720" cy="495360"/>
            <a:chOff x="5418720" y="3195720"/>
            <a:chExt cx="495720" cy="495360"/>
          </a:xfrm>
        </p:grpSpPr>
        <p:grpSp>
          <p:nvGrpSpPr>
            <p:cNvPr id="136" name=""/>
            <p:cNvGrpSpPr/>
            <p:nvPr/>
          </p:nvGrpSpPr>
          <p:grpSpPr>
            <a:xfrm>
              <a:off x="5437080" y="3214800"/>
              <a:ext cx="431280" cy="431280"/>
              <a:chOff x="5437080" y="3214800"/>
              <a:chExt cx="431280" cy="431280"/>
            </a:xfrm>
          </p:grpSpPr>
          <p:sp>
            <p:nvSpPr>
              <p:cNvPr id="137" name=""/>
              <p:cNvSpPr/>
              <p:nvPr/>
            </p:nvSpPr>
            <p:spPr>
              <a:xfrm>
                <a:off x="5465520" y="324360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53520" y="35308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753520" y="353088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551560" y="32148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37080" y="33300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5477760" y="3231360"/>
              <a:ext cx="377280" cy="425160"/>
              <a:chOff x="5477760" y="3231360"/>
              <a:chExt cx="377280" cy="425160"/>
            </a:xfrm>
          </p:grpSpPr>
          <p:sp>
            <p:nvSpPr>
              <p:cNvPr id="143" name=""/>
              <p:cNvSpPr/>
              <p:nvPr/>
            </p:nvSpPr>
            <p:spPr>
              <a:xfrm flipH="1">
                <a:off x="5515560" y="324720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5477760" y="354996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85040" y="354996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5748120" y="332352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34080" y="323136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418720" y="3361320"/>
              <a:ext cx="495720" cy="165240"/>
              <a:chOff x="5418720" y="3361320"/>
              <a:chExt cx="495720" cy="165240"/>
            </a:xfrm>
          </p:grpSpPr>
          <p:sp>
            <p:nvSpPr>
              <p:cNvPr id="149" name=""/>
              <p:cNvSpPr/>
              <p:nvPr/>
            </p:nvSpPr>
            <p:spPr>
              <a:xfrm flipH="1">
                <a:off x="5418720" y="343620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5454000" y="337392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5459040" y="344808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5800320" y="343944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5799600" y="33613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581080" y="3195720"/>
              <a:ext cx="170640" cy="495360"/>
              <a:chOff x="5581080" y="3195720"/>
              <a:chExt cx="170640" cy="495360"/>
            </a:xfrm>
          </p:grpSpPr>
          <p:sp>
            <p:nvSpPr>
              <p:cNvPr id="155" name=""/>
              <p:cNvSpPr/>
              <p:nvPr/>
            </p:nvSpPr>
            <p:spPr>
              <a:xfrm flipH="1">
                <a:off x="5655960" y="319572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5581080" y="357732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61000" y="357732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5672160" y="323712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599800" y="323100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5850360" y="3772080"/>
            <a:ext cx="495720" cy="495360"/>
            <a:chOff x="5850360" y="3772080"/>
            <a:chExt cx="495720" cy="495360"/>
          </a:xfrm>
        </p:grpSpPr>
        <p:grpSp>
          <p:nvGrpSpPr>
            <p:cNvPr id="161" name=""/>
            <p:cNvGrpSpPr/>
            <p:nvPr/>
          </p:nvGrpSpPr>
          <p:grpSpPr>
            <a:xfrm>
              <a:off x="5869080" y="3790800"/>
              <a:ext cx="430920" cy="432000"/>
              <a:chOff x="5869080" y="3790800"/>
              <a:chExt cx="430920" cy="432000"/>
            </a:xfrm>
          </p:grpSpPr>
          <p:sp>
            <p:nvSpPr>
              <p:cNvPr id="162" name=""/>
              <p:cNvSpPr/>
              <p:nvPr/>
            </p:nvSpPr>
            <p:spPr>
              <a:xfrm>
                <a:off x="5897520" y="3819600"/>
                <a:ext cx="374040" cy="37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185160" y="4107240"/>
                <a:ext cx="0" cy="115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185160" y="41072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983560" y="37908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869080" y="39060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5909760" y="3807360"/>
              <a:ext cx="376560" cy="425520"/>
              <a:chOff x="5909760" y="3807360"/>
              <a:chExt cx="376560" cy="42552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5947200" y="3823200"/>
                <a:ext cx="302040" cy="393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5909760" y="41263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16680" y="41263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6179400" y="390024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65360" y="3807360"/>
                <a:ext cx="14040" cy="1072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850360" y="3937320"/>
              <a:ext cx="495720" cy="165600"/>
              <a:chOff x="5850360" y="3937320"/>
              <a:chExt cx="495720" cy="165600"/>
            </a:xfrm>
          </p:grpSpPr>
          <p:sp>
            <p:nvSpPr>
              <p:cNvPr id="174" name=""/>
              <p:cNvSpPr/>
              <p:nvPr/>
            </p:nvSpPr>
            <p:spPr>
              <a:xfrm flipH="1">
                <a:off x="5850360" y="4012200"/>
                <a:ext cx="49572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flipV="1">
                <a:off x="5885640" y="395064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5890680" y="40244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6231600" y="401580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6231240" y="39373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6012720" y="3772080"/>
              <a:ext cx="170640" cy="495360"/>
              <a:chOff x="6012720" y="3772080"/>
              <a:chExt cx="170640" cy="495360"/>
            </a:xfrm>
          </p:grpSpPr>
          <p:sp>
            <p:nvSpPr>
              <p:cNvPr id="180" name=""/>
              <p:cNvSpPr/>
              <p:nvPr/>
            </p:nvSpPr>
            <p:spPr>
              <a:xfrm flipH="1">
                <a:off x="6087600" y="3772080"/>
                <a:ext cx="2088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6012720" y="41536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92640" y="41536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6103440" y="38134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030720" y="3807360"/>
                <a:ext cx="7344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5347080" y="4565880"/>
            <a:ext cx="495720" cy="495360"/>
            <a:chOff x="5347080" y="4565880"/>
            <a:chExt cx="495720" cy="495360"/>
          </a:xfrm>
        </p:grpSpPr>
        <p:grpSp>
          <p:nvGrpSpPr>
            <p:cNvPr id="186" name=""/>
            <p:cNvGrpSpPr/>
            <p:nvPr/>
          </p:nvGrpSpPr>
          <p:grpSpPr>
            <a:xfrm>
              <a:off x="5365800" y="4584600"/>
              <a:ext cx="430920" cy="432000"/>
              <a:chOff x="5365800" y="4584600"/>
              <a:chExt cx="430920" cy="432000"/>
            </a:xfrm>
          </p:grpSpPr>
          <p:sp>
            <p:nvSpPr>
              <p:cNvPr id="187" name=""/>
              <p:cNvSpPr/>
              <p:nvPr/>
            </p:nvSpPr>
            <p:spPr>
              <a:xfrm>
                <a:off x="5394240" y="4613400"/>
                <a:ext cx="374040" cy="37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681880" y="4901040"/>
                <a:ext cx="0" cy="115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681880" y="49010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480280" y="45846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65800" y="46998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406480" y="4601160"/>
              <a:ext cx="376560" cy="425520"/>
              <a:chOff x="5406480" y="4601160"/>
              <a:chExt cx="376560" cy="425520"/>
            </a:xfrm>
          </p:grpSpPr>
          <p:sp>
            <p:nvSpPr>
              <p:cNvPr id="193" name=""/>
              <p:cNvSpPr/>
              <p:nvPr/>
            </p:nvSpPr>
            <p:spPr>
              <a:xfrm flipH="1">
                <a:off x="5443920" y="4617000"/>
                <a:ext cx="302040" cy="393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5406480" y="49201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513400" y="49201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5676120" y="469404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662080" y="4601160"/>
                <a:ext cx="14040" cy="1072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5347080" y="4731120"/>
              <a:ext cx="495720" cy="165600"/>
              <a:chOff x="5347080" y="4731120"/>
              <a:chExt cx="495720" cy="165600"/>
            </a:xfrm>
          </p:grpSpPr>
          <p:sp>
            <p:nvSpPr>
              <p:cNvPr id="199" name=""/>
              <p:cNvSpPr/>
              <p:nvPr/>
            </p:nvSpPr>
            <p:spPr>
              <a:xfrm flipH="1">
                <a:off x="5347080" y="4806000"/>
                <a:ext cx="49572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5382360" y="474444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5387400" y="48182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5728320" y="480960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5727960" y="47311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5509440" y="4565880"/>
              <a:ext cx="170640" cy="495360"/>
              <a:chOff x="5509440" y="4565880"/>
              <a:chExt cx="170640" cy="495360"/>
            </a:xfrm>
          </p:grpSpPr>
          <p:sp>
            <p:nvSpPr>
              <p:cNvPr id="205" name=""/>
              <p:cNvSpPr/>
              <p:nvPr/>
            </p:nvSpPr>
            <p:spPr>
              <a:xfrm flipH="1">
                <a:off x="5584320" y="4565880"/>
                <a:ext cx="2088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5509440" y="49474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589360" y="49474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5600160" y="46072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527440" y="4601160"/>
                <a:ext cx="7344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6282360" y="4351320"/>
            <a:ext cx="495720" cy="495360"/>
            <a:chOff x="6282360" y="4351320"/>
            <a:chExt cx="495720" cy="495360"/>
          </a:xfrm>
        </p:grpSpPr>
        <p:grpSp>
          <p:nvGrpSpPr>
            <p:cNvPr id="211" name=""/>
            <p:cNvGrpSpPr/>
            <p:nvPr/>
          </p:nvGrpSpPr>
          <p:grpSpPr>
            <a:xfrm>
              <a:off x="6300720" y="4370400"/>
              <a:ext cx="431280" cy="431280"/>
              <a:chOff x="6300720" y="4370400"/>
              <a:chExt cx="431280" cy="431280"/>
            </a:xfrm>
          </p:grpSpPr>
          <p:sp>
            <p:nvSpPr>
              <p:cNvPr id="212" name=""/>
              <p:cNvSpPr/>
              <p:nvPr/>
            </p:nvSpPr>
            <p:spPr>
              <a:xfrm>
                <a:off x="6329160" y="439920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17160" y="46864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17160" y="468648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15200" y="43704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300720" y="44856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6341400" y="4386960"/>
              <a:ext cx="377280" cy="425160"/>
              <a:chOff x="6341400" y="4386960"/>
              <a:chExt cx="377280" cy="425160"/>
            </a:xfrm>
          </p:grpSpPr>
          <p:sp>
            <p:nvSpPr>
              <p:cNvPr id="218" name=""/>
              <p:cNvSpPr/>
              <p:nvPr/>
            </p:nvSpPr>
            <p:spPr>
              <a:xfrm flipH="1">
                <a:off x="6379200" y="440280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6341400" y="470556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448680" y="470556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611760" y="447912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597720" y="438696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6282360" y="4516920"/>
              <a:ext cx="495720" cy="165240"/>
              <a:chOff x="6282360" y="4516920"/>
              <a:chExt cx="495720" cy="165240"/>
            </a:xfrm>
          </p:grpSpPr>
          <p:sp>
            <p:nvSpPr>
              <p:cNvPr id="224" name=""/>
              <p:cNvSpPr/>
              <p:nvPr/>
            </p:nvSpPr>
            <p:spPr>
              <a:xfrm flipH="1">
                <a:off x="6282360" y="459180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6317640" y="452952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322680" y="460368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6663960" y="459504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663240" y="45169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444720" y="4351320"/>
              <a:ext cx="170640" cy="495360"/>
              <a:chOff x="6444720" y="4351320"/>
              <a:chExt cx="170640" cy="495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6519600" y="435132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6444720" y="473292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524640" y="473292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535800" y="439272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63440" y="438660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6353640" y="3051360"/>
            <a:ext cx="495720" cy="495360"/>
            <a:chOff x="6353640" y="3051360"/>
            <a:chExt cx="495720" cy="495360"/>
          </a:xfrm>
        </p:grpSpPr>
        <p:grpSp>
          <p:nvGrpSpPr>
            <p:cNvPr id="236" name=""/>
            <p:cNvGrpSpPr/>
            <p:nvPr/>
          </p:nvGrpSpPr>
          <p:grpSpPr>
            <a:xfrm>
              <a:off x="6372360" y="3070080"/>
              <a:ext cx="430920" cy="432000"/>
              <a:chOff x="6372360" y="3070080"/>
              <a:chExt cx="430920" cy="432000"/>
            </a:xfrm>
          </p:grpSpPr>
          <p:sp>
            <p:nvSpPr>
              <p:cNvPr id="237" name=""/>
              <p:cNvSpPr/>
              <p:nvPr/>
            </p:nvSpPr>
            <p:spPr>
              <a:xfrm>
                <a:off x="6400800" y="3098880"/>
                <a:ext cx="374040" cy="37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88440" y="3386520"/>
                <a:ext cx="0" cy="115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688440" y="338652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86840" y="30700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372360" y="318528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6413040" y="3086640"/>
              <a:ext cx="376560" cy="425520"/>
              <a:chOff x="6413040" y="3086640"/>
              <a:chExt cx="376560" cy="42552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6450480" y="3102480"/>
                <a:ext cx="302040" cy="393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6413040" y="340560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519960" y="340560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682680" y="31795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68640" y="3086640"/>
                <a:ext cx="14040" cy="1072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353640" y="3216600"/>
              <a:ext cx="495720" cy="165600"/>
              <a:chOff x="6353640" y="3216600"/>
              <a:chExt cx="495720" cy="165600"/>
            </a:xfrm>
          </p:grpSpPr>
          <p:sp>
            <p:nvSpPr>
              <p:cNvPr id="249" name=""/>
              <p:cNvSpPr/>
              <p:nvPr/>
            </p:nvSpPr>
            <p:spPr>
              <a:xfrm flipH="1">
                <a:off x="6353640" y="3291480"/>
                <a:ext cx="49572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6388920" y="322992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393960" y="330372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6734880" y="329508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734520" y="321660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516000" y="3051360"/>
              <a:ext cx="170640" cy="495360"/>
              <a:chOff x="6516000" y="3051360"/>
              <a:chExt cx="170640" cy="495360"/>
            </a:xfrm>
          </p:grpSpPr>
          <p:sp>
            <p:nvSpPr>
              <p:cNvPr id="255" name=""/>
              <p:cNvSpPr/>
              <p:nvPr/>
            </p:nvSpPr>
            <p:spPr>
              <a:xfrm flipH="1">
                <a:off x="6590880" y="3051360"/>
                <a:ext cx="2088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6516000" y="343296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595920" y="343296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6606720" y="309276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534000" y="3086640"/>
                <a:ext cx="7344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5418720" y="3195720"/>
            <a:ext cx="495720" cy="495360"/>
            <a:chOff x="5418720" y="3195720"/>
            <a:chExt cx="495720" cy="495360"/>
          </a:xfrm>
        </p:grpSpPr>
        <p:grpSp>
          <p:nvGrpSpPr>
            <p:cNvPr id="261" name=""/>
            <p:cNvGrpSpPr/>
            <p:nvPr/>
          </p:nvGrpSpPr>
          <p:grpSpPr>
            <a:xfrm>
              <a:off x="5437080" y="3214800"/>
              <a:ext cx="431280" cy="431280"/>
              <a:chOff x="5437080" y="3214800"/>
              <a:chExt cx="431280" cy="431280"/>
            </a:xfrm>
          </p:grpSpPr>
          <p:sp>
            <p:nvSpPr>
              <p:cNvPr id="262" name=""/>
              <p:cNvSpPr/>
              <p:nvPr/>
            </p:nvSpPr>
            <p:spPr>
              <a:xfrm>
                <a:off x="5465520" y="324360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53520" y="35308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753520" y="353088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51560" y="32148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7080" y="33300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5477760" y="3231360"/>
              <a:ext cx="377280" cy="425160"/>
              <a:chOff x="5477760" y="3231360"/>
              <a:chExt cx="377280" cy="425160"/>
            </a:xfrm>
          </p:grpSpPr>
          <p:sp>
            <p:nvSpPr>
              <p:cNvPr id="268" name=""/>
              <p:cNvSpPr/>
              <p:nvPr/>
            </p:nvSpPr>
            <p:spPr>
              <a:xfrm flipH="1">
                <a:off x="5515560" y="324720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477760" y="354996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585040" y="354996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748120" y="332352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34080" y="323136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5418720" y="3361320"/>
              <a:ext cx="495720" cy="165240"/>
              <a:chOff x="5418720" y="3361320"/>
              <a:chExt cx="495720" cy="165240"/>
            </a:xfrm>
          </p:grpSpPr>
          <p:sp>
            <p:nvSpPr>
              <p:cNvPr id="274" name=""/>
              <p:cNvSpPr/>
              <p:nvPr/>
            </p:nvSpPr>
            <p:spPr>
              <a:xfrm flipH="1">
                <a:off x="5418720" y="343620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5454000" y="337392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5459040" y="344808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flipV="1">
                <a:off x="5800320" y="343944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5799600" y="33613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581080" y="3195720"/>
              <a:ext cx="170640" cy="495360"/>
              <a:chOff x="5581080" y="3195720"/>
              <a:chExt cx="170640" cy="495360"/>
            </a:xfrm>
          </p:grpSpPr>
          <p:sp>
            <p:nvSpPr>
              <p:cNvPr id="280" name=""/>
              <p:cNvSpPr/>
              <p:nvPr/>
            </p:nvSpPr>
            <p:spPr>
              <a:xfrm flipH="1">
                <a:off x="5655960" y="319572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5581080" y="357732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661000" y="357732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5672160" y="323712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599800" y="323100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5850360" y="3772080"/>
            <a:ext cx="495720" cy="495360"/>
            <a:chOff x="5850360" y="3772080"/>
            <a:chExt cx="495720" cy="495360"/>
          </a:xfrm>
        </p:grpSpPr>
        <p:grpSp>
          <p:nvGrpSpPr>
            <p:cNvPr id="286" name=""/>
            <p:cNvGrpSpPr/>
            <p:nvPr/>
          </p:nvGrpSpPr>
          <p:grpSpPr>
            <a:xfrm>
              <a:off x="5869080" y="3790800"/>
              <a:ext cx="430920" cy="432000"/>
              <a:chOff x="5869080" y="3790800"/>
              <a:chExt cx="430920" cy="432000"/>
            </a:xfrm>
          </p:grpSpPr>
          <p:sp>
            <p:nvSpPr>
              <p:cNvPr id="287" name=""/>
              <p:cNvSpPr/>
              <p:nvPr/>
            </p:nvSpPr>
            <p:spPr>
              <a:xfrm>
                <a:off x="5897520" y="3819600"/>
                <a:ext cx="374040" cy="37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85160" y="4107240"/>
                <a:ext cx="0" cy="115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185160" y="41072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983560" y="37908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869080" y="39060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5909760" y="3807360"/>
              <a:ext cx="376560" cy="425520"/>
              <a:chOff x="5909760" y="3807360"/>
              <a:chExt cx="376560" cy="425520"/>
            </a:xfrm>
          </p:grpSpPr>
          <p:sp>
            <p:nvSpPr>
              <p:cNvPr id="293" name=""/>
              <p:cNvSpPr/>
              <p:nvPr/>
            </p:nvSpPr>
            <p:spPr>
              <a:xfrm flipH="1">
                <a:off x="5947200" y="3823200"/>
                <a:ext cx="302040" cy="393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5909760" y="41263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016680" y="41263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6179400" y="390024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165360" y="3807360"/>
                <a:ext cx="14040" cy="1072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5850360" y="3937320"/>
              <a:ext cx="495720" cy="165600"/>
              <a:chOff x="5850360" y="3937320"/>
              <a:chExt cx="495720" cy="165600"/>
            </a:xfrm>
          </p:grpSpPr>
          <p:sp>
            <p:nvSpPr>
              <p:cNvPr id="299" name=""/>
              <p:cNvSpPr/>
              <p:nvPr/>
            </p:nvSpPr>
            <p:spPr>
              <a:xfrm flipH="1">
                <a:off x="5850360" y="4012200"/>
                <a:ext cx="49572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flipV="1">
                <a:off x="5885640" y="395064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5890680" y="40244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6231600" y="401580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6231240" y="39373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6012720" y="3772080"/>
              <a:ext cx="170640" cy="495360"/>
              <a:chOff x="6012720" y="3772080"/>
              <a:chExt cx="170640" cy="495360"/>
            </a:xfrm>
          </p:grpSpPr>
          <p:sp>
            <p:nvSpPr>
              <p:cNvPr id="305" name=""/>
              <p:cNvSpPr/>
              <p:nvPr/>
            </p:nvSpPr>
            <p:spPr>
              <a:xfrm flipH="1">
                <a:off x="6087600" y="3772080"/>
                <a:ext cx="2088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6012720" y="41536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092640" y="41536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6103440" y="38134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30720" y="3807360"/>
                <a:ext cx="7344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6353640" y="3051360"/>
            <a:ext cx="495720" cy="495360"/>
            <a:chOff x="6353640" y="3051360"/>
            <a:chExt cx="495720" cy="495360"/>
          </a:xfrm>
        </p:grpSpPr>
        <p:grpSp>
          <p:nvGrpSpPr>
            <p:cNvPr id="311" name=""/>
            <p:cNvGrpSpPr/>
            <p:nvPr/>
          </p:nvGrpSpPr>
          <p:grpSpPr>
            <a:xfrm>
              <a:off x="6372360" y="3070080"/>
              <a:ext cx="430920" cy="432000"/>
              <a:chOff x="6372360" y="3070080"/>
              <a:chExt cx="430920" cy="432000"/>
            </a:xfrm>
          </p:grpSpPr>
          <p:sp>
            <p:nvSpPr>
              <p:cNvPr id="312" name=""/>
              <p:cNvSpPr/>
              <p:nvPr/>
            </p:nvSpPr>
            <p:spPr>
              <a:xfrm>
                <a:off x="6400800" y="3098880"/>
                <a:ext cx="374040" cy="37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688440" y="3386520"/>
                <a:ext cx="0" cy="115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88440" y="338652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486840" y="30700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372360" y="318528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6413040" y="3086640"/>
              <a:ext cx="376560" cy="425520"/>
              <a:chOff x="6413040" y="3086640"/>
              <a:chExt cx="376560" cy="425520"/>
            </a:xfrm>
          </p:grpSpPr>
          <p:sp>
            <p:nvSpPr>
              <p:cNvPr id="318" name=""/>
              <p:cNvSpPr/>
              <p:nvPr/>
            </p:nvSpPr>
            <p:spPr>
              <a:xfrm flipH="1">
                <a:off x="6450480" y="3102480"/>
                <a:ext cx="302040" cy="393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6413040" y="340560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519960" y="340560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6682680" y="31795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668640" y="3086640"/>
                <a:ext cx="14040" cy="1072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6353640" y="3216600"/>
              <a:ext cx="495720" cy="165600"/>
              <a:chOff x="6353640" y="3216600"/>
              <a:chExt cx="495720" cy="165600"/>
            </a:xfrm>
          </p:grpSpPr>
          <p:sp>
            <p:nvSpPr>
              <p:cNvPr id="324" name=""/>
              <p:cNvSpPr/>
              <p:nvPr/>
            </p:nvSpPr>
            <p:spPr>
              <a:xfrm flipH="1">
                <a:off x="6353640" y="3291480"/>
                <a:ext cx="49572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flipV="1">
                <a:off x="6388920" y="322992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6393960" y="330372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6734880" y="329508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6734520" y="321660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6516000" y="3051360"/>
              <a:ext cx="170640" cy="495360"/>
              <a:chOff x="6516000" y="3051360"/>
              <a:chExt cx="170640" cy="495360"/>
            </a:xfrm>
          </p:grpSpPr>
          <p:sp>
            <p:nvSpPr>
              <p:cNvPr id="330" name=""/>
              <p:cNvSpPr/>
              <p:nvPr/>
            </p:nvSpPr>
            <p:spPr>
              <a:xfrm flipH="1">
                <a:off x="6590880" y="3051360"/>
                <a:ext cx="2088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6516000" y="343296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595920" y="343296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6606720" y="309276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534000" y="3086640"/>
                <a:ext cx="7344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5418720" y="3195720"/>
            <a:ext cx="495720" cy="495360"/>
            <a:chOff x="5418720" y="3195720"/>
            <a:chExt cx="495720" cy="495360"/>
          </a:xfrm>
        </p:grpSpPr>
        <p:grpSp>
          <p:nvGrpSpPr>
            <p:cNvPr id="336" name=""/>
            <p:cNvGrpSpPr/>
            <p:nvPr/>
          </p:nvGrpSpPr>
          <p:grpSpPr>
            <a:xfrm>
              <a:off x="5437080" y="3214800"/>
              <a:ext cx="431280" cy="431280"/>
              <a:chOff x="5437080" y="3214800"/>
              <a:chExt cx="431280" cy="431280"/>
            </a:xfrm>
          </p:grpSpPr>
          <p:sp>
            <p:nvSpPr>
              <p:cNvPr id="337" name=""/>
              <p:cNvSpPr/>
              <p:nvPr/>
            </p:nvSpPr>
            <p:spPr>
              <a:xfrm>
                <a:off x="5465520" y="324360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53520" y="35308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53520" y="353088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51560" y="32148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37080" y="33300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5477760" y="3231360"/>
              <a:ext cx="377280" cy="425160"/>
              <a:chOff x="5477760" y="3231360"/>
              <a:chExt cx="377280" cy="425160"/>
            </a:xfrm>
          </p:grpSpPr>
          <p:sp>
            <p:nvSpPr>
              <p:cNvPr id="343" name=""/>
              <p:cNvSpPr/>
              <p:nvPr/>
            </p:nvSpPr>
            <p:spPr>
              <a:xfrm flipH="1">
                <a:off x="5515560" y="324720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5477760" y="354996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585040" y="354996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748120" y="332352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34080" y="323136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5418720" y="3361320"/>
              <a:ext cx="495720" cy="165240"/>
              <a:chOff x="5418720" y="3361320"/>
              <a:chExt cx="495720" cy="165240"/>
            </a:xfrm>
          </p:grpSpPr>
          <p:sp>
            <p:nvSpPr>
              <p:cNvPr id="349" name=""/>
              <p:cNvSpPr/>
              <p:nvPr/>
            </p:nvSpPr>
            <p:spPr>
              <a:xfrm flipH="1">
                <a:off x="5418720" y="343620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>
                <a:off x="5454000" y="337392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5459040" y="344808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flipV="1">
                <a:off x="5800320" y="343944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5799600" y="33613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5581080" y="3195720"/>
              <a:ext cx="170640" cy="495360"/>
              <a:chOff x="5581080" y="3195720"/>
              <a:chExt cx="170640" cy="49536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5655960" y="319572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581080" y="357732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661000" y="357732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5672160" y="323712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599800" y="323100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5345640" y="4564080"/>
            <a:ext cx="495720" cy="495360"/>
            <a:chOff x="5345640" y="4564080"/>
            <a:chExt cx="495720" cy="495360"/>
          </a:xfrm>
        </p:grpSpPr>
        <p:grpSp>
          <p:nvGrpSpPr>
            <p:cNvPr id="361" name=""/>
            <p:cNvGrpSpPr/>
            <p:nvPr/>
          </p:nvGrpSpPr>
          <p:grpSpPr>
            <a:xfrm>
              <a:off x="5364000" y="4583160"/>
              <a:ext cx="431280" cy="431280"/>
              <a:chOff x="5364000" y="4583160"/>
              <a:chExt cx="431280" cy="431280"/>
            </a:xfrm>
          </p:grpSpPr>
          <p:sp>
            <p:nvSpPr>
              <p:cNvPr id="362" name=""/>
              <p:cNvSpPr/>
              <p:nvPr/>
            </p:nvSpPr>
            <p:spPr>
              <a:xfrm>
                <a:off x="5392440" y="461196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680440" y="489924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80440" y="48992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478480" y="458316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364000" y="469836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404680" y="4599720"/>
              <a:ext cx="377280" cy="425160"/>
              <a:chOff x="5404680" y="4599720"/>
              <a:chExt cx="377280" cy="425160"/>
            </a:xfrm>
          </p:grpSpPr>
          <p:sp>
            <p:nvSpPr>
              <p:cNvPr id="368" name=""/>
              <p:cNvSpPr/>
              <p:nvPr/>
            </p:nvSpPr>
            <p:spPr>
              <a:xfrm flipH="1">
                <a:off x="5442480" y="461556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5404680" y="491832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511960" y="49183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5675040" y="469188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661000" y="459972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5345640" y="4729680"/>
              <a:ext cx="495720" cy="165240"/>
              <a:chOff x="5345640" y="4729680"/>
              <a:chExt cx="495720" cy="165240"/>
            </a:xfrm>
          </p:grpSpPr>
          <p:sp>
            <p:nvSpPr>
              <p:cNvPr id="374" name=""/>
              <p:cNvSpPr/>
              <p:nvPr/>
            </p:nvSpPr>
            <p:spPr>
              <a:xfrm flipH="1">
                <a:off x="5345640" y="480456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 flipV="1">
                <a:off x="5380920" y="474228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5385960" y="48164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flipV="1">
                <a:off x="5727240" y="480780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5726520" y="472968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508000" y="4564080"/>
              <a:ext cx="170640" cy="495360"/>
              <a:chOff x="5508000" y="4564080"/>
              <a:chExt cx="170640" cy="495360"/>
            </a:xfrm>
          </p:grpSpPr>
          <p:sp>
            <p:nvSpPr>
              <p:cNvPr id="380" name=""/>
              <p:cNvSpPr/>
              <p:nvPr/>
            </p:nvSpPr>
            <p:spPr>
              <a:xfrm flipH="1">
                <a:off x="5582880" y="456408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5508000" y="49456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587920" y="49456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5599080" y="460548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526720" y="459936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5" name=""/>
          <p:cNvGrpSpPr/>
          <p:nvPr/>
        </p:nvGrpSpPr>
        <p:grpSpPr>
          <a:xfrm>
            <a:off x="5848920" y="3770280"/>
            <a:ext cx="495720" cy="495360"/>
            <a:chOff x="5848920" y="3770280"/>
            <a:chExt cx="495720" cy="495360"/>
          </a:xfrm>
        </p:grpSpPr>
        <p:grpSp>
          <p:nvGrpSpPr>
            <p:cNvPr id="386" name=""/>
            <p:cNvGrpSpPr/>
            <p:nvPr/>
          </p:nvGrpSpPr>
          <p:grpSpPr>
            <a:xfrm>
              <a:off x="5867280" y="3789360"/>
              <a:ext cx="431280" cy="431280"/>
              <a:chOff x="5867280" y="3789360"/>
              <a:chExt cx="431280" cy="431280"/>
            </a:xfrm>
          </p:grpSpPr>
          <p:sp>
            <p:nvSpPr>
              <p:cNvPr id="387" name=""/>
              <p:cNvSpPr/>
              <p:nvPr/>
            </p:nvSpPr>
            <p:spPr>
              <a:xfrm>
                <a:off x="5895720" y="381816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83720" y="410544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183720" y="41054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981760" y="378936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67280" y="390456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5907960" y="3805920"/>
              <a:ext cx="377280" cy="425160"/>
              <a:chOff x="5907960" y="3805920"/>
              <a:chExt cx="377280" cy="425160"/>
            </a:xfrm>
          </p:grpSpPr>
          <p:sp>
            <p:nvSpPr>
              <p:cNvPr id="393" name=""/>
              <p:cNvSpPr/>
              <p:nvPr/>
            </p:nvSpPr>
            <p:spPr>
              <a:xfrm flipH="1">
                <a:off x="5945760" y="382176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5907960" y="412452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015240" y="41245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6178320" y="389808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164280" y="380592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848920" y="3935880"/>
              <a:ext cx="495720" cy="165240"/>
              <a:chOff x="5848920" y="3935880"/>
              <a:chExt cx="495720" cy="165240"/>
            </a:xfrm>
          </p:grpSpPr>
          <p:sp>
            <p:nvSpPr>
              <p:cNvPr id="399" name=""/>
              <p:cNvSpPr/>
              <p:nvPr/>
            </p:nvSpPr>
            <p:spPr>
              <a:xfrm flipH="1">
                <a:off x="5848920" y="401076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flipV="1">
                <a:off x="5884200" y="394848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5889240" y="40226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6230520" y="401400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6229800" y="393588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011280" y="3770280"/>
              <a:ext cx="170640" cy="495360"/>
              <a:chOff x="6011280" y="3770280"/>
              <a:chExt cx="170640" cy="495360"/>
            </a:xfrm>
          </p:grpSpPr>
          <p:sp>
            <p:nvSpPr>
              <p:cNvPr id="405" name=""/>
              <p:cNvSpPr/>
              <p:nvPr/>
            </p:nvSpPr>
            <p:spPr>
              <a:xfrm flipH="1">
                <a:off x="6086160" y="377028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6011280" y="41518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091200" y="41518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6102360" y="381168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030000" y="380556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6352200" y="3049560"/>
            <a:ext cx="495720" cy="495360"/>
            <a:chOff x="6352200" y="3049560"/>
            <a:chExt cx="495720" cy="495360"/>
          </a:xfrm>
        </p:grpSpPr>
        <p:grpSp>
          <p:nvGrpSpPr>
            <p:cNvPr id="411" name=""/>
            <p:cNvGrpSpPr/>
            <p:nvPr/>
          </p:nvGrpSpPr>
          <p:grpSpPr>
            <a:xfrm>
              <a:off x="6370560" y="3068640"/>
              <a:ext cx="431280" cy="431280"/>
              <a:chOff x="6370560" y="3068640"/>
              <a:chExt cx="431280" cy="431280"/>
            </a:xfrm>
          </p:grpSpPr>
          <p:sp>
            <p:nvSpPr>
              <p:cNvPr id="412" name=""/>
              <p:cNvSpPr/>
              <p:nvPr/>
            </p:nvSpPr>
            <p:spPr>
              <a:xfrm>
                <a:off x="6399000" y="309744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87000" y="338472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687000" y="338472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485040" y="306864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560" y="318384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6411240" y="3085200"/>
              <a:ext cx="377280" cy="425160"/>
              <a:chOff x="6411240" y="3085200"/>
              <a:chExt cx="377280" cy="425160"/>
            </a:xfrm>
          </p:grpSpPr>
          <p:sp>
            <p:nvSpPr>
              <p:cNvPr id="418" name=""/>
              <p:cNvSpPr/>
              <p:nvPr/>
            </p:nvSpPr>
            <p:spPr>
              <a:xfrm flipH="1">
                <a:off x="6449040" y="310104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6411240" y="340380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518520" y="340380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6681600" y="317736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67560" y="308520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352200" y="3215160"/>
              <a:ext cx="495720" cy="165240"/>
              <a:chOff x="6352200" y="3215160"/>
              <a:chExt cx="495720" cy="165240"/>
            </a:xfrm>
          </p:grpSpPr>
          <p:sp>
            <p:nvSpPr>
              <p:cNvPr id="424" name=""/>
              <p:cNvSpPr/>
              <p:nvPr/>
            </p:nvSpPr>
            <p:spPr>
              <a:xfrm flipH="1">
                <a:off x="6352200" y="329004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 flipV="1">
                <a:off x="6387480" y="322776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392520" y="330192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 flipV="1">
                <a:off x="6733800" y="329328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6733080" y="321516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6514560" y="3049560"/>
              <a:ext cx="170640" cy="495360"/>
              <a:chOff x="6514560" y="3049560"/>
              <a:chExt cx="170640" cy="495360"/>
            </a:xfrm>
          </p:grpSpPr>
          <p:sp>
            <p:nvSpPr>
              <p:cNvPr id="430" name=""/>
              <p:cNvSpPr/>
              <p:nvPr/>
            </p:nvSpPr>
            <p:spPr>
              <a:xfrm flipH="1">
                <a:off x="6589440" y="304956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6514560" y="343116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594480" y="343116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6605640" y="309096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533280" y="308484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5416920" y="3194280"/>
            <a:ext cx="495720" cy="495360"/>
            <a:chOff x="5416920" y="3194280"/>
            <a:chExt cx="495720" cy="495360"/>
          </a:xfrm>
        </p:grpSpPr>
        <p:grpSp>
          <p:nvGrpSpPr>
            <p:cNvPr id="436" name=""/>
            <p:cNvGrpSpPr/>
            <p:nvPr/>
          </p:nvGrpSpPr>
          <p:grpSpPr>
            <a:xfrm>
              <a:off x="5435640" y="3213000"/>
              <a:ext cx="430920" cy="432000"/>
              <a:chOff x="5435640" y="3213000"/>
              <a:chExt cx="430920" cy="432000"/>
            </a:xfrm>
          </p:grpSpPr>
          <p:sp>
            <p:nvSpPr>
              <p:cNvPr id="437" name=""/>
              <p:cNvSpPr/>
              <p:nvPr/>
            </p:nvSpPr>
            <p:spPr>
              <a:xfrm>
                <a:off x="5464080" y="3241800"/>
                <a:ext cx="374040" cy="37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751720" y="3529440"/>
                <a:ext cx="0" cy="115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751720" y="35294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550120" y="32130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35640" y="33282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5476320" y="3229560"/>
              <a:ext cx="376560" cy="425520"/>
              <a:chOff x="5476320" y="3229560"/>
              <a:chExt cx="376560" cy="4255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5513760" y="3245400"/>
                <a:ext cx="302040" cy="393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5476320" y="35485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583240" y="35485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5745960" y="332244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31920" y="3229560"/>
                <a:ext cx="14040" cy="1072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5416920" y="3359520"/>
              <a:ext cx="495720" cy="165600"/>
              <a:chOff x="5416920" y="3359520"/>
              <a:chExt cx="495720" cy="165600"/>
            </a:xfrm>
          </p:grpSpPr>
          <p:sp>
            <p:nvSpPr>
              <p:cNvPr id="449" name=""/>
              <p:cNvSpPr/>
              <p:nvPr/>
            </p:nvSpPr>
            <p:spPr>
              <a:xfrm flipH="1">
                <a:off x="5416920" y="3434400"/>
                <a:ext cx="49572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 flipV="1">
                <a:off x="5452200" y="337284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5457240" y="34466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5798160" y="343800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5797800" y="33595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5579280" y="3194280"/>
              <a:ext cx="170640" cy="495360"/>
              <a:chOff x="5579280" y="3194280"/>
              <a:chExt cx="170640" cy="495360"/>
            </a:xfrm>
          </p:grpSpPr>
          <p:sp>
            <p:nvSpPr>
              <p:cNvPr id="455" name=""/>
              <p:cNvSpPr/>
              <p:nvPr/>
            </p:nvSpPr>
            <p:spPr>
              <a:xfrm flipH="1">
                <a:off x="5654160" y="3194280"/>
                <a:ext cx="2088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5579280" y="35758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659200" y="35758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5670000" y="32356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597280" y="3229560"/>
                <a:ext cx="7344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7579080" y="4928040"/>
            <a:ext cx="495360" cy="495000"/>
            <a:chOff x="7579080" y="4928040"/>
            <a:chExt cx="495360" cy="495000"/>
          </a:xfrm>
        </p:grpSpPr>
        <p:grpSp>
          <p:nvGrpSpPr>
            <p:cNvPr id="461" name=""/>
            <p:cNvGrpSpPr/>
            <p:nvPr/>
          </p:nvGrpSpPr>
          <p:grpSpPr>
            <a:xfrm>
              <a:off x="7597800" y="4946760"/>
              <a:ext cx="430920" cy="431280"/>
              <a:chOff x="7597800" y="4946760"/>
              <a:chExt cx="430920" cy="431280"/>
            </a:xfrm>
          </p:grpSpPr>
          <p:sp>
            <p:nvSpPr>
              <p:cNvPr id="462" name=""/>
              <p:cNvSpPr/>
              <p:nvPr/>
            </p:nvSpPr>
            <p:spPr>
              <a:xfrm>
                <a:off x="7626240" y="497556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913880" y="526284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913880" y="52628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712280" y="494676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597800" y="506196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7638480" y="4963320"/>
              <a:ext cx="376560" cy="425160"/>
              <a:chOff x="7638480" y="4963320"/>
              <a:chExt cx="376560" cy="425160"/>
            </a:xfrm>
          </p:grpSpPr>
          <p:sp>
            <p:nvSpPr>
              <p:cNvPr id="468" name=""/>
              <p:cNvSpPr/>
              <p:nvPr/>
            </p:nvSpPr>
            <p:spPr>
              <a:xfrm flipH="1">
                <a:off x="7675920" y="4979160"/>
                <a:ext cx="30204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7638480" y="52819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745400" y="52819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7908120" y="505584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894080" y="496332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7579080" y="5093280"/>
              <a:ext cx="495360" cy="165240"/>
              <a:chOff x="7579080" y="5093280"/>
              <a:chExt cx="495360" cy="165240"/>
            </a:xfrm>
          </p:grpSpPr>
          <p:sp>
            <p:nvSpPr>
              <p:cNvPr id="474" name=""/>
              <p:cNvSpPr/>
              <p:nvPr/>
            </p:nvSpPr>
            <p:spPr>
              <a:xfrm flipH="1">
                <a:off x="7579080" y="5167800"/>
                <a:ext cx="49536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flipV="1">
                <a:off x="7614360" y="510624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7619400" y="51800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flipV="1">
                <a:off x="7960320" y="517140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7959960" y="509328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7741440" y="4928040"/>
              <a:ext cx="170640" cy="495000"/>
              <a:chOff x="7741440" y="4928040"/>
              <a:chExt cx="170640" cy="495000"/>
            </a:xfrm>
          </p:grpSpPr>
          <p:sp>
            <p:nvSpPr>
              <p:cNvPr id="480" name=""/>
              <p:cNvSpPr/>
              <p:nvPr/>
            </p:nvSpPr>
            <p:spPr>
              <a:xfrm flipH="1">
                <a:off x="7816320" y="4928040"/>
                <a:ext cx="21240" cy="4950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7741440" y="53092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821360" y="53092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7832160" y="49690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759800" y="4962960"/>
                <a:ext cx="7308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"/>
          <p:cNvGrpSpPr/>
          <p:nvPr/>
        </p:nvGrpSpPr>
        <p:grpSpPr>
          <a:xfrm>
            <a:off x="6642720" y="5140440"/>
            <a:ext cx="495720" cy="495360"/>
            <a:chOff x="6642720" y="5140440"/>
            <a:chExt cx="495720" cy="495360"/>
          </a:xfrm>
        </p:grpSpPr>
        <p:grpSp>
          <p:nvGrpSpPr>
            <p:cNvPr id="486" name=""/>
            <p:cNvGrpSpPr/>
            <p:nvPr/>
          </p:nvGrpSpPr>
          <p:grpSpPr>
            <a:xfrm>
              <a:off x="6661080" y="5159520"/>
              <a:ext cx="431280" cy="431280"/>
              <a:chOff x="6661080" y="5159520"/>
              <a:chExt cx="431280" cy="431280"/>
            </a:xfrm>
          </p:grpSpPr>
          <p:sp>
            <p:nvSpPr>
              <p:cNvPr id="487" name=""/>
              <p:cNvSpPr/>
              <p:nvPr/>
            </p:nvSpPr>
            <p:spPr>
              <a:xfrm>
                <a:off x="6689520" y="518832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977520" y="54756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977520" y="547560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75560" y="515952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661080" y="527472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6701760" y="5176080"/>
              <a:ext cx="377280" cy="425160"/>
              <a:chOff x="6701760" y="5176080"/>
              <a:chExt cx="377280" cy="425160"/>
            </a:xfrm>
          </p:grpSpPr>
          <p:sp>
            <p:nvSpPr>
              <p:cNvPr id="493" name=""/>
              <p:cNvSpPr/>
              <p:nvPr/>
            </p:nvSpPr>
            <p:spPr>
              <a:xfrm flipH="1">
                <a:off x="6739560" y="519192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6701760" y="549468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809040" y="549468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6972120" y="526824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958080" y="517608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6642720" y="5306040"/>
              <a:ext cx="495720" cy="165240"/>
              <a:chOff x="6642720" y="5306040"/>
              <a:chExt cx="495720" cy="165240"/>
            </a:xfrm>
          </p:grpSpPr>
          <p:sp>
            <p:nvSpPr>
              <p:cNvPr id="499" name=""/>
              <p:cNvSpPr/>
              <p:nvPr/>
            </p:nvSpPr>
            <p:spPr>
              <a:xfrm flipH="1">
                <a:off x="6642720" y="538092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 flipV="1">
                <a:off x="6678000" y="531864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6683040" y="539280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 flipV="1">
                <a:off x="7024320" y="538416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7023600" y="530604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805080" y="5140440"/>
              <a:ext cx="170640" cy="495360"/>
              <a:chOff x="6805080" y="5140440"/>
              <a:chExt cx="170640" cy="495360"/>
            </a:xfrm>
          </p:grpSpPr>
          <p:sp>
            <p:nvSpPr>
              <p:cNvPr id="505" name=""/>
              <p:cNvSpPr/>
              <p:nvPr/>
            </p:nvSpPr>
            <p:spPr>
              <a:xfrm flipH="1">
                <a:off x="6879960" y="514044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6805080" y="552204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885000" y="552204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6896160" y="518184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23800" y="517572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0" name=""/>
          <p:cNvGrpSpPr/>
          <p:nvPr/>
        </p:nvGrpSpPr>
        <p:grpSpPr>
          <a:xfrm>
            <a:off x="7146000" y="4346640"/>
            <a:ext cx="495720" cy="495360"/>
            <a:chOff x="7146000" y="4346640"/>
            <a:chExt cx="495720" cy="495360"/>
          </a:xfrm>
        </p:grpSpPr>
        <p:grpSp>
          <p:nvGrpSpPr>
            <p:cNvPr id="511" name=""/>
            <p:cNvGrpSpPr/>
            <p:nvPr/>
          </p:nvGrpSpPr>
          <p:grpSpPr>
            <a:xfrm>
              <a:off x="7164360" y="4365720"/>
              <a:ext cx="431280" cy="431280"/>
              <a:chOff x="7164360" y="4365720"/>
              <a:chExt cx="431280" cy="431280"/>
            </a:xfrm>
          </p:grpSpPr>
          <p:sp>
            <p:nvSpPr>
              <p:cNvPr id="512" name=""/>
              <p:cNvSpPr/>
              <p:nvPr/>
            </p:nvSpPr>
            <p:spPr>
              <a:xfrm>
                <a:off x="7192800" y="439452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480800" y="46818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480800" y="468180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278840" y="436572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164360" y="448092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7205040" y="4382280"/>
              <a:ext cx="377280" cy="425160"/>
              <a:chOff x="7205040" y="4382280"/>
              <a:chExt cx="377280" cy="425160"/>
            </a:xfrm>
          </p:grpSpPr>
          <p:sp>
            <p:nvSpPr>
              <p:cNvPr id="518" name=""/>
              <p:cNvSpPr/>
              <p:nvPr/>
            </p:nvSpPr>
            <p:spPr>
              <a:xfrm flipH="1">
                <a:off x="7242840" y="439812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7205040" y="470088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312320" y="470088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7475400" y="447444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461360" y="438228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7146000" y="4512240"/>
              <a:ext cx="495720" cy="165240"/>
              <a:chOff x="7146000" y="4512240"/>
              <a:chExt cx="495720" cy="165240"/>
            </a:xfrm>
          </p:grpSpPr>
          <p:sp>
            <p:nvSpPr>
              <p:cNvPr id="524" name=""/>
              <p:cNvSpPr/>
              <p:nvPr/>
            </p:nvSpPr>
            <p:spPr>
              <a:xfrm flipH="1">
                <a:off x="7146000" y="458712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>
                <a:off x="7181280" y="452484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7186320" y="459900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 flipV="1">
                <a:off x="7527600" y="459036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7526880" y="451224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7308360" y="4346640"/>
              <a:ext cx="170640" cy="495360"/>
              <a:chOff x="7308360" y="4346640"/>
              <a:chExt cx="170640" cy="495360"/>
            </a:xfrm>
          </p:grpSpPr>
          <p:sp>
            <p:nvSpPr>
              <p:cNvPr id="530" name=""/>
              <p:cNvSpPr/>
              <p:nvPr/>
            </p:nvSpPr>
            <p:spPr>
              <a:xfrm flipH="1">
                <a:off x="7383240" y="434664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7308360" y="472824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88280" y="472824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7399440" y="438804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27080" y="438192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5" name=""/>
          <p:cNvGrpSpPr/>
          <p:nvPr/>
        </p:nvGrpSpPr>
        <p:grpSpPr>
          <a:xfrm>
            <a:off x="7648920" y="3626280"/>
            <a:ext cx="495360" cy="495000"/>
            <a:chOff x="7648920" y="3626280"/>
            <a:chExt cx="495360" cy="495000"/>
          </a:xfrm>
        </p:grpSpPr>
        <p:grpSp>
          <p:nvGrpSpPr>
            <p:cNvPr id="536" name=""/>
            <p:cNvGrpSpPr/>
            <p:nvPr/>
          </p:nvGrpSpPr>
          <p:grpSpPr>
            <a:xfrm>
              <a:off x="7667640" y="3645000"/>
              <a:ext cx="430920" cy="431280"/>
              <a:chOff x="7667640" y="3645000"/>
              <a:chExt cx="430920" cy="431280"/>
            </a:xfrm>
          </p:grpSpPr>
          <p:sp>
            <p:nvSpPr>
              <p:cNvPr id="537" name=""/>
              <p:cNvSpPr/>
              <p:nvPr/>
            </p:nvSpPr>
            <p:spPr>
              <a:xfrm>
                <a:off x="7696080" y="367380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983720" y="39610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83720" y="396108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782120" y="36450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667640" y="37602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7708320" y="3661560"/>
              <a:ext cx="376560" cy="425160"/>
              <a:chOff x="7708320" y="3661560"/>
              <a:chExt cx="376560" cy="425160"/>
            </a:xfrm>
          </p:grpSpPr>
          <p:sp>
            <p:nvSpPr>
              <p:cNvPr id="543" name=""/>
              <p:cNvSpPr/>
              <p:nvPr/>
            </p:nvSpPr>
            <p:spPr>
              <a:xfrm flipH="1">
                <a:off x="7745760" y="3677400"/>
                <a:ext cx="30204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7708320" y="398016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815240" y="398016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7977960" y="375408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963920" y="366156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7648920" y="3791520"/>
              <a:ext cx="495360" cy="165240"/>
              <a:chOff x="7648920" y="3791520"/>
              <a:chExt cx="495360" cy="165240"/>
            </a:xfrm>
          </p:grpSpPr>
          <p:sp>
            <p:nvSpPr>
              <p:cNvPr id="549" name=""/>
              <p:cNvSpPr/>
              <p:nvPr/>
            </p:nvSpPr>
            <p:spPr>
              <a:xfrm flipH="1">
                <a:off x="7648920" y="3866040"/>
                <a:ext cx="49536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 flipV="1">
                <a:off x="7684200" y="380448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7689240" y="387828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 flipV="1">
                <a:off x="8030160" y="386964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8029800" y="379152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7811280" y="3626280"/>
              <a:ext cx="170640" cy="495000"/>
              <a:chOff x="7811280" y="3626280"/>
              <a:chExt cx="170640" cy="495000"/>
            </a:xfrm>
          </p:grpSpPr>
          <p:sp>
            <p:nvSpPr>
              <p:cNvPr id="555" name=""/>
              <p:cNvSpPr/>
              <p:nvPr/>
            </p:nvSpPr>
            <p:spPr>
              <a:xfrm flipH="1">
                <a:off x="7886160" y="3626280"/>
                <a:ext cx="21240" cy="4950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7811280" y="400752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891200" y="400752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7902000" y="366732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829640" y="3661200"/>
                <a:ext cx="7308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0" name=""/>
          <p:cNvGrpSpPr/>
          <p:nvPr/>
        </p:nvGrpSpPr>
        <p:grpSpPr>
          <a:xfrm>
            <a:off x="6714000" y="3770640"/>
            <a:ext cx="495360" cy="495000"/>
            <a:chOff x="6714000" y="3770640"/>
            <a:chExt cx="495360" cy="495000"/>
          </a:xfrm>
        </p:grpSpPr>
        <p:grpSp>
          <p:nvGrpSpPr>
            <p:cNvPr id="561" name=""/>
            <p:cNvGrpSpPr/>
            <p:nvPr/>
          </p:nvGrpSpPr>
          <p:grpSpPr>
            <a:xfrm>
              <a:off x="6732720" y="3789360"/>
              <a:ext cx="430920" cy="431280"/>
              <a:chOff x="6732720" y="3789360"/>
              <a:chExt cx="430920" cy="431280"/>
            </a:xfrm>
          </p:grpSpPr>
          <p:sp>
            <p:nvSpPr>
              <p:cNvPr id="562" name=""/>
              <p:cNvSpPr/>
              <p:nvPr/>
            </p:nvSpPr>
            <p:spPr>
              <a:xfrm>
                <a:off x="6761160" y="381816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048800" y="410544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048800" y="41054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47200" y="378936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732720" y="390456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6773400" y="3805920"/>
              <a:ext cx="376560" cy="425160"/>
              <a:chOff x="6773400" y="3805920"/>
              <a:chExt cx="376560" cy="425160"/>
            </a:xfrm>
          </p:grpSpPr>
          <p:sp>
            <p:nvSpPr>
              <p:cNvPr id="568" name=""/>
              <p:cNvSpPr/>
              <p:nvPr/>
            </p:nvSpPr>
            <p:spPr>
              <a:xfrm flipH="1">
                <a:off x="6810840" y="3821760"/>
                <a:ext cx="30204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6773400" y="41245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880320" y="41245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7043040" y="389844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029000" y="380592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6714000" y="3935880"/>
              <a:ext cx="495360" cy="165240"/>
              <a:chOff x="6714000" y="3935880"/>
              <a:chExt cx="495360" cy="165240"/>
            </a:xfrm>
          </p:grpSpPr>
          <p:sp>
            <p:nvSpPr>
              <p:cNvPr id="574" name=""/>
              <p:cNvSpPr/>
              <p:nvPr/>
            </p:nvSpPr>
            <p:spPr>
              <a:xfrm flipH="1">
                <a:off x="6714000" y="4010400"/>
                <a:ext cx="49536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6749280" y="394884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6754320" y="40226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 flipV="1">
                <a:off x="7095240" y="401400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7094880" y="393588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6876360" y="3770640"/>
              <a:ext cx="170640" cy="495000"/>
              <a:chOff x="6876360" y="3770640"/>
              <a:chExt cx="170640" cy="495000"/>
            </a:xfrm>
          </p:grpSpPr>
          <p:sp>
            <p:nvSpPr>
              <p:cNvPr id="580" name=""/>
              <p:cNvSpPr/>
              <p:nvPr/>
            </p:nvSpPr>
            <p:spPr>
              <a:xfrm flipH="1">
                <a:off x="6951240" y="3770640"/>
                <a:ext cx="21240" cy="4950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6876360" y="41518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956280" y="41518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6967080" y="38116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894720" y="3805560"/>
                <a:ext cx="7308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6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8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11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13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16" dur="5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18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21" dur="5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23" dur="5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25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28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31" dur="5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33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36" dur="5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38" dur="5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41" dur="5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43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46" dur="5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48" dur="5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51" dur="5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53" dur="5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56" dur="5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58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61" dur="5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63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66" dur="5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68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71" dur="5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76" dur="5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8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81" dur="5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83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86" dur="5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88" dur="5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91" dur="5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93" dur="5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96" dur="5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98" dur="5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1:36:50Z</dcterms:created>
  <dc:creator>admin</dc:creator>
  <dc:description/>
  <dc:language>en-US</dc:language>
  <cp:lastModifiedBy>admin</cp:lastModifiedBy>
  <dcterms:modified xsi:type="dcterms:W3CDTF">2010-01-18T18:17:33Z</dcterms:modified>
  <cp:revision>7</cp:revision>
  <dc:subject/>
  <dc:title>Природа – это МЫ!</dc:title>
</cp:coreProperties>
</file>