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ECF-E3B0-4588-86E2-FD9B2E94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594-23F7-4B38-A3E8-BDAA1C6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BF1-9D95-4B48-93E1-9825C2C2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362-DEF4-4214-BEEE-04E11C83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5E7F-C051-498F-AB5E-69E13141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0CB-78C8-40E9-96CA-F9A8CFDD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49D5-C9BA-490F-8E8E-DC29778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735A-FF91-46F7-8B26-8C5670E9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9DA-612E-45F9-9449-53216936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1B4B-E3C0-4B33-96BB-545CDF1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441-48E3-406E-930E-B773A20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C66-02CD-4E56-9044-CBF9FD34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A635-1A2C-4947-913A-C37DEEE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979F-FB6F-4788-BB9E-1280F55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666C-E787-4B70-8AAE-9B0394B1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BF49-92D7-42E6-90F4-CA6BA23F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A93F-98E6-44CA-B1D7-25062447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8E8-1541-4371-90A8-ABEC7BBD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24E-081F-4874-B56A-D644BE2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E20-46A2-40AE-90F8-0916D1AA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6E8-0124-4AD1-B910-BF841929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053-9E07-4D5F-AD75-A8DCF0B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9BA-A744-411F-8447-DC349AE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892-C1F2-4FF9-AC11-6921222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F12-B9C8-40FC-8D38-9DB85A864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DF36-C003-49A6-9BC3-1A18C5ED0E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Природа – это МЫ!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Урок – викторина в 5 класс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е подвела нас сегодня пог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удесным видом с утра за окно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к богато искрится природа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се деревья покрыв серебром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561000" y="3789360"/>
            <a:ext cx="213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ведем итоги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24782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Цели и задач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вторение и закрепление пройденного материала по природоведению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витие навыков работы в группе, умения прислушиваться к мнению друг друга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звитие познавательного интереса к предмет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ставление команд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3068640"/>
            <a:ext cx="769608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аем всем ни пуха, ни пер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04000" y="4581360"/>
            <a:ext cx="137952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азмин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3141720"/>
            <a:ext cx="3600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мерительны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7600" y="2349360"/>
            <a:ext cx="3628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гадочны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3888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Что бы это значило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54360" y="2637000"/>
            <a:ext cx="1833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зобрази пословиц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Picture 36" descr="photo24"/>
          <p:cNvPicPr/>
          <p:nvPr/>
        </p:nvPicPr>
        <p:blipFill>
          <a:blip r:embed="rId1"/>
          <a:stretch/>
        </p:blipFill>
        <p:spPr>
          <a:xfrm rot="2580000">
            <a:off x="539280" y="198864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1473480" cy="153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187164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Буримэ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396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г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кн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еребро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579640" y="1844640"/>
            <a:ext cx="2808360" cy="1224000"/>
          </a:xfrm>
          <a:prstGeom prst="cloudCallout">
            <a:avLst>
              <a:gd name="adj1" fmla="val 26027"/>
              <a:gd name="adj2" fmla="val 21074"/>
            </a:avLst>
          </a:prstGeom>
          <a:gradFill rotWithShape="0">
            <a:gsLst>
              <a:gs pos="0">
                <a:srgbClr val="d6e0e0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111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112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136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137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149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850360" y="3772080"/>
            <a:ext cx="495720" cy="495360"/>
            <a:chOff x="5850360" y="3772080"/>
            <a:chExt cx="495720" cy="495360"/>
          </a:xfrm>
        </p:grpSpPr>
        <p:grpSp>
          <p:nvGrpSpPr>
            <p:cNvPr id="161" name=""/>
            <p:cNvGrpSpPr/>
            <p:nvPr/>
          </p:nvGrpSpPr>
          <p:grpSpPr>
            <a:xfrm>
              <a:off x="5869080" y="3790800"/>
              <a:ext cx="430920" cy="432000"/>
              <a:chOff x="5869080" y="3790800"/>
              <a:chExt cx="430920" cy="432000"/>
            </a:xfrm>
          </p:grpSpPr>
          <p:sp>
            <p:nvSpPr>
              <p:cNvPr id="162" name=""/>
              <p:cNvSpPr/>
              <p:nvPr/>
            </p:nvSpPr>
            <p:spPr>
              <a:xfrm>
                <a:off x="5897520" y="38196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85160" y="41072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185160" y="4107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3560" y="3790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9080" y="3906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5909760" y="3807360"/>
              <a:ext cx="376560" cy="425520"/>
              <a:chOff x="5909760" y="3807360"/>
              <a:chExt cx="376560" cy="42552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5947200" y="38232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09760" y="41263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16680" y="4126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6179400" y="39002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65360" y="38073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850360" y="3937320"/>
              <a:ext cx="495720" cy="165600"/>
              <a:chOff x="5850360" y="3937320"/>
              <a:chExt cx="495720" cy="165600"/>
            </a:xfrm>
          </p:grpSpPr>
          <p:sp>
            <p:nvSpPr>
              <p:cNvPr id="174" name=""/>
              <p:cNvSpPr/>
              <p:nvPr/>
            </p:nvSpPr>
            <p:spPr>
              <a:xfrm flipH="1">
                <a:off x="5850360" y="40122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5885640" y="3950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890680" y="4024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6231600" y="40158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231240" y="3937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012720" y="3772080"/>
              <a:ext cx="170640" cy="495360"/>
              <a:chOff x="6012720" y="3772080"/>
              <a:chExt cx="170640" cy="49536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6087600" y="37720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6012720" y="4153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92640" y="4153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6103440" y="3813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30720" y="38073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5347080" y="4565880"/>
            <a:ext cx="495720" cy="495360"/>
            <a:chOff x="5347080" y="4565880"/>
            <a:chExt cx="495720" cy="495360"/>
          </a:xfrm>
        </p:grpSpPr>
        <p:grpSp>
          <p:nvGrpSpPr>
            <p:cNvPr id="186" name=""/>
            <p:cNvGrpSpPr/>
            <p:nvPr/>
          </p:nvGrpSpPr>
          <p:grpSpPr>
            <a:xfrm>
              <a:off x="5365800" y="4584600"/>
              <a:ext cx="430920" cy="432000"/>
              <a:chOff x="5365800" y="4584600"/>
              <a:chExt cx="430920" cy="432000"/>
            </a:xfrm>
          </p:grpSpPr>
          <p:sp>
            <p:nvSpPr>
              <p:cNvPr id="187" name=""/>
              <p:cNvSpPr/>
              <p:nvPr/>
            </p:nvSpPr>
            <p:spPr>
              <a:xfrm>
                <a:off x="5394240" y="46134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81880" y="49010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81880" y="49010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80280" y="45846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65800" y="46998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406480" y="4601160"/>
              <a:ext cx="376560" cy="425520"/>
              <a:chOff x="5406480" y="4601160"/>
              <a:chExt cx="376560" cy="425520"/>
            </a:xfrm>
          </p:grpSpPr>
          <p:sp>
            <p:nvSpPr>
              <p:cNvPr id="193" name=""/>
              <p:cNvSpPr/>
              <p:nvPr/>
            </p:nvSpPr>
            <p:spPr>
              <a:xfrm flipH="1">
                <a:off x="5443920" y="46170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06480" y="49201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13400" y="49201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676120" y="46940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62080" y="46011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347080" y="4731120"/>
              <a:ext cx="495720" cy="165600"/>
              <a:chOff x="5347080" y="4731120"/>
              <a:chExt cx="495720" cy="16560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5347080" y="48060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5382360" y="47444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387400" y="48182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5728320" y="48096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727960" y="47311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509440" y="4565880"/>
              <a:ext cx="170640" cy="495360"/>
              <a:chOff x="5509440" y="4565880"/>
              <a:chExt cx="170640" cy="49536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5584320" y="45658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509440" y="4947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89360" y="49474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00160" y="46072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27440" y="46011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6282360" y="4351320"/>
            <a:ext cx="495720" cy="495360"/>
            <a:chOff x="6282360" y="4351320"/>
            <a:chExt cx="495720" cy="495360"/>
          </a:xfrm>
        </p:grpSpPr>
        <p:grpSp>
          <p:nvGrpSpPr>
            <p:cNvPr id="211" name=""/>
            <p:cNvGrpSpPr/>
            <p:nvPr/>
          </p:nvGrpSpPr>
          <p:grpSpPr>
            <a:xfrm>
              <a:off x="6300720" y="4370400"/>
              <a:ext cx="431280" cy="431280"/>
              <a:chOff x="6300720" y="4370400"/>
              <a:chExt cx="431280" cy="431280"/>
            </a:xfrm>
          </p:grpSpPr>
          <p:sp>
            <p:nvSpPr>
              <p:cNvPr id="212" name=""/>
              <p:cNvSpPr/>
              <p:nvPr/>
            </p:nvSpPr>
            <p:spPr>
              <a:xfrm>
                <a:off x="6329160" y="43992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17160" y="46864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17160" y="46864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15200" y="43704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00720" y="44856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341400" y="4386960"/>
              <a:ext cx="377280" cy="425160"/>
              <a:chOff x="6341400" y="4386960"/>
              <a:chExt cx="377280" cy="425160"/>
            </a:xfrm>
          </p:grpSpPr>
          <p:sp>
            <p:nvSpPr>
              <p:cNvPr id="218" name=""/>
              <p:cNvSpPr/>
              <p:nvPr/>
            </p:nvSpPr>
            <p:spPr>
              <a:xfrm flipH="1">
                <a:off x="6379200" y="44028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341400" y="47055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48680" y="47055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611760" y="44791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7720" y="43869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282360" y="4516920"/>
              <a:ext cx="495720" cy="165240"/>
              <a:chOff x="6282360" y="4516920"/>
              <a:chExt cx="495720" cy="16524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6282360" y="45918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6317640" y="45295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322680" y="46036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6663960" y="45950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663240" y="45169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44720" y="4351320"/>
              <a:ext cx="170640" cy="495360"/>
              <a:chOff x="6444720" y="4351320"/>
              <a:chExt cx="170640" cy="495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6519600" y="43513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444720" y="47329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4640" y="47329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535800" y="43927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3440" y="43866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236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237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261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262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5850360" y="3772080"/>
            <a:ext cx="495720" cy="495360"/>
            <a:chOff x="5850360" y="3772080"/>
            <a:chExt cx="495720" cy="495360"/>
          </a:xfrm>
        </p:grpSpPr>
        <p:grpSp>
          <p:nvGrpSpPr>
            <p:cNvPr id="286" name=""/>
            <p:cNvGrpSpPr/>
            <p:nvPr/>
          </p:nvGrpSpPr>
          <p:grpSpPr>
            <a:xfrm>
              <a:off x="5869080" y="3790800"/>
              <a:ext cx="430920" cy="432000"/>
              <a:chOff x="5869080" y="3790800"/>
              <a:chExt cx="430920" cy="432000"/>
            </a:xfrm>
          </p:grpSpPr>
          <p:sp>
            <p:nvSpPr>
              <p:cNvPr id="287" name=""/>
              <p:cNvSpPr/>
              <p:nvPr/>
            </p:nvSpPr>
            <p:spPr>
              <a:xfrm>
                <a:off x="5897520" y="38196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160" y="41072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85160" y="4107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83560" y="3790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9080" y="3906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909760" y="3807360"/>
              <a:ext cx="376560" cy="425520"/>
              <a:chOff x="5909760" y="3807360"/>
              <a:chExt cx="376560" cy="425520"/>
            </a:xfrm>
          </p:grpSpPr>
          <p:sp>
            <p:nvSpPr>
              <p:cNvPr id="293" name=""/>
              <p:cNvSpPr/>
              <p:nvPr/>
            </p:nvSpPr>
            <p:spPr>
              <a:xfrm flipH="1">
                <a:off x="5947200" y="38232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909760" y="41263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16680" y="4126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179400" y="39002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65360" y="38073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850360" y="3937320"/>
              <a:ext cx="495720" cy="165600"/>
              <a:chOff x="5850360" y="3937320"/>
              <a:chExt cx="495720" cy="16560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5850360" y="40122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5885640" y="3950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890680" y="4024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6231600" y="40158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231240" y="3937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012720" y="3772080"/>
              <a:ext cx="170640" cy="495360"/>
              <a:chOff x="6012720" y="3772080"/>
              <a:chExt cx="170640" cy="495360"/>
            </a:xfrm>
          </p:grpSpPr>
          <p:sp>
            <p:nvSpPr>
              <p:cNvPr id="305" name=""/>
              <p:cNvSpPr/>
              <p:nvPr/>
            </p:nvSpPr>
            <p:spPr>
              <a:xfrm flipH="1">
                <a:off x="6087600" y="37720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012720" y="4153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2640" y="4153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103440" y="38134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30720" y="38073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353640" y="3051360"/>
            <a:ext cx="495720" cy="495360"/>
            <a:chOff x="6353640" y="3051360"/>
            <a:chExt cx="495720" cy="495360"/>
          </a:xfrm>
        </p:grpSpPr>
        <p:grpSp>
          <p:nvGrpSpPr>
            <p:cNvPr id="311" name=""/>
            <p:cNvGrpSpPr/>
            <p:nvPr/>
          </p:nvGrpSpPr>
          <p:grpSpPr>
            <a:xfrm>
              <a:off x="6372360" y="3070080"/>
              <a:ext cx="430920" cy="432000"/>
              <a:chOff x="6372360" y="3070080"/>
              <a:chExt cx="430920" cy="432000"/>
            </a:xfrm>
          </p:grpSpPr>
          <p:sp>
            <p:nvSpPr>
              <p:cNvPr id="312" name=""/>
              <p:cNvSpPr/>
              <p:nvPr/>
            </p:nvSpPr>
            <p:spPr>
              <a:xfrm>
                <a:off x="6400800" y="309888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88440" y="338652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8440" y="33865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6840" y="3070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72360" y="318528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13040" y="3086640"/>
              <a:ext cx="376560" cy="425520"/>
              <a:chOff x="6413040" y="3086640"/>
              <a:chExt cx="376560" cy="425520"/>
            </a:xfrm>
          </p:grpSpPr>
          <p:sp>
            <p:nvSpPr>
              <p:cNvPr id="318" name=""/>
              <p:cNvSpPr/>
              <p:nvPr/>
            </p:nvSpPr>
            <p:spPr>
              <a:xfrm flipH="1">
                <a:off x="6450480" y="310248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413040" y="340560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19960" y="34056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82680" y="3179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68640" y="308664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353640" y="3216600"/>
              <a:ext cx="495720" cy="165600"/>
              <a:chOff x="6353640" y="3216600"/>
              <a:chExt cx="495720" cy="16560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6353640" y="329148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6388920" y="322992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93960" y="33037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6734880" y="32950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6734520" y="321660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516000" y="3051360"/>
              <a:ext cx="170640" cy="495360"/>
              <a:chOff x="6516000" y="3051360"/>
              <a:chExt cx="170640" cy="49536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6590880" y="305136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516000" y="34329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95920" y="34329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606720" y="30927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534000" y="308664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418720" y="3195720"/>
            <a:ext cx="495720" cy="495360"/>
            <a:chOff x="5418720" y="3195720"/>
            <a:chExt cx="495720" cy="495360"/>
          </a:xfrm>
        </p:grpSpPr>
        <p:grpSp>
          <p:nvGrpSpPr>
            <p:cNvPr id="336" name=""/>
            <p:cNvGrpSpPr/>
            <p:nvPr/>
          </p:nvGrpSpPr>
          <p:grpSpPr>
            <a:xfrm>
              <a:off x="5437080" y="3214800"/>
              <a:ext cx="431280" cy="431280"/>
              <a:chOff x="5437080" y="3214800"/>
              <a:chExt cx="431280" cy="431280"/>
            </a:xfrm>
          </p:grpSpPr>
          <p:sp>
            <p:nvSpPr>
              <p:cNvPr id="337" name=""/>
              <p:cNvSpPr/>
              <p:nvPr/>
            </p:nvSpPr>
            <p:spPr>
              <a:xfrm>
                <a:off x="5465520" y="32436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53520" y="35308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53520" y="35308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51560" y="3214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37080" y="33300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477760" y="3231360"/>
              <a:ext cx="377280" cy="425160"/>
              <a:chOff x="5477760" y="3231360"/>
              <a:chExt cx="377280" cy="42516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515560" y="324720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77760" y="354996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040" y="35499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48120" y="332352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34080" y="32313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418720" y="3361320"/>
              <a:ext cx="495720" cy="165240"/>
              <a:chOff x="5418720" y="3361320"/>
              <a:chExt cx="495720" cy="16524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5418720" y="343620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5454000" y="337392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59040" y="34480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5800320" y="343944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799600" y="33613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5581080" y="3195720"/>
              <a:ext cx="170640" cy="495360"/>
              <a:chOff x="5581080" y="3195720"/>
              <a:chExt cx="170640" cy="4953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5655960" y="319572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81080" y="357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61000" y="35773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672160" y="323712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99800" y="323100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5345640" y="4564080"/>
            <a:ext cx="495720" cy="495360"/>
            <a:chOff x="5345640" y="4564080"/>
            <a:chExt cx="495720" cy="495360"/>
          </a:xfrm>
        </p:grpSpPr>
        <p:grpSp>
          <p:nvGrpSpPr>
            <p:cNvPr id="361" name=""/>
            <p:cNvGrpSpPr/>
            <p:nvPr/>
          </p:nvGrpSpPr>
          <p:grpSpPr>
            <a:xfrm>
              <a:off x="5364000" y="4583160"/>
              <a:ext cx="431280" cy="431280"/>
              <a:chOff x="5364000" y="4583160"/>
              <a:chExt cx="431280" cy="431280"/>
            </a:xfrm>
          </p:grpSpPr>
          <p:sp>
            <p:nvSpPr>
              <p:cNvPr id="362" name=""/>
              <p:cNvSpPr/>
              <p:nvPr/>
            </p:nvSpPr>
            <p:spPr>
              <a:xfrm>
                <a:off x="5392440" y="46119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80440" y="48992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80440" y="48992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78480" y="45831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64000" y="46983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404680" y="4599720"/>
              <a:ext cx="377280" cy="425160"/>
              <a:chOff x="5404680" y="4599720"/>
              <a:chExt cx="377280" cy="42516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5442480" y="461556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5404680" y="491832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11960" y="49183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675040" y="469188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61000" y="45997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45640" y="4729680"/>
              <a:ext cx="495720" cy="165240"/>
              <a:chOff x="5345640" y="4729680"/>
              <a:chExt cx="495720" cy="16524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5345640" y="480456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5380920" y="474228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385960" y="48164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5727240" y="480780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5726520" y="472968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508000" y="4564080"/>
              <a:ext cx="170640" cy="495360"/>
              <a:chOff x="5508000" y="4564080"/>
              <a:chExt cx="170640" cy="49536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5582880" y="456408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5508000" y="4945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87920" y="49456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599080" y="460548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26720" y="459936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5848920" y="3770280"/>
            <a:ext cx="495720" cy="495360"/>
            <a:chOff x="5848920" y="3770280"/>
            <a:chExt cx="495720" cy="495360"/>
          </a:xfrm>
        </p:grpSpPr>
        <p:grpSp>
          <p:nvGrpSpPr>
            <p:cNvPr id="386" name=""/>
            <p:cNvGrpSpPr/>
            <p:nvPr/>
          </p:nvGrpSpPr>
          <p:grpSpPr>
            <a:xfrm>
              <a:off x="5867280" y="3789360"/>
              <a:ext cx="431280" cy="431280"/>
              <a:chOff x="5867280" y="3789360"/>
              <a:chExt cx="431280" cy="431280"/>
            </a:xfrm>
          </p:grpSpPr>
          <p:sp>
            <p:nvSpPr>
              <p:cNvPr id="387" name=""/>
              <p:cNvSpPr/>
              <p:nvPr/>
            </p:nvSpPr>
            <p:spPr>
              <a:xfrm>
                <a:off x="5895720" y="38181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83720" y="41054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83720" y="4105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81760" y="37893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7280" y="39045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907960" y="3805920"/>
              <a:ext cx="377280" cy="425160"/>
              <a:chOff x="5907960" y="3805920"/>
              <a:chExt cx="377280" cy="42516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5945760" y="382176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907960" y="412452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15240" y="4124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178320" y="389808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64280" y="38059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848920" y="3935880"/>
              <a:ext cx="495720" cy="165240"/>
              <a:chOff x="5848920" y="3935880"/>
              <a:chExt cx="495720" cy="165240"/>
            </a:xfrm>
          </p:grpSpPr>
          <p:sp>
            <p:nvSpPr>
              <p:cNvPr id="399" name=""/>
              <p:cNvSpPr/>
              <p:nvPr/>
            </p:nvSpPr>
            <p:spPr>
              <a:xfrm flipH="1">
                <a:off x="5848920" y="401076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5884200" y="394848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889240" y="4022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6230520" y="401400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229800" y="393588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011280" y="3770280"/>
              <a:ext cx="170640" cy="495360"/>
              <a:chOff x="6011280" y="3770280"/>
              <a:chExt cx="170640" cy="495360"/>
            </a:xfrm>
          </p:grpSpPr>
          <p:sp>
            <p:nvSpPr>
              <p:cNvPr id="405" name=""/>
              <p:cNvSpPr/>
              <p:nvPr/>
            </p:nvSpPr>
            <p:spPr>
              <a:xfrm flipH="1">
                <a:off x="6086160" y="377028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011280" y="4151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1200" y="4151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102360" y="381168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30000" y="380556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6352200" y="3049560"/>
            <a:ext cx="495720" cy="495360"/>
            <a:chOff x="6352200" y="3049560"/>
            <a:chExt cx="495720" cy="495360"/>
          </a:xfrm>
        </p:grpSpPr>
        <p:grpSp>
          <p:nvGrpSpPr>
            <p:cNvPr id="411" name=""/>
            <p:cNvGrpSpPr/>
            <p:nvPr/>
          </p:nvGrpSpPr>
          <p:grpSpPr>
            <a:xfrm>
              <a:off x="6370560" y="3068640"/>
              <a:ext cx="431280" cy="431280"/>
              <a:chOff x="6370560" y="3068640"/>
              <a:chExt cx="431280" cy="431280"/>
            </a:xfrm>
          </p:grpSpPr>
          <p:sp>
            <p:nvSpPr>
              <p:cNvPr id="412" name=""/>
              <p:cNvSpPr/>
              <p:nvPr/>
            </p:nvSpPr>
            <p:spPr>
              <a:xfrm>
                <a:off x="6399000" y="309744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87000" y="33847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87000" y="338472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85040" y="30686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560" y="318384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411240" y="3085200"/>
              <a:ext cx="377280" cy="425160"/>
              <a:chOff x="6411240" y="3085200"/>
              <a:chExt cx="377280" cy="42516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6449040" y="310104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411240" y="340380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518520" y="340380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681600" y="317736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67560" y="308520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352200" y="3215160"/>
              <a:ext cx="495720" cy="165240"/>
              <a:chOff x="6352200" y="3215160"/>
              <a:chExt cx="495720" cy="16524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6352200" y="329004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6387480" y="322776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392520" y="33019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6733800" y="329328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733080" y="321516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514560" y="3049560"/>
              <a:ext cx="170640" cy="495360"/>
              <a:chOff x="6514560" y="3049560"/>
              <a:chExt cx="170640" cy="495360"/>
            </a:xfrm>
          </p:grpSpPr>
          <p:sp>
            <p:nvSpPr>
              <p:cNvPr id="430" name=""/>
              <p:cNvSpPr/>
              <p:nvPr/>
            </p:nvSpPr>
            <p:spPr>
              <a:xfrm flipH="1">
                <a:off x="6589440" y="304956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514560" y="343116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94480" y="343116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605640" y="309096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33280" y="308484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416920" y="3194280"/>
            <a:ext cx="495720" cy="495360"/>
            <a:chOff x="5416920" y="3194280"/>
            <a:chExt cx="495720" cy="495360"/>
          </a:xfrm>
        </p:grpSpPr>
        <p:grpSp>
          <p:nvGrpSpPr>
            <p:cNvPr id="436" name=""/>
            <p:cNvGrpSpPr/>
            <p:nvPr/>
          </p:nvGrpSpPr>
          <p:grpSpPr>
            <a:xfrm>
              <a:off x="5435640" y="3213000"/>
              <a:ext cx="430920" cy="432000"/>
              <a:chOff x="5435640" y="3213000"/>
              <a:chExt cx="430920" cy="432000"/>
            </a:xfrm>
          </p:grpSpPr>
          <p:sp>
            <p:nvSpPr>
              <p:cNvPr id="437" name=""/>
              <p:cNvSpPr/>
              <p:nvPr/>
            </p:nvSpPr>
            <p:spPr>
              <a:xfrm>
                <a:off x="5464080" y="3241800"/>
                <a:ext cx="374040" cy="37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51720" y="3529440"/>
                <a:ext cx="0" cy="115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51720" y="3529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550120" y="32130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35640" y="33282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476320" y="3229560"/>
              <a:ext cx="376560" cy="425520"/>
              <a:chOff x="5476320" y="3229560"/>
              <a:chExt cx="376560" cy="4255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5513760" y="3245400"/>
                <a:ext cx="302040" cy="393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476320" y="3548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83240" y="3548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745960" y="33224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31920" y="3229560"/>
                <a:ext cx="14040" cy="1072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416920" y="3359520"/>
              <a:ext cx="495720" cy="165600"/>
              <a:chOff x="5416920" y="3359520"/>
              <a:chExt cx="495720" cy="16560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5416920" y="3434400"/>
                <a:ext cx="49572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5452200" y="33728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457240" y="3446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5798160" y="34380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5797800" y="335952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579280" y="3194280"/>
              <a:ext cx="170640" cy="495360"/>
              <a:chOff x="5579280" y="3194280"/>
              <a:chExt cx="170640" cy="4953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5654160" y="3194280"/>
                <a:ext cx="2088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579280" y="3575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59200" y="3575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5670000" y="3235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97280" y="3229560"/>
                <a:ext cx="7344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7579080" y="4928040"/>
            <a:ext cx="495360" cy="495000"/>
            <a:chOff x="7579080" y="4928040"/>
            <a:chExt cx="495360" cy="495000"/>
          </a:xfrm>
        </p:grpSpPr>
        <p:grpSp>
          <p:nvGrpSpPr>
            <p:cNvPr id="461" name=""/>
            <p:cNvGrpSpPr/>
            <p:nvPr/>
          </p:nvGrpSpPr>
          <p:grpSpPr>
            <a:xfrm>
              <a:off x="7597800" y="4946760"/>
              <a:ext cx="430920" cy="431280"/>
              <a:chOff x="7597800" y="4946760"/>
              <a:chExt cx="430920" cy="431280"/>
            </a:xfrm>
          </p:grpSpPr>
          <p:sp>
            <p:nvSpPr>
              <p:cNvPr id="462" name=""/>
              <p:cNvSpPr/>
              <p:nvPr/>
            </p:nvSpPr>
            <p:spPr>
              <a:xfrm>
                <a:off x="7626240" y="49755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13880" y="52628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913880" y="52628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12280" y="49467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597800" y="50619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7638480" y="4963320"/>
              <a:ext cx="376560" cy="425160"/>
              <a:chOff x="7638480" y="4963320"/>
              <a:chExt cx="376560" cy="42516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7675920" y="497916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7638480" y="52819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45400" y="52819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7908120" y="50558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94080" y="49633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579080" y="5093280"/>
              <a:ext cx="495360" cy="165240"/>
              <a:chOff x="7579080" y="5093280"/>
              <a:chExt cx="495360" cy="16524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7579080" y="516780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7614360" y="51062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7619400" y="51800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7960320" y="51714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959960" y="50932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741440" y="4928040"/>
              <a:ext cx="170640" cy="495000"/>
              <a:chOff x="7741440" y="4928040"/>
              <a:chExt cx="170640" cy="49500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7816320" y="492804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741440" y="53092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21360" y="53092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832160" y="49690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59800" y="496296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6642720" y="5140440"/>
            <a:ext cx="495720" cy="495360"/>
            <a:chOff x="6642720" y="5140440"/>
            <a:chExt cx="495720" cy="495360"/>
          </a:xfrm>
        </p:grpSpPr>
        <p:grpSp>
          <p:nvGrpSpPr>
            <p:cNvPr id="486" name=""/>
            <p:cNvGrpSpPr/>
            <p:nvPr/>
          </p:nvGrpSpPr>
          <p:grpSpPr>
            <a:xfrm>
              <a:off x="6661080" y="5159520"/>
              <a:ext cx="431280" cy="431280"/>
              <a:chOff x="6661080" y="5159520"/>
              <a:chExt cx="431280" cy="431280"/>
            </a:xfrm>
          </p:grpSpPr>
          <p:sp>
            <p:nvSpPr>
              <p:cNvPr id="487" name=""/>
              <p:cNvSpPr/>
              <p:nvPr/>
            </p:nvSpPr>
            <p:spPr>
              <a:xfrm>
                <a:off x="6689520" y="518832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77520" y="54756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977520" y="547560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560" y="51595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61080" y="527472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701760" y="5176080"/>
              <a:ext cx="377280" cy="425160"/>
              <a:chOff x="6701760" y="5176080"/>
              <a:chExt cx="377280" cy="42516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739560" y="519192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701760" y="549468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9040" y="549468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972120" y="526824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958080" y="517608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642720" y="5306040"/>
              <a:ext cx="495720" cy="165240"/>
              <a:chOff x="6642720" y="5306040"/>
              <a:chExt cx="495720" cy="16524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6642720" y="538092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6678000" y="531864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6683040" y="539280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7024320" y="538416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7023600" y="530604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05080" y="5140440"/>
              <a:ext cx="170640" cy="495360"/>
              <a:chOff x="6805080" y="5140440"/>
              <a:chExt cx="170640" cy="495360"/>
            </a:xfrm>
          </p:grpSpPr>
          <p:sp>
            <p:nvSpPr>
              <p:cNvPr id="505" name=""/>
              <p:cNvSpPr/>
              <p:nvPr/>
            </p:nvSpPr>
            <p:spPr>
              <a:xfrm flipH="1">
                <a:off x="6879960" y="514044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805080" y="552204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85000" y="552204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96160" y="518184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23800" y="517572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7146000" y="4346640"/>
            <a:ext cx="495720" cy="495360"/>
            <a:chOff x="7146000" y="4346640"/>
            <a:chExt cx="495720" cy="495360"/>
          </a:xfrm>
        </p:grpSpPr>
        <p:grpSp>
          <p:nvGrpSpPr>
            <p:cNvPr id="511" name=""/>
            <p:cNvGrpSpPr/>
            <p:nvPr/>
          </p:nvGrpSpPr>
          <p:grpSpPr>
            <a:xfrm>
              <a:off x="7164360" y="4365720"/>
              <a:ext cx="431280" cy="431280"/>
              <a:chOff x="7164360" y="4365720"/>
              <a:chExt cx="431280" cy="431280"/>
            </a:xfrm>
          </p:grpSpPr>
          <p:sp>
            <p:nvSpPr>
              <p:cNvPr id="512" name=""/>
              <p:cNvSpPr/>
              <p:nvPr/>
            </p:nvSpPr>
            <p:spPr>
              <a:xfrm>
                <a:off x="7192800" y="439452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80800" y="46818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80800" y="468180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278840" y="436572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4360" y="448092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7205040" y="4382280"/>
              <a:ext cx="377280" cy="425160"/>
              <a:chOff x="7205040" y="4382280"/>
              <a:chExt cx="377280" cy="425160"/>
            </a:xfrm>
          </p:grpSpPr>
          <p:sp>
            <p:nvSpPr>
              <p:cNvPr id="518" name=""/>
              <p:cNvSpPr/>
              <p:nvPr/>
            </p:nvSpPr>
            <p:spPr>
              <a:xfrm flipH="1">
                <a:off x="7242840" y="4398120"/>
                <a:ext cx="30240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7205040" y="4700880"/>
                <a:ext cx="10728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12320" y="470088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475400" y="4474440"/>
                <a:ext cx="106920" cy="140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461360" y="438228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7146000" y="4512240"/>
              <a:ext cx="495720" cy="165240"/>
              <a:chOff x="7146000" y="4512240"/>
              <a:chExt cx="495720" cy="165240"/>
            </a:xfrm>
          </p:grpSpPr>
          <p:sp>
            <p:nvSpPr>
              <p:cNvPr id="524" name=""/>
              <p:cNvSpPr/>
              <p:nvPr/>
            </p:nvSpPr>
            <p:spPr>
              <a:xfrm flipH="1">
                <a:off x="7146000" y="4587120"/>
                <a:ext cx="495720" cy="15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7181280" y="4524840"/>
                <a:ext cx="7884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7186320" y="459900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7527600" y="4590360"/>
                <a:ext cx="78480" cy="741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7526880" y="4512240"/>
                <a:ext cx="74160" cy="78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308360" y="4346640"/>
              <a:ext cx="170640" cy="495360"/>
              <a:chOff x="7308360" y="4346640"/>
              <a:chExt cx="170640" cy="495360"/>
            </a:xfrm>
          </p:grpSpPr>
          <p:sp>
            <p:nvSpPr>
              <p:cNvPr id="530" name=""/>
              <p:cNvSpPr/>
              <p:nvPr/>
            </p:nvSpPr>
            <p:spPr>
              <a:xfrm flipH="1">
                <a:off x="7383240" y="4346640"/>
                <a:ext cx="21600" cy="4953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308360" y="472824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88280" y="472824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399440" y="4388040"/>
                <a:ext cx="79560" cy="727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27080" y="4381920"/>
                <a:ext cx="73080" cy="79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7648920" y="3626280"/>
            <a:ext cx="495360" cy="495000"/>
            <a:chOff x="7648920" y="3626280"/>
            <a:chExt cx="495360" cy="495000"/>
          </a:xfrm>
        </p:grpSpPr>
        <p:grpSp>
          <p:nvGrpSpPr>
            <p:cNvPr id="536" name=""/>
            <p:cNvGrpSpPr/>
            <p:nvPr/>
          </p:nvGrpSpPr>
          <p:grpSpPr>
            <a:xfrm>
              <a:off x="7667640" y="3645000"/>
              <a:ext cx="430920" cy="431280"/>
              <a:chOff x="7667640" y="3645000"/>
              <a:chExt cx="430920" cy="431280"/>
            </a:xfrm>
          </p:grpSpPr>
          <p:sp>
            <p:nvSpPr>
              <p:cNvPr id="537" name=""/>
              <p:cNvSpPr/>
              <p:nvPr/>
            </p:nvSpPr>
            <p:spPr>
              <a:xfrm>
                <a:off x="7696080" y="367380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83720" y="396108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83720" y="396108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82120" y="364500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67640" y="376020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7708320" y="3661560"/>
              <a:ext cx="376560" cy="425160"/>
              <a:chOff x="7708320" y="3661560"/>
              <a:chExt cx="376560" cy="425160"/>
            </a:xfrm>
          </p:grpSpPr>
          <p:sp>
            <p:nvSpPr>
              <p:cNvPr id="543" name=""/>
              <p:cNvSpPr/>
              <p:nvPr/>
            </p:nvSpPr>
            <p:spPr>
              <a:xfrm flipH="1">
                <a:off x="7745760" y="367740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7708320" y="398016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15240" y="398016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977960" y="375408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63920" y="366156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648920" y="3791520"/>
              <a:ext cx="495360" cy="165240"/>
              <a:chOff x="7648920" y="3791520"/>
              <a:chExt cx="495360" cy="16524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7648920" y="386604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7684200" y="380448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689240" y="38782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8030160" y="38696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8029800" y="379152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811280" y="3626280"/>
              <a:ext cx="170640" cy="495000"/>
              <a:chOff x="7811280" y="3626280"/>
              <a:chExt cx="170640" cy="49500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7886160" y="362628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7811280" y="40075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891200" y="400752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7902000" y="366732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29640" y="366120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"/>
          <p:cNvGrpSpPr/>
          <p:nvPr/>
        </p:nvGrpSpPr>
        <p:grpSpPr>
          <a:xfrm>
            <a:off x="6714000" y="3770640"/>
            <a:ext cx="495360" cy="495000"/>
            <a:chOff x="6714000" y="3770640"/>
            <a:chExt cx="495360" cy="495000"/>
          </a:xfrm>
        </p:grpSpPr>
        <p:grpSp>
          <p:nvGrpSpPr>
            <p:cNvPr id="561" name=""/>
            <p:cNvGrpSpPr/>
            <p:nvPr/>
          </p:nvGrpSpPr>
          <p:grpSpPr>
            <a:xfrm>
              <a:off x="6732720" y="3789360"/>
              <a:ext cx="430920" cy="431280"/>
              <a:chOff x="6732720" y="3789360"/>
              <a:chExt cx="430920" cy="431280"/>
            </a:xfrm>
          </p:grpSpPr>
          <p:sp>
            <p:nvSpPr>
              <p:cNvPr id="562" name=""/>
              <p:cNvSpPr/>
              <p:nvPr/>
            </p:nvSpPr>
            <p:spPr>
              <a:xfrm>
                <a:off x="6761160" y="3818160"/>
                <a:ext cx="374040" cy="3733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48800" y="410544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48800" y="4105440"/>
                <a:ext cx="11484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47200" y="3789360"/>
                <a:ext cx="0" cy="115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32720" y="3904560"/>
                <a:ext cx="115200" cy="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773400" y="3805920"/>
              <a:ext cx="376560" cy="425160"/>
              <a:chOff x="6773400" y="3805920"/>
              <a:chExt cx="376560" cy="425160"/>
            </a:xfrm>
          </p:grpSpPr>
          <p:sp>
            <p:nvSpPr>
              <p:cNvPr id="568" name=""/>
              <p:cNvSpPr/>
              <p:nvPr/>
            </p:nvSpPr>
            <p:spPr>
              <a:xfrm flipH="1">
                <a:off x="6810840" y="3821760"/>
                <a:ext cx="302040" cy="3931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773400" y="412452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880320" y="4124520"/>
                <a:ext cx="14040" cy="10656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7043040" y="3898440"/>
                <a:ext cx="106920" cy="136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29000" y="3805920"/>
                <a:ext cx="14040" cy="106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714000" y="3935880"/>
              <a:ext cx="495360" cy="165240"/>
              <a:chOff x="6714000" y="3935880"/>
              <a:chExt cx="495360" cy="165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6714000" y="4010400"/>
                <a:ext cx="495360" cy="1584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6749280" y="394884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6754320" y="402264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7095240" y="4014000"/>
                <a:ext cx="78840" cy="738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7094880" y="3935880"/>
                <a:ext cx="73800" cy="784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876360" y="3770640"/>
              <a:ext cx="170640" cy="495000"/>
              <a:chOff x="6876360" y="3770640"/>
              <a:chExt cx="170640" cy="49500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6951240" y="3770640"/>
                <a:ext cx="21240" cy="4950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876360" y="41518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56280" y="4151880"/>
                <a:ext cx="72720" cy="7920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967080" y="3811680"/>
                <a:ext cx="79920" cy="7308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94720" y="3805560"/>
                <a:ext cx="73080" cy="79920"/>
              </a:xfrm>
              <a:prstGeom prst="line">
                <a:avLst/>
              </a:prstGeom>
              <a:ln w="2844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11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16" dur="5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8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21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23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5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8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36" dur="5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38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41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3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46" dur="5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48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51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53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56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58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1" dur="5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3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66" dur="5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8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71" dur="5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76" dur="5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8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81" dur="5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3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86" dur="5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8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91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3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L 0 0.35694 E">
                                      <p:cBhvr>
                                        <p:cTn id="96" dur="5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98" dur="5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1:36:50Z</dcterms:created>
  <dc:creator>admin</dc:creator>
  <dc:description/>
  <dc:language>en-US</dc:language>
  <cp:lastModifiedBy>admin</cp:lastModifiedBy>
  <dcterms:modified xsi:type="dcterms:W3CDTF">2010-01-18T18:17:33Z</dcterms:modified>
  <cp:revision>7</cp:revision>
  <dc:subject/>
  <dc:title>Природа – это МЫ!</dc:title>
</cp:coreProperties>
</file>