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1B0-B8A6-47D4-BD2C-4F23FBB0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D19-20A1-4783-8E05-AEED3D31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87B-78FA-483C-89E9-472200DC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B88-5CAA-423F-AE86-5E956188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38D8-654D-4234-8CC5-F3FBDAC7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DB8B-09EA-4B85-A89F-6AD89826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A283-0748-43E1-8062-9835D5F5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D3AE-077D-4B58-9980-B51D17E0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B925-0917-4058-9C11-0D74B478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5056-AF59-4B4E-9C7E-D2C6F3A2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E5F3-FDA2-44A6-8F99-9FC2A60C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89D-DC5B-4231-87FA-729AC36D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6BCF-4057-4B20-8208-54CD494D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9A15-4C9D-4C8A-A689-C38C4C9D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2F54-8343-4010-8F92-84ECC7BF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6133-476A-42BA-B8A9-EF3421F1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C70D-89B1-4625-B1A8-ABC52182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49E-AB51-492B-8CDE-018B3D3D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985-9248-4198-861D-C1F14B01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3E3-6BAC-4C40-836A-6FF1AD9C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18A-02CF-4108-9061-989D044B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59F-8B9B-4499-A57F-D2E9B1E6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463-99D3-4952-A913-D8F695ED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377-ED30-4F99-8EAD-CD2FBAA5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FCBE-9842-4425-AD70-FE27B496F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1ABD-A647-4A94-83D7-FCAAD560B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Природа Австралии.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еобразие органического ми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Коал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50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Тасманский (сумчатый) дьявол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83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Лирохвост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867280" y="1268280"/>
            <a:ext cx="307656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5616720" cy="41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траус Эму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495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идне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1280" y="1306440"/>
            <a:ext cx="7921440" cy="52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369720"/>
            <a:ext cx="8353440" cy="625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толовая гор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49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зеро Эйр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5429160" cy="40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4286520" cy="224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 чем необычность природы Австралии ?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8472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том, что из 10 000 видов растений – 8600 – эт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эндеми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то есть в других районах планеты не встречаю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5715000" cy="42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627280" y="609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у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048440" cy="46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Эвкалипт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Бутылочное дерев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2378160" cy="425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132000" y="2133720"/>
            <a:ext cx="56390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Ехидна и утконос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140360" y="1341360"/>
            <a:ext cx="4762440" cy="431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3338640" cy="336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Кенгуру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17080" cy="45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7T11:25:06Z</dcterms:created>
  <dc:creator>admin</dc:creator>
  <dc:description/>
  <dc:language>en-US</dc:language>
  <cp:lastModifiedBy>admin</cp:lastModifiedBy>
  <dcterms:modified xsi:type="dcterms:W3CDTF">2009-12-27T20:08:57Z</dcterms:modified>
  <cp:revision>2</cp:revision>
  <dc:subject/>
  <dc:title>Природа Австралии.</dc:title>
</cp:coreProperties>
</file>