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43F-1A66-485F-B8B5-143A859A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A97-9FEB-4761-B23F-A4AD43B0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E5E-0D1D-4336-87D4-965CF05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0F7-7B9F-4E86-93AF-E72D8DC3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2D18-94A0-4557-A297-DB77262A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606-8781-45C6-AF22-48942B8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EE3-B9E0-4F32-8755-A5A54F1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3FCA-709B-44B3-ADFF-75ED57AD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FA22-496E-4A52-B6D3-2804E33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D7EB-5D4D-4816-AA3A-CCE0412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77C6-5A8C-4B1F-AC03-30885FE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FF5-BC88-415E-91BD-4301F88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53B-C047-46B8-8CE5-9E04652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4BB-7EE3-4694-A07C-4563759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2AA2-44C2-4E92-937D-F5BC1FA1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253B-04C1-46E8-A956-DE456391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4642-3782-44DB-AC78-A57EE957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5B6-DA8D-44FD-AF45-2282E6B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90D-ECC2-4E6A-AEC0-DA60C66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9BE-5520-4EB2-A7F8-916F305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4B8-90D8-4913-889B-6E5338C5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B65-0A2C-410A-86CF-A5F0C2F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3AE-B31E-42E3-907D-AD115BE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15B-B860-4C43-8525-024DB8F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DDC-EE9C-4D3B-8251-A7FBCE3A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DE5-8283-4AAD-9D65-D9DD9013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Природа Австралии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еобразие органическо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о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Тасманский (сумчатый) дьяво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8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Лирохвос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07656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5616720" cy="41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раус Э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идн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306440"/>
            <a:ext cx="7921440" cy="52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3440" cy="625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оловая гор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зеро Эй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5429160" cy="40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865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 чем необычность природы Австралии 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8472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том, что из 10 000 видов растений – 8600 – эт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ндем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то есть в других районах планеты не встреч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71500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62728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у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Эвкалип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утылочное дере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37816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56390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Ехидна и утконос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476244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338640" cy="33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енгур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5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1:25:06Z</dcterms:created>
  <dc:creator>admin</dc:creator>
  <dc:description/>
  <dc:language>en-US</dc:language>
  <cp:lastModifiedBy>admin</cp:lastModifiedBy>
  <dcterms:modified xsi:type="dcterms:W3CDTF">2009-12-27T20:08:57Z</dcterms:modified>
  <cp:revision>2</cp:revision>
  <dc:subject/>
  <dc:title>Природа Австралии.</dc:title>
</cp:coreProperties>
</file>