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472-1491-480B-9EEB-80D6BD18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2A7-1669-4528-9A60-B2484F6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C13-5D53-42B0-9937-3239CA7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F60-95EA-4E20-8FD3-2E40B68B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0F70-10EB-437B-A68E-33CCA7B1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C8E3-36F0-49E8-ABEE-35A5F945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AFF4-17D9-4288-86D6-2021417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969-C7C9-4F3E-A149-9434C54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F9F-C56D-4F6E-9D73-951DE270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A04A-613D-4AA3-B29A-9541184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A8E-860A-4AD8-B211-D0CBE17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B32-1A02-40DC-8BFD-6F36CEC9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789-EB2B-4E6B-A59E-954D338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21B-CF23-4D35-9B91-9F5E849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3DB2-962D-4E4B-A017-51C53F5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6979-0A5F-4DAA-B6E8-D681DFBB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5D00-F4EF-415F-BAE4-C8D691E8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294-5D36-4D50-A6AF-DCDC551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8DE-91D0-4A68-8601-E8F7F67E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DF4-E707-42CD-83ED-A8128B9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803-8850-44EF-BBE8-5FB0919F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017-B95A-4925-8B0A-81EF652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7FA-A71F-421D-A39B-175088E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ECD-3F2D-434D-A9E2-7F01A76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D1F-82EE-43E4-99A9-D44C19A1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060E-C09A-44DA-9823-8D828408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Природа Австралии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еобразие органическо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о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Тасманский (сумчатый) дьяво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8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Лирохвос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07656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5616720" cy="41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раус Э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идн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306440"/>
            <a:ext cx="7921440" cy="52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3440" cy="625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оловая гор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зеро Эй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5429160" cy="40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865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 чем необычность природы Австралии 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8472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том, что из 10 000 видов растений – 8600 – эт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ндем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то есть в других районах планеты не встреч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71500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62728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у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Эвкалип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утылочное дере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37816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56390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Ехидна и утконос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476244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338640" cy="33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енгур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5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1:25:06Z</dcterms:created>
  <dc:creator>admin</dc:creator>
  <dc:description/>
  <dc:language>en-US</dc:language>
  <cp:lastModifiedBy>admin</cp:lastModifiedBy>
  <dcterms:modified xsi:type="dcterms:W3CDTF">2009-12-27T20:08:57Z</dcterms:modified>
  <cp:revision>2</cp:revision>
  <dc:subject/>
  <dc:title>Природа Австралии.</dc:title>
</cp:coreProperties>
</file>