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1AC-CE3A-4E75-BA26-013BEEF7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C88-F068-4F00-8AA2-FDDBB91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193-6D01-4EF8-B628-B5C88844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0FE-B724-4A73-8A62-4078844E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DB7-D00C-4539-8B49-923ACCC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BC3-1D0E-484D-9403-16C909EF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2E1-2B12-44C4-A73D-0E963CF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9AC-6F8F-46AE-B2F5-16E9276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345-C0C7-4CAE-BD7B-A77C3BA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28C-69F1-4A18-A9AF-0CCCE37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0FD-70B0-4B7E-86B5-9810865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B29-C02C-4261-BAF2-034EDA8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5E8-C52C-4D56-A805-F2302691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ная неделя естествено-географических наук и физического восп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ртивное мероприятие для 1-4 класс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тешествие в сказкогра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стенгазет на спортивную темат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814320" y="-316080"/>
            <a:ext cx="9958320" cy="74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рытый урок по физическому воспитанию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Совершенствование прыжка в длину с мест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грированный урок биологии и физкультуры в 9 «А» класс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Значение физкультурных упражнений для развития и укрепления сердечно-сосудистой систем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классное мероприятие: «Мы хотим, чтоб птицы пел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92360" y="260280"/>
            <a:ext cx="568800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Выстав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565360"/>
            <a:ext cx="792000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рисунков и подел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4437000"/>
            <a:ext cx="871380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"Птицы-наши друзья!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11160"/>
            <a:ext cx="9325080" cy="701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16000" y="216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34200" cy="702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335640" cy="702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-54000"/>
            <a:ext cx="6408720" cy="708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76360" y="-171360"/>
            <a:ext cx="6408720" cy="72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тоги спортивных достижений учащихся под девизом: «Самый, самы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7:36:30Z</dcterms:created>
  <dc:creator>ррр</dc:creator>
  <dc:description/>
  <dc:language>en-US</dc:language>
  <cp:lastModifiedBy>ррр</cp:lastModifiedBy>
  <dcterms:modified xsi:type="dcterms:W3CDTF">2012-10-29T18:47:57Z</dcterms:modified>
  <cp:revision>3</cp:revision>
  <dc:subject/>
  <dc:title>Предметная неделя естествено-географических наук и физического воспит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310000000000010261200207f7000400038000</vt:lpwstr>
  </property>
</Properties>
</file>