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41C-1987-475B-90C7-99BBF0DB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60E-EC25-4AF8-A172-AFEC3CB7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A05-F8E5-4D98-9A12-C9C5E66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1C1-6B08-475C-A107-2402DBF6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181-9F6B-468E-8953-65CB7447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A3A-F406-4F2D-A1E5-B256B4B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091-56BF-4DA5-A415-44E5AC2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3DF-F4DB-4756-9E44-918190E1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323-2358-42C4-8FC4-1A7E92F7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2D8-66CD-471A-B25A-0DEAB36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7EA-1A77-4B63-ABC5-AAB16C5A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BE2-F9D8-47E5-B3D4-D10AA192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4811-89A5-4D81-A6FA-AD4B0006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ная неделя естествено-географических наук и физического воспит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ртивное мероприятие для 1-4 класс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утешествие в сказкогра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72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с стенгазет на спортивную темати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814320" y="-316080"/>
            <a:ext cx="9958320" cy="74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крытый урок по физическому воспитанию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Совершенствование прыжка в длину с мест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грированный урок биологии и физкультуры в 9 «А» классе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«Значение физкультурных упражнений для развития и укрепления сердечно-сосудистой систем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еклассное мероприятие: «Мы хотим, чтоб птицы пели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92360" y="260280"/>
            <a:ext cx="568800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Выстав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1280" y="2565360"/>
            <a:ext cx="792000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рисунков и подел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4437000"/>
            <a:ext cx="871380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 Script One"/>
              </a:rPr>
              <a:t>"Птицы-наши друзья!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 Script One"/>
              <a:ea typeface="Heather Script On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11160"/>
            <a:ext cx="9325080" cy="701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16000" y="216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360000" cy="724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334200" cy="702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335640" cy="702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76360" y="-54000"/>
            <a:ext cx="6408720" cy="7083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76360" y="-171360"/>
            <a:ext cx="6408720" cy="72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664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тоги спортивных достижений учащихся под девизом: «Самый, самы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7:36:30Z</dcterms:created>
  <dc:creator>ррр</dc:creator>
  <dc:description/>
  <dc:language>en-US</dc:language>
  <cp:lastModifiedBy>ррр</cp:lastModifiedBy>
  <dcterms:modified xsi:type="dcterms:W3CDTF">2012-10-29T18:47:57Z</dcterms:modified>
  <cp:revision>3</cp:revision>
  <dc:subject/>
  <dc:title>Предметная неделя естествено-географических наук и физического воспитани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310000000000010261200207f7000400038000</vt:lpwstr>
  </property>
</Properties>
</file>