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072-70D9-468C-B659-1D4A86CF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FA0-3452-4375-8154-62CE3CAC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ABB-A1BD-4C9F-88C4-23F1A3E2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C03-493B-4683-AEF9-3F3123F1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246-C65E-4329-B28B-48A42A85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F9E-F4CA-44CD-8E78-F60E6BFE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08E-BE85-4BD8-8D36-C978A934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6B4-86B9-423C-8B83-E8637118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11C-77C6-4483-8200-81695158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74F-D2B0-41F7-97B8-3EB57BD6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EEE-0995-44C3-A97D-7C824040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8FC-784C-46AB-A174-5D94179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CB5A-92F3-4CD8-BC97-79039E3E6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ная неделя естествено-географических наук и физического воспит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ртивное мероприятие для 1-4 класс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утешествие в сказкогра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432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72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с стенгазет на спортивную темати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814320" y="-316080"/>
            <a:ext cx="9958320" cy="74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крытый урок по физическому воспитанию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Совершенствование прыжка в длину с мест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грированный урок биологии и физкультуры в 9 «А» класс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«Значение физкультурных упражнений для развития и укрепления сердечно-сосудистой системы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еклассное мероприятие: «Мы хотим, чтоб птицы пели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92360" y="260280"/>
            <a:ext cx="568800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 Script One"/>
              </a:rPr>
              <a:t>Выстав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 Script One"/>
              <a:ea typeface="Heather Script On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1280" y="2565360"/>
            <a:ext cx="792000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 Script One"/>
              </a:rPr>
              <a:t>рисунков и подел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 Script One"/>
              <a:ea typeface="Heather Script On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4437000"/>
            <a:ext cx="871380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 Script One"/>
              </a:rPr>
              <a:t>"Птицы-наши друзья!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 Script One"/>
              <a:ea typeface="Heather Script On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6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11160"/>
            <a:ext cx="9325080" cy="701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16000" y="216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360000" cy="724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360000" cy="7245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360000" cy="724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334200" cy="702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335640" cy="702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76360" y="-54000"/>
            <a:ext cx="6408720" cy="7083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76360" y="-171360"/>
            <a:ext cx="6408720" cy="72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64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тоги спортивных достижений учащихся под девизом: «Самый, самы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7:36:30Z</dcterms:created>
  <dc:creator>ррр</dc:creator>
  <dc:description/>
  <dc:language>en-US</dc:language>
  <cp:lastModifiedBy>ррр</cp:lastModifiedBy>
  <dcterms:modified xsi:type="dcterms:W3CDTF">2012-10-29T18:47:57Z</dcterms:modified>
  <cp:revision>3</cp:revision>
  <dc:subject/>
  <dc:title>Предметная неделя естествено-географических наук и физического воспита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310000000000010261200207f7000400038000</vt:lpwstr>
  </property>
</Properties>
</file>