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7B7-BB18-4E1A-A14A-69E1331D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FC6-9CA4-4B30-AAD4-11F5DE6B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FC8-69F5-40B7-8FC9-E43B26AE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1D7-7125-4AAF-8244-BAC3E0B9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879-C463-4D3F-94DF-2EC83C63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A5C-AAD4-4944-9F0F-E715A440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A43-E358-4ACD-94FA-E82BC1DA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EDC-67A2-4883-AA33-A35BD890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9AC-4C78-4677-9498-096E0C5E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366-47E8-438D-80FD-1512B87F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F8D-68E1-4A4D-A2F3-5A490FE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214-F50C-4ADD-9B27-B4EFCB15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71C6-24EA-43FE-B6BF-572B7BDF4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Практическая работа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«Определение расстояний, направлений и географических координат по карт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Цель уро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вить и закрепить умение определять географические координаты, направления и расстояния по глобусу и кар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соб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лобус, карты полушарий и физическая карта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Задания на знание пон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ую условную линию называют экваторо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ем отличается меридиан и параллел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В чем сходство параллели и экватор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ой меридиан самый длинны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называют географической широто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называют географической долгото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 определить. Сколько км в одном градусе по экватору? Меридиа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Можно ли пройти вокруг земли. Двигаясь по меридиану все время на север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Задания на проверку усвоения закономер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пределите, какая точка располож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а) дальше всех от экватора;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)ближе всех к эквато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)самая северн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)самая южная.     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40° с.ш., 20° ю.ш., 10 ° с.ш., 50 °ю.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акой меридиан является продолжением нулевог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0 ° в.д., 50 ° в.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Чтобы путешествие было короче, вы должны будете двигаться по 20 ° с.ш или по 50 ° ю.ш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Задания на проверку ум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пределите координаты г. Джомолунгма по карте полушар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пределите координаты г. Якутска по карте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йдите соответствие: географический объект-географические координа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30 ° с.ш. 30 ° в.д.           </a:t>
            </a:r>
            <a:r>
              <a:rPr b="0" lang="ru-RU" sz="2800" spc="-1" strike="noStrike">
                <a:solidFill>
                  <a:srgbClr val="00b0f0"/>
                </a:solidFill>
                <a:latin typeface="Arial Narrow"/>
              </a:rPr>
              <a:t>Ка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69 ° ю.ш. 91 ° з.д.           </a:t>
            </a:r>
            <a:r>
              <a:rPr b="0" lang="ru-RU" sz="2800" spc="-1" strike="noStrike">
                <a:solidFill>
                  <a:srgbClr val="00b0f0"/>
                </a:solidFill>
                <a:latin typeface="Arial Narrow"/>
              </a:rPr>
              <a:t>О.Петра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56 ° с.ш.38 ° в.д.             </a:t>
            </a:r>
            <a:r>
              <a:rPr b="0" lang="ru-RU" sz="2800" spc="-1" strike="noStrike">
                <a:solidFill>
                  <a:srgbClr val="00b0f0"/>
                </a:solidFill>
                <a:latin typeface="Arial Narrow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125360"/>
            <a:ext cx="86421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16000" y="1125360"/>
          <a:ext cx="7345440" cy="2433960"/>
        </p:xfrm>
        <a:graphic>
          <a:graphicData uri="http://schemas.openxmlformats.org/drawingml/2006/table">
            <a:tbl>
              <a:tblPr/>
              <a:tblGrid>
                <a:gridCol w="3297240"/>
                <a:gridCol w="2023920"/>
                <a:gridCol w="2024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и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г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Якут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к.Везу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Народная(Ур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Си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042920" y="3645000"/>
          <a:ext cx="7488360" cy="3030480"/>
        </p:xfrm>
        <a:graphic>
          <a:graphicData uri="http://schemas.openxmlformats.org/drawingml/2006/table">
            <a:tbl>
              <a:tblPr/>
              <a:tblGrid>
                <a:gridCol w="2087640"/>
                <a:gridCol w="2376360"/>
                <a:gridCol w="3024360"/>
              </a:tblGrid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ир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бъ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с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з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с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2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в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ю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в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ю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2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в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ю.ш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.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 Narrow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Какую широту имеет северный полю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)90 ° с.ш. б) 0 ° с.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Нулевой меридиан проходит чере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)Париж б) Лондон,в)Берлин,г)Моск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Может ли быть широта 95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°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с.ш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Может ли долгота быть 183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°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.д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Для определения какого места на Земле нужно знать только широт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)экватор, б)Южный полюс, в)Северный полюс , г)нулевой мериди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Определить расстояния в градусах и 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052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лина дуг паралл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Пользуясь данными таблицы, определить протяженность Австралии с запада на восток по 20 ° ю.ш. в градусах и километ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Определить удаленность вашего города от нулевого меридиана и экв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16000" y="1628640"/>
          <a:ext cx="6769080" cy="279108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1873080"/>
                <a:gridCol w="1944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ографическая ши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ина д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° в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ографическая ши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ина дуги 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°в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 Narrow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ить на к/карте  Москву, Мехико и Токи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1:29:48Z</dcterms:created>
  <dc:creator>OLDI</dc:creator>
  <dc:description/>
  <dc:language>en-US</dc:language>
  <cp:lastModifiedBy>OLDI</cp:lastModifiedBy>
  <dcterms:modified xsi:type="dcterms:W3CDTF">2013-10-17T20:43:07Z</dcterms:modified>
  <cp:revision>9</cp:revision>
  <dc:subject/>
  <dc:title>Практическая работа «Определение расстояний, направлений и географических координат по карт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30000000000010250300207f7000400038000</vt:lpwstr>
  </property>
</Properties>
</file>