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CB4-5382-4E95-8CE9-B1E08B7C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777-4150-44E9-8EE5-D280F193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63A-3B17-4E00-B935-BE33A745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8AF-A871-4451-B6E0-DC65CA85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40E-3577-4FF3-8DD6-1AB0AED7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2F13-6642-4E3F-839F-F3CA0DC6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116-34DC-47A9-9FE4-11949FB0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9FA-E3C1-4BB8-A584-A4473065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6440-4F42-41EB-8D68-AA644FF1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2D14-5078-43D2-8271-69C3EF6F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D62-BC73-4E22-B95B-D10AD2DB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88E-0A87-49CA-8503-D015E84F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1B1F-0079-4305-A086-E07C617F25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 Narrow"/>
              </a:rPr>
              <a:t>Практическая работа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Arial Narrow"/>
              </a:rPr>
              <a:t>«Определение расстояний, направлений и географических координат по карт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Цель урок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азвить и закрепить умение определять географические координаты, направления и расстояния по глобусу и кар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соб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глобус, карты полушарий и физическая карта Ро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 Narrow"/>
              </a:rPr>
              <a:t>Задания на знание поня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Какую условную линию называют экватором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Чем отличается меридиан и параллел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В чем сходство параллели и экватор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Какой меридиан самый длинный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Что называют географической широтой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Что называют географической долготой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Как определить. Сколько км в одном градусе по экватору? Меридиану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Можно ли пройти вокруг земли. Двигаясь по меридиану все время на север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 Narrow"/>
              </a:rPr>
              <a:t>Задания на проверку усвоения закономер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пределите, какая точка расположе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а) дальше всех от экватора;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б)ближе всех к экватор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)самая северна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г)самая южная.      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40° с.ш., 20° ю.ш., 10 ° с.ш., 50 °ю.ш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акой меридиан является продолжением нулевог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20 ° в.д., 50 ° в.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Чтобы путешествие было короче, вы должны будете двигаться по 20 ° с.ш или по 50 ° ю.ш.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Arial Narrow"/>
              </a:rPr>
              <a:t>Задания на проверку ум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пределите координаты г. Джомолунгма по карте полушар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пределите координаты г. Якутска по карте росс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Найдите соответствие: географический объект-географические координа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30 ° с.ш. 30 ° в.д.           </a:t>
            </a:r>
            <a:r>
              <a:rPr b="0" lang="ru-RU" sz="2800" spc="-1" strike="noStrike">
                <a:solidFill>
                  <a:srgbClr val="00b0f0"/>
                </a:solidFill>
                <a:latin typeface="Arial Narrow"/>
              </a:rPr>
              <a:t>Ка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69 ° ю.ш. 91 ° з.д.           </a:t>
            </a:r>
            <a:r>
              <a:rPr b="0" lang="ru-RU" sz="2800" spc="-1" strike="noStrike">
                <a:solidFill>
                  <a:srgbClr val="00b0f0"/>
                </a:solidFill>
                <a:latin typeface="Arial Narrow"/>
              </a:rPr>
              <a:t>О.Петра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56 ° с.ш.38 ° в.д.             </a:t>
            </a:r>
            <a:r>
              <a:rPr b="0" lang="ru-RU" sz="2800" spc="-1" strike="noStrike">
                <a:solidFill>
                  <a:srgbClr val="00b0f0"/>
                </a:solidFill>
                <a:latin typeface="Arial Narrow"/>
              </a:rPr>
              <a:t>Моск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Arial Narrow"/>
              </a:rPr>
              <a:t>Практическ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920" y="1125360"/>
            <a:ext cx="864216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16000" y="1125360"/>
          <a:ext cx="7345440" cy="2433960"/>
        </p:xfrm>
        <a:graphic>
          <a:graphicData uri="http://schemas.openxmlformats.org/drawingml/2006/table">
            <a:tbl>
              <a:tblPr/>
              <a:tblGrid>
                <a:gridCol w="3297240"/>
                <a:gridCol w="2023920"/>
                <a:gridCol w="2024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объ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и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г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Якут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к.Везу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Народная(Ур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Си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042920" y="3645000"/>
          <a:ext cx="7488360" cy="3030480"/>
        </p:xfrm>
        <a:graphic>
          <a:graphicData uri="http://schemas.openxmlformats.org/drawingml/2006/table">
            <a:tbl>
              <a:tblPr/>
              <a:tblGrid>
                <a:gridCol w="2087640"/>
                <a:gridCol w="2376360"/>
                <a:gridCol w="3024360"/>
              </a:tblGrid>
              <a:tr h="91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ир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г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объ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с.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з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с.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2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.в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4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ю.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в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ю.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2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в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ю.ш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.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Arial Narrow"/>
              </a:rPr>
              <a:t>Те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1.Какую широту имеет северный полюс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А)90 ° с.ш. б) 0 ° с.ш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2. Нулевой меридиан проходит через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а)Париж б) Лондон,в)Берлин,г)Моск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3. Может ли быть широта 95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 °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с.ш.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4. Может ли долгота быть 183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 °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в.д.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5. Для определения какого места на Земле нужно знать только широт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А)экватор, б)Южный полюс, в)Северный полюс , г)нулевой меридиа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Arial Narrow"/>
              </a:rPr>
              <a:t>Определить расстояния в градусах и к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052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лина дуг паралл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Пользуясь данными таблицы, определить протяженность Австралии с запада на восток по 20 ° ю.ш. в градусах и километр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Определить удаленность вашего города от нулевого меридиана и эква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16000" y="1628640"/>
          <a:ext cx="6769080" cy="2791080"/>
        </p:xfrm>
        <a:graphic>
          <a:graphicData uri="http://schemas.openxmlformats.org/drawingml/2006/table">
            <a:tbl>
              <a:tblPr/>
              <a:tblGrid>
                <a:gridCol w="1368360"/>
                <a:gridCol w="1582920"/>
                <a:gridCol w="1873080"/>
                <a:gridCol w="19447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еографическая ши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лина д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° в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еографическая ши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лина дуги 1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°в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Arial Narrow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значить на к/карте  Москву, Мехико и Токи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01:29:48Z</dcterms:created>
  <dc:creator>OLDI</dc:creator>
  <dc:description/>
  <dc:language>en-US</dc:language>
  <cp:lastModifiedBy>OLDI</cp:lastModifiedBy>
  <dcterms:modified xsi:type="dcterms:W3CDTF">2013-10-17T20:43:07Z</dcterms:modified>
  <cp:revision>9</cp:revision>
  <dc:subject/>
  <dc:title>Практическая работа «Определение расстояний, направлений и географических координат по карте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30000000000010250300207f7000400038000</vt:lpwstr>
  </property>
</Properties>
</file>