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5205-570D-4B81-9842-B5AFA1A2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46B9-040F-42C7-B26D-D8AA50CE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20D6-BD52-4574-BAAD-1F4B2866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BBE-256F-4F75-BA3A-E8E8A6C8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042E-8C14-4547-88DA-8B8AA81C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AD34-3F72-4A6E-8145-6A23ACBD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80D-9381-44A7-AA9C-581069CC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5436-D904-45DF-ACA1-AD8CD5DF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9874-92A6-4006-99C3-959335B7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2CE9-A542-4318-9B87-35E02C5E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94E-53F6-4B75-B710-85A64871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32F0-14F7-4D38-ABB1-5B8DBEA0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E0C0-F195-4835-8FBD-0831D79842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 Narrow"/>
              </a:rPr>
              <a:t>Практическая работа</a:t>
            </a: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Arial Narrow"/>
              </a:rPr>
              <a:t>«Определение расстояний, направлений и географических координат по карт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Цель урок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азвить и закрепить умение определять географические координаты, направления и расстояния по глобусу и кар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соби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глобус, карты полушарий и физическая карта Ро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 Narrow"/>
              </a:rPr>
              <a:t>Задания на знание понят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Какую условную линию называют экватором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Чем отличается меридиан и параллель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В чем сходство параллели и экватора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Какой меридиан самый длинный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Что называют географической широтой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Что называют географической долготой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Как определить. Сколько км в одном градусе по экватору? Меридиану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Можно ли пройти вокруг земли. Двигаясь по меридиану все время на север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 Narrow"/>
              </a:rPr>
              <a:t>Задания на проверку усвоения закономер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пределите, какая точка расположен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а) дальше всех от экватора;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б)ближе всех к экватор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)самая северна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г)самая южная.      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40° с.ш., 20° ю.ш., 10 ° с.ш., 50 °ю.ш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акой меридиан является продолжением нулевого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20 ° в.д., 50 ° в.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Чтобы путешествие было короче, вы должны будете двигаться по 20 ° с.ш или по 50 ° ю.ш.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Arial Narrow"/>
              </a:rPr>
              <a:t>Задания на проверку ум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пределите координаты г. Джомолунгма по карте полушар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пределите координаты г. Якутска по карте росс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Найдите соответствие: географический объект-географические координа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30 ° с.ш. 30 ° в.д.           </a:t>
            </a:r>
            <a:r>
              <a:rPr b="0" lang="ru-RU" sz="2800" spc="-1" strike="noStrike">
                <a:solidFill>
                  <a:srgbClr val="00b0f0"/>
                </a:solidFill>
                <a:latin typeface="Arial Narrow"/>
              </a:rPr>
              <a:t>Каи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69 ° ю.ш. 91 ° з.д.           </a:t>
            </a:r>
            <a:r>
              <a:rPr b="0" lang="ru-RU" sz="2800" spc="-1" strike="noStrike">
                <a:solidFill>
                  <a:srgbClr val="00b0f0"/>
                </a:solidFill>
                <a:latin typeface="Arial Narrow"/>
              </a:rPr>
              <a:t>О.Петра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56 ° с.ш.38 ° в.д.             </a:t>
            </a:r>
            <a:r>
              <a:rPr b="0" lang="ru-RU" sz="2800" spc="-1" strike="noStrike">
                <a:solidFill>
                  <a:srgbClr val="00b0f0"/>
                </a:solidFill>
                <a:latin typeface="Arial Narrow"/>
              </a:rPr>
              <a:t>Моск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Arial Narrow"/>
              </a:rPr>
              <a:t>Практическа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920" y="1125360"/>
            <a:ext cx="864216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16000" y="1125360"/>
          <a:ext cx="7345440" cy="2433960"/>
        </p:xfrm>
        <a:graphic>
          <a:graphicData uri="http://schemas.openxmlformats.org/drawingml/2006/table">
            <a:tbl>
              <a:tblPr/>
              <a:tblGrid>
                <a:gridCol w="3297240"/>
                <a:gridCol w="2023920"/>
                <a:gridCol w="20242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объ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ши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лг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Якут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лк.Везу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Народная(Ур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Сид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042920" y="3645000"/>
          <a:ext cx="7488360" cy="3030480"/>
        </p:xfrm>
        <a:graphic>
          <a:graphicData uri="http://schemas.openxmlformats.org/drawingml/2006/table">
            <a:tbl>
              <a:tblPr/>
              <a:tblGrid>
                <a:gridCol w="2087640"/>
                <a:gridCol w="2376360"/>
                <a:gridCol w="3024360"/>
              </a:tblGrid>
              <a:tr h="91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шир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лг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объ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с.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з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с.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2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.в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4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ю.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в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ю.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2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в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4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ю.ш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.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Arial Narrow"/>
              </a:rPr>
              <a:t>Тес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1.Какую широту имеет северный полюс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А)90 ° с.ш. б) 0 ° с.ш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2. Нулевой меридиан проходит через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а)Париж б) Лондон,в)Берлин,г)Моск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3. Может ли быть широта 95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 °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с.ш.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4. Может ли долгота быть 183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 °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в.д.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5. Для определения какого места на Земле нужно знать только широт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А)экватор, б)Южный полюс, в)Северный полюс , г)нулевой меридиа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Arial Narrow"/>
              </a:rPr>
              <a:t>Определить расстояния в градусах и к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05264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лина дуг паралл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Пользуясь данными таблицы, определить протяженность Австралии с запада на восток по 20 ° ю.ш. в градусах и километр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Определить удаленность вашего города от нулевого меридиана и эква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16000" y="1628640"/>
          <a:ext cx="6769080" cy="2791080"/>
        </p:xfrm>
        <a:graphic>
          <a:graphicData uri="http://schemas.openxmlformats.org/drawingml/2006/table">
            <a:tbl>
              <a:tblPr/>
              <a:tblGrid>
                <a:gridCol w="1368360"/>
                <a:gridCol w="1582920"/>
                <a:gridCol w="1873080"/>
                <a:gridCol w="19447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еографическая ши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лина д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° в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еографическая ши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лина дуги 1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°в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Arial Narrow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значить на к/карте  Москву, Мехико и Токи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01:29:48Z</dcterms:created>
  <dc:creator>OLDI</dc:creator>
  <dc:description/>
  <dc:language>en-US</dc:language>
  <cp:lastModifiedBy>OLDI</cp:lastModifiedBy>
  <dcterms:modified xsi:type="dcterms:W3CDTF">2013-10-17T20:43:07Z</dcterms:modified>
  <cp:revision>9</cp:revision>
  <dc:subject/>
  <dc:title>Практическая работа «Определение расстояний, направлений и географических координат по карте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30000000000010250300207f7000400038000</vt:lpwstr>
  </property>
</Properties>
</file>