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D6A-331A-474A-9CB9-6C8DB4B1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4E92-2E0F-45BD-A182-A323522E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0EF-61E6-4150-8CE9-A78515F5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AE5-BB37-418F-887A-2EECCE31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BE4-73E1-43CA-8175-D14E910E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632-83FD-47C7-8EB1-164F85A9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C16-C5B4-4F35-A693-59DF1123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5D1-A16E-4EE0-8A59-5EE02A2C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B45-4DF6-4414-952D-A4B7C006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C78-42F3-48AA-8FFC-B0739593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B7A-5A0F-424B-BCE2-27D3E6A1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D17-0BA6-429E-B6C5-848E5A89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4B3E-C5D7-49D6-896D-031D58615C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1440" y="1571400"/>
            <a:ext cx="73422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оверка домашнего задания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8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обенности ЭГП Поволж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28760" y="3500280"/>
            <a:ext cx="46083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гран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экономические сосе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субъекты Ро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крупные транспортные       магистр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природные рес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39640" y="260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111" name="Прямоугольник 8" descr=""/>
          <p:cNvPicPr/>
          <p:nvPr/>
        </p:nvPicPr>
        <p:blipFill>
          <a:blip r:embed="rId2"/>
          <a:stretch/>
        </p:blipFill>
        <p:spPr>
          <a:xfrm>
            <a:off x="128520" y="841320"/>
            <a:ext cx="8886960" cy="1792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60480" y="907560"/>
            <a:ext cx="5483160" cy="112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еспублика Калмыки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5003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еспублика Татарстан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калмыки"/>
          <p:cNvPicPr/>
          <p:nvPr/>
        </p:nvPicPr>
        <p:blipFill>
          <a:blip r:embed="rId1"/>
          <a:stretch/>
        </p:blipFill>
        <p:spPr>
          <a:xfrm>
            <a:off x="5857920" y="2143080"/>
            <a:ext cx="2600280" cy="40719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43" name="Rectangle 6"/>
          <p:cNvSpPr/>
          <p:nvPr/>
        </p:nvSpPr>
        <p:spPr>
          <a:xfrm>
            <a:off x="428760" y="2602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Национальные костю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татары"/>
          <p:cNvPicPr/>
          <p:nvPr/>
        </p:nvPicPr>
        <p:blipFill>
          <a:blip r:embed="rId2"/>
          <a:stretch/>
        </p:blipFill>
        <p:spPr>
          <a:xfrm>
            <a:off x="857160" y="2928960"/>
            <a:ext cx="2800440" cy="37148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Овал 9">
            <a:hlinkClick r:id="rId2" action="ppaction://hlinksldjump"/>
          </p:cNvPr>
          <p:cNvSpPr/>
          <p:nvPr/>
        </p:nvSpPr>
        <p:spPr>
          <a:xfrm>
            <a:off x="4429080" y="4286160"/>
            <a:ext cx="142920" cy="14292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Овал 23">
            <a:hlinkClick r:id="rId3" action="ppaction://hlinksldjump"/>
          </p:cNvPr>
          <p:cNvSpPr/>
          <p:nvPr/>
        </p:nvSpPr>
        <p:spPr>
          <a:xfrm>
            <a:off x="6143760" y="571680"/>
            <a:ext cx="142920" cy="14256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Овал 24">
            <a:hlinkClick r:id="rId4" action="ppaction://hlinksldjump"/>
          </p:cNvPr>
          <p:cNvSpPr/>
          <p:nvPr/>
        </p:nvSpPr>
        <p:spPr>
          <a:xfrm>
            <a:off x="6500880" y="2000160"/>
            <a:ext cx="142920" cy="14292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Вертикальный свиток 3"/>
          <p:cNvSpPr/>
          <p:nvPr/>
        </p:nvSpPr>
        <p:spPr>
          <a:xfrm>
            <a:off x="1714680" y="500040"/>
            <a:ext cx="6786360" cy="528624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ЗАДАНИЕ: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по карте в атласе найдите в Поволжь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города-миллионе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Рисунок 8" descr="08CAC4~114.GIF"/>
          <p:cNvPicPr/>
          <p:nvPr/>
        </p:nvPicPr>
        <p:blipFill>
          <a:blip r:embed="rId1"/>
          <a:stretch/>
        </p:blipFill>
        <p:spPr>
          <a:xfrm>
            <a:off x="285840" y="3357720"/>
            <a:ext cx="3571920" cy="385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Облако 6"/>
          <p:cNvSpPr/>
          <p:nvPr/>
        </p:nvSpPr>
        <p:spPr>
          <a:xfrm>
            <a:off x="2571840" y="0"/>
            <a:ext cx="4143240" cy="1000080"/>
          </a:xfrm>
          <a:prstGeom prst="pie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42760" y="277560"/>
            <a:ext cx="40719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КАЗАН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500720" y="928800"/>
            <a:ext cx="438768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ЗАНЬ, столица Республики Татарстан, расположена на левом берегу р. Волга, при впадении в нее реки Казанка, в 797 км к востоку от Москвы. Население 1108,1 тыс. чел. (2004). Основан в 1177. Город с 170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785880" y="4572000"/>
            <a:ext cx="2806560" cy="18813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57" name="Picture 7" descr=""/>
          <p:cNvPicPr/>
          <p:nvPr/>
        </p:nvPicPr>
        <p:blipFill>
          <a:blip r:embed="rId2"/>
          <a:srcRect l="0" t="0" r="-87" b="-51"/>
          <a:stretch/>
        </p:blipFill>
        <p:spPr>
          <a:xfrm>
            <a:off x="214200" y="1071720"/>
            <a:ext cx="3929040" cy="30002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Облако 6"/>
          <p:cNvSpPr/>
          <p:nvPr/>
        </p:nvSpPr>
        <p:spPr>
          <a:xfrm>
            <a:off x="2571840" y="214200"/>
            <a:ext cx="4143240" cy="1000080"/>
          </a:xfrm>
          <a:prstGeom prst="pie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42760" y="277560"/>
            <a:ext cx="407196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Comic Sans MS"/>
              </a:rPr>
              <a:t>САМАР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3492360" cy="29466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786120" y="1142640"/>
            <a:ext cx="514368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28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АМАРА (в 1935-1991 г. Куйбышев), центр Самарской обл., расположен на левом берегу р. Волги, в среднем ее течении, при впадении в Волгу р. Самара, в 1098 км в востоку от Москвы. Население 1152,2 тыс. чел. (2004). Основан в 1586. Город с 168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928800" y="4143240"/>
            <a:ext cx="2265120" cy="25210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Облако 6"/>
          <p:cNvSpPr/>
          <p:nvPr/>
        </p:nvSpPr>
        <p:spPr>
          <a:xfrm>
            <a:off x="1643040" y="0"/>
            <a:ext cx="6000840" cy="1000080"/>
          </a:xfrm>
          <a:prstGeom prst="pie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71840" y="-360"/>
            <a:ext cx="4357440" cy="50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Times New Roman"/>
              </a:rPr>
              <a:t>                               </a:t>
            </a: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ВОЛГОГРА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8578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ОЛГОГРАД (до 1925 Царицын, до 1961 Сталинград), центр Волгоградской области, расположен на р. Волга, в 1073 км к юго-востоку от Москвы, тянется на 100 км по ее правому бере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аселение 1025,9 тыс. чел. (2004). Основан в 1589. Город с 1780. Город-герой с 196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5429160" y="4071960"/>
            <a:ext cx="3214800" cy="25002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67" name="Picture 7" descr=""/>
          <p:cNvPicPr/>
          <p:nvPr/>
        </p:nvPicPr>
        <p:blipFill>
          <a:blip r:embed="rId2"/>
          <a:srcRect l="0" t="0" r="90" b="-90"/>
          <a:stretch/>
        </p:blipFill>
        <p:spPr>
          <a:xfrm>
            <a:off x="4929120" y="1143000"/>
            <a:ext cx="3929040" cy="27860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Вертикальный свиток 4"/>
          <p:cNvSpPr/>
          <p:nvPr/>
        </p:nvSpPr>
        <p:spPr>
          <a:xfrm>
            <a:off x="214200" y="1500120"/>
            <a:ext cx="8715600" cy="507204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57160" y="1600200"/>
            <a:ext cx="74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Поволжье стало промышленным районом в советский период, особенно в годы Великой Отечественной войны, когда сюда перебазировалось более 300 промышленных предприятий. Многие современные отрасли специализации района: автомобилестроение, авиастроение, производство подшипников зародились в это врем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14600" y="277920"/>
            <a:ext cx="4114800" cy="840240"/>
          </a:xfrm>
          <a:prstGeom prst="rect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ЗЯЙСТВО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Блок-схема: процесс 9"/>
          <p:cNvSpPr/>
          <p:nvPr/>
        </p:nvSpPr>
        <p:spPr>
          <a:xfrm>
            <a:off x="500040" y="2714760"/>
            <a:ext cx="8215200" cy="3857400"/>
          </a:xfrm>
          <a:prstGeom prst="flowChartProcess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443700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шиностроительны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струкционных материал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пливно-энергетический комплекс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гропромышле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571680" y="2781360"/>
            <a:ext cx="807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дро хозяйст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ляют несколько тесно взаимосвязанных межотраслевых комплексов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Горизонтальный свиток 7"/>
          <p:cNvSpPr/>
          <p:nvPr/>
        </p:nvSpPr>
        <p:spPr>
          <a:xfrm>
            <a:off x="500040" y="285840"/>
            <a:ext cx="8215200" cy="2143080"/>
          </a:xfrm>
          <a:prstGeom prst="horizont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дание: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анализируйте отраслевую структуру промышленности Поволжья (табл.3 на стр. 373) и определите отрасли специализации рай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Рисунок 8" descr="08CAC4~114.GIF"/>
          <p:cNvPicPr/>
          <p:nvPr/>
        </p:nvPicPr>
        <p:blipFill>
          <a:blip r:embed="rId1"/>
          <a:stretch/>
        </p:blipFill>
        <p:spPr>
          <a:xfrm>
            <a:off x="214200" y="150012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Блок-схема: процесс 8"/>
          <p:cNvSpPr/>
          <p:nvPr/>
        </p:nvSpPr>
        <p:spPr>
          <a:xfrm>
            <a:off x="285840" y="5000760"/>
            <a:ext cx="8572320" cy="1643040"/>
          </a:xfrm>
          <a:prstGeom prst="flowChartProcess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rcRect l="0" t="0" r="0" b="-12"/>
          <a:stretch/>
        </p:blipFill>
        <p:spPr>
          <a:xfrm>
            <a:off x="285840" y="857160"/>
            <a:ext cx="8572320" cy="38577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79" name="Прямоугольник 4"/>
          <p:cNvSpPr/>
          <p:nvPr/>
        </p:nvSpPr>
        <p:spPr>
          <a:xfrm>
            <a:off x="500040" y="5000760"/>
            <a:ext cx="835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Центральное место среди отраслей специализации принадлежит машиностроению. Заводы сосредоточены в промышленных узлах – Самара, Саратов, Волгоград и др. Основная продукция – автомобили («ВАЗ» в Тольятти), вездеходы – («УАЗ» в Ульяновске), троллейбусы (Энгельс) … (Анализ табл. 60 на стр.28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5"/>
          <p:cNvSpPr/>
          <p:nvPr/>
        </p:nvSpPr>
        <p:spPr>
          <a:xfrm>
            <a:off x="928800" y="214200"/>
            <a:ext cx="7429320" cy="357480"/>
          </a:xfrm>
          <a:prstGeom prst="rect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Машиностроение - ведущая отрасль хозя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9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3" name="Picture 3" descr="C:\Users\User\Desktop\Агропромышленный комплекс.jpg"/>
          <p:cNvPicPr/>
          <p:nvPr/>
        </p:nvPicPr>
        <p:blipFill>
          <a:blip r:embed="rId1"/>
          <a:stretch/>
        </p:blipFill>
        <p:spPr>
          <a:xfrm>
            <a:off x="428760" y="1000080"/>
            <a:ext cx="8286480" cy="5500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14" name="Прямоугольник 4" descr=""/>
          <p:cNvPicPr/>
          <p:nvPr/>
        </p:nvPicPr>
        <p:blipFill>
          <a:blip r:embed="rId2"/>
          <a:stretch/>
        </p:blipFill>
        <p:spPr>
          <a:xfrm>
            <a:off x="2992320" y="4925880"/>
            <a:ext cx="134784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428760" y="142920"/>
            <a:ext cx="8286480" cy="71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дание: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льзуясь политико-административной картой России охарактеризуйте состав Поволжского экономического райо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4"/>
          <p:cNvSpPr/>
          <p:nvPr/>
        </p:nvSpPr>
        <p:spPr>
          <a:xfrm>
            <a:off x="357120" y="5786280"/>
            <a:ext cx="8286840" cy="785880"/>
          </a:xfrm>
          <a:prstGeom prst="rect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7120" y="5715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В список 100 крупнейших машиностроительных предприятий России входят 16 заводов Поволжья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Блок-схема: процесс 4"/>
          <p:cNvSpPr/>
          <p:nvPr/>
        </p:nvSpPr>
        <p:spPr>
          <a:xfrm>
            <a:off x="285840" y="5214960"/>
            <a:ext cx="8572320" cy="1643040"/>
          </a:xfrm>
          <a:prstGeom prst="flowChartProcess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8560" y="522900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ККМ – химическая промышленность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редставлена горно-химической, добывающей серу, поваренную соль, химией органического синтеза, производством и переработкой полимерных материалов.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Крупные центры – Тольятти, Волжский, Самара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720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Вертикальный свиток 5"/>
          <p:cNvSpPr/>
          <p:nvPr/>
        </p:nvSpPr>
        <p:spPr>
          <a:xfrm>
            <a:off x="0" y="1357200"/>
            <a:ext cx="9144000" cy="507204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642960" y="1949400"/>
            <a:ext cx="785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собенности топливно-энергетического комплекса Поволжь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ущее звено — добыча неф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— основной район нефтепереработки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ская нефть достаточно дешева. Но запасы и добыча постоянно сокращаю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специализируется на производстве электроэнергии. Создание энергосистемы европейской части России стало возможным только благодаря строительству волжских ГЭС. Однако оно же породило сложный комплекс проб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Облако 4"/>
          <p:cNvSpPr/>
          <p:nvPr/>
        </p:nvSpPr>
        <p:spPr>
          <a:xfrm>
            <a:off x="2286000" y="285840"/>
            <a:ext cx="4786200" cy="1000080"/>
          </a:xfrm>
          <a:prstGeom prst="pie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</a:rPr>
              <a:t>ТЭ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Вертикальный свиток 4"/>
          <p:cNvSpPr/>
          <p:nvPr/>
        </p:nvSpPr>
        <p:spPr>
          <a:xfrm>
            <a:off x="0" y="1500120"/>
            <a:ext cx="9144000" cy="471492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42960" y="2143080"/>
            <a:ext cx="78580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гропромышленный комплекс Поволжья имеет общероссийское значение. Здесь выращивается почти 20% зерна, 1/3 помидоров, 3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4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арбузов. Район занимает 1-е место в стране по производству мяса, муки, крупы, поваренной со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ные условия Поволжья способствовали развитию сельского хозяйства. На долю района приходится 1/5 часть сельскохозяйственных угодий и 1/4 пастбищ России. Неустойчивая погода и частые засухи периодически наносят большой ущер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масштабам сельскохозяйственного производства Поволжье прочно занимает 3-е место. Сельскохозяйственная специализация в районе изменяется с севера на ю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591200" y="395640"/>
            <a:ext cx="5376240" cy="784440"/>
          </a:xfrm>
          <a:prstGeom prst="rect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АГРОПРМЫШЛЕННЫЙ    КОМПЛЕКС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Вертикальный свиток 5"/>
          <p:cNvSpPr/>
          <p:nvPr/>
        </p:nvSpPr>
        <p:spPr>
          <a:xfrm>
            <a:off x="0" y="1357200"/>
            <a:ext cx="9144000" cy="507204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Облако 4"/>
          <p:cNvSpPr/>
          <p:nvPr/>
        </p:nvSpPr>
        <p:spPr>
          <a:xfrm>
            <a:off x="857160" y="285840"/>
            <a:ext cx="7572600" cy="1000080"/>
          </a:xfrm>
          <a:prstGeom prst="pie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ПИЩЕВАЯ ПРОМЫШЛ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"/>
          <p:cNvSpPr/>
          <p:nvPr/>
        </p:nvSpPr>
        <p:spPr>
          <a:xfrm>
            <a:off x="714240" y="2020320"/>
            <a:ext cx="7715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Пищевая промышленность имеет общегосударственное значение и, особенно мукомольно-крупяная. Она сосредоточена в крупных транспортных узл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В Нижнем Поволжье видная роль принадлежит рыбной промышленности. Здесь вылавливают осетровых рыб, судака, леща, сазана, ведут заготовку ик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429080" cy="52149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98" name="Прямоугольник 2"/>
          <p:cNvSpPr/>
          <p:nvPr/>
        </p:nvSpPr>
        <p:spPr>
          <a:xfrm>
            <a:off x="285840" y="1643040"/>
            <a:ext cx="3857400" cy="37530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ект преследовал решение нескольких задач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энергетическ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) транспортно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) орошения засушливых территори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) водообеспечения промышленности и насе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пешно была решена только энергетическая пробл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1143000" y="285840"/>
            <a:ext cx="6929280" cy="8863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ы Большой Волги   </a:t>
            </a:r>
            <a:br>
              <a:rPr sz="32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 285, рубрика «Внимание! Проблема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400" spc="-1" strike="noStrike" u="sng">
                <a:solidFill>
                  <a:srgbClr val="002060"/>
                </a:solidFill>
                <a:uFillTx/>
                <a:latin typeface="Arial"/>
              </a:rPr>
              <a:t>Домашнее задание:</a:t>
            </a:r>
            <a:br>
              <a:rPr sz="28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1) П. 55 (прочитать)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2) заполнить таблицу: </a:t>
            </a:r>
            <a:br>
              <a:rPr sz="28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3214800"/>
          <a:ext cx="8229600" cy="218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иродные ресур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трасли специализ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омышленные цент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 Box 4"/>
          <p:cNvSpPr/>
          <p:nvPr/>
        </p:nvSpPr>
        <p:spPr>
          <a:xfrm>
            <a:off x="808200" y="1360440"/>
            <a:ext cx="736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095480" y="136044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Рисунок 8" descr="08CAC4~114.GIF"/>
          <p:cNvPicPr/>
          <p:nvPr/>
        </p:nvPicPr>
        <p:blipFill>
          <a:blip r:embed="rId1"/>
          <a:stretch/>
        </p:blipFill>
        <p:spPr>
          <a:xfrm>
            <a:off x="428760" y="4714920"/>
            <a:ext cx="2714400" cy="214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Вертикальный свиток 3"/>
          <p:cNvSpPr/>
          <p:nvPr/>
        </p:nvSpPr>
        <p:spPr>
          <a:xfrm>
            <a:off x="214200" y="428760"/>
            <a:ext cx="8929800" cy="578628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9720" y="1214280"/>
            <a:ext cx="73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61616"/>
                </a:solidFill>
                <a:latin typeface="Comic Sans MS"/>
              </a:rPr>
              <a:t>Поволжский экономический район, один из крупных экономических районов России. Включает Татарскую, Калмыцкую республики, Ульяновскую, Пензенскую, Самарскую, Саратовскую, Волгоградскую, Астраханскую области. Площадь 680 тыс. </a:t>
            </a:r>
            <a:r>
              <a:rPr b="1" i="1" lang="ru-RU" sz="3200" spc="-1" strike="noStrike">
                <a:solidFill>
                  <a:srgbClr val="161616"/>
                </a:solidFill>
                <a:latin typeface="Comic Sans MS"/>
              </a:rPr>
              <a:t>км</a:t>
            </a:r>
            <a:r>
              <a:rPr b="1" i="1" lang="ru-RU" sz="3200" spc="-1" strike="noStrike" baseline="30000">
                <a:solidFill>
                  <a:srgbClr val="161616"/>
                </a:solidFill>
                <a:latin typeface="Comic Sans MS"/>
              </a:rPr>
              <a:t>2</a:t>
            </a:r>
            <a:r>
              <a:rPr b="1" i="1" lang="ru-RU" sz="3200" spc="-1" strike="noStrike">
                <a:solidFill>
                  <a:srgbClr val="161616"/>
                </a:solidFill>
                <a:latin typeface="Comic Sans MS"/>
              </a:rPr>
              <a:t>.</a:t>
            </a:r>
            <a:r>
              <a:rPr b="1" lang="ru-RU" sz="3200" spc="-1" strike="noStrike">
                <a:solidFill>
                  <a:srgbClr val="16161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Вертикальный свиток 4"/>
          <p:cNvSpPr/>
          <p:nvPr/>
        </p:nvSpPr>
        <p:spPr>
          <a:xfrm>
            <a:off x="0" y="1071720"/>
            <a:ext cx="9144000" cy="550044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Горизонтальный свиток 3"/>
          <p:cNvSpPr/>
          <p:nvPr/>
        </p:nvSpPr>
        <p:spPr>
          <a:xfrm>
            <a:off x="428760" y="142920"/>
            <a:ext cx="8286480" cy="857160"/>
          </a:xfrm>
          <a:prstGeom prst="horizont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Характеристика ЭГП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14240" y="1714680"/>
            <a:ext cx="771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авной осью Поволжья является Вол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лга - связующее звено республик и областей района и районов Европейской ча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йон вытянут с севера на юг, а это значит климатические условия севера и юга различ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находится между индустриальными ядрами России - Центральной Россией и Ура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- приграничный район. (Он имеет «прозрачную» границу с Казахстан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ед на юге Северный Кавказ (нестабильный регион с беженцами и вынужденными переселенца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нспортное положение района благоприятно: судоходная ре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нзитные железные, автодороги, нефте- и газопроводы пересекают Поволжье с запада на восток (в широтном направлении) и вдоль Волги с севера на юг (Поволжье железная дорога). По Волге выход в моря -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овское (Черное, Каспийско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Лента лицом вверх 3"/>
          <p:cNvSpPr/>
          <p:nvPr/>
        </p:nvSpPr>
        <p:spPr>
          <a:xfrm>
            <a:off x="214200" y="357120"/>
            <a:ext cx="8643960" cy="1214640"/>
          </a:xfrm>
          <a:custGeom>
            <a:avLst/>
            <a:gdLst>
              <a:gd name="textAreaLeft" fmla="*/ 2160720 w 8643960"/>
              <a:gd name="textAreaRight" fmla="*/ 6483240 w 8643960"/>
              <a:gd name="textAreaTop" fmla="*/ 0 h 1214640"/>
              <a:gd name="textAreaBottom" fmla="*/ 1012320 h 121464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делайте вывод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Круглая лента лицом вверх 4"/>
          <p:cNvSpPr/>
          <p:nvPr/>
        </p:nvSpPr>
        <p:spPr>
          <a:xfrm>
            <a:off x="571680" y="2571840"/>
            <a:ext cx="8072280" cy="3214440"/>
          </a:xfrm>
          <a:custGeom>
            <a:avLst/>
            <a:gdLst>
              <a:gd name="textAreaLeft" fmla="*/ 2017800 w 8072280"/>
              <a:gd name="textAreaRight" fmla="*/ 6054480 w 8072280"/>
              <a:gd name="textAreaTop" fmla="*/ 95040 h 3214440"/>
              <a:gd name="textAreaBottom" fmla="*/ 241092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ет выгодное ЭГ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6"/>
          <p:cNvSpPr/>
          <p:nvPr/>
        </p:nvSpPr>
        <p:spPr>
          <a:xfrm>
            <a:off x="428760" y="1500120"/>
            <a:ext cx="8286480" cy="5072040"/>
          </a:xfrm>
          <a:prstGeom prst="rect">
            <a:avLst/>
          </a:prstGeom>
          <a:solidFill>
            <a:srgbClr val="58bb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Лента лицом вверх 3"/>
          <p:cNvSpPr/>
          <p:nvPr/>
        </p:nvSpPr>
        <p:spPr>
          <a:xfrm>
            <a:off x="357120" y="142920"/>
            <a:ext cx="8501040" cy="1071360"/>
          </a:xfrm>
          <a:custGeom>
            <a:avLst/>
            <a:gdLst>
              <a:gd name="textAreaLeft" fmla="*/ 2125080 w 8501040"/>
              <a:gd name="textAreaRight" fmla="*/ 6375960 w 8501040"/>
              <a:gd name="textAreaTop" fmla="*/ 0 h 1071360"/>
              <a:gd name="textAreaBottom" fmla="*/ 892800 h 107136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ные условия Поволж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571680" y="1571760"/>
            <a:ext cx="807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льеф – равнинный; в геологическом отношении Поволжье - это осадочный чехол древней Русской платфор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имат - умеренно-континентальный, на юге континентальный; на юге - жаркое лето, увлажнение на севере достаточное, на юге - недостаточное, возможны засухи - причина неурожа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ные зоны - ярко выражена широтная зональность; район вытянут с севера на юг более чем на тысячу километров: смешанные леса - Татарстан; лесостепи - Ульяновская и Самарская области; степи - Саратовская и Волгоградская области; полупустыни - Астраханская обла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Лента лицом вверх 3"/>
          <p:cNvSpPr/>
          <p:nvPr/>
        </p:nvSpPr>
        <p:spPr>
          <a:xfrm>
            <a:off x="285840" y="285840"/>
            <a:ext cx="8501040" cy="1214280"/>
          </a:xfrm>
          <a:custGeom>
            <a:avLst/>
            <a:gdLst>
              <a:gd name="textAreaLeft" fmla="*/ 2125080 w 8501040"/>
              <a:gd name="textAreaRight" fmla="*/ 6375960 w 8501040"/>
              <a:gd name="textAreaTop" fmla="*/ 0 h 1214280"/>
              <a:gd name="textAreaBottom" fmla="*/ 1011960 h 12142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ные ресурсы Поволж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Вертикальный свиток 4"/>
          <p:cNvSpPr/>
          <p:nvPr/>
        </p:nvSpPr>
        <p:spPr>
          <a:xfrm>
            <a:off x="214200" y="1714680"/>
            <a:ext cx="8715600" cy="485748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Минеральные ресур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ведется добыча нефти и газа (Татария, Самарская и Астраханская област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оваренная соль (озер Эльтон и Баскунчак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строительные материа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гроклиматические и земельные ресурсы (условие для развития АПК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Водные ресурсы водохранилищ реки Вол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Рыбные ресурсы - это, прежде всего, осетровые (90% мировых запасов) Каспийского мор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Лента лицом вверх 3"/>
          <p:cNvSpPr/>
          <p:nvPr/>
        </p:nvSpPr>
        <p:spPr>
          <a:xfrm>
            <a:off x="285840" y="285840"/>
            <a:ext cx="8501040" cy="1214280"/>
          </a:xfrm>
          <a:custGeom>
            <a:avLst/>
            <a:gdLst>
              <a:gd name="textAreaLeft" fmla="*/ 2125080 w 8501040"/>
              <a:gd name="textAreaRight" fmla="*/ 6375960 w 8501040"/>
              <a:gd name="textAreaTop" fmla="*/ 0 h 1214280"/>
              <a:gd name="textAreaBottom" fmla="*/ 1011960 h 12142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Е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Вертикальный свиток 4"/>
          <p:cNvSpPr/>
          <p:nvPr/>
        </p:nvSpPr>
        <p:spPr>
          <a:xfrm>
            <a:off x="214200" y="1714680"/>
            <a:ext cx="8715600" cy="485748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857160" y="2357280"/>
            <a:ext cx="7429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– наиболее заселенный и освоенный район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дняя плотность в 3 раза выше, чем по Росс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ем проживает около 17 млн. чел. (2006 г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– многонациональный район, но 70% населения составляют русские, 16% татары, 5% мордва и чуваши, марийц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ественный прирост повсеместно, за исключением Калмыкии) отрицательны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я городского населения составляет 74%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ское население медленно сокращ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00:47:17Z</dcterms:created>
  <dc:creator>Томилина И.В.</dc:creator>
  <dc:description/>
  <dc:language>en-US</dc:language>
  <cp:lastModifiedBy>Санек</cp:lastModifiedBy>
  <dcterms:modified xsi:type="dcterms:W3CDTF">2011-09-10T12:53:28Z</dcterms:modified>
  <cp:revision>42</cp:revision>
  <dc:subject/>
  <dc:title>Тема урока: «Поволжье: ЭГП, природные условия и ресурсы.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100000000000010243100207f6000400038000</vt:lpwstr>
  </property>
</Properties>
</file>