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gif" ContentType="image/gif"/>
  <Override PartName="/ppt/media/image6.wmf" ContentType="image/x-wm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AEDAD-7EFA-42C3-BBD9-486E36491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9CAA5-A35A-416E-8A93-829CE2D7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54248-C7F3-4002-B7CA-6CC20171E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5B4F0-A703-4F31-842A-6D18E3C85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8A7A-09E6-4F8C-B786-6BE45BAC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6C2D-6EF2-400A-B587-56046E49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0462-9640-4681-8A5B-1040250D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D845-3DAF-4EDB-BE90-BE15A1AD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74BB-4A37-48D0-AD6D-DD6AEC01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DEE6-4FF9-4C4F-BD17-ECF5F051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6A51-3111-4F4A-8679-960D963B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2F263-2E49-4C77-B925-D4C570BF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66EA-C836-46ED-9A8A-A7187119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5C60-A0FB-4BB9-A71E-CEBCFF70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09D8-75DF-4FF3-99E3-104B4A32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DF1B-EECE-4C3D-9BE2-FC2713B62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E025-BF50-4AE8-ADEB-D5D096C96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0CBB7-1ED8-449A-AEE4-744BE731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B74FB-2BFC-4218-BBAF-A2C9870F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58715-E428-487F-AF84-7859CF9F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34DA2-3020-440E-BBAF-A164D155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8B765-4971-4CAD-9E53-B24D0DB2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37EC0-FFC1-4BDA-AECA-D78B26A9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0A68A-FFF4-4D79-A13B-F6C42777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0207-84E8-4BEF-9B63-2F5C9C4C2A6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44004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AC8F-2B00-4F20-BA83-B489F16F672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2411280" y="3000240"/>
            <a:ext cx="63374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d3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волжье</a:t>
            </a:r>
            <a:endParaRPr b="0" lang="en-US" sz="1800" spc="1" strike="noStrike">
              <a:ln w="0">
                <a:noFill/>
              </a:ln>
              <a:solidFill>
                <a:srgbClr val="ffd3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663480" y="2060640"/>
            <a:ext cx="8085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1. Прочитать текст учебник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§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 38,3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Ответить на вопросы в конце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§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00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овторить записи в тетрад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роанализировать таблицы и сх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BD00146_"/>
          <p:cNvPicPr/>
          <p:nvPr/>
        </p:nvPicPr>
        <p:blipFill>
          <a:blip r:embed="rId1"/>
          <a:stretch/>
        </p:blipFill>
        <p:spPr>
          <a:xfrm>
            <a:off x="826920" y="907920"/>
            <a:ext cx="181800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справка 047"/>
          <p:cNvPicPr/>
          <p:nvPr/>
        </p:nvPicPr>
        <p:blipFill>
          <a:blip r:embed="rId1"/>
          <a:srcRect l="0" t="0" r="43" b="6"/>
          <a:stretch/>
        </p:blipFill>
        <p:spPr>
          <a:xfrm>
            <a:off x="971640" y="404640"/>
            <a:ext cx="7029360" cy="61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BD00146_"/>
          <p:cNvPicPr/>
          <p:nvPr/>
        </p:nvPicPr>
        <p:blipFill>
          <a:blip r:embed="rId1"/>
          <a:stretch/>
        </p:blipFill>
        <p:spPr>
          <a:xfrm>
            <a:off x="3780000" y="1484280"/>
            <a:ext cx="1439640" cy="14223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2608200" y="372960"/>
            <a:ext cx="369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90571"/>
                </a:solidFill>
                <a:latin typeface="Arial"/>
              </a:rPr>
              <a:t>Задачи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4285440" y="857160"/>
            <a:ext cx="43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187280" y="1557360"/>
            <a:ext cx="153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90571"/>
                </a:solidFill>
                <a:latin typeface="Arial"/>
              </a:rPr>
              <a:t>ЗНА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6445440" y="1531800"/>
            <a:ext cx="98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90571"/>
                </a:solidFill>
                <a:latin typeface="Arial"/>
              </a:rPr>
              <a:t>УМЕ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303120" y="2133720"/>
            <a:ext cx="4197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Состав  райо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ЭГП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Факто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формир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Особ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природы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развития хозяй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Население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хозяйствен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осво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Хозяйство Поволж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5343480" y="2152800"/>
            <a:ext cx="3800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Работать с текс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учебн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Картами атла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Сверты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информацию  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таблицу, схе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Делать выводы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проведенн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исследова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Раскры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причинно-следственные связ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808200" y="395280"/>
            <a:ext cx="721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90571"/>
                </a:solidFill>
                <a:latin typeface="Arial"/>
              </a:rPr>
              <a:t>Состав райо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90571"/>
                </a:solidFill>
                <a:latin typeface="Arial"/>
              </a:rPr>
              <a:t>Факторы формир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39640" y="1700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Задание:</a:t>
            </a:r>
            <a:r>
              <a:rPr b="0" lang="ru-RU" sz="1800" spc="-1" strike="noStrike">
                <a:solidFill>
                  <a:srgbClr val="79057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на основе работы с картами атлас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определите состав экономического района и информацию сверните в сх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Organization Chart 7"/>
          <p:cNvGrpSpPr/>
          <p:nvPr/>
        </p:nvGrpSpPr>
        <p:grpSpPr>
          <a:xfrm>
            <a:off x="457200" y="2997360"/>
            <a:ext cx="8228520" cy="1439280"/>
            <a:chOff x="457200" y="2997360"/>
            <a:chExt cx="8228520" cy="1439280"/>
          </a:xfrm>
        </p:grpSpPr>
        <p:cxnSp>
          <p:nvCxnSpPr>
            <p:cNvPr id="118" name="_s1028"/>
            <p:cNvCxnSpPr>
              <a:stCxn id="119" idx="0"/>
              <a:endCxn id="120" idx="2"/>
            </p:cNvCxnSpPr>
            <p:nvPr/>
          </p:nvCxnSpPr>
          <p:spPr>
            <a:xfrm flipV="1" rot="16200000">
              <a:off x="5534280" y="2608200"/>
              <a:ext cx="288360" cy="2216160"/>
            </a:xfrm>
            <a:prstGeom prst="bentConnector3">
              <a:avLst>
                <a:gd name="adj1" fmla="val 293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1029"/>
            <p:cNvCxnSpPr>
              <a:stCxn id="122" idx="0"/>
              <a:endCxn id="120" idx="2"/>
            </p:cNvCxnSpPr>
            <p:nvPr/>
          </p:nvCxnSpPr>
          <p:spPr>
            <a:xfrm flipH="1" flipV="1" rot="5400000">
              <a:off x="3319200" y="2608920"/>
              <a:ext cx="288360" cy="2215440"/>
            </a:xfrm>
            <a:prstGeom prst="bentConnector3">
              <a:avLst>
                <a:gd name="adj1" fmla="val 293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0" name="_s1030"/>
            <p:cNvSpPr/>
            <p:nvPr/>
          </p:nvSpPr>
          <p:spPr>
            <a:xfrm>
              <a:off x="2671920" y="2997360"/>
              <a:ext cx="3797640" cy="57564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000000"/>
                  </a:solidFill>
                  <a:latin typeface="Arial"/>
                </a:rPr>
                <a:t>Поволжье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031"/>
            <p:cNvSpPr/>
            <p:nvPr/>
          </p:nvSpPr>
          <p:spPr>
            <a:xfrm>
              <a:off x="457200" y="3861000"/>
              <a:ext cx="3797640" cy="57564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000000"/>
                  </a:solidFill>
                  <a:latin typeface="Arial"/>
                </a:rPr>
                <a:t>Област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32"/>
            <p:cNvSpPr/>
            <p:nvPr/>
          </p:nvSpPr>
          <p:spPr>
            <a:xfrm>
              <a:off x="4888080" y="3861000"/>
              <a:ext cx="3797640" cy="57564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000000"/>
                  </a:solidFill>
                  <a:latin typeface="Arial"/>
                </a:rPr>
                <a:t>Республик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 Box 16"/>
          <p:cNvSpPr/>
          <p:nvPr/>
        </p:nvSpPr>
        <p:spPr>
          <a:xfrm>
            <a:off x="250920" y="4653000"/>
            <a:ext cx="887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Сделайте вывод о особенностях состав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экономического рай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Что является главным фактором формир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этого райо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250920" y="33336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90571"/>
                </a:solidFill>
                <a:latin typeface="Arial"/>
              </a:rPr>
              <a:t>Волг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90571"/>
                </a:solidFill>
                <a:latin typeface="Arial"/>
              </a:rPr>
              <a:t>главный фактор формирования рай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справка 007"/>
          <p:cNvPicPr/>
          <p:nvPr/>
        </p:nvPicPr>
        <p:blipFill>
          <a:blip r:embed="rId1"/>
          <a:srcRect l="0" t="0" r="73" b="0"/>
          <a:stretch/>
        </p:blipFill>
        <p:spPr>
          <a:xfrm>
            <a:off x="250920" y="1557360"/>
            <a:ext cx="3240000" cy="3456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3635280" y="1557360"/>
            <a:ext cx="63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9057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Своеобразная форма рай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79057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Сильное влияние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географическое положени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рай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790571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Природный и хозяйстве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стержень рай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790571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Влияние Волги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формирующей и разделяющей  экономический райо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35440" y="5124600"/>
            <a:ext cx="911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0571"/>
                </a:solidFill>
                <a:latin typeface="Arial"/>
              </a:rPr>
              <a:t>На основе работы с текстом учебника стр. 165 – 168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0571"/>
                </a:solidFill>
                <a:latin typeface="Arial"/>
              </a:rPr>
              <a:t>поясните каждый факт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735120" y="496800"/>
            <a:ext cx="76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90571"/>
                </a:solidFill>
                <a:latin typeface="Arial"/>
              </a:rPr>
              <a:t>Проблема Большой Вол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50920" y="4581360"/>
            <a:ext cx="85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9057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Создание плотин и водохранилищ с цель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а) производства энергет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б) развития водного транспор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в) орошения засушливых территор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г) водообеспечение промышленности и насе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rcRect l="0" t="0" r="-24" b="-100"/>
          <a:stretch/>
        </p:blipFill>
        <p:spPr>
          <a:xfrm>
            <a:off x="179280" y="1052640"/>
            <a:ext cx="5545080" cy="35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324000" y="1700280"/>
            <a:ext cx="864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11 ГЭ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13,5 млн. кВт (35%)  мощности всех ГЭС Росс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Повышение уровня грунтовых вод – на 8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территории района гибнут ле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Обеспечение промышленности и населения вод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привело к ухудшению ее качества и сильн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загрязн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Возведение плотин привело к угрозе исчезнов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крупнейшего в мире стада осетровых ры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Созданные водохранилищ затопили плодород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земли, почти 100 городов и ПГТ, 2500 сел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деревень, тысячи памятников истории 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куль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592200" y="404640"/>
            <a:ext cx="812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90571"/>
                </a:solidFill>
                <a:latin typeface="Arial"/>
              </a:rPr>
              <a:t>Последствия проекта преобраз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90571"/>
                </a:solidFill>
                <a:latin typeface="Arial"/>
              </a:rPr>
              <a:t>реки Вол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592200" y="836640"/>
            <a:ext cx="83725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2800" spc="-1" strike="noStrike">
                <a:solidFill>
                  <a:srgbClr val="790571"/>
                </a:solidFill>
                <a:latin typeface="Arial"/>
              </a:rPr>
              <a:t>Ответьте на 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90571"/>
                </a:solidFill>
                <a:latin typeface="Arial"/>
              </a:rPr>
              <a:t>                    </a:t>
            </a:r>
            <a:r>
              <a:rPr b="1" lang="ru-RU" sz="2800" spc="-1" strike="noStrike">
                <a:solidFill>
                  <a:srgbClr val="790571"/>
                </a:solidFill>
                <a:latin typeface="Arial"/>
              </a:rPr>
              <a:t>1. Назовите состав Поволжского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90571"/>
                </a:solidFill>
                <a:latin typeface="Arial"/>
              </a:rPr>
              <a:t>                     </a:t>
            </a:r>
            <a:r>
              <a:rPr b="1" lang="ru-RU" sz="2800" spc="-1" strike="noStrike">
                <a:solidFill>
                  <a:srgbClr val="790571"/>
                </a:solidFill>
                <a:latin typeface="Arial"/>
              </a:rPr>
              <a:t>экономического   райо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90571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790571"/>
                </a:solidFill>
                <a:latin typeface="Arial"/>
              </a:rPr>
              <a:t>Каковы его отличия от центральной Росс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790571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90571"/>
                </a:solidFill>
                <a:latin typeface="Arial"/>
              </a:rPr>
              <a:t>Как экономико-географическое положение района отразилось на факторах формирова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790571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90571"/>
                </a:solidFill>
                <a:latin typeface="Arial"/>
              </a:rPr>
              <a:t>В чем состоит проблема Большой Волг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790571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90571"/>
                </a:solidFill>
                <a:latin typeface="Arial"/>
              </a:rPr>
              <a:t>Можно ли решить создавшуюся пробл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790571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90571"/>
                </a:solidFill>
                <a:latin typeface="Arial"/>
              </a:rPr>
              <a:t>Какова роль Волги в территориальной организации населения и хозяйства района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AG00090_"/>
          <p:cNvPicPr/>
          <p:nvPr/>
        </p:nvPicPr>
        <p:blipFill>
          <a:blip r:embed="rId1"/>
          <a:stretch/>
        </p:blipFill>
        <p:spPr>
          <a:xfrm>
            <a:off x="4356000" y="189000"/>
            <a:ext cx="625680" cy="792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J0200279"/>
          <p:cNvPicPr/>
          <p:nvPr/>
        </p:nvPicPr>
        <p:blipFill>
          <a:blip r:embed="rId2"/>
          <a:stretch/>
        </p:blipFill>
        <p:spPr>
          <a:xfrm>
            <a:off x="468360" y="476280"/>
            <a:ext cx="1746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3132000" y="519120"/>
            <a:ext cx="54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f839f"/>
                </a:solidFill>
                <a:latin typeface="Arial"/>
              </a:rPr>
              <a:t>             </a:t>
            </a:r>
            <a:r>
              <a:rPr b="1" i="1" lang="ru-RU" sz="3200" spc="-1" strike="noStrike">
                <a:solidFill>
                  <a:srgbClr val="52034d"/>
                </a:solidFill>
                <a:latin typeface="Arial"/>
              </a:rPr>
              <a:t>Оцени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2034d"/>
                </a:solidFill>
                <a:latin typeface="Arial"/>
              </a:rPr>
              <a:t>свою работу на уро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755640" y="2428920"/>
            <a:ext cx="806436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203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2034d"/>
                </a:solidFill>
                <a:latin typeface="Arial"/>
              </a:rPr>
              <a:t>Сегодня на уроке мне было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203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2034d"/>
                </a:solidFill>
                <a:latin typeface="Arial"/>
              </a:rPr>
              <a:t>Знания, полученные на уроке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2034d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52034d"/>
                </a:solidFill>
                <a:latin typeface="Arial"/>
              </a:rPr>
              <a:t>мне пригодятся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203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2034d"/>
                </a:solidFill>
                <a:latin typeface="Arial"/>
              </a:rPr>
              <a:t>Сегодня я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203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2034d"/>
                </a:solidFill>
                <a:latin typeface="Arial"/>
              </a:rPr>
              <a:t>Мне было легк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203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2034d"/>
                </a:solidFill>
                <a:latin typeface="Arial"/>
              </a:rPr>
              <a:t>Мне было слож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203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2034d"/>
                </a:solidFill>
                <a:latin typeface="Arial"/>
              </a:rPr>
              <a:t>О том, что я узнал (а), я расскажу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203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AG00020_"/>
          <p:cNvPicPr/>
          <p:nvPr/>
        </p:nvPicPr>
        <p:blipFill>
          <a:blip r:embed="rId1"/>
          <a:stretch/>
        </p:blipFill>
        <p:spPr>
          <a:xfrm>
            <a:off x="500040" y="642960"/>
            <a:ext cx="18003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21:46:18Z</dcterms:created>
  <dc:creator>user</dc:creator>
  <dc:description/>
  <dc:language>en-US</dc:language>
  <cp:lastModifiedBy>User</cp:lastModifiedBy>
  <dcterms:modified xsi:type="dcterms:W3CDTF">2011-09-25T18:21:39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60000000000010250300207f7000400038000</vt:lpwstr>
  </property>
</Properties>
</file>