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D274-238A-4F0F-8B7C-6C0121D0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AB4C-7CAB-41AE-8B5F-B557367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4841-197A-4297-8D6B-7FE46E1B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2A79-981D-465D-BEBB-1DE1BE47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E8A-478E-4C6A-9806-C39D5AB5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E06A-C8ED-4B24-AD35-B5ADA80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761C-DE3B-4E08-9192-2CB8814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FABF-C232-43DF-9638-D89DF417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497-F932-4AC4-A140-C190740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CC6-C13A-4BF1-B80F-6BDDAEC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37F6-576E-4D14-BDE8-67682F5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3168-5AEE-422A-B89A-61E76CEB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B70C-68AF-4418-921C-32C0F6C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B86-1176-4463-9C26-671D829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B69-2F3D-4839-8268-2C502243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1F7C-ACBC-4F24-8840-3A3C77B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E9E-CEE7-4BD1-90DA-1415E31E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300D-8593-412D-A2CB-F1E6DC5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B2D7-1F59-4382-83CE-0BCDB693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F47E-D450-44BA-B93E-BEC5AD5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0079-382D-4A05-AD8D-D71F657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AB7E-B1E3-4303-B202-B7A010C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BCC4-E660-4DE6-BB3B-5029F5B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3340-840D-4067-AB6B-C1EC95D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5A88-F38D-4EF0-8F22-3B0078A0A2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F96-FD6D-4A00-BEC8-EEAE2228E7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411280" y="3000240"/>
            <a:ext cx="6337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d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олжье</a:t>
            </a:r>
            <a:endParaRPr b="0" lang="en-US" sz="1800" spc="1" strike="noStrike">
              <a:ln w="0">
                <a:noFill/>
              </a:ln>
              <a:solidFill>
                <a:srgbClr val="ffd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663480" y="2060640"/>
            <a:ext cx="808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. Прочитать текст учебник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38,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вторить записи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оанализировать таблицы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BD00146_"/>
          <p:cNvPicPr/>
          <p:nvPr/>
        </p:nvPicPr>
        <p:blipFill>
          <a:blip r:embed="rId1"/>
          <a:stretch/>
        </p:blipFill>
        <p:spPr>
          <a:xfrm>
            <a:off x="826920" y="907920"/>
            <a:ext cx="181800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правка 047"/>
          <p:cNvPicPr/>
          <p:nvPr/>
        </p:nvPicPr>
        <p:blipFill>
          <a:blip r:embed="rId1"/>
          <a:srcRect l="0" t="0" r="43" b="6"/>
          <a:stretch/>
        </p:blipFill>
        <p:spPr>
          <a:xfrm>
            <a:off x="971640" y="404640"/>
            <a:ext cx="702936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D00146_"/>
          <p:cNvPicPr/>
          <p:nvPr/>
        </p:nvPicPr>
        <p:blipFill>
          <a:blip r:embed="rId1"/>
          <a:stretch/>
        </p:blipFill>
        <p:spPr>
          <a:xfrm>
            <a:off x="3780000" y="1484280"/>
            <a:ext cx="1439640" cy="1422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608200" y="37296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285440" y="85716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187280" y="1557360"/>
            <a:ext cx="15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ЗН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445440" y="1531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0571"/>
                </a:solidFill>
                <a:latin typeface="Arial"/>
              </a:rPr>
              <a:t>УМ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03120" y="2133720"/>
            <a:ext cx="419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став  рай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ГП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а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роды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звития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селе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св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Хозяйство Поволж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343480" y="2152800"/>
            <a:ext cx="38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ботать с текс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уче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Картами атла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вер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нформацию 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таблицу, сх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Делать выводы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овед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исслед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Раскр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808200" y="395280"/>
            <a:ext cx="72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Состав рай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Факторы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39640" y="170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на основе работы с картами атла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определите состав экономического района и информацию сверните в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Organization Chart 7"/>
          <p:cNvGrpSpPr/>
          <p:nvPr/>
        </p:nvGrpSpPr>
        <p:grpSpPr>
          <a:xfrm>
            <a:off x="457200" y="2997360"/>
            <a:ext cx="8228520" cy="1439280"/>
            <a:chOff x="457200" y="2997360"/>
            <a:chExt cx="8228520" cy="143928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 rot="16200000">
              <a:off x="5534280" y="2608200"/>
              <a:ext cx="288360" cy="221616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0" idx="2"/>
            </p:cNvCxnSpPr>
            <p:nvPr/>
          </p:nvCxnSpPr>
          <p:spPr>
            <a:xfrm flipH="1" flipV="1" rot="5400000">
              <a:off x="3319200" y="2608920"/>
              <a:ext cx="288360" cy="2215440"/>
            </a:xfrm>
            <a:prstGeom prst="bentConnector3">
              <a:avLst>
                <a:gd name="adj1" fmla="val 2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0" name="_s1030"/>
            <p:cNvSpPr/>
            <p:nvPr/>
          </p:nvSpPr>
          <p:spPr>
            <a:xfrm>
              <a:off x="2671920" y="299736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Поволжь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45720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Област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888080" y="3861000"/>
              <a:ext cx="3797640" cy="57564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Arial"/>
                </a:rPr>
                <a:t>Республ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6"/>
          <p:cNvSpPr/>
          <p:nvPr/>
        </p:nvSpPr>
        <p:spPr>
          <a:xfrm>
            <a:off x="250920" y="4653000"/>
            <a:ext cx="887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делайте вывод о особенностях сост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кономиче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Что является главным фактором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этого рай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33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Волг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главный фактор формирован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правка 007"/>
          <p:cNvPicPr/>
          <p:nvPr/>
        </p:nvPicPr>
        <p:blipFill>
          <a:blip r:embed="rId1"/>
          <a:srcRect l="0" t="0" r="73" b="0"/>
          <a:stretch/>
        </p:blipFill>
        <p:spPr>
          <a:xfrm>
            <a:off x="250920" y="1557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635280" y="155736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воеобразная форма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ильное влия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географическое полож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родный и хозяй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тержень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79057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лияние Волги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формирующей и разделяющей  экономический рай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35440" y="5124600"/>
            <a:ext cx="91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На основе работы с текстом учебника стр. 165 – 16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оясните каждый фа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735120" y="49680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роблема Большой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4581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905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Создание плотин и водохранилищ с цел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а) производства энерге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б) развития водного транспор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в) орошения засушливых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790571"/>
                </a:solidFill>
                <a:latin typeface="Arial"/>
              </a:rPr>
              <a:t>г) водообеспечение промышленности и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0" t="0" r="-24" b="-100"/>
          <a:stretch/>
        </p:blipFill>
        <p:spPr>
          <a:xfrm>
            <a:off x="179280" y="1052640"/>
            <a:ext cx="5545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170028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1 ГЭ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13,5 млн. кВт (35%)  мощности всех ГЭС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овышение уровня грунтовых вод – на 8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территории района гибнут л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Обеспечение промышленности и населения во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привело к ухудшению ее качества и силь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агряз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Возведение плотин привело к угрозе исчезнов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рупнейшего в мире стада осетровых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Созданные водохранилищ затопили плодо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земли, почти 100 городов и ПГТ, 2500 се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деревень, тысячи памятников истории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90571"/>
                </a:solidFill>
                <a:latin typeface="Arial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905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92200" y="404640"/>
            <a:ext cx="81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Последствия проекта пре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реки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92200" y="836640"/>
            <a:ext cx="8372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1. Назовите состав Поволж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экономического   рай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ы его отличия от центральной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 экономико-географическое положение района отразилось на факторах формир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В чем состоит проблема Большой Вол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Можно ли решить создавшуюся пробл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79057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Какова роль Волги в территориальной организации населения и хозяйства райо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AG00090_"/>
          <p:cNvPicPr/>
          <p:nvPr/>
        </p:nvPicPr>
        <p:blipFill>
          <a:blip r:embed="rId1"/>
          <a:stretch/>
        </p:blipFill>
        <p:spPr>
          <a:xfrm>
            <a:off x="4356000" y="189000"/>
            <a:ext cx="62568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J0200279"/>
          <p:cNvPicPr/>
          <p:nvPr/>
        </p:nvPicPr>
        <p:blipFill>
          <a:blip r:embed="rId2"/>
          <a:stretch/>
        </p:blipFill>
        <p:spPr>
          <a:xfrm>
            <a:off x="468360" y="476280"/>
            <a:ext cx="174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132000" y="51912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f839f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Оцен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034d"/>
                </a:solidFill>
                <a:latin typeface="Arial"/>
              </a:rPr>
              <a:t>свою работу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5640" y="2428920"/>
            <a:ext cx="806436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на уроке мне было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Знания, полученные на уроке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пригодя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Сегодня 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легк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Мне было слож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034d"/>
                </a:solidFill>
                <a:latin typeface="Arial"/>
              </a:rPr>
              <a:t>О том, что я узнал (а), я расскажу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2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AG00020_"/>
          <p:cNvPicPr/>
          <p:nvPr/>
        </p:nvPicPr>
        <p:blipFill>
          <a:blip r:embed="rId1"/>
          <a:stretch/>
        </p:blipFill>
        <p:spPr>
          <a:xfrm>
            <a:off x="500040" y="642960"/>
            <a:ext cx="180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1:46:18Z</dcterms:created>
  <dc:creator>user</dc:creator>
  <dc:description/>
  <dc:language>en-US</dc:language>
  <cp:lastModifiedBy>User</cp:lastModifiedBy>
  <dcterms:modified xsi:type="dcterms:W3CDTF">2011-09-25T18:21:3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300207f7000400038000</vt:lpwstr>
  </property>
</Properties>
</file>