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ADE2-8A4C-458A-ADA4-E5746DC8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8B22-7019-4A8B-886D-DCF00AE8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9CA3-DC4A-4FCA-90E0-B097C9A2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3B83-A5C5-4BBF-8C7B-351BD9F3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CB53-7353-48F1-A68A-90F8D0D8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0E15-27A5-401F-A145-91DD9968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B5A3-A50E-4EE7-97B1-AD4A2C65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3D7D-C12F-4AE6-8476-71518340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8240-2AC3-474A-BC38-967D7C39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7704-B88C-4FCC-87CD-1CD4C5F2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88FD-4249-4B02-B429-7595AA08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B1EA-E22D-46C9-96FC-A1C8BDB7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6CF7-42DB-4911-96A9-854B81AF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9198-C5CA-4726-AF19-922BDF60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1856-94AF-43EE-9323-62E506F2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D33C-6064-47CF-9069-E3810B99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3EE7-B58C-4384-A5BE-0D5BC197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A44F-5143-4F51-8351-A77ADE0D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3214-8EA2-4562-A4C0-9C9EC4E3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AEA6-61FA-4A0B-A8FD-990B371A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55F97-6B1C-414B-8840-690C6DA3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946B-C380-4A50-B155-1D998393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128A-A357-4657-A3C6-25C0A1AB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047C-435F-4379-9A4B-178012A3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37B5-3ADB-4B52-93EE-CDD39100BE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687D-3E0A-456D-8419-485B1DBCFD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411280" y="3000240"/>
            <a:ext cx="63374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d3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олжье</a:t>
            </a:r>
            <a:endParaRPr b="0" lang="en-US" sz="1800" spc="1" strike="noStrike">
              <a:ln w="0">
                <a:noFill/>
              </a:ln>
              <a:solidFill>
                <a:srgbClr val="ffd3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663480" y="2060640"/>
            <a:ext cx="808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. Прочитать текст учебник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38,3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Ответить на вопросы в конце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вторить записи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оанализировать таблицы и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BD00146_"/>
          <p:cNvPicPr/>
          <p:nvPr/>
        </p:nvPicPr>
        <p:blipFill>
          <a:blip r:embed="rId1"/>
          <a:stretch/>
        </p:blipFill>
        <p:spPr>
          <a:xfrm>
            <a:off x="826920" y="907920"/>
            <a:ext cx="181800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справка 047"/>
          <p:cNvPicPr/>
          <p:nvPr/>
        </p:nvPicPr>
        <p:blipFill>
          <a:blip r:embed="rId1"/>
          <a:srcRect l="0" t="0" r="43" b="6"/>
          <a:stretch/>
        </p:blipFill>
        <p:spPr>
          <a:xfrm>
            <a:off x="971640" y="404640"/>
            <a:ext cx="702936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D00146_"/>
          <p:cNvPicPr/>
          <p:nvPr/>
        </p:nvPicPr>
        <p:blipFill>
          <a:blip r:embed="rId1"/>
          <a:stretch/>
        </p:blipFill>
        <p:spPr>
          <a:xfrm>
            <a:off x="3780000" y="1484280"/>
            <a:ext cx="1439640" cy="1422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608200" y="372960"/>
            <a:ext cx="36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Задачи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285440" y="85716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187280" y="1557360"/>
            <a:ext cx="15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0571"/>
                </a:solidFill>
                <a:latin typeface="Arial"/>
              </a:rPr>
              <a:t>ЗН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445440" y="153180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0571"/>
                </a:solidFill>
                <a:latin typeface="Arial"/>
              </a:rPr>
              <a:t>УМ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03120" y="2133720"/>
            <a:ext cx="4197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остав  рай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ЭГ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Фа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форм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природы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развития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Населен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хозяйств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осво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Хозяйство Поволж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343480" y="2152800"/>
            <a:ext cx="380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Работать с текс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учеб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Картами атл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вер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информацию  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таблицу, сх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Делать выводы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провед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исследов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Раскр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причинно-следственны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808200" y="395280"/>
            <a:ext cx="72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Состав рай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Факторы форм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39640" y="1700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7905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на основе работы с картами атла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определите состав экономического района и информацию сверните в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Organization Chart 7"/>
          <p:cNvGrpSpPr/>
          <p:nvPr/>
        </p:nvGrpSpPr>
        <p:grpSpPr>
          <a:xfrm>
            <a:off x="457200" y="2997360"/>
            <a:ext cx="8228520" cy="1439280"/>
            <a:chOff x="457200" y="2997360"/>
            <a:chExt cx="8228520" cy="1439280"/>
          </a:xfrm>
        </p:grpSpPr>
        <p:cxnSp>
          <p:nvCxnSpPr>
            <p:cNvPr id="118" name="_s1028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5534280" y="2608200"/>
              <a:ext cx="288360" cy="2216160"/>
            </a:xfrm>
            <a:prstGeom prst="bentConnector3">
              <a:avLst>
                <a:gd name="adj1" fmla="val 293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29"/>
            <p:cNvCxnSpPr>
              <a:stCxn id="122" idx="0"/>
              <a:endCxn id="120" idx="2"/>
            </p:cNvCxnSpPr>
            <p:nvPr/>
          </p:nvCxnSpPr>
          <p:spPr>
            <a:xfrm flipH="1" flipV="1" rot="5400000">
              <a:off x="3319200" y="2608920"/>
              <a:ext cx="288360" cy="2215440"/>
            </a:xfrm>
            <a:prstGeom prst="bentConnector3">
              <a:avLst>
                <a:gd name="adj1" fmla="val 293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0" name="_s1030"/>
            <p:cNvSpPr/>
            <p:nvPr/>
          </p:nvSpPr>
          <p:spPr>
            <a:xfrm>
              <a:off x="2671920" y="2997360"/>
              <a:ext cx="3797640" cy="5756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Arial"/>
                </a:rPr>
                <a:t>Поволжь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1"/>
            <p:cNvSpPr/>
            <p:nvPr/>
          </p:nvSpPr>
          <p:spPr>
            <a:xfrm>
              <a:off x="457200" y="3861000"/>
              <a:ext cx="3797640" cy="5756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Arial"/>
                </a:rPr>
                <a:t>Област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888080" y="3861000"/>
              <a:ext cx="3797640" cy="5756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Arial"/>
                </a:rPr>
                <a:t>Республ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6"/>
          <p:cNvSpPr/>
          <p:nvPr/>
        </p:nvSpPr>
        <p:spPr>
          <a:xfrm>
            <a:off x="250920" y="4653000"/>
            <a:ext cx="887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делайте вывод о особенностях соста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экономического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Что является главным фактором фор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этого райо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33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Волг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главный фактор формирован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справка 007"/>
          <p:cNvPicPr/>
          <p:nvPr/>
        </p:nvPicPr>
        <p:blipFill>
          <a:blip r:embed="rId1"/>
          <a:srcRect l="0" t="0" r="73" b="0"/>
          <a:stretch/>
        </p:blipFill>
        <p:spPr>
          <a:xfrm>
            <a:off x="250920" y="1557360"/>
            <a:ext cx="3240000" cy="3456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3635280" y="1557360"/>
            <a:ext cx="63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905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воеобразная форма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ильное влияни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географическое полож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Природный и хозяй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тержень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79057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Влияние Волги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формирующей и разделяющей  экономический рай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35440" y="5124600"/>
            <a:ext cx="91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0571"/>
                </a:solidFill>
                <a:latin typeface="Arial"/>
              </a:rPr>
              <a:t>На основе работы с текстом учебника стр. 165 – 16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0571"/>
                </a:solidFill>
                <a:latin typeface="Arial"/>
              </a:rPr>
              <a:t>поясните каждый фа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735120" y="496800"/>
            <a:ext cx="76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Проблема Большой Вол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50920" y="458136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905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оздание плотин и водохранилищ с цель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а) производства энерге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б) развития водного транспор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в) орошения засушливых террито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г) водообеспечение промышленности и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rcRect l="0" t="0" r="-24" b="-100"/>
          <a:stretch/>
        </p:blipFill>
        <p:spPr>
          <a:xfrm>
            <a:off x="179280" y="1052640"/>
            <a:ext cx="55450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24000" y="170028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11 ГЭ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13,5 млн. кВт (35%)  мощности всех ГЭС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Повышение уровня грунтовых вод – на 8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территории района гибнут ле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Обеспечение промышленности и населения вод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привело к ухудшению ее качества и силь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загряз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Возведение плотин привело к угрозе исчезнов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крупнейшего в мире стада осетровых ры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озданные водохранилищ затопили плодор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земли, почти 100 городов и ПГТ, 2500 сел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деревень, тысячи памятников истории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92200" y="404640"/>
            <a:ext cx="81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Последствия проекта пре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реки Вол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592200" y="836640"/>
            <a:ext cx="8372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1. Назовите состав Поволжско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экономического   рай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Каковы его отличия от центральной Ро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Как экономико-географическое положение района отразилось на факторах формиро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В чем состоит проблема Большой Вол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Можно ли решить создавшуюся пробл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Какова роль Волги в территориальной организации населения и хозяйства район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AG00090_"/>
          <p:cNvPicPr/>
          <p:nvPr/>
        </p:nvPicPr>
        <p:blipFill>
          <a:blip r:embed="rId1"/>
          <a:stretch/>
        </p:blipFill>
        <p:spPr>
          <a:xfrm>
            <a:off x="4356000" y="189000"/>
            <a:ext cx="625680" cy="79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J0200279"/>
          <p:cNvPicPr/>
          <p:nvPr/>
        </p:nvPicPr>
        <p:blipFill>
          <a:blip r:embed="rId2"/>
          <a:stretch/>
        </p:blipFill>
        <p:spPr>
          <a:xfrm>
            <a:off x="468360" y="476280"/>
            <a:ext cx="174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132000" y="51912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f839f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52034d"/>
                </a:solidFill>
                <a:latin typeface="Arial"/>
              </a:rPr>
              <a:t>Оцен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2034d"/>
                </a:solidFill>
                <a:latin typeface="Arial"/>
              </a:rPr>
              <a:t>свою работу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55640" y="2428920"/>
            <a:ext cx="806436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Сегодня на уроке мне было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Знания, полученные на уроке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мне пригодятс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Сегодня я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Мне было легк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Мне было слож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О том, что я узнал (а), я расскажу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AG00020_"/>
          <p:cNvPicPr/>
          <p:nvPr/>
        </p:nvPicPr>
        <p:blipFill>
          <a:blip r:embed="rId1"/>
          <a:stretch/>
        </p:blipFill>
        <p:spPr>
          <a:xfrm>
            <a:off x="500040" y="642960"/>
            <a:ext cx="1800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1:46:18Z</dcterms:created>
  <dc:creator>user</dc:creator>
  <dc:description/>
  <dc:language>en-US</dc:language>
  <cp:lastModifiedBy>User</cp:lastModifiedBy>
  <dcterms:modified xsi:type="dcterms:W3CDTF">2011-09-25T18:21:39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300207f7000400038000</vt:lpwstr>
  </property>
</Properties>
</file>