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1727-8A1F-4125-8E80-A46E6C391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E463-D456-480B-9DA2-8E5F79CB1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275A-9213-4829-922D-39F4C7909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C11F-AB81-4A77-9632-69727A36D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2F1872-0E1B-4341-82BE-3B016E142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3D1A14-3BB9-4D6E-A26A-A36A3EF83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7D343B-485B-4B37-90D8-B8FDD7647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717B0C-A071-4DC8-B4BF-95AC9BC13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57FD4F-C135-41DA-9B3A-DEFD64C0F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C7EEF1-B6A4-4DFE-8D56-6B7975058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C9D286-5403-4FFA-9949-C3BC5CE0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F5BC-6DB8-4121-AA46-EF0CFE0A6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4C0417-3CD9-4C79-A9D6-0A67F1AD6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0A62CF-F95A-4F45-BBC7-1B37F233F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983215-FCEC-4479-ABDD-1723D71C9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C9A109-543C-4700-8607-58CAC1F3C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ADC5F4-402F-42ED-A8C8-5E8CC173C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22CC-32F3-4316-848C-3D72F1D19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D015-799D-4857-8765-265F63518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DF8D-2574-4DD9-8BE9-7E283AF36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E70D-8983-47F7-BE19-76763646D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2D95-7DFF-4B59-83EC-EF0C096BB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9126-1907-49A1-B31C-B8894265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0985-ABF6-4868-A68D-E30E63CC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A8B6E-D65E-4435-90BD-0FFD6AC53E8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8DA3E-37F5-4FCD-AD10-C4E29344E96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roza.ru/pics/2008/01/12/123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g0.liveinternet.ru/images/attach/c/0/40/458/40458734_420pxD09FD0BED0B2D0BED0BBD0B6D181D0BAD0B8D0B9_D18DD0BAD0BED0BDD0BED0BCD0B8D187D0B5D181D0BAD0B8D0B9_D180D0B0.pn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94920" y="1628640"/>
            <a:ext cx="84978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ffff"/>
                </a:solidFill>
                <a:latin typeface="Tahoma"/>
              </a:rPr>
              <a:t>Поволжье.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ff"/>
                </a:solidFill>
                <a:latin typeface="Tahoma"/>
              </a:rPr>
              <a:t>Факторы  формирования района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3419640" y="566100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ихеева В.Н., учитель МАОУ-Гимназии № 47, г.Екатеринбур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ahoma"/>
              </a:rPr>
              <a:t>Поволжье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Картинка 14 из 1420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468360" y="1197000"/>
            <a:ext cx="10009080" cy="5661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97080" y="1484280"/>
            <a:ext cx="7998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территории составят 458 тыс. км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аселение = 17млн 89 тыс. чел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лотность населения = 37 чел на 1 км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ровень урбанизации - 70 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356000" y="0"/>
            <a:ext cx="4788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Состав района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00720" y="1341360"/>
            <a:ext cx="49608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еспублика Татарстан - г.Казань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еспублика Калмыкия – г.Элис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Ульяновская обл. - г.Ульяновск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амарская обл. - г.Самар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аратовская обл. - г.Саратов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ензенская обл.- г.Пен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олгоградская обл. - г.Волгоград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страханская обл. - г.Астрахан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i-main-pic" descr="Картинка 234 из 2048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404640"/>
            <a:ext cx="451800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Факторы формирования район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0" y="620640"/>
            <a:ext cx="24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Река Волга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главная ось Поволжь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1197000"/>
            <a:ext cx="792360" cy="358920"/>
          </a:xfrm>
          <a:prstGeom prst="rightArrow">
            <a:avLst>
              <a:gd name="adj1" fmla="val 50000"/>
              <a:gd name="adj2" fmla="val 55191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348000" y="620640"/>
            <a:ext cx="57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Меридиональное простирание райо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250560" y="2563560"/>
            <a:ext cx="2233800" cy="649440"/>
          </a:xfrm>
          <a:prstGeom prst="rightArrow">
            <a:avLst>
              <a:gd name="adj1" fmla="val 50000"/>
              <a:gd name="adj2" fmla="val 85989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484360" y="5445000"/>
            <a:ext cx="792360" cy="358920"/>
          </a:xfrm>
          <a:prstGeom prst="rightArrow">
            <a:avLst>
              <a:gd name="adj1" fmla="val 50000"/>
              <a:gd name="adj2" fmla="val 55191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-19080" y="5013360"/>
            <a:ext cx="261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Пригранично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полож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19640" y="5013360"/>
            <a:ext cx="5724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а юге граничит с Казахстаном; с экономическими районами России: на севере -Центрально-Черноземный и Волго - Вятский; на западе -Северо-Кавказский; на востоке- Уральский районы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56000" y="4437000"/>
            <a:ext cx="792000" cy="358920"/>
          </a:xfrm>
          <a:prstGeom prst="rightArrow">
            <a:avLst>
              <a:gd name="adj1" fmla="val 50000"/>
              <a:gd name="adj2" fmla="val 5516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4076640"/>
            <a:ext cx="27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Благоприятное ТГ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384720" y="4005360"/>
            <a:ext cx="5759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беспечивает выход в мор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а юге -  Каспийское, Азовское, Черно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а севере – Балтийское, Бело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348000" y="981000"/>
            <a:ext cx="554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пределяет черты природы - разнообразие природных  услов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48000" y="1557360"/>
            <a:ext cx="579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вязывает районы европейской части России и азиатской. Поволжье находится между индустриальными ядрами России – Центральная Россия и Урало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48000" y="2781360"/>
            <a:ext cx="5473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ыполняет транспортно-распределительную функцию: транзитные дороги: автомобильные, железнодорожные, трубопрово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Факторы формирования район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692280"/>
            <a:ext cx="277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Река Волга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природный и хозяйственный стерж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84360" y="1197000"/>
            <a:ext cx="792360" cy="358920"/>
          </a:xfrm>
          <a:prstGeom prst="rightArrow">
            <a:avLst>
              <a:gd name="adj1" fmla="val 50000"/>
              <a:gd name="adj2" fmla="val 55191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48000" y="620640"/>
            <a:ext cx="579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Волга – транспортный путь, связывает прилегающие территор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148360" y="1268280"/>
            <a:ext cx="0" cy="36036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148360" y="2565360"/>
            <a:ext cx="0" cy="36036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148360" y="4292640"/>
            <a:ext cx="0" cy="36036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348000" y="1557360"/>
            <a:ext cx="446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обеспечивает внутрирайонные и межрайонные связ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76720" y="2205000"/>
            <a:ext cx="586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Волга – водный и гидроэнергетический ресурс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456000" y="2852640"/>
            <a:ext cx="568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Способствует развитию водоемких и энергоемких производств, т.е. определяет специализацию райо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16240" y="3789360"/>
            <a:ext cx="450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Вода используется для орош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367440" y="4581360"/>
            <a:ext cx="395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Развитие сельского хозяйст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6200" y="543564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6200" y="5532480"/>
            <a:ext cx="876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ывод: Волга способствует укреплению связей между расположенными вдоль нее республиками и областями России. Способствует развитию райо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О так же, препятствует осуществлению регулярных связей между ее берегами – затрудняет управление районами, входящими в состав Поволжь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04:55:56Z</dcterms:created>
  <dc:creator>teacher</dc:creator>
  <dc:description/>
  <dc:language>en-US</dc:language>
  <cp:lastModifiedBy>Miheeva</cp:lastModifiedBy>
  <dcterms:modified xsi:type="dcterms:W3CDTF">2011-08-29T13:57:35Z</dcterms:modified>
  <cp:revision>11</cp:revision>
  <dc:subject/>
  <dc:title>Поволжь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6020000000000010243100207f6000400038000</vt:lpwstr>
  </property>
</Properties>
</file>