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B42C-F7EE-4E7D-9F4C-B3E9292BE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CFA5-841B-4372-88FC-54E890C7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75B5-3C7D-4713-BE0C-022F19636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02F0-2D67-4B6F-B6C8-33A283675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105D13-0567-46C2-B03C-478B4A23A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A31EE-20BB-403A-B653-D7A3E54F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67C723-5C0E-4376-84FC-4AB11596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EE7CD-B833-4A9E-A654-69F8A255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BEDAB0-EFEE-438C-8BDD-BB85D050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8BF8FC-2663-4D96-9BDD-B8C5B2BD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3BEB0-DC62-4B79-A104-6189AC8F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0D2F-3847-45DA-AC16-E1C73081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9F4C88-99C7-4638-8426-D6E72FC0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9C5267-BD13-46F1-84E4-6BEFAEA7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99A104-0A67-4968-BF0A-BE38BA2D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1A15E-CD39-49AB-A368-EC58404C2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26B6A7-2C07-4B32-A674-934A58B6D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492A-5D0F-471B-BE6D-075CFAAE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A556-942D-438C-B5E0-F4A75AEE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8011-70E6-4CE9-BC15-AE6EED33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32FE-712B-4DC0-9CA1-75F2B4C5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119C-1217-45DF-A6AF-F3E67E8F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4AE5-A0C7-43C4-823A-D6A9A7B9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19E5-BEB6-4058-AAF2-8F66B339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6A9D-4B12-498D-A1BD-C68949E94F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C538-C977-4307-B986-0A4BA50AB2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roza.ru/pics/2008/01/12/123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0.liveinternet.ru/images/attach/c/0/40/458/40458734_420pxD09FD0BED0B2D0BED0BBD0B6D181D0BAD0B8D0B9_D18DD0BAD0BED0BDD0BED0BCD0B8D187D0B5D181D0BAD0B8D0B9_D180D0B0.pn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94920" y="1628640"/>
            <a:ext cx="84978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Tahoma"/>
              </a:rPr>
              <a:t>Поволжье.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Tahoma"/>
              </a:rPr>
              <a:t>Факторы  формирования район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3419640" y="566100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ихеева В.Н., учитель МАОУ-Гимназии № 47, г.Екатеринбур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ahoma"/>
              </a:rPr>
              <a:t>Поволжье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Картинка 14 из 1420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468360" y="1197000"/>
            <a:ext cx="10009080" cy="5661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97080" y="1484280"/>
            <a:ext cx="7998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территории составят 458 тыс. км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селение = 17млн 89 тыс. че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лотность населения = 37 чел на 1 км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ровень урбанизации - 70 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356000" y="0"/>
            <a:ext cx="4788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Состав район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00720" y="1341360"/>
            <a:ext cx="49608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еспублика Татарстан - г.Казан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еспублика Калмыкия – г.Элис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льяновская обл. - г.Ульяновск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амарская обл. - г.Самар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аратовская обл. - г.Сарат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нзенская обл.- г.Пен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лгоградская обл. - г.Волгоград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страханская обл. - г.Астрахан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i-main-pic" descr="Картинка 234 из 204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04640"/>
            <a:ext cx="451800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Факторы формирования райо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20640"/>
            <a:ext cx="24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Река Волга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главная ось Поволжь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1197000"/>
            <a:ext cx="792360" cy="358920"/>
          </a:xfrm>
          <a:prstGeom prst="rightArrow">
            <a:avLst>
              <a:gd name="adj1" fmla="val 50000"/>
              <a:gd name="adj2" fmla="val 5519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48000" y="620640"/>
            <a:ext cx="57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еридиональное простирание райо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250560" y="2563560"/>
            <a:ext cx="2233800" cy="649440"/>
          </a:xfrm>
          <a:prstGeom prst="rightArrow">
            <a:avLst>
              <a:gd name="adj1" fmla="val 50000"/>
              <a:gd name="adj2" fmla="val 8598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84360" y="5445000"/>
            <a:ext cx="792360" cy="358920"/>
          </a:xfrm>
          <a:prstGeom prst="rightArrow">
            <a:avLst>
              <a:gd name="adj1" fmla="val 50000"/>
              <a:gd name="adj2" fmla="val 5519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19080" y="5013360"/>
            <a:ext cx="261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ригранич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олож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19640" y="5013360"/>
            <a:ext cx="572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 юге граничит с Казахстаном; с экономическими районами России: на севере -Центрально-Черноземный и Волго - Вятский; на западе -Северо-Кавказский; на востоке- Уральский районы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56000" y="4437000"/>
            <a:ext cx="792000" cy="358920"/>
          </a:xfrm>
          <a:prstGeom prst="rightArrow">
            <a:avLst>
              <a:gd name="adj1" fmla="val 50000"/>
              <a:gd name="adj2" fmla="val 5516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076640"/>
            <a:ext cx="27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Благоприятное ТГ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84720" y="4005360"/>
            <a:ext cx="575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беспечивает выход в мор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 юге -  Каспийское, Азовское, Черн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 севере – Балтийское, Бел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48000" y="981000"/>
            <a:ext cx="554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пределяет черты природы - разнообразие природных  услов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48000" y="1557360"/>
            <a:ext cx="579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вязывает районы европейской части России и азиатской. Поволжье находится между индустриальными ядрами России – Центральная Россия и Урало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48000" y="2781360"/>
            <a:ext cx="547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ыполняет транспортно-распределительную функцию: транзитные дороги: автомобильные, железнодорожные, трубопрово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Факторы формирования райо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92280"/>
            <a:ext cx="277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Река Волга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риродный и хозяйственный стерж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1197000"/>
            <a:ext cx="792360" cy="358920"/>
          </a:xfrm>
          <a:prstGeom prst="rightArrow">
            <a:avLst>
              <a:gd name="adj1" fmla="val 50000"/>
              <a:gd name="adj2" fmla="val 5519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48000" y="620640"/>
            <a:ext cx="57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олга – транспортный путь, связывает прилегающие территор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48360" y="1268280"/>
            <a:ext cx="0" cy="36036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48360" y="2565360"/>
            <a:ext cx="0" cy="36036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48360" y="4292640"/>
            <a:ext cx="0" cy="36036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48000" y="1557360"/>
            <a:ext cx="446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обеспечивает внутрирайонные и межрайонные связ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220500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олга – водный и гидроэнергетический ресурс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56000" y="2852640"/>
            <a:ext cx="568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пособствует развитию водоемких и энергоемких производств, т.е. определяет специализацию рай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16240" y="3789360"/>
            <a:ext cx="450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ода используется для орош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67440" y="4581360"/>
            <a:ext cx="39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Развитие сельского хозяй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6200" y="54356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6200" y="5532480"/>
            <a:ext cx="876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ывод: Волга способствует укреплению связей между расположенными вдоль нее республиками и областями России. Способствует развитию райо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О так же, препятствует осуществлению регулярных связей между ее берегами – затрудняет управление районами, входящими в состав Поволжь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04:55:56Z</dcterms:created>
  <dc:creator>teacher</dc:creator>
  <dc:description/>
  <dc:language>en-US</dc:language>
  <cp:lastModifiedBy>Miheeva</cp:lastModifiedBy>
  <dcterms:modified xsi:type="dcterms:W3CDTF">2011-08-29T13:57:35Z</dcterms:modified>
  <cp:revision>11</cp:revision>
  <dc:subject/>
  <dc:title>Поволжь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6020000000000010243100207f6000400038000</vt:lpwstr>
  </property>
</Properties>
</file>