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55E-8F39-4457-A037-A074DC64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5F0-BAED-49FC-B31B-6DB2061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996-1387-4D2F-908B-86A37D4E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D62-8C7D-4DAC-9240-65E93204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6A0DF-C0B0-4AEC-B76A-CA3A396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3F253-D0A4-4814-9D5D-9E8B63E8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B81CF-4A2B-486E-BCB8-5C1AFE6F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64807-81C0-4EAF-9F6B-4B16A024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7B532-5DC4-481E-A8F1-0103394F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72FA-2111-4665-9C7F-4485A97B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A90B-86F5-4980-9AAC-A3985DB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751-3D76-4130-8DA2-0F8D80FC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FA82E-24EC-4C76-91C3-DEDD0268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7F554-D67B-4AD5-BA3C-212101A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8294-1A6E-456E-B4B5-E2F0C22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A7A31-B11A-4840-86A4-12A5C27E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99AF-31A5-4055-BF42-A295C66D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E8C-9891-4536-8FC6-2BB4559A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0C8-B581-40C0-9A70-E2BE972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045-65D9-4E94-8CF7-EC2C39C2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132-CFEA-46E4-9AA5-AB02D205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A62-FEA3-4D13-9E15-12B23E3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FB2-6CA2-4050-BBF1-146C3912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025-6901-4B35-B402-BD9E7A2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D1B-7CFB-4215-B4D7-1D5B2A515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4ED1-DBB2-448D-B845-DE52BE9AA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za.ru/pics/2008/01/12/12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0/40/458/40458734_420pxD09FD0BED0B2D0BED0BBD0B6D181D0BAD0B8D0B9_D18DD0BAD0BED0BDD0BED0BCD0B8D187D0B5D181D0BAD0B8D0B9_D180D0B0.pn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97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Поволжье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Факторы  формирования райо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566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хеева В.Н., учитель МАОУ-Гимназии № 47, г.Екатерин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Поволжь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Картинка 14 из 14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68360" y="1197000"/>
            <a:ext cx="10009080" cy="5661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7080" y="1484280"/>
            <a:ext cx="799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территории составят 458 тыс.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селение = 17млн 89 тыс. ч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населения = 37 чел на 1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вень урбанизации - 7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остав район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0720" y="1341360"/>
            <a:ext cx="4960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спублика Татарстан - г.Казан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спублика Калмыкия – г.Эл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ьяновская обл. - г.Ульяновс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арская обл. - г.Сам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ратовская обл. - г.Сара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нзенская обл.- г.Пен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гоградская обл. - г.Волгогра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траханская обл. - г.Астраха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-main-pic" descr="Картинка 234 из 204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04640"/>
            <a:ext cx="4518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 формирования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064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а Вол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лавная ось Повол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197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62064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ридиональное простирание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250560" y="2563560"/>
            <a:ext cx="2233800" cy="649440"/>
          </a:xfrm>
          <a:prstGeom prst="rightArrow">
            <a:avLst>
              <a:gd name="adj1" fmla="val 50000"/>
              <a:gd name="adj2" fmla="val 859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5445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9080" y="5013360"/>
            <a:ext cx="26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грани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013360"/>
            <a:ext cx="57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юге граничит с Казахстаном; с экономическими районами России: на севере -Центрально-Черноземный и Волго - Вятский; на западе -Северо-Кавказский; на востоке- Уральский районы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4437000"/>
            <a:ext cx="792000" cy="358920"/>
          </a:xfrm>
          <a:prstGeom prst="rightArrow">
            <a:avLst>
              <a:gd name="adj1" fmla="val 50000"/>
              <a:gd name="adj2" fmla="val 5516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07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лагоприятное ТГ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4005360"/>
            <a:ext cx="57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спечивает выход в мор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юге -  Каспийское, Азовское, Чер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севере – Балтийское, Бе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981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яет черты природы - разнообразие природных  усло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1557360"/>
            <a:ext cx="57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ывает районы европейской части России и азиатской. Поволжье находится между индустриальными ядрами России – Центральная Россия и Ура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2781360"/>
            <a:ext cx="54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яет транспортно-распределительную функцию: транзитные дороги: автомобильные, железнодорожные, трубопро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 формирования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92280"/>
            <a:ext cx="27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а Вол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родный и хозяйственный стерж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1197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620640"/>
            <a:ext cx="57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лга – транспортный путь, связывает прилегающие терри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126828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256536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4292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155736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внутрирайонные и межрайонные свя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20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лга – водный и гидроэнергетический ресур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6000" y="28526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ствует развитию водоемких и энергоемких производств, т.е. определяет специализацию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6240" y="3789360"/>
            <a:ext cx="45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да используется для оро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7440" y="458136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сельского хозя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6200" y="5435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5532480"/>
            <a:ext cx="87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вод: Волга способствует укреплению связей между расположенными вдоль нее республиками и областями России. Способствует развитию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так же, препятствует осуществлению регулярных связей между ее берегами – затрудняет управление районами, входящими в состав Поволж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4:55:56Z</dcterms:created>
  <dc:creator>teacher</dc:creator>
  <dc:description/>
  <dc:language>en-US</dc:language>
  <cp:lastModifiedBy>Miheeva</cp:lastModifiedBy>
  <dcterms:modified xsi:type="dcterms:W3CDTF">2011-08-29T13:57:35Z</dcterms:modified>
  <cp:revision>11</cp:revision>
  <dc:subject/>
  <dc:title>Поволж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43100207f6000400038000</vt:lpwstr>
  </property>
</Properties>
</file>