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67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16.jpeg" ContentType="image/jpeg"/>
  <Override PartName="/ppt/media/image64.jpeg" ContentType="image/jpeg"/>
  <Override PartName="/ppt/media/image38.jpeg" ContentType="image/jpeg"/>
  <Override PartName="/ppt/media/image46.jpeg" ContentType="image/jpeg"/>
  <Override PartName="/ppt/media/image27.png" ContentType="image/png"/>
  <Override PartName="/ppt/media/image65.png" ContentType="image/png"/>
  <Override PartName="/ppt/media/image21.jpeg" ContentType="image/jpeg"/>
  <Override PartName="/ppt/media/image51.jpeg" ContentType="image/jpeg"/>
  <Override PartName="/ppt/media/image2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5.jpeg" ContentType="image/jpeg"/>
  <Override PartName="/ppt/media/image43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EF4-F705-4BDF-8EE3-B5C3833E2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C012-DE45-4C52-BAF9-8A19C6835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6D7F-EC89-4232-8887-191052151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048-4DE2-43FE-A3AB-1D8FDB4D7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59AB-9F3B-4B3F-AE6D-B3A35D61E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B6D7-FCBE-4CF6-9762-85DACC022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6A5-8781-4D47-A5F7-C90193DC1C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1BC3-B544-4430-B323-3DD7AF41B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30A-362D-42AA-BCF4-0AD2026833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C26-E477-4C11-86D3-FEEA0658E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FE2-9F06-4951-AD2F-600DD18FF0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DE69-1669-4B90-AD86-E78F4010F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82FD-7544-473B-B298-8A85EFA0F3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38A-D8D9-4A9B-9B72-DD1744F30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316-B9B6-4741-880A-413384DF4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D79-9E6F-4162-9AF6-0B5BB33CC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C0F-177F-48F2-B75E-AB0DCFDE3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87B-0EB2-475F-B558-A444BC35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1A0-43B0-4028-B401-0F4C4BA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916-5230-47A6-806F-6C95F7FB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C39-61F4-4D6E-9E31-8D571EC8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C96-A1DA-4F4F-B7EF-546DD2E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11D-0F69-4811-8A9F-9196E215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411-B3C6-4822-A2F9-20F92BD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D65-D77A-486C-89F3-C0E0DE0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8E5-BB7B-4F85-82CF-01050F5B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661-8DEC-4595-B899-C1923FE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E42-FDFB-42F9-96A8-71428AC7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2D3-9B0F-43BE-BE0B-86A795A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CB61-33A8-4C31-907F-FB5113495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7;&#1083;&#1077;&#1079;&#1085;&#1072;&#1103;_&#1088;&#1091;&#1076;&#1072;" TargetMode="External"/><Relationship Id="rId2" Type="http://schemas.openxmlformats.org/officeDocument/2006/relationships/hyperlink" Target="http://ru.wikipedia.org/wiki/&#1046;&#1077;&#1083;&#1077;&#1079;&#1085;&#1072;&#1103;_&#1088;&#1091;&#1076;&#1072;" TargetMode="External"/><Relationship Id="rId3" Type="http://schemas.openxmlformats.org/officeDocument/2006/relationships/hyperlink" Target="http://forexaw.com/TERMs/GSM/l1_&#1053;&#1077;&#1092;&#1090;&#1100;" TargetMode="External"/><Relationship Id="rId4" Type="http://schemas.openxmlformats.org/officeDocument/2006/relationships/hyperlink" Target="http://forexaw.com/TERMs/GSM/l1_&#1053;&#1077;&#1092;&#1090;&#1100;" TargetMode="External"/><Relationship Id="rId5" Type="http://schemas.openxmlformats.org/officeDocument/2006/relationships/hyperlink" Target="http://www.kinopoisk.ru/film/196604/" TargetMode="External"/><Relationship Id="rId6" Type="http://schemas.openxmlformats.org/officeDocument/2006/relationships/hyperlink" Target="http://www.naturalstone.ru/" TargetMode="External"/><Relationship Id="rId7" Type="http://schemas.openxmlformats.org/officeDocument/2006/relationships/hyperlink" Target="http://www.mining-enc.ru/i/izvestnyak/" TargetMode="External"/><Relationship Id="rId8" Type="http://schemas.openxmlformats.org/officeDocument/2006/relationships/hyperlink" Target="http://www.krugosvet.ru/enc/Earth_sciences/geologiya/IZVESTNYAK.html" TargetMode="External"/><Relationship Id="rId9" Type="http://schemas.openxmlformats.org/officeDocument/2006/relationships/hyperlink" Target="http://ru.wikipedia.org/wiki/&#1048;&#1089;&#1082;&#1086;&#1087;&#1072;&#1077;&#1084;&#1099;&#1081;_&#1091;&#1075;&#1086;&#1083;&#1100;" TargetMode="External"/><Relationship Id="rId10" Type="http://schemas.openxmlformats.org/officeDocument/2006/relationships/hyperlink" Target="http://ru.wikipedia.org/wiki/&#1048;&#1089;&#1082;&#1086;&#1087;&#1072;&#1077;&#1084;&#1099;&#1081;_&#1091;&#1075;&#1086;&#1083;&#1100;" TargetMode="External"/><Relationship Id="rId11" Type="http://schemas.openxmlformats.org/officeDocument/2006/relationships/hyperlink" Target="http://poliform.com.ru/archives/category/&#1082;&#1072;&#1084;&#1077;&#1085;&#1085;&#1099;&#1081;-&#1091;&#1075;&#1086;&#1083;&#1100;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122400"/>
            <a:ext cx="7137360" cy="2858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14240" y="4643280"/>
            <a:ext cx="6286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42920" y="142920"/>
            <a:ext cx="9001080" cy="657216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6480000" y="429264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4"/>
          <a:stretch/>
        </p:blipFill>
        <p:spPr>
          <a:xfrm>
            <a:off x="4427640" y="2421000"/>
            <a:ext cx="2803320" cy="217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5"/>
          <a:stretch/>
        </p:blipFill>
        <p:spPr>
          <a:xfrm>
            <a:off x="4067280" y="4629240"/>
            <a:ext cx="2522520" cy="195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6"/>
          <a:stretch/>
        </p:blipFill>
        <p:spPr>
          <a:xfrm>
            <a:off x="1692360" y="2421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кам.уг.выпл..jpg"/>
          <p:cNvPicPr/>
          <p:nvPr/>
        </p:nvPicPr>
        <p:blipFill>
          <a:blip r:embed="rId1"/>
          <a:stretch/>
        </p:blipFill>
        <p:spPr>
          <a:xfrm>
            <a:off x="2571840" y="4821120"/>
            <a:ext cx="2500200" cy="1873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кам.уг.доб.01.jpg"/>
          <p:cNvPicPr/>
          <p:nvPr/>
        </p:nvPicPr>
        <p:blipFill>
          <a:blip r:embed="rId2"/>
          <a:stretch/>
        </p:blipFill>
        <p:spPr>
          <a:xfrm>
            <a:off x="5715000" y="1143000"/>
            <a:ext cx="3087720" cy="207180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1714680" y="285840"/>
            <a:ext cx="3357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1. Твёрдый, но хруп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2. Черного цвета, блес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3. Хорошо и ярко г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4. В воде не раство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7929720" y="285840"/>
            <a:ext cx="7142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2623680" y="21420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КАМЕ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2" descr="Безимени-8.gif"/>
          <p:cNvPicPr/>
          <p:nvPr/>
        </p:nvPicPr>
        <p:blipFill>
          <a:blip r:embed="rId3"/>
          <a:stretch/>
        </p:blipFill>
        <p:spPr>
          <a:xfrm rot="20862000">
            <a:off x="147600" y="132840"/>
            <a:ext cx="1424160" cy="154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/>
          <a:stretch/>
        </p:blipFill>
        <p:spPr>
          <a:xfrm>
            <a:off x="5357880" y="3786120"/>
            <a:ext cx="348120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tretch/>
        </p:blipFill>
        <p:spPr>
          <a:xfrm>
            <a:off x="21420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6"/>
          <a:stretch/>
        </p:blipFill>
        <p:spPr>
          <a:xfrm>
            <a:off x="2928960" y="1857240"/>
            <a:ext cx="3292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есок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3106800" cy="170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812000" y="260280"/>
            <a:ext cx="981000" cy="495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356000" y="472428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601200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84720" y="1833480"/>
            <a:ext cx="18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724360" y="98100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Твёрдый, сыпу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Коричневого или же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Не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В воде не раство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6"/>
          <a:stretch/>
        </p:blipFill>
        <p:spPr>
          <a:xfrm>
            <a:off x="651672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лю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601720" cy="143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5435640" y="4857840"/>
            <a:ext cx="1933560" cy="20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3492360" y="2565360"/>
            <a:ext cx="1839960" cy="2759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4427640" y="112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сло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Имеет стеклянный бле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хруп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В воде не раство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451640" y="260280"/>
            <a:ext cx="93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7572240" y="142920"/>
            <a:ext cx="9432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О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214200" y="2428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егкий, впитывает вл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ыхлый, непрочный,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9297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70009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3286080" y="928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бразуется из остатков растений на бо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949840" cy="221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3500280" cy="262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tretch/>
        </p:blipFill>
        <p:spPr>
          <a:xfrm>
            <a:off x="5643720" y="40719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4"/>
          <a:stretch/>
        </p:blipFill>
        <p:spPr>
          <a:xfrm>
            <a:off x="4214880" y="2857680"/>
            <a:ext cx="2986200" cy="2184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20829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3066840" cy="2428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3571920" y="1000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Трапеция 10"/>
          <p:cNvSpPr/>
          <p:nvPr/>
        </p:nvSpPr>
        <p:spPr>
          <a:xfrm>
            <a:off x="7929720" y="214200"/>
            <a:ext cx="642960" cy="1000080"/>
          </a:xfrm>
          <a:custGeom>
            <a:avLst/>
            <a:gdLst/>
            <a:ahLst/>
            <a:rect l="l" t="t" r="r" b="b"/>
            <a:pathLst>
              <a:path w="642937" h="1000125">
                <a:moveTo>
                  <a:pt x="0" y="1000125"/>
                </a:moveTo>
                <a:lnTo>
                  <a:pt x="160734" y="0"/>
                </a:lnTo>
                <a:lnTo>
                  <a:pt x="482203" y="0"/>
                </a:lnTo>
                <a:lnTo>
                  <a:pt x="642937" y="1000125"/>
                </a:lnTo>
                <a:lnTo>
                  <a:pt x="0" y="1000125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5357880" y="414324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2643120" y="2214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4"/>
          <a:stretch/>
        </p:blipFill>
        <p:spPr>
          <a:xfrm>
            <a:off x="428760" y="4214880"/>
            <a:ext cx="2833560" cy="232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5"/>
          <a:stretch/>
        </p:blipFill>
        <p:spPr>
          <a:xfrm rot="744600">
            <a:off x="6071760" y="1571760"/>
            <a:ext cx="2405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2143080" y="214200"/>
            <a:ext cx="45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Использование </a:t>
            </a:r>
            <a:br>
              <a:rPr sz="32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лезных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копа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714240" y="1428840"/>
            <a:ext cx="6858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роительств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есок, гранит, глина, известня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опли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менный уголь,торф,нефть, газ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аллур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429080" y="3556080"/>
            <a:ext cx="445284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324000" y="2602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На какие группы можно разделить полезные ископаем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258920" y="18446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лезные ископ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4"/>
          <p:cNvCxnSpPr/>
          <p:nvPr/>
        </p:nvCxnSpPr>
        <p:spPr>
          <a:xfrm flipH="1">
            <a:off x="1692000" y="2852640"/>
            <a:ext cx="216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172" name="Прямая со стрелкой 5"/>
          <p:cNvCxnSpPr/>
          <p:nvPr/>
        </p:nvCxnSpPr>
        <p:spPr>
          <a:xfrm flipH="1">
            <a:off x="3994920" y="2852640"/>
            <a:ext cx="252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173" name="Прямая со стрелкой 6"/>
          <p:cNvCxnSpPr/>
          <p:nvPr/>
        </p:nvCxnSpPr>
        <p:spPr>
          <a:xfrm flipH="1">
            <a:off x="6587280" y="2781000"/>
            <a:ext cx="2520" cy="57204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sp>
        <p:nvSpPr>
          <p:cNvPr id="174" name="TextBox 7"/>
          <p:cNvSpPr/>
          <p:nvPr/>
        </p:nvSpPr>
        <p:spPr>
          <a:xfrm>
            <a:off x="755640" y="35733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твёр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059280" y="35733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жи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35640" y="36450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газ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0" y="45086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уголь, руда, известня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3132000" y="4653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неф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6227640" y="465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г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75720" y="228600"/>
            <a:ext cx="826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обыча полезных ископаемых может проводится открыты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крытым способами.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АРЬЕР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– открытый способ добы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лезных ископаемых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крытый способ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ШАХТА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 Глуб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дземных разработок до 4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ENDLOADE"/>
          <p:cNvPicPr/>
          <p:nvPr/>
        </p:nvPicPr>
        <p:blipFill>
          <a:blip r:embed="rId1"/>
          <a:stretch/>
        </p:blipFill>
        <p:spPr>
          <a:xfrm>
            <a:off x="285840" y="1785960"/>
            <a:ext cx="4410000" cy="233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3916440" cy="254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крытый способ добычи полезных ископае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Открытый способ добычи"/>
          <p:cNvPicPr/>
          <p:nvPr/>
        </p:nvPicPr>
        <p:blipFill>
          <a:blip r:embed="rId1"/>
          <a:stretch/>
        </p:blipFill>
        <p:spPr>
          <a:xfrm>
            <a:off x="1176480" y="1600200"/>
            <a:ext cx="714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рытый способ добычи полезных ископае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Закрытый способ добычи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5840" y="1071720"/>
            <a:ext cx="850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ознакомиться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 полезными ископаемыми и некоторыми их свойств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 способами их добы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 профессиями людей, добывающих полезные ископае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узнать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ажную роль полезных ископаемых в экономике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57120" y="2858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ровая платформ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ля добычи неф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Буровая платформа для добычи нефти"/>
          <p:cNvPicPr/>
          <p:nvPr/>
        </p:nvPicPr>
        <p:blipFill>
          <a:blip r:embed="rId1"/>
          <a:stretch/>
        </p:blipFill>
        <p:spPr>
          <a:xfrm>
            <a:off x="971640" y="1628640"/>
            <a:ext cx="7221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214200" y="171468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  <a:ea typeface="Arial"/>
              </a:rPr>
              <a:t>Полезные ископаемые – бесценное богатство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Безимени-9.gif"/>
          <p:cNvPicPr/>
          <p:nvPr/>
        </p:nvPicPr>
        <p:blipFill>
          <a:blip r:embed="rId1"/>
          <a:stretch/>
        </p:blipFill>
        <p:spPr>
          <a:xfrm>
            <a:off x="642960" y="421488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Безимени-10.gif"/>
          <p:cNvPicPr/>
          <p:nvPr/>
        </p:nvPicPr>
        <p:blipFill>
          <a:blip r:embed="rId2"/>
          <a:stretch/>
        </p:blipFill>
        <p:spPr>
          <a:xfrm>
            <a:off x="6000840" y="3990960"/>
            <a:ext cx="2633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85840" y="144792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1. Что такое полезные ископаем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2. Для чего люди добывают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3. Приведи примеры полезных ископ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4. Какие способы добычи полезных ископаем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286000" y="214200"/>
            <a:ext cx="419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Bookman Old Style"/>
              </a:rPr>
              <a:t>Отгад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2000160" y="2214720"/>
            <a:ext cx="46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 каком полезном ископаемом идё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56760" y="1523880"/>
            <a:ext cx="8481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очень нужен детв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на дорожке во дво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и на стройке, и на пляж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И он в стекле расплавлен да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981080" y="571500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85840" y="1413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е зря она варилась в доменной п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славу получились ножницы, ключ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124000" y="50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Белый камешек растая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доске следы остав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00200" y="54100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19320" y="11430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чень прочен и уп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Строителям надежный др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Дома, ступени, поста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Красивы станут и заме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979640" y="5229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447920" y="1447920"/>
            <a:ext cx="74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Без нее не побеж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и автобус, ни такс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е поднимается рак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тгадайте, что же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537372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95280" y="1219320"/>
            <a:ext cx="7277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несет в дома теп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т него кругом свет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Помогает плавить ст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Делать краски и эм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черный, блестя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Помощник насто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332000" y="4724280"/>
            <a:ext cx="39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1429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Как вы понимаете слова «полезные» и «ископаемы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82440" y="1357200"/>
            <a:ext cx="85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дберите синонимы к каждому из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14200" y="542916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пробуйте сделать вывод, что называют полезными ископаем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428840" y="23572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лезные ископ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8"/>
          <p:cNvCxnSpPr/>
          <p:nvPr/>
        </p:nvCxnSpPr>
        <p:spPr>
          <a:xfrm flipH="1">
            <a:off x="2714400" y="3286080"/>
            <a:ext cx="216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1428840" y="407196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еобходим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72040" y="407196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до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вле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11"/>
          <p:cNvCxnSpPr/>
          <p:nvPr/>
        </p:nvCxnSpPr>
        <p:spPr>
          <a:xfrm flipH="1">
            <a:off x="5714640" y="3214440"/>
            <a:ext cx="2160" cy="57204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752480" y="1447920"/>
            <a:ext cx="61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о трубе теч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ироги пе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619280" y="5445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иродн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971640" y="1484280"/>
            <a:ext cx="78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Росли на болоте раст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Стали топливом и удоб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133720" y="56386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о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857680" y="571680"/>
            <a:ext cx="571500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уроке 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не было труд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не понрав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Безимени-16.gif"/>
          <p:cNvPicPr/>
          <p:nvPr/>
        </p:nvPicPr>
        <p:blipFill>
          <a:blip r:embed="rId1"/>
          <a:stretch/>
        </p:blipFill>
        <p:spPr>
          <a:xfrm>
            <a:off x="500040" y="2911320"/>
            <a:ext cx="3143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Железная_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oogle.ru/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orexaw.com/TERMs/GSM/l1_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Неф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kinopoisk.ru/film/19660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naturalstone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mining-enc.ru/i/izvestnya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krugosvet.ru/enc/Earth_sciences/geologiya/IZVESTNYAK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Ископаемый_у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poliform.com.ru/archives/category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каменный-у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bse.sci-lib.com/article058219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valent-stk.ru/peso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Пе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Слю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potomy.ru/begin/538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одержимое 2"/>
          <p:cNvSpPr/>
          <p:nvPr/>
        </p:nvSpPr>
        <p:spPr>
          <a:xfrm>
            <a:off x="57168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Железная_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slud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zao-cmp.ru/torf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То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Природный_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azprominfo.ru/articles/natural-ga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oogle.ru/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5"/>
          <p:cNvSpPr/>
          <p:nvPr/>
        </p:nvSpPr>
        <p:spPr>
          <a:xfrm>
            <a:off x="395280" y="260280"/>
            <a:ext cx="8353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Полезные ископаемые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горные породы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минералы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, которые добывают из недр Земли и её поверхности и используют в хозяйстве.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Безимени-3.gif"/>
          <p:cNvPicPr/>
          <p:nvPr/>
        </p:nvPicPr>
        <p:blipFill>
          <a:blip r:embed="rId1"/>
          <a:stretch/>
        </p:blipFill>
        <p:spPr>
          <a:xfrm>
            <a:off x="642960" y="4646520"/>
            <a:ext cx="8358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857240" y="214308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1. Наз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2. Свой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а) цв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б) твердое или жидк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в) прозрачное или непрозрачн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г) плотное или рых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3. Способы добы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4. Значение и приме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5. Условное обозначение на кар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357200" y="2858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 Black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4200" y="8571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Дайте характеристику полезного ископаемого по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Прямая со стрелкой 22"/>
          <p:cNvCxnSpPr/>
          <p:nvPr/>
        </p:nvCxnSpPr>
        <p:spPr>
          <a:xfrm>
            <a:off x="3429000" y="3214800"/>
            <a:ext cx="20296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Содержимое 2"/>
          <p:cNvSpPr/>
          <p:nvPr/>
        </p:nvSpPr>
        <p:spPr>
          <a:xfrm>
            <a:off x="4786200" y="714240"/>
            <a:ext cx="4357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1. </a:t>
            </a: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Чёрного цв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2. Твёрдо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3. Непрозрач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4. Пл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5. Притягивает металлические предм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31"/>
          <p:cNvSpPr/>
          <p:nvPr/>
        </p:nvSpPr>
        <p:spPr>
          <a:xfrm>
            <a:off x="7929720" y="285840"/>
            <a:ext cx="928440" cy="1000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2999520" y="21420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Железная 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"/>
          <p:cNvPicPr/>
          <p:nvPr/>
        </p:nvPicPr>
        <p:blipFill>
          <a:blip r:embed="rId1"/>
          <a:stretch/>
        </p:blipFill>
        <p:spPr>
          <a:xfrm rot="19858800">
            <a:off x="617400" y="4952520"/>
            <a:ext cx="1586160" cy="1189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4" descr="Безимени-2.gif"/>
          <p:cNvPicPr/>
          <p:nvPr/>
        </p:nvPicPr>
        <p:blipFill>
          <a:blip r:embed="rId2"/>
          <a:stretch/>
        </p:blipFill>
        <p:spPr>
          <a:xfrm rot="2125800">
            <a:off x="6980040" y="4456080"/>
            <a:ext cx="165708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4"/>
          <a:stretch/>
        </p:blipFill>
        <p:spPr>
          <a:xfrm>
            <a:off x="3000240" y="4500720"/>
            <a:ext cx="3167280" cy="210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5"/>
          <a:stretch/>
        </p:blipFill>
        <p:spPr>
          <a:xfrm>
            <a:off x="142920" y="2214720"/>
            <a:ext cx="3095640" cy="20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6"/>
          <a:stretch/>
        </p:blipFill>
        <p:spPr>
          <a:xfrm>
            <a:off x="5500800" y="2214720"/>
            <a:ext cx="3071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5357880" y="128592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Трапеция 13"/>
          <p:cNvSpPr/>
          <p:nvPr/>
        </p:nvSpPr>
        <p:spPr>
          <a:xfrm>
            <a:off x="7929720" y="214200"/>
            <a:ext cx="642960" cy="1000080"/>
          </a:xfrm>
          <a:custGeom>
            <a:avLst/>
            <a:gdLst/>
            <a:ahLst/>
            <a:rect l="l" t="t" r="r" b="b"/>
            <a:pathLst>
              <a:path w="642937" h="1000125">
                <a:moveTo>
                  <a:pt x="0" y="1000125"/>
                </a:moveTo>
                <a:lnTo>
                  <a:pt x="160734" y="0"/>
                </a:lnTo>
                <a:lnTo>
                  <a:pt x="482203" y="0"/>
                </a:lnTo>
                <a:lnTo>
                  <a:pt x="642937" y="1000125"/>
                </a:lnTo>
                <a:lnTo>
                  <a:pt x="0" y="100012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5571360" y="1429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4929120" y="7858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Жи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Чер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С резким запахом (бенз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Легч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5.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1"/>
          <a:stretch/>
        </p:blipFill>
        <p:spPr>
          <a:xfrm>
            <a:off x="3419640" y="2577960"/>
            <a:ext cx="2550960" cy="168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2"/>
          <a:stretch/>
        </p:blipFill>
        <p:spPr>
          <a:xfrm rot="20956800">
            <a:off x="669960" y="43844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3"/>
          <a:stretch/>
        </p:blipFill>
        <p:spPr>
          <a:xfrm rot="880800">
            <a:off x="6522840" y="395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"/>
          <p:cNvPicPr/>
          <p:nvPr/>
        </p:nvPicPr>
        <p:blipFill>
          <a:blip r:embed="rId4"/>
          <a:stretch/>
        </p:blipFill>
        <p:spPr>
          <a:xfrm>
            <a:off x="1785960" y="214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"/>
          <p:cNvPicPr/>
          <p:nvPr/>
        </p:nvPicPr>
        <p:blipFill>
          <a:blip r:embed="rId5"/>
          <a:stretch/>
        </p:blipFill>
        <p:spPr>
          <a:xfrm>
            <a:off x="285840" y="214308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Рысь\Downloads\гранит,использоване.jpg"/>
          <p:cNvPicPr/>
          <p:nvPr/>
        </p:nvPicPr>
        <p:blipFill>
          <a:blip r:embed="rId1"/>
          <a:stretch/>
        </p:blipFill>
        <p:spPr>
          <a:xfrm rot="21274800">
            <a:off x="179280" y="5084280"/>
            <a:ext cx="2078280" cy="15573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3429000" y="1428840"/>
            <a:ext cx="5429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варц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слюда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олевой шп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ел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чёр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(роз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зё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7"/>
          <p:cNvCxnSpPr/>
          <p:nvPr/>
        </p:nvCxnSpPr>
        <p:spPr>
          <a:xfrm flipH="1">
            <a:off x="3928680" y="1142640"/>
            <a:ext cx="35784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Прямая со стрелкой 9"/>
          <p:cNvCxnSpPr/>
          <p:nvPr/>
        </p:nvCxnSpPr>
        <p:spPr>
          <a:xfrm flipH="1">
            <a:off x="5643360" y="1213920"/>
            <a:ext cx="7200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Прямая со стрелкой 11"/>
          <p:cNvCxnSpPr/>
          <p:nvPr/>
        </p:nvCxnSpPr>
        <p:spPr>
          <a:xfrm>
            <a:off x="7071120" y="1142640"/>
            <a:ext cx="42948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Заголовок 1"/>
          <p:cNvSpPr/>
          <p:nvPr/>
        </p:nvSpPr>
        <p:spPr>
          <a:xfrm>
            <a:off x="4929120" y="4643280"/>
            <a:ext cx="42148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1.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2. Серого или красного цв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3. Непрозра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4. Зернист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5. Очень про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buClr>
                <a:srgbClr val="6633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4628880" y="28584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4" descr="Безимени-4.gif"/>
          <p:cNvPicPr/>
          <p:nvPr/>
        </p:nvPicPr>
        <p:blipFill>
          <a:blip r:embed="rId2"/>
          <a:stretch/>
        </p:blipFill>
        <p:spPr>
          <a:xfrm>
            <a:off x="2916360" y="5013360"/>
            <a:ext cx="171108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гранит.bmp"/>
          <p:cNvPicPr/>
          <p:nvPr/>
        </p:nvPicPr>
        <p:blipFill>
          <a:blip r:embed="rId3"/>
          <a:stretch/>
        </p:blipFill>
        <p:spPr>
          <a:xfrm>
            <a:off x="214200" y="142920"/>
            <a:ext cx="2784600" cy="1719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7"/>
          <p:cNvSpPr/>
          <p:nvPr/>
        </p:nvSpPr>
        <p:spPr>
          <a:xfrm>
            <a:off x="510120" y="2000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Гранитный 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4861080" y="2676600"/>
            <a:ext cx="1368360" cy="179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5"/>
          <a:stretch/>
        </p:blipFill>
        <p:spPr>
          <a:xfrm rot="842400">
            <a:off x="7165440" y="2868120"/>
            <a:ext cx="153036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6"/>
          <a:stretch/>
        </p:blipFill>
        <p:spPr>
          <a:xfrm>
            <a:off x="214200" y="2357280"/>
            <a:ext cx="335772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7"/>
          <a:stretch/>
        </p:blipFill>
        <p:spPr>
          <a:xfrm>
            <a:off x="7380360" y="338040"/>
            <a:ext cx="122400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извест.прим.2.jpg"/>
          <p:cNvPicPr/>
          <p:nvPr/>
        </p:nvPicPr>
        <p:blipFill>
          <a:blip r:embed="rId1"/>
          <a:stretch/>
        </p:blipFill>
        <p:spPr>
          <a:xfrm>
            <a:off x="4714920" y="4357800"/>
            <a:ext cx="290016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2214720" y="928800"/>
            <a:ext cx="62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1. 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2. Белого, серого или жё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3. 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4. Пл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5. Если капнуть каплю кислоты – шипит (выделяется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3709440" y="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3" descr="Безимени-4.gif"/>
          <p:cNvPicPr/>
          <p:nvPr/>
        </p:nvPicPr>
        <p:blipFill>
          <a:blip r:embed="rId2"/>
          <a:stretch/>
        </p:blipFill>
        <p:spPr>
          <a:xfrm>
            <a:off x="142920" y="142920"/>
            <a:ext cx="166680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7715160" y="214200"/>
            <a:ext cx="95256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4"/>
          <a:stretch/>
        </p:blipFill>
        <p:spPr>
          <a:xfrm>
            <a:off x="7000920" y="2500200"/>
            <a:ext cx="1874880" cy="25005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9" descr="Безимени-5.gif"/>
          <p:cNvPicPr/>
          <p:nvPr/>
        </p:nvPicPr>
        <p:blipFill>
          <a:blip r:embed="rId5"/>
          <a:stretch/>
        </p:blipFill>
        <p:spPr>
          <a:xfrm rot="1038600">
            <a:off x="4726080" y="2723760"/>
            <a:ext cx="219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6:20Z</dcterms:created>
  <dc:creator>SamLab.ws</dc:creator>
  <dc:description/>
  <dc:language>en-US</dc:language>
  <cp:lastModifiedBy>Елена</cp:lastModifiedBy>
  <dcterms:modified xsi:type="dcterms:W3CDTF">2012-11-27T12:44:10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1a0000000000010250300207f7000400038000</vt:lpwstr>
  </property>
</Properties>
</file>